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440D3-CD48-4369-9E52-6DB2964519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2F945-8043-49BE-B8C0-7D16D776D44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33751-2812-48D2-8A8A-9A85CAE9FE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094DB-E08B-4143-95BE-F1A93DABCEE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C5F7B-A526-43D2-B389-925A5277A9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607C4-D925-49E2-A81A-7000CCB5C48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7C13E-4128-426A-B24F-1ACDC8BC205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A9EC0-0C9E-40D2-B775-AFEBF6D4A85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C863D-B090-4B7F-B5BA-2D290EC867C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1ECDD-E965-4DA6-9C55-B6DB1CBAFDB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F02-6E79-4C6D-B18D-059324C3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3F6A-C483-45DA-B765-61506B63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721-69F9-4674-B5E7-1A3AA48A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283-78CD-456B-9C04-3E1793D3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6EF-C23A-4C52-A790-C355B489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80A-0C21-43A8-819E-CE698245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B563-0140-4309-BA58-F8D2AE3F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7192-6B9C-48A8-8AFB-90771A87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413D-0BD2-4D1D-B5D0-56274EB7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13A1-DB5A-4159-82FC-05B38E1F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CF7-2401-41F9-816B-90288B6C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C69-947E-4ABC-96A0-596BAC15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A525B-A09F-411A-A2B3-992A9A3F02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0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525840" y="4019760"/>
            <a:ext cx="4498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互联网是一个实用而且有趣的巨大信息资源库，允许人们进行通讯和共享信息，也可以通过互联网寻求救援。文中的女孩为什么会在网上呼救？让我们一起来关注这个感人的故事吧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郎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34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35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" name="组合 8"/>
          <p:cNvGrpSpPr/>
          <p:nvPr/>
        </p:nvGrpSpPr>
        <p:grpSpPr>
          <a:xfrm>
            <a:off x="1390680" y="3975120"/>
            <a:ext cx="2863800" cy="1572120"/>
            <a:chOff x="1390680" y="3975120"/>
            <a:chExt cx="2863800" cy="1572120"/>
          </a:xfrm>
        </p:grpSpPr>
        <p:pic>
          <p:nvPicPr>
            <p:cNvPr id="239" name="图示 4" descr=""/>
            <p:cNvPicPr/>
            <p:nvPr/>
          </p:nvPicPr>
          <p:blipFill>
            <a:blip r:embed="rId3"/>
            <a:stretch/>
          </p:blipFill>
          <p:spPr>
            <a:xfrm>
              <a:off x="1390680" y="3975120"/>
              <a:ext cx="2863800" cy="15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矩形 2"/>
            <p:cNvSpPr/>
            <p:nvPr/>
          </p:nvSpPr>
          <p:spPr>
            <a:xfrm>
              <a:off x="1435680" y="4588200"/>
              <a:ext cx="279576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高右低。右部竖为悬针竖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矩形 3"/>
          <p:cNvSpPr/>
          <p:nvPr/>
        </p:nvSpPr>
        <p:spPr>
          <a:xfrm>
            <a:off x="2028960" y="1868400"/>
            <a:ext cx="146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á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reeform 24"/>
          <p:cNvSpPr/>
          <p:nvPr/>
        </p:nvSpPr>
        <p:spPr>
          <a:xfrm>
            <a:off x="6832440" y="3041640"/>
            <a:ext cx="933480" cy="1308240"/>
          </a:xfrm>
          <a:custGeom>
            <a:avLst/>
            <a:gdLst/>
            <a:ahLst/>
            <a:rect l="l" t="t" r="r" b="b"/>
            <a:pathLst>
              <a:path w="1175" h="1648">
                <a:moveTo>
                  <a:pt x="726" y="456"/>
                </a:moveTo>
                <a:lnTo>
                  <a:pt x="712" y="470"/>
                </a:lnTo>
                <a:lnTo>
                  <a:pt x="699" y="483"/>
                </a:lnTo>
                <a:lnTo>
                  <a:pt x="688" y="497"/>
                </a:lnTo>
                <a:lnTo>
                  <a:pt x="676" y="510"/>
                </a:lnTo>
                <a:lnTo>
                  <a:pt x="664" y="522"/>
                </a:lnTo>
                <a:lnTo>
                  <a:pt x="653" y="535"/>
                </a:lnTo>
                <a:lnTo>
                  <a:pt x="643" y="547"/>
                </a:lnTo>
                <a:lnTo>
                  <a:pt x="634" y="558"/>
                </a:lnTo>
                <a:lnTo>
                  <a:pt x="615" y="579"/>
                </a:lnTo>
                <a:lnTo>
                  <a:pt x="599" y="599"/>
                </a:lnTo>
                <a:lnTo>
                  <a:pt x="584" y="616"/>
                </a:lnTo>
                <a:lnTo>
                  <a:pt x="572" y="631"/>
                </a:lnTo>
                <a:lnTo>
                  <a:pt x="561" y="647"/>
                </a:lnTo>
                <a:lnTo>
                  <a:pt x="553" y="660"/>
                </a:lnTo>
                <a:lnTo>
                  <a:pt x="545" y="670"/>
                </a:lnTo>
                <a:lnTo>
                  <a:pt x="540" y="679"/>
                </a:lnTo>
                <a:lnTo>
                  <a:pt x="536" y="687"/>
                </a:lnTo>
                <a:lnTo>
                  <a:pt x="536" y="694"/>
                </a:lnTo>
                <a:lnTo>
                  <a:pt x="536" y="698"/>
                </a:lnTo>
                <a:lnTo>
                  <a:pt x="538" y="702"/>
                </a:lnTo>
                <a:lnTo>
                  <a:pt x="540" y="704"/>
                </a:lnTo>
                <a:lnTo>
                  <a:pt x="545" y="708"/>
                </a:lnTo>
                <a:lnTo>
                  <a:pt x="551" y="710"/>
                </a:lnTo>
                <a:lnTo>
                  <a:pt x="559" y="714"/>
                </a:lnTo>
                <a:lnTo>
                  <a:pt x="567" y="719"/>
                </a:lnTo>
                <a:lnTo>
                  <a:pt x="576" y="723"/>
                </a:lnTo>
                <a:lnTo>
                  <a:pt x="588" y="729"/>
                </a:lnTo>
                <a:lnTo>
                  <a:pt x="599" y="733"/>
                </a:lnTo>
                <a:lnTo>
                  <a:pt x="611" y="739"/>
                </a:lnTo>
                <a:lnTo>
                  <a:pt x="624" y="744"/>
                </a:lnTo>
                <a:lnTo>
                  <a:pt x="640" y="752"/>
                </a:lnTo>
                <a:lnTo>
                  <a:pt x="655" y="758"/>
                </a:lnTo>
                <a:lnTo>
                  <a:pt x="672" y="764"/>
                </a:lnTo>
                <a:lnTo>
                  <a:pt x="689" y="771"/>
                </a:lnTo>
                <a:lnTo>
                  <a:pt x="707" y="777"/>
                </a:lnTo>
                <a:lnTo>
                  <a:pt x="726" y="785"/>
                </a:lnTo>
                <a:lnTo>
                  <a:pt x="745" y="792"/>
                </a:lnTo>
                <a:lnTo>
                  <a:pt x="764" y="802"/>
                </a:lnTo>
                <a:lnTo>
                  <a:pt x="783" y="813"/>
                </a:lnTo>
                <a:lnTo>
                  <a:pt x="801" y="823"/>
                </a:lnTo>
                <a:lnTo>
                  <a:pt x="820" y="835"/>
                </a:lnTo>
                <a:lnTo>
                  <a:pt x="839" y="846"/>
                </a:lnTo>
                <a:lnTo>
                  <a:pt x="858" y="860"/>
                </a:lnTo>
                <a:lnTo>
                  <a:pt x="878" y="873"/>
                </a:lnTo>
                <a:lnTo>
                  <a:pt x="897" y="886"/>
                </a:lnTo>
                <a:lnTo>
                  <a:pt x="916" y="902"/>
                </a:lnTo>
                <a:lnTo>
                  <a:pt x="935" y="917"/>
                </a:lnTo>
                <a:lnTo>
                  <a:pt x="954" y="933"/>
                </a:lnTo>
                <a:lnTo>
                  <a:pt x="974" y="950"/>
                </a:lnTo>
                <a:lnTo>
                  <a:pt x="993" y="967"/>
                </a:lnTo>
                <a:lnTo>
                  <a:pt x="1012" y="986"/>
                </a:lnTo>
                <a:lnTo>
                  <a:pt x="1031" y="1005"/>
                </a:lnTo>
                <a:lnTo>
                  <a:pt x="1046" y="1025"/>
                </a:lnTo>
                <a:lnTo>
                  <a:pt x="1060" y="1044"/>
                </a:lnTo>
                <a:lnTo>
                  <a:pt x="1075" y="1063"/>
                </a:lnTo>
                <a:lnTo>
                  <a:pt x="1087" y="1080"/>
                </a:lnTo>
                <a:lnTo>
                  <a:pt x="1100" y="1099"/>
                </a:lnTo>
                <a:lnTo>
                  <a:pt x="1110" y="1117"/>
                </a:lnTo>
                <a:lnTo>
                  <a:pt x="1121" y="1132"/>
                </a:lnTo>
                <a:lnTo>
                  <a:pt x="1129" y="1149"/>
                </a:lnTo>
                <a:lnTo>
                  <a:pt x="1139" y="1167"/>
                </a:lnTo>
                <a:lnTo>
                  <a:pt x="1146" y="1182"/>
                </a:lnTo>
                <a:lnTo>
                  <a:pt x="1152" y="1197"/>
                </a:lnTo>
                <a:lnTo>
                  <a:pt x="1160" y="1213"/>
                </a:lnTo>
                <a:lnTo>
                  <a:pt x="1164" y="1228"/>
                </a:lnTo>
                <a:lnTo>
                  <a:pt x="1169" y="1243"/>
                </a:lnTo>
                <a:lnTo>
                  <a:pt x="1173" y="1259"/>
                </a:lnTo>
                <a:lnTo>
                  <a:pt x="1175" y="1274"/>
                </a:lnTo>
                <a:lnTo>
                  <a:pt x="1175" y="1305"/>
                </a:lnTo>
                <a:lnTo>
                  <a:pt x="1173" y="1334"/>
                </a:lnTo>
                <a:lnTo>
                  <a:pt x="1169" y="1361"/>
                </a:lnTo>
                <a:lnTo>
                  <a:pt x="1165" y="1387"/>
                </a:lnTo>
                <a:lnTo>
                  <a:pt x="1162" y="1412"/>
                </a:lnTo>
                <a:lnTo>
                  <a:pt x="1158" y="1433"/>
                </a:lnTo>
                <a:lnTo>
                  <a:pt x="1154" y="1445"/>
                </a:lnTo>
                <a:lnTo>
                  <a:pt x="1152" y="1455"/>
                </a:lnTo>
                <a:lnTo>
                  <a:pt x="1150" y="1464"/>
                </a:lnTo>
                <a:lnTo>
                  <a:pt x="1146" y="1474"/>
                </a:lnTo>
                <a:lnTo>
                  <a:pt x="1137" y="1491"/>
                </a:lnTo>
                <a:lnTo>
                  <a:pt x="1125" y="1506"/>
                </a:lnTo>
                <a:lnTo>
                  <a:pt x="1114" y="1522"/>
                </a:lnTo>
                <a:lnTo>
                  <a:pt x="1104" y="1537"/>
                </a:lnTo>
                <a:lnTo>
                  <a:pt x="1093" y="1551"/>
                </a:lnTo>
                <a:lnTo>
                  <a:pt x="1081" y="1564"/>
                </a:lnTo>
                <a:lnTo>
                  <a:pt x="1060" y="1591"/>
                </a:lnTo>
                <a:lnTo>
                  <a:pt x="1045" y="1602"/>
                </a:lnTo>
                <a:lnTo>
                  <a:pt x="1029" y="1614"/>
                </a:lnTo>
                <a:lnTo>
                  <a:pt x="1016" y="1625"/>
                </a:lnTo>
                <a:lnTo>
                  <a:pt x="1002" y="1633"/>
                </a:lnTo>
                <a:lnTo>
                  <a:pt x="987" y="1639"/>
                </a:lnTo>
                <a:lnTo>
                  <a:pt x="974" y="1645"/>
                </a:lnTo>
                <a:lnTo>
                  <a:pt x="966" y="1647"/>
                </a:lnTo>
                <a:lnTo>
                  <a:pt x="958" y="1648"/>
                </a:lnTo>
                <a:lnTo>
                  <a:pt x="950" y="1648"/>
                </a:lnTo>
                <a:lnTo>
                  <a:pt x="943" y="1648"/>
                </a:lnTo>
                <a:lnTo>
                  <a:pt x="935" y="1648"/>
                </a:lnTo>
                <a:lnTo>
                  <a:pt x="927" y="1647"/>
                </a:lnTo>
                <a:lnTo>
                  <a:pt x="920" y="1645"/>
                </a:lnTo>
                <a:lnTo>
                  <a:pt x="914" y="1643"/>
                </a:lnTo>
                <a:lnTo>
                  <a:pt x="906" y="1639"/>
                </a:lnTo>
                <a:lnTo>
                  <a:pt x="901" y="1635"/>
                </a:lnTo>
                <a:lnTo>
                  <a:pt x="895" y="1629"/>
                </a:lnTo>
                <a:lnTo>
                  <a:pt x="889" y="1624"/>
                </a:lnTo>
                <a:lnTo>
                  <a:pt x="883" y="1618"/>
                </a:lnTo>
                <a:lnTo>
                  <a:pt x="878" y="1610"/>
                </a:lnTo>
                <a:lnTo>
                  <a:pt x="874" y="1602"/>
                </a:lnTo>
                <a:lnTo>
                  <a:pt x="870" y="1595"/>
                </a:lnTo>
                <a:lnTo>
                  <a:pt x="866" y="1585"/>
                </a:lnTo>
                <a:lnTo>
                  <a:pt x="862" y="1576"/>
                </a:lnTo>
                <a:lnTo>
                  <a:pt x="858" y="1566"/>
                </a:lnTo>
                <a:lnTo>
                  <a:pt x="856" y="1556"/>
                </a:lnTo>
                <a:lnTo>
                  <a:pt x="853" y="1545"/>
                </a:lnTo>
                <a:lnTo>
                  <a:pt x="847" y="1533"/>
                </a:lnTo>
                <a:lnTo>
                  <a:pt x="841" y="1524"/>
                </a:lnTo>
                <a:lnTo>
                  <a:pt x="831" y="1514"/>
                </a:lnTo>
                <a:lnTo>
                  <a:pt x="822" y="1503"/>
                </a:lnTo>
                <a:lnTo>
                  <a:pt x="810" y="1493"/>
                </a:lnTo>
                <a:lnTo>
                  <a:pt x="797" y="1483"/>
                </a:lnTo>
                <a:lnTo>
                  <a:pt x="782" y="1474"/>
                </a:lnTo>
                <a:lnTo>
                  <a:pt x="766" y="1464"/>
                </a:lnTo>
                <a:lnTo>
                  <a:pt x="747" y="1455"/>
                </a:lnTo>
                <a:lnTo>
                  <a:pt x="728" y="1445"/>
                </a:lnTo>
                <a:lnTo>
                  <a:pt x="707" y="1433"/>
                </a:lnTo>
                <a:lnTo>
                  <a:pt x="686" y="1424"/>
                </a:lnTo>
                <a:lnTo>
                  <a:pt x="661" y="1414"/>
                </a:lnTo>
                <a:lnTo>
                  <a:pt x="636" y="1403"/>
                </a:lnTo>
                <a:lnTo>
                  <a:pt x="609" y="1391"/>
                </a:lnTo>
                <a:lnTo>
                  <a:pt x="595" y="1387"/>
                </a:lnTo>
                <a:lnTo>
                  <a:pt x="580" y="1384"/>
                </a:lnTo>
                <a:lnTo>
                  <a:pt x="567" y="1378"/>
                </a:lnTo>
                <a:lnTo>
                  <a:pt x="553" y="1374"/>
                </a:lnTo>
                <a:lnTo>
                  <a:pt x="542" y="1370"/>
                </a:lnTo>
                <a:lnTo>
                  <a:pt x="528" y="1366"/>
                </a:lnTo>
                <a:lnTo>
                  <a:pt x="505" y="1359"/>
                </a:lnTo>
                <a:lnTo>
                  <a:pt x="484" y="1351"/>
                </a:lnTo>
                <a:lnTo>
                  <a:pt x="465" y="1345"/>
                </a:lnTo>
                <a:lnTo>
                  <a:pt x="448" y="1338"/>
                </a:lnTo>
                <a:lnTo>
                  <a:pt x="432" y="1332"/>
                </a:lnTo>
                <a:lnTo>
                  <a:pt x="417" y="1326"/>
                </a:lnTo>
                <a:lnTo>
                  <a:pt x="405" y="1320"/>
                </a:lnTo>
                <a:lnTo>
                  <a:pt x="394" y="1316"/>
                </a:lnTo>
                <a:lnTo>
                  <a:pt x="384" y="1311"/>
                </a:lnTo>
                <a:lnTo>
                  <a:pt x="377" y="1307"/>
                </a:lnTo>
                <a:lnTo>
                  <a:pt x="371" y="1303"/>
                </a:lnTo>
                <a:lnTo>
                  <a:pt x="367" y="1301"/>
                </a:lnTo>
                <a:lnTo>
                  <a:pt x="363" y="1299"/>
                </a:lnTo>
                <a:lnTo>
                  <a:pt x="361" y="1295"/>
                </a:lnTo>
                <a:lnTo>
                  <a:pt x="361" y="1293"/>
                </a:lnTo>
                <a:lnTo>
                  <a:pt x="361" y="1291"/>
                </a:lnTo>
                <a:lnTo>
                  <a:pt x="365" y="1290"/>
                </a:lnTo>
                <a:lnTo>
                  <a:pt x="371" y="1288"/>
                </a:lnTo>
                <a:lnTo>
                  <a:pt x="377" y="1286"/>
                </a:lnTo>
                <a:lnTo>
                  <a:pt x="384" y="1284"/>
                </a:lnTo>
                <a:lnTo>
                  <a:pt x="394" y="1284"/>
                </a:lnTo>
                <a:lnTo>
                  <a:pt x="403" y="1282"/>
                </a:lnTo>
                <a:lnTo>
                  <a:pt x="417" y="1282"/>
                </a:lnTo>
                <a:lnTo>
                  <a:pt x="430" y="1282"/>
                </a:lnTo>
                <a:lnTo>
                  <a:pt x="446" y="1282"/>
                </a:lnTo>
                <a:lnTo>
                  <a:pt x="463" y="1282"/>
                </a:lnTo>
                <a:lnTo>
                  <a:pt x="482" y="1284"/>
                </a:lnTo>
                <a:lnTo>
                  <a:pt x="501" y="1284"/>
                </a:lnTo>
                <a:lnTo>
                  <a:pt x="522" y="1288"/>
                </a:lnTo>
                <a:lnTo>
                  <a:pt x="544" y="1290"/>
                </a:lnTo>
                <a:lnTo>
                  <a:pt x="565" y="1291"/>
                </a:lnTo>
                <a:lnTo>
                  <a:pt x="584" y="1293"/>
                </a:lnTo>
                <a:lnTo>
                  <a:pt x="605" y="1295"/>
                </a:lnTo>
                <a:lnTo>
                  <a:pt x="622" y="1297"/>
                </a:lnTo>
                <a:lnTo>
                  <a:pt x="641" y="1299"/>
                </a:lnTo>
                <a:lnTo>
                  <a:pt x="659" y="1301"/>
                </a:lnTo>
                <a:lnTo>
                  <a:pt x="676" y="1303"/>
                </a:lnTo>
                <a:lnTo>
                  <a:pt x="693" y="1305"/>
                </a:lnTo>
                <a:lnTo>
                  <a:pt x="709" y="1305"/>
                </a:lnTo>
                <a:lnTo>
                  <a:pt x="741" y="1309"/>
                </a:lnTo>
                <a:lnTo>
                  <a:pt x="770" y="1309"/>
                </a:lnTo>
                <a:lnTo>
                  <a:pt x="799" y="1311"/>
                </a:lnTo>
                <a:lnTo>
                  <a:pt x="808" y="1313"/>
                </a:lnTo>
                <a:lnTo>
                  <a:pt x="818" y="1313"/>
                </a:lnTo>
                <a:lnTo>
                  <a:pt x="830" y="1314"/>
                </a:lnTo>
                <a:lnTo>
                  <a:pt x="839" y="1314"/>
                </a:lnTo>
                <a:lnTo>
                  <a:pt x="856" y="1314"/>
                </a:lnTo>
                <a:lnTo>
                  <a:pt x="864" y="1314"/>
                </a:lnTo>
                <a:lnTo>
                  <a:pt x="872" y="1313"/>
                </a:lnTo>
                <a:lnTo>
                  <a:pt x="879" y="1313"/>
                </a:lnTo>
                <a:lnTo>
                  <a:pt x="887" y="1311"/>
                </a:lnTo>
                <a:lnTo>
                  <a:pt x="893" y="1309"/>
                </a:lnTo>
                <a:lnTo>
                  <a:pt x="899" y="1307"/>
                </a:lnTo>
                <a:lnTo>
                  <a:pt x="902" y="1305"/>
                </a:lnTo>
                <a:lnTo>
                  <a:pt x="908" y="1303"/>
                </a:lnTo>
                <a:lnTo>
                  <a:pt x="910" y="1301"/>
                </a:lnTo>
                <a:lnTo>
                  <a:pt x="914" y="1299"/>
                </a:lnTo>
                <a:lnTo>
                  <a:pt x="916" y="1295"/>
                </a:lnTo>
                <a:lnTo>
                  <a:pt x="918" y="1293"/>
                </a:lnTo>
                <a:lnTo>
                  <a:pt x="920" y="1290"/>
                </a:lnTo>
                <a:lnTo>
                  <a:pt x="922" y="1286"/>
                </a:lnTo>
                <a:lnTo>
                  <a:pt x="924" y="1276"/>
                </a:lnTo>
                <a:lnTo>
                  <a:pt x="926" y="1265"/>
                </a:lnTo>
                <a:lnTo>
                  <a:pt x="924" y="1251"/>
                </a:lnTo>
                <a:lnTo>
                  <a:pt x="922" y="1238"/>
                </a:lnTo>
                <a:lnTo>
                  <a:pt x="918" y="1222"/>
                </a:lnTo>
                <a:lnTo>
                  <a:pt x="914" y="1205"/>
                </a:lnTo>
                <a:lnTo>
                  <a:pt x="910" y="1195"/>
                </a:lnTo>
                <a:lnTo>
                  <a:pt x="908" y="1186"/>
                </a:lnTo>
                <a:lnTo>
                  <a:pt x="902" y="1176"/>
                </a:lnTo>
                <a:lnTo>
                  <a:pt x="899" y="1167"/>
                </a:lnTo>
                <a:lnTo>
                  <a:pt x="893" y="1157"/>
                </a:lnTo>
                <a:lnTo>
                  <a:pt x="887" y="1146"/>
                </a:lnTo>
                <a:lnTo>
                  <a:pt x="874" y="1124"/>
                </a:lnTo>
                <a:lnTo>
                  <a:pt x="860" y="1099"/>
                </a:lnTo>
                <a:lnTo>
                  <a:pt x="853" y="1088"/>
                </a:lnTo>
                <a:lnTo>
                  <a:pt x="845" y="1075"/>
                </a:lnTo>
                <a:lnTo>
                  <a:pt x="837" y="1061"/>
                </a:lnTo>
                <a:lnTo>
                  <a:pt x="830" y="1048"/>
                </a:lnTo>
                <a:lnTo>
                  <a:pt x="820" y="1032"/>
                </a:lnTo>
                <a:lnTo>
                  <a:pt x="812" y="1017"/>
                </a:lnTo>
                <a:lnTo>
                  <a:pt x="803" y="1002"/>
                </a:lnTo>
                <a:lnTo>
                  <a:pt x="791" y="988"/>
                </a:lnTo>
                <a:lnTo>
                  <a:pt x="778" y="973"/>
                </a:lnTo>
                <a:lnTo>
                  <a:pt x="766" y="959"/>
                </a:lnTo>
                <a:lnTo>
                  <a:pt x="755" y="948"/>
                </a:lnTo>
                <a:lnTo>
                  <a:pt x="741" y="934"/>
                </a:lnTo>
                <a:lnTo>
                  <a:pt x="728" y="923"/>
                </a:lnTo>
                <a:lnTo>
                  <a:pt x="712" y="911"/>
                </a:lnTo>
                <a:lnTo>
                  <a:pt x="699" y="900"/>
                </a:lnTo>
                <a:lnTo>
                  <a:pt x="684" y="888"/>
                </a:lnTo>
                <a:lnTo>
                  <a:pt x="668" y="879"/>
                </a:lnTo>
                <a:lnTo>
                  <a:pt x="651" y="867"/>
                </a:lnTo>
                <a:lnTo>
                  <a:pt x="634" y="858"/>
                </a:lnTo>
                <a:lnTo>
                  <a:pt x="616" y="848"/>
                </a:lnTo>
                <a:lnTo>
                  <a:pt x="599" y="838"/>
                </a:lnTo>
                <a:lnTo>
                  <a:pt x="580" y="831"/>
                </a:lnTo>
                <a:lnTo>
                  <a:pt x="563" y="821"/>
                </a:lnTo>
                <a:lnTo>
                  <a:pt x="545" y="813"/>
                </a:lnTo>
                <a:lnTo>
                  <a:pt x="528" y="806"/>
                </a:lnTo>
                <a:lnTo>
                  <a:pt x="513" y="796"/>
                </a:lnTo>
                <a:lnTo>
                  <a:pt x="499" y="790"/>
                </a:lnTo>
                <a:lnTo>
                  <a:pt x="486" y="783"/>
                </a:lnTo>
                <a:lnTo>
                  <a:pt x="474" y="775"/>
                </a:lnTo>
                <a:lnTo>
                  <a:pt x="463" y="769"/>
                </a:lnTo>
                <a:lnTo>
                  <a:pt x="453" y="762"/>
                </a:lnTo>
                <a:lnTo>
                  <a:pt x="444" y="756"/>
                </a:lnTo>
                <a:lnTo>
                  <a:pt x="438" y="750"/>
                </a:lnTo>
                <a:lnTo>
                  <a:pt x="432" y="744"/>
                </a:lnTo>
                <a:lnTo>
                  <a:pt x="426" y="739"/>
                </a:lnTo>
                <a:lnTo>
                  <a:pt x="423" y="735"/>
                </a:lnTo>
                <a:lnTo>
                  <a:pt x="421" y="729"/>
                </a:lnTo>
                <a:lnTo>
                  <a:pt x="421" y="725"/>
                </a:lnTo>
                <a:lnTo>
                  <a:pt x="421" y="719"/>
                </a:lnTo>
                <a:lnTo>
                  <a:pt x="423" y="714"/>
                </a:lnTo>
                <a:lnTo>
                  <a:pt x="426" y="704"/>
                </a:lnTo>
                <a:lnTo>
                  <a:pt x="430" y="694"/>
                </a:lnTo>
                <a:lnTo>
                  <a:pt x="434" y="683"/>
                </a:lnTo>
                <a:lnTo>
                  <a:pt x="440" y="670"/>
                </a:lnTo>
                <a:lnTo>
                  <a:pt x="448" y="654"/>
                </a:lnTo>
                <a:lnTo>
                  <a:pt x="455" y="637"/>
                </a:lnTo>
                <a:lnTo>
                  <a:pt x="465" y="620"/>
                </a:lnTo>
                <a:lnTo>
                  <a:pt x="476" y="599"/>
                </a:lnTo>
                <a:lnTo>
                  <a:pt x="488" y="577"/>
                </a:lnTo>
                <a:lnTo>
                  <a:pt x="501" y="554"/>
                </a:lnTo>
                <a:lnTo>
                  <a:pt x="515" y="529"/>
                </a:lnTo>
                <a:lnTo>
                  <a:pt x="530" y="503"/>
                </a:lnTo>
                <a:lnTo>
                  <a:pt x="547" y="474"/>
                </a:lnTo>
                <a:lnTo>
                  <a:pt x="567" y="445"/>
                </a:lnTo>
                <a:lnTo>
                  <a:pt x="582" y="416"/>
                </a:lnTo>
                <a:lnTo>
                  <a:pt x="595" y="389"/>
                </a:lnTo>
                <a:lnTo>
                  <a:pt x="609" y="364"/>
                </a:lnTo>
                <a:lnTo>
                  <a:pt x="622" y="341"/>
                </a:lnTo>
                <a:lnTo>
                  <a:pt x="634" y="320"/>
                </a:lnTo>
                <a:lnTo>
                  <a:pt x="643" y="299"/>
                </a:lnTo>
                <a:lnTo>
                  <a:pt x="653" y="280"/>
                </a:lnTo>
                <a:lnTo>
                  <a:pt x="661" y="263"/>
                </a:lnTo>
                <a:lnTo>
                  <a:pt x="668" y="247"/>
                </a:lnTo>
                <a:lnTo>
                  <a:pt x="674" y="234"/>
                </a:lnTo>
                <a:lnTo>
                  <a:pt x="678" y="220"/>
                </a:lnTo>
                <a:lnTo>
                  <a:pt x="682" y="211"/>
                </a:lnTo>
                <a:lnTo>
                  <a:pt x="684" y="201"/>
                </a:lnTo>
                <a:lnTo>
                  <a:pt x="684" y="195"/>
                </a:lnTo>
                <a:lnTo>
                  <a:pt x="684" y="190"/>
                </a:lnTo>
                <a:lnTo>
                  <a:pt x="682" y="188"/>
                </a:lnTo>
                <a:lnTo>
                  <a:pt x="678" y="186"/>
                </a:lnTo>
                <a:lnTo>
                  <a:pt x="674" y="184"/>
                </a:lnTo>
                <a:lnTo>
                  <a:pt x="668" y="182"/>
                </a:lnTo>
                <a:lnTo>
                  <a:pt x="661" y="182"/>
                </a:lnTo>
                <a:lnTo>
                  <a:pt x="651" y="182"/>
                </a:lnTo>
                <a:lnTo>
                  <a:pt x="641" y="182"/>
                </a:lnTo>
                <a:lnTo>
                  <a:pt x="630" y="184"/>
                </a:lnTo>
                <a:lnTo>
                  <a:pt x="616" y="186"/>
                </a:lnTo>
                <a:lnTo>
                  <a:pt x="603" y="188"/>
                </a:lnTo>
                <a:lnTo>
                  <a:pt x="586" y="190"/>
                </a:lnTo>
                <a:lnTo>
                  <a:pt x="570" y="192"/>
                </a:lnTo>
                <a:lnTo>
                  <a:pt x="551" y="195"/>
                </a:lnTo>
                <a:lnTo>
                  <a:pt x="532" y="197"/>
                </a:lnTo>
                <a:lnTo>
                  <a:pt x="511" y="201"/>
                </a:lnTo>
                <a:lnTo>
                  <a:pt x="488" y="207"/>
                </a:lnTo>
                <a:lnTo>
                  <a:pt x="465" y="211"/>
                </a:lnTo>
                <a:lnTo>
                  <a:pt x="415" y="218"/>
                </a:lnTo>
                <a:lnTo>
                  <a:pt x="388" y="222"/>
                </a:lnTo>
                <a:lnTo>
                  <a:pt x="363" y="226"/>
                </a:lnTo>
                <a:lnTo>
                  <a:pt x="336" y="230"/>
                </a:lnTo>
                <a:lnTo>
                  <a:pt x="309" y="232"/>
                </a:lnTo>
                <a:lnTo>
                  <a:pt x="283" y="234"/>
                </a:lnTo>
                <a:lnTo>
                  <a:pt x="254" y="238"/>
                </a:lnTo>
                <a:lnTo>
                  <a:pt x="225" y="240"/>
                </a:lnTo>
                <a:lnTo>
                  <a:pt x="194" y="241"/>
                </a:lnTo>
                <a:lnTo>
                  <a:pt x="165" y="241"/>
                </a:lnTo>
                <a:lnTo>
                  <a:pt x="133" y="243"/>
                </a:lnTo>
                <a:lnTo>
                  <a:pt x="102" y="243"/>
                </a:lnTo>
                <a:lnTo>
                  <a:pt x="68" y="245"/>
                </a:lnTo>
                <a:lnTo>
                  <a:pt x="35" y="245"/>
                </a:lnTo>
                <a:lnTo>
                  <a:pt x="0" y="245"/>
                </a:lnTo>
                <a:lnTo>
                  <a:pt x="0" y="151"/>
                </a:lnTo>
                <a:lnTo>
                  <a:pt x="37" y="151"/>
                </a:lnTo>
                <a:lnTo>
                  <a:pt x="73" y="151"/>
                </a:lnTo>
                <a:lnTo>
                  <a:pt x="110" y="151"/>
                </a:lnTo>
                <a:lnTo>
                  <a:pt x="144" y="149"/>
                </a:lnTo>
                <a:lnTo>
                  <a:pt x="177" y="147"/>
                </a:lnTo>
                <a:lnTo>
                  <a:pt x="211" y="146"/>
                </a:lnTo>
                <a:lnTo>
                  <a:pt x="242" y="144"/>
                </a:lnTo>
                <a:lnTo>
                  <a:pt x="273" y="142"/>
                </a:lnTo>
                <a:lnTo>
                  <a:pt x="304" y="140"/>
                </a:lnTo>
                <a:lnTo>
                  <a:pt x="332" y="136"/>
                </a:lnTo>
                <a:lnTo>
                  <a:pt x="361" y="132"/>
                </a:lnTo>
                <a:lnTo>
                  <a:pt x="390" y="128"/>
                </a:lnTo>
                <a:lnTo>
                  <a:pt x="417" y="122"/>
                </a:lnTo>
                <a:lnTo>
                  <a:pt x="444" y="117"/>
                </a:lnTo>
                <a:lnTo>
                  <a:pt x="469" y="111"/>
                </a:lnTo>
                <a:lnTo>
                  <a:pt x="494" y="105"/>
                </a:lnTo>
                <a:lnTo>
                  <a:pt x="517" y="99"/>
                </a:lnTo>
                <a:lnTo>
                  <a:pt x="540" y="92"/>
                </a:lnTo>
                <a:lnTo>
                  <a:pt x="561" y="86"/>
                </a:lnTo>
                <a:lnTo>
                  <a:pt x="580" y="80"/>
                </a:lnTo>
                <a:lnTo>
                  <a:pt x="599" y="74"/>
                </a:lnTo>
                <a:lnTo>
                  <a:pt x="616" y="69"/>
                </a:lnTo>
                <a:lnTo>
                  <a:pt x="632" y="65"/>
                </a:lnTo>
                <a:lnTo>
                  <a:pt x="647" y="59"/>
                </a:lnTo>
                <a:lnTo>
                  <a:pt x="661" y="55"/>
                </a:lnTo>
                <a:lnTo>
                  <a:pt x="674" y="50"/>
                </a:lnTo>
                <a:lnTo>
                  <a:pt x="686" y="46"/>
                </a:lnTo>
                <a:lnTo>
                  <a:pt x="695" y="40"/>
                </a:lnTo>
                <a:lnTo>
                  <a:pt x="705" y="36"/>
                </a:lnTo>
                <a:lnTo>
                  <a:pt x="712" y="32"/>
                </a:lnTo>
                <a:lnTo>
                  <a:pt x="720" y="28"/>
                </a:lnTo>
                <a:lnTo>
                  <a:pt x="726" y="23"/>
                </a:lnTo>
                <a:lnTo>
                  <a:pt x="747" y="15"/>
                </a:lnTo>
                <a:lnTo>
                  <a:pt x="759" y="11"/>
                </a:lnTo>
                <a:lnTo>
                  <a:pt x="768" y="7"/>
                </a:lnTo>
                <a:lnTo>
                  <a:pt x="780" y="3"/>
                </a:lnTo>
                <a:lnTo>
                  <a:pt x="791" y="2"/>
                </a:lnTo>
                <a:lnTo>
                  <a:pt x="803" y="0"/>
                </a:lnTo>
                <a:lnTo>
                  <a:pt x="812" y="0"/>
                </a:lnTo>
                <a:lnTo>
                  <a:pt x="818" y="0"/>
                </a:lnTo>
                <a:lnTo>
                  <a:pt x="826" y="2"/>
                </a:lnTo>
                <a:lnTo>
                  <a:pt x="831" y="2"/>
                </a:lnTo>
                <a:lnTo>
                  <a:pt x="841" y="3"/>
                </a:lnTo>
                <a:lnTo>
                  <a:pt x="849" y="5"/>
                </a:lnTo>
                <a:lnTo>
                  <a:pt x="858" y="9"/>
                </a:lnTo>
                <a:lnTo>
                  <a:pt x="868" y="11"/>
                </a:lnTo>
                <a:lnTo>
                  <a:pt x="879" y="15"/>
                </a:lnTo>
                <a:lnTo>
                  <a:pt x="891" y="19"/>
                </a:lnTo>
                <a:lnTo>
                  <a:pt x="904" y="25"/>
                </a:lnTo>
                <a:lnTo>
                  <a:pt x="918" y="28"/>
                </a:lnTo>
                <a:lnTo>
                  <a:pt x="933" y="34"/>
                </a:lnTo>
                <a:lnTo>
                  <a:pt x="949" y="40"/>
                </a:lnTo>
                <a:lnTo>
                  <a:pt x="966" y="46"/>
                </a:lnTo>
                <a:lnTo>
                  <a:pt x="983" y="51"/>
                </a:lnTo>
                <a:lnTo>
                  <a:pt x="1002" y="59"/>
                </a:lnTo>
                <a:lnTo>
                  <a:pt x="1020" y="67"/>
                </a:lnTo>
                <a:lnTo>
                  <a:pt x="1037" y="74"/>
                </a:lnTo>
                <a:lnTo>
                  <a:pt x="1052" y="84"/>
                </a:lnTo>
                <a:lnTo>
                  <a:pt x="1068" y="92"/>
                </a:lnTo>
                <a:lnTo>
                  <a:pt x="1079" y="99"/>
                </a:lnTo>
                <a:lnTo>
                  <a:pt x="1093" y="105"/>
                </a:lnTo>
                <a:lnTo>
                  <a:pt x="1102" y="113"/>
                </a:lnTo>
                <a:lnTo>
                  <a:pt x="1112" y="119"/>
                </a:lnTo>
                <a:lnTo>
                  <a:pt x="1119" y="124"/>
                </a:lnTo>
                <a:lnTo>
                  <a:pt x="1127" y="130"/>
                </a:lnTo>
                <a:lnTo>
                  <a:pt x="1133" y="134"/>
                </a:lnTo>
                <a:lnTo>
                  <a:pt x="1139" y="140"/>
                </a:lnTo>
                <a:lnTo>
                  <a:pt x="1142" y="144"/>
                </a:lnTo>
                <a:lnTo>
                  <a:pt x="1144" y="146"/>
                </a:lnTo>
                <a:lnTo>
                  <a:pt x="1146" y="149"/>
                </a:lnTo>
                <a:lnTo>
                  <a:pt x="1146" y="151"/>
                </a:lnTo>
                <a:lnTo>
                  <a:pt x="1146" y="155"/>
                </a:lnTo>
                <a:lnTo>
                  <a:pt x="1146" y="161"/>
                </a:lnTo>
                <a:lnTo>
                  <a:pt x="1144" y="165"/>
                </a:lnTo>
                <a:lnTo>
                  <a:pt x="1140" y="167"/>
                </a:lnTo>
                <a:lnTo>
                  <a:pt x="1139" y="170"/>
                </a:lnTo>
                <a:lnTo>
                  <a:pt x="1135" y="174"/>
                </a:lnTo>
                <a:lnTo>
                  <a:pt x="1131" y="176"/>
                </a:lnTo>
                <a:lnTo>
                  <a:pt x="1125" y="180"/>
                </a:lnTo>
                <a:lnTo>
                  <a:pt x="1119" y="182"/>
                </a:lnTo>
                <a:lnTo>
                  <a:pt x="1112" y="186"/>
                </a:lnTo>
                <a:lnTo>
                  <a:pt x="1106" y="188"/>
                </a:lnTo>
                <a:lnTo>
                  <a:pt x="1098" y="190"/>
                </a:lnTo>
                <a:lnTo>
                  <a:pt x="1089" y="192"/>
                </a:lnTo>
                <a:lnTo>
                  <a:pt x="1079" y="194"/>
                </a:lnTo>
                <a:lnTo>
                  <a:pt x="1069" y="197"/>
                </a:lnTo>
                <a:lnTo>
                  <a:pt x="1060" y="199"/>
                </a:lnTo>
                <a:lnTo>
                  <a:pt x="1046" y="201"/>
                </a:lnTo>
                <a:lnTo>
                  <a:pt x="1031" y="207"/>
                </a:lnTo>
                <a:lnTo>
                  <a:pt x="1016" y="215"/>
                </a:lnTo>
                <a:lnTo>
                  <a:pt x="998" y="222"/>
                </a:lnTo>
                <a:lnTo>
                  <a:pt x="981" y="234"/>
                </a:lnTo>
                <a:lnTo>
                  <a:pt x="964" y="245"/>
                </a:lnTo>
                <a:lnTo>
                  <a:pt x="945" y="259"/>
                </a:lnTo>
                <a:lnTo>
                  <a:pt x="926" y="274"/>
                </a:lnTo>
                <a:lnTo>
                  <a:pt x="904" y="291"/>
                </a:lnTo>
                <a:lnTo>
                  <a:pt x="881" y="311"/>
                </a:lnTo>
                <a:lnTo>
                  <a:pt x="858" y="332"/>
                </a:lnTo>
                <a:lnTo>
                  <a:pt x="833" y="353"/>
                </a:lnTo>
                <a:lnTo>
                  <a:pt x="808" y="376"/>
                </a:lnTo>
                <a:lnTo>
                  <a:pt x="782" y="401"/>
                </a:lnTo>
                <a:lnTo>
                  <a:pt x="755" y="428"/>
                </a:lnTo>
                <a:lnTo>
                  <a:pt x="726" y="45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reeform 25"/>
          <p:cNvSpPr/>
          <p:nvPr/>
        </p:nvSpPr>
        <p:spPr>
          <a:xfrm>
            <a:off x="6745320" y="3157560"/>
            <a:ext cx="225360" cy="1825560"/>
          </a:xfrm>
          <a:custGeom>
            <a:avLst/>
            <a:gdLst/>
            <a:ahLst/>
            <a:rect l="l" t="t" r="r" b="b"/>
            <a:pathLst>
              <a:path w="284" h="2299">
                <a:moveTo>
                  <a:pt x="38" y="182"/>
                </a:moveTo>
                <a:lnTo>
                  <a:pt x="31" y="167"/>
                </a:lnTo>
                <a:lnTo>
                  <a:pt x="23" y="153"/>
                </a:lnTo>
                <a:lnTo>
                  <a:pt x="17" y="138"/>
                </a:lnTo>
                <a:lnTo>
                  <a:pt x="13" y="126"/>
                </a:lnTo>
                <a:lnTo>
                  <a:pt x="10" y="115"/>
                </a:lnTo>
                <a:lnTo>
                  <a:pt x="6" y="103"/>
                </a:lnTo>
                <a:lnTo>
                  <a:pt x="4" y="92"/>
                </a:lnTo>
                <a:lnTo>
                  <a:pt x="2" y="82"/>
                </a:lnTo>
                <a:lnTo>
                  <a:pt x="2" y="72"/>
                </a:lnTo>
                <a:lnTo>
                  <a:pt x="0" y="63"/>
                </a:lnTo>
                <a:lnTo>
                  <a:pt x="0" y="55"/>
                </a:lnTo>
                <a:lnTo>
                  <a:pt x="2" y="46"/>
                </a:lnTo>
                <a:lnTo>
                  <a:pt x="2" y="38"/>
                </a:lnTo>
                <a:lnTo>
                  <a:pt x="4" y="32"/>
                </a:lnTo>
                <a:lnTo>
                  <a:pt x="10" y="19"/>
                </a:lnTo>
                <a:lnTo>
                  <a:pt x="12" y="13"/>
                </a:lnTo>
                <a:lnTo>
                  <a:pt x="17" y="9"/>
                </a:lnTo>
                <a:lnTo>
                  <a:pt x="25" y="7"/>
                </a:lnTo>
                <a:lnTo>
                  <a:pt x="33" y="5"/>
                </a:lnTo>
                <a:lnTo>
                  <a:pt x="44" y="3"/>
                </a:lnTo>
                <a:lnTo>
                  <a:pt x="56" y="1"/>
                </a:lnTo>
                <a:lnTo>
                  <a:pt x="69" y="0"/>
                </a:lnTo>
                <a:lnTo>
                  <a:pt x="84" y="0"/>
                </a:lnTo>
                <a:lnTo>
                  <a:pt x="102" y="0"/>
                </a:lnTo>
                <a:lnTo>
                  <a:pt x="121" y="1"/>
                </a:lnTo>
                <a:lnTo>
                  <a:pt x="142" y="3"/>
                </a:lnTo>
                <a:lnTo>
                  <a:pt x="163" y="5"/>
                </a:lnTo>
                <a:lnTo>
                  <a:pt x="188" y="7"/>
                </a:lnTo>
                <a:lnTo>
                  <a:pt x="213" y="9"/>
                </a:lnTo>
                <a:lnTo>
                  <a:pt x="242" y="13"/>
                </a:lnTo>
                <a:lnTo>
                  <a:pt x="271" y="19"/>
                </a:lnTo>
                <a:lnTo>
                  <a:pt x="271" y="28"/>
                </a:lnTo>
                <a:lnTo>
                  <a:pt x="271" y="40"/>
                </a:lnTo>
                <a:lnTo>
                  <a:pt x="271" y="51"/>
                </a:lnTo>
                <a:lnTo>
                  <a:pt x="271" y="63"/>
                </a:lnTo>
                <a:lnTo>
                  <a:pt x="271" y="76"/>
                </a:lnTo>
                <a:lnTo>
                  <a:pt x="271" y="90"/>
                </a:lnTo>
                <a:lnTo>
                  <a:pt x="271" y="103"/>
                </a:lnTo>
                <a:lnTo>
                  <a:pt x="271" y="119"/>
                </a:lnTo>
                <a:lnTo>
                  <a:pt x="271" y="134"/>
                </a:lnTo>
                <a:lnTo>
                  <a:pt x="271" y="151"/>
                </a:lnTo>
                <a:lnTo>
                  <a:pt x="271" y="168"/>
                </a:lnTo>
                <a:lnTo>
                  <a:pt x="271" y="186"/>
                </a:lnTo>
                <a:lnTo>
                  <a:pt x="271" y="203"/>
                </a:lnTo>
                <a:lnTo>
                  <a:pt x="271" y="222"/>
                </a:lnTo>
                <a:lnTo>
                  <a:pt x="273" y="243"/>
                </a:lnTo>
                <a:lnTo>
                  <a:pt x="273" y="262"/>
                </a:lnTo>
                <a:lnTo>
                  <a:pt x="273" y="284"/>
                </a:lnTo>
                <a:lnTo>
                  <a:pt x="273" y="307"/>
                </a:lnTo>
                <a:lnTo>
                  <a:pt x="273" y="330"/>
                </a:lnTo>
                <a:lnTo>
                  <a:pt x="275" y="353"/>
                </a:lnTo>
                <a:lnTo>
                  <a:pt x="275" y="376"/>
                </a:lnTo>
                <a:lnTo>
                  <a:pt x="275" y="401"/>
                </a:lnTo>
                <a:lnTo>
                  <a:pt x="276" y="426"/>
                </a:lnTo>
                <a:lnTo>
                  <a:pt x="276" y="453"/>
                </a:lnTo>
                <a:lnTo>
                  <a:pt x="276" y="479"/>
                </a:lnTo>
                <a:lnTo>
                  <a:pt x="278" y="506"/>
                </a:lnTo>
                <a:lnTo>
                  <a:pt x="278" y="533"/>
                </a:lnTo>
                <a:lnTo>
                  <a:pt x="280" y="562"/>
                </a:lnTo>
                <a:lnTo>
                  <a:pt x="280" y="593"/>
                </a:lnTo>
                <a:lnTo>
                  <a:pt x="282" y="621"/>
                </a:lnTo>
                <a:lnTo>
                  <a:pt x="284" y="652"/>
                </a:lnTo>
                <a:lnTo>
                  <a:pt x="284" y="685"/>
                </a:lnTo>
                <a:lnTo>
                  <a:pt x="284" y="748"/>
                </a:lnTo>
                <a:lnTo>
                  <a:pt x="284" y="810"/>
                </a:lnTo>
                <a:lnTo>
                  <a:pt x="284" y="873"/>
                </a:lnTo>
                <a:lnTo>
                  <a:pt x="284" y="934"/>
                </a:lnTo>
                <a:lnTo>
                  <a:pt x="284" y="996"/>
                </a:lnTo>
                <a:lnTo>
                  <a:pt x="284" y="1055"/>
                </a:lnTo>
                <a:lnTo>
                  <a:pt x="284" y="1115"/>
                </a:lnTo>
                <a:lnTo>
                  <a:pt x="282" y="1172"/>
                </a:lnTo>
                <a:lnTo>
                  <a:pt x="282" y="1230"/>
                </a:lnTo>
                <a:lnTo>
                  <a:pt x="280" y="1287"/>
                </a:lnTo>
                <a:lnTo>
                  <a:pt x="280" y="1343"/>
                </a:lnTo>
                <a:lnTo>
                  <a:pt x="278" y="1399"/>
                </a:lnTo>
                <a:lnTo>
                  <a:pt x="276" y="1453"/>
                </a:lnTo>
                <a:lnTo>
                  <a:pt x="275" y="1506"/>
                </a:lnTo>
                <a:lnTo>
                  <a:pt x="273" y="1558"/>
                </a:lnTo>
                <a:lnTo>
                  <a:pt x="271" y="1608"/>
                </a:lnTo>
                <a:lnTo>
                  <a:pt x="269" y="1633"/>
                </a:lnTo>
                <a:lnTo>
                  <a:pt x="267" y="1658"/>
                </a:lnTo>
                <a:lnTo>
                  <a:pt x="267" y="1683"/>
                </a:lnTo>
                <a:lnTo>
                  <a:pt x="265" y="1706"/>
                </a:lnTo>
                <a:lnTo>
                  <a:pt x="263" y="1729"/>
                </a:lnTo>
                <a:lnTo>
                  <a:pt x="263" y="1750"/>
                </a:lnTo>
                <a:lnTo>
                  <a:pt x="261" y="1773"/>
                </a:lnTo>
                <a:lnTo>
                  <a:pt x="259" y="1794"/>
                </a:lnTo>
                <a:lnTo>
                  <a:pt x="259" y="1815"/>
                </a:lnTo>
                <a:lnTo>
                  <a:pt x="257" y="1836"/>
                </a:lnTo>
                <a:lnTo>
                  <a:pt x="255" y="1856"/>
                </a:lnTo>
                <a:lnTo>
                  <a:pt x="253" y="1877"/>
                </a:lnTo>
                <a:lnTo>
                  <a:pt x="253" y="1894"/>
                </a:lnTo>
                <a:lnTo>
                  <a:pt x="251" y="1913"/>
                </a:lnTo>
                <a:lnTo>
                  <a:pt x="250" y="1931"/>
                </a:lnTo>
                <a:lnTo>
                  <a:pt x="248" y="1950"/>
                </a:lnTo>
                <a:lnTo>
                  <a:pt x="248" y="1965"/>
                </a:lnTo>
                <a:lnTo>
                  <a:pt x="246" y="1982"/>
                </a:lnTo>
                <a:lnTo>
                  <a:pt x="244" y="1998"/>
                </a:lnTo>
                <a:lnTo>
                  <a:pt x="244" y="2013"/>
                </a:lnTo>
                <a:lnTo>
                  <a:pt x="242" y="2028"/>
                </a:lnTo>
                <a:lnTo>
                  <a:pt x="240" y="2044"/>
                </a:lnTo>
                <a:lnTo>
                  <a:pt x="238" y="2057"/>
                </a:lnTo>
                <a:lnTo>
                  <a:pt x="238" y="2071"/>
                </a:lnTo>
                <a:lnTo>
                  <a:pt x="236" y="2084"/>
                </a:lnTo>
                <a:lnTo>
                  <a:pt x="234" y="2096"/>
                </a:lnTo>
                <a:lnTo>
                  <a:pt x="234" y="2107"/>
                </a:lnTo>
                <a:lnTo>
                  <a:pt x="232" y="2119"/>
                </a:lnTo>
                <a:lnTo>
                  <a:pt x="230" y="2130"/>
                </a:lnTo>
                <a:lnTo>
                  <a:pt x="228" y="2140"/>
                </a:lnTo>
                <a:lnTo>
                  <a:pt x="228" y="2149"/>
                </a:lnTo>
                <a:lnTo>
                  <a:pt x="227" y="2159"/>
                </a:lnTo>
                <a:lnTo>
                  <a:pt x="221" y="2174"/>
                </a:lnTo>
                <a:lnTo>
                  <a:pt x="215" y="2192"/>
                </a:lnTo>
                <a:lnTo>
                  <a:pt x="211" y="2205"/>
                </a:lnTo>
                <a:lnTo>
                  <a:pt x="205" y="2220"/>
                </a:lnTo>
                <a:lnTo>
                  <a:pt x="200" y="2232"/>
                </a:lnTo>
                <a:lnTo>
                  <a:pt x="196" y="2243"/>
                </a:lnTo>
                <a:lnTo>
                  <a:pt x="190" y="2255"/>
                </a:lnTo>
                <a:lnTo>
                  <a:pt x="184" y="2264"/>
                </a:lnTo>
                <a:lnTo>
                  <a:pt x="180" y="2272"/>
                </a:lnTo>
                <a:lnTo>
                  <a:pt x="177" y="2280"/>
                </a:lnTo>
                <a:lnTo>
                  <a:pt x="171" y="2286"/>
                </a:lnTo>
                <a:lnTo>
                  <a:pt x="167" y="2289"/>
                </a:lnTo>
                <a:lnTo>
                  <a:pt x="163" y="2293"/>
                </a:lnTo>
                <a:lnTo>
                  <a:pt x="159" y="2297"/>
                </a:lnTo>
                <a:lnTo>
                  <a:pt x="157" y="2297"/>
                </a:lnTo>
                <a:lnTo>
                  <a:pt x="154" y="2299"/>
                </a:lnTo>
                <a:lnTo>
                  <a:pt x="152" y="2297"/>
                </a:lnTo>
                <a:lnTo>
                  <a:pt x="148" y="2295"/>
                </a:lnTo>
                <a:lnTo>
                  <a:pt x="144" y="2293"/>
                </a:lnTo>
                <a:lnTo>
                  <a:pt x="140" y="2288"/>
                </a:lnTo>
                <a:lnTo>
                  <a:pt x="136" y="2282"/>
                </a:lnTo>
                <a:lnTo>
                  <a:pt x="132" y="2274"/>
                </a:lnTo>
                <a:lnTo>
                  <a:pt x="129" y="2264"/>
                </a:lnTo>
                <a:lnTo>
                  <a:pt x="125" y="2255"/>
                </a:lnTo>
                <a:lnTo>
                  <a:pt x="121" y="2243"/>
                </a:lnTo>
                <a:lnTo>
                  <a:pt x="117" y="2230"/>
                </a:lnTo>
                <a:lnTo>
                  <a:pt x="113" y="2217"/>
                </a:lnTo>
                <a:lnTo>
                  <a:pt x="109" y="2199"/>
                </a:lnTo>
                <a:lnTo>
                  <a:pt x="106" y="2182"/>
                </a:lnTo>
                <a:lnTo>
                  <a:pt x="102" y="2165"/>
                </a:lnTo>
                <a:lnTo>
                  <a:pt x="100" y="2144"/>
                </a:lnTo>
                <a:lnTo>
                  <a:pt x="96" y="2122"/>
                </a:lnTo>
                <a:lnTo>
                  <a:pt x="94" y="2111"/>
                </a:lnTo>
                <a:lnTo>
                  <a:pt x="94" y="2096"/>
                </a:lnTo>
                <a:lnTo>
                  <a:pt x="92" y="2082"/>
                </a:lnTo>
                <a:lnTo>
                  <a:pt x="90" y="2065"/>
                </a:lnTo>
                <a:lnTo>
                  <a:pt x="90" y="2048"/>
                </a:lnTo>
                <a:lnTo>
                  <a:pt x="88" y="2028"/>
                </a:lnTo>
                <a:lnTo>
                  <a:pt x="86" y="2009"/>
                </a:lnTo>
                <a:lnTo>
                  <a:pt x="86" y="1986"/>
                </a:lnTo>
                <a:lnTo>
                  <a:pt x="84" y="1965"/>
                </a:lnTo>
                <a:lnTo>
                  <a:pt x="83" y="1940"/>
                </a:lnTo>
                <a:lnTo>
                  <a:pt x="83" y="1915"/>
                </a:lnTo>
                <a:lnTo>
                  <a:pt x="81" y="1890"/>
                </a:lnTo>
                <a:lnTo>
                  <a:pt x="81" y="1861"/>
                </a:lnTo>
                <a:lnTo>
                  <a:pt x="79" y="1833"/>
                </a:lnTo>
                <a:lnTo>
                  <a:pt x="79" y="1804"/>
                </a:lnTo>
                <a:lnTo>
                  <a:pt x="79" y="1771"/>
                </a:lnTo>
                <a:lnTo>
                  <a:pt x="77" y="1740"/>
                </a:lnTo>
                <a:lnTo>
                  <a:pt x="77" y="1706"/>
                </a:lnTo>
                <a:lnTo>
                  <a:pt x="77" y="1671"/>
                </a:lnTo>
                <a:lnTo>
                  <a:pt x="77" y="1635"/>
                </a:lnTo>
                <a:lnTo>
                  <a:pt x="75" y="1598"/>
                </a:lnTo>
                <a:lnTo>
                  <a:pt x="75" y="1560"/>
                </a:lnTo>
                <a:lnTo>
                  <a:pt x="75" y="1520"/>
                </a:lnTo>
                <a:lnTo>
                  <a:pt x="75" y="1478"/>
                </a:lnTo>
                <a:lnTo>
                  <a:pt x="77" y="1435"/>
                </a:lnTo>
                <a:lnTo>
                  <a:pt x="77" y="1393"/>
                </a:lnTo>
                <a:lnTo>
                  <a:pt x="77" y="1347"/>
                </a:lnTo>
                <a:lnTo>
                  <a:pt x="77" y="1301"/>
                </a:lnTo>
                <a:lnTo>
                  <a:pt x="79" y="1255"/>
                </a:lnTo>
                <a:lnTo>
                  <a:pt x="79" y="1207"/>
                </a:lnTo>
                <a:lnTo>
                  <a:pt x="81" y="1157"/>
                </a:lnTo>
                <a:lnTo>
                  <a:pt x="83" y="1105"/>
                </a:lnTo>
                <a:lnTo>
                  <a:pt x="83" y="1055"/>
                </a:lnTo>
                <a:lnTo>
                  <a:pt x="84" y="1005"/>
                </a:lnTo>
                <a:lnTo>
                  <a:pt x="84" y="957"/>
                </a:lnTo>
                <a:lnTo>
                  <a:pt x="86" y="911"/>
                </a:lnTo>
                <a:lnTo>
                  <a:pt x="86" y="865"/>
                </a:lnTo>
                <a:lnTo>
                  <a:pt x="86" y="823"/>
                </a:lnTo>
                <a:lnTo>
                  <a:pt x="86" y="781"/>
                </a:lnTo>
                <a:lnTo>
                  <a:pt x="86" y="739"/>
                </a:lnTo>
                <a:lnTo>
                  <a:pt x="86" y="700"/>
                </a:lnTo>
                <a:lnTo>
                  <a:pt x="86" y="662"/>
                </a:lnTo>
                <a:lnTo>
                  <a:pt x="86" y="625"/>
                </a:lnTo>
                <a:lnTo>
                  <a:pt x="84" y="591"/>
                </a:lnTo>
                <a:lnTo>
                  <a:pt x="84" y="556"/>
                </a:lnTo>
                <a:lnTo>
                  <a:pt x="84" y="524"/>
                </a:lnTo>
                <a:lnTo>
                  <a:pt x="83" y="493"/>
                </a:lnTo>
                <a:lnTo>
                  <a:pt x="81" y="464"/>
                </a:lnTo>
                <a:lnTo>
                  <a:pt x="81" y="435"/>
                </a:lnTo>
                <a:lnTo>
                  <a:pt x="79" y="408"/>
                </a:lnTo>
                <a:lnTo>
                  <a:pt x="77" y="383"/>
                </a:lnTo>
                <a:lnTo>
                  <a:pt x="75" y="360"/>
                </a:lnTo>
                <a:lnTo>
                  <a:pt x="73" y="337"/>
                </a:lnTo>
                <a:lnTo>
                  <a:pt x="69" y="316"/>
                </a:lnTo>
                <a:lnTo>
                  <a:pt x="67" y="297"/>
                </a:lnTo>
                <a:lnTo>
                  <a:pt x="65" y="278"/>
                </a:lnTo>
                <a:lnTo>
                  <a:pt x="61" y="261"/>
                </a:lnTo>
                <a:lnTo>
                  <a:pt x="60" y="245"/>
                </a:lnTo>
                <a:lnTo>
                  <a:pt x="56" y="232"/>
                </a:lnTo>
                <a:lnTo>
                  <a:pt x="54" y="218"/>
                </a:lnTo>
                <a:lnTo>
                  <a:pt x="50" y="207"/>
                </a:lnTo>
                <a:lnTo>
                  <a:pt x="46" y="197"/>
                </a:lnTo>
                <a:lnTo>
                  <a:pt x="42" y="190"/>
                </a:lnTo>
                <a:lnTo>
                  <a:pt x="38" y="1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reeform 26"/>
          <p:cNvSpPr/>
          <p:nvPr/>
        </p:nvSpPr>
        <p:spPr>
          <a:xfrm>
            <a:off x="5484960" y="3174840"/>
            <a:ext cx="931680" cy="1343160"/>
          </a:xfrm>
          <a:custGeom>
            <a:avLst/>
            <a:gdLst/>
            <a:ahLst/>
            <a:rect l="l" t="t" r="r" b="b"/>
            <a:pathLst>
              <a:path w="1174" h="1691">
                <a:moveTo>
                  <a:pt x="1174" y="1071"/>
                </a:moveTo>
                <a:lnTo>
                  <a:pt x="1126" y="1096"/>
                </a:lnTo>
                <a:lnTo>
                  <a:pt x="1080" y="1121"/>
                </a:lnTo>
                <a:lnTo>
                  <a:pt x="1034" y="1145"/>
                </a:lnTo>
                <a:lnTo>
                  <a:pt x="990" y="1169"/>
                </a:lnTo>
                <a:lnTo>
                  <a:pt x="948" y="1190"/>
                </a:lnTo>
                <a:lnTo>
                  <a:pt x="906" y="1213"/>
                </a:lnTo>
                <a:lnTo>
                  <a:pt x="865" y="1234"/>
                </a:lnTo>
                <a:lnTo>
                  <a:pt x="827" y="1255"/>
                </a:lnTo>
                <a:lnTo>
                  <a:pt x="790" y="1274"/>
                </a:lnTo>
                <a:lnTo>
                  <a:pt x="754" y="1295"/>
                </a:lnTo>
                <a:lnTo>
                  <a:pt x="719" y="1312"/>
                </a:lnTo>
                <a:lnTo>
                  <a:pt x="685" y="1332"/>
                </a:lnTo>
                <a:lnTo>
                  <a:pt x="654" y="1349"/>
                </a:lnTo>
                <a:lnTo>
                  <a:pt x="623" y="1366"/>
                </a:lnTo>
                <a:lnTo>
                  <a:pt x="595" y="1382"/>
                </a:lnTo>
                <a:lnTo>
                  <a:pt x="566" y="1399"/>
                </a:lnTo>
                <a:lnTo>
                  <a:pt x="539" y="1414"/>
                </a:lnTo>
                <a:lnTo>
                  <a:pt x="514" y="1428"/>
                </a:lnTo>
                <a:lnTo>
                  <a:pt x="489" y="1443"/>
                </a:lnTo>
                <a:lnTo>
                  <a:pt x="468" y="1456"/>
                </a:lnTo>
                <a:lnTo>
                  <a:pt x="447" y="1468"/>
                </a:lnTo>
                <a:lnTo>
                  <a:pt x="426" y="1481"/>
                </a:lnTo>
                <a:lnTo>
                  <a:pt x="409" y="1493"/>
                </a:lnTo>
                <a:lnTo>
                  <a:pt x="391" y="1504"/>
                </a:lnTo>
                <a:lnTo>
                  <a:pt x="376" y="1514"/>
                </a:lnTo>
                <a:lnTo>
                  <a:pt x="361" y="1524"/>
                </a:lnTo>
                <a:lnTo>
                  <a:pt x="347" y="1533"/>
                </a:lnTo>
                <a:lnTo>
                  <a:pt x="336" y="1543"/>
                </a:lnTo>
                <a:lnTo>
                  <a:pt x="326" y="1550"/>
                </a:lnTo>
                <a:lnTo>
                  <a:pt x="318" y="1560"/>
                </a:lnTo>
                <a:lnTo>
                  <a:pt x="311" y="1566"/>
                </a:lnTo>
                <a:lnTo>
                  <a:pt x="305" y="1574"/>
                </a:lnTo>
                <a:lnTo>
                  <a:pt x="293" y="1589"/>
                </a:lnTo>
                <a:lnTo>
                  <a:pt x="284" y="1602"/>
                </a:lnTo>
                <a:lnTo>
                  <a:pt x="272" y="1616"/>
                </a:lnTo>
                <a:lnTo>
                  <a:pt x="263" y="1627"/>
                </a:lnTo>
                <a:lnTo>
                  <a:pt x="253" y="1637"/>
                </a:lnTo>
                <a:lnTo>
                  <a:pt x="245" y="1646"/>
                </a:lnTo>
                <a:lnTo>
                  <a:pt x="236" y="1656"/>
                </a:lnTo>
                <a:lnTo>
                  <a:pt x="228" y="1664"/>
                </a:lnTo>
                <a:lnTo>
                  <a:pt x="220" y="1669"/>
                </a:lnTo>
                <a:lnTo>
                  <a:pt x="213" y="1675"/>
                </a:lnTo>
                <a:lnTo>
                  <a:pt x="205" y="1681"/>
                </a:lnTo>
                <a:lnTo>
                  <a:pt x="197" y="1685"/>
                </a:lnTo>
                <a:lnTo>
                  <a:pt x="192" y="1687"/>
                </a:lnTo>
                <a:lnTo>
                  <a:pt x="184" y="1689"/>
                </a:lnTo>
                <a:lnTo>
                  <a:pt x="178" y="1691"/>
                </a:lnTo>
                <a:lnTo>
                  <a:pt x="172" y="1691"/>
                </a:lnTo>
                <a:lnTo>
                  <a:pt x="165" y="1691"/>
                </a:lnTo>
                <a:lnTo>
                  <a:pt x="157" y="1689"/>
                </a:lnTo>
                <a:lnTo>
                  <a:pt x="149" y="1689"/>
                </a:lnTo>
                <a:lnTo>
                  <a:pt x="142" y="1687"/>
                </a:lnTo>
                <a:lnTo>
                  <a:pt x="136" y="1683"/>
                </a:lnTo>
                <a:lnTo>
                  <a:pt x="128" y="1681"/>
                </a:lnTo>
                <a:lnTo>
                  <a:pt x="123" y="1677"/>
                </a:lnTo>
                <a:lnTo>
                  <a:pt x="115" y="1673"/>
                </a:lnTo>
                <a:lnTo>
                  <a:pt x="107" y="1669"/>
                </a:lnTo>
                <a:lnTo>
                  <a:pt x="101" y="1664"/>
                </a:lnTo>
                <a:lnTo>
                  <a:pt x="94" y="1658"/>
                </a:lnTo>
                <a:lnTo>
                  <a:pt x="88" y="1652"/>
                </a:lnTo>
                <a:lnTo>
                  <a:pt x="80" y="1645"/>
                </a:lnTo>
                <a:lnTo>
                  <a:pt x="73" y="1637"/>
                </a:lnTo>
                <a:lnTo>
                  <a:pt x="65" y="1629"/>
                </a:lnTo>
                <a:lnTo>
                  <a:pt x="57" y="1622"/>
                </a:lnTo>
                <a:lnTo>
                  <a:pt x="50" y="1612"/>
                </a:lnTo>
                <a:lnTo>
                  <a:pt x="42" y="1604"/>
                </a:lnTo>
                <a:lnTo>
                  <a:pt x="36" y="1595"/>
                </a:lnTo>
                <a:lnTo>
                  <a:pt x="30" y="1587"/>
                </a:lnTo>
                <a:lnTo>
                  <a:pt x="25" y="1579"/>
                </a:lnTo>
                <a:lnTo>
                  <a:pt x="19" y="1572"/>
                </a:lnTo>
                <a:lnTo>
                  <a:pt x="15" y="1566"/>
                </a:lnTo>
                <a:lnTo>
                  <a:pt x="11" y="1558"/>
                </a:lnTo>
                <a:lnTo>
                  <a:pt x="9" y="1552"/>
                </a:lnTo>
                <a:lnTo>
                  <a:pt x="5" y="1547"/>
                </a:lnTo>
                <a:lnTo>
                  <a:pt x="2" y="1535"/>
                </a:lnTo>
                <a:lnTo>
                  <a:pt x="0" y="1524"/>
                </a:lnTo>
                <a:lnTo>
                  <a:pt x="0" y="1516"/>
                </a:lnTo>
                <a:lnTo>
                  <a:pt x="0" y="1510"/>
                </a:lnTo>
                <a:lnTo>
                  <a:pt x="0" y="1506"/>
                </a:lnTo>
                <a:lnTo>
                  <a:pt x="2" y="1501"/>
                </a:lnTo>
                <a:lnTo>
                  <a:pt x="4" y="1495"/>
                </a:lnTo>
                <a:lnTo>
                  <a:pt x="7" y="1491"/>
                </a:lnTo>
                <a:lnTo>
                  <a:pt x="11" y="1485"/>
                </a:lnTo>
                <a:lnTo>
                  <a:pt x="15" y="1479"/>
                </a:lnTo>
                <a:lnTo>
                  <a:pt x="19" y="1474"/>
                </a:lnTo>
                <a:lnTo>
                  <a:pt x="25" y="1466"/>
                </a:lnTo>
                <a:lnTo>
                  <a:pt x="30" y="1460"/>
                </a:lnTo>
                <a:lnTo>
                  <a:pt x="42" y="1449"/>
                </a:lnTo>
                <a:lnTo>
                  <a:pt x="55" y="1435"/>
                </a:lnTo>
                <a:lnTo>
                  <a:pt x="73" y="1422"/>
                </a:lnTo>
                <a:lnTo>
                  <a:pt x="80" y="1414"/>
                </a:lnTo>
                <a:lnTo>
                  <a:pt x="88" y="1407"/>
                </a:lnTo>
                <a:lnTo>
                  <a:pt x="94" y="1397"/>
                </a:lnTo>
                <a:lnTo>
                  <a:pt x="101" y="1387"/>
                </a:lnTo>
                <a:lnTo>
                  <a:pt x="109" y="1378"/>
                </a:lnTo>
                <a:lnTo>
                  <a:pt x="115" y="1366"/>
                </a:lnTo>
                <a:lnTo>
                  <a:pt x="123" y="1353"/>
                </a:lnTo>
                <a:lnTo>
                  <a:pt x="128" y="1339"/>
                </a:lnTo>
                <a:lnTo>
                  <a:pt x="134" y="1324"/>
                </a:lnTo>
                <a:lnTo>
                  <a:pt x="140" y="1309"/>
                </a:lnTo>
                <a:lnTo>
                  <a:pt x="146" y="1291"/>
                </a:lnTo>
                <a:lnTo>
                  <a:pt x="151" y="1274"/>
                </a:lnTo>
                <a:lnTo>
                  <a:pt x="157" y="1255"/>
                </a:lnTo>
                <a:lnTo>
                  <a:pt x="163" y="1234"/>
                </a:lnTo>
                <a:lnTo>
                  <a:pt x="167" y="1211"/>
                </a:lnTo>
                <a:lnTo>
                  <a:pt x="172" y="1188"/>
                </a:lnTo>
                <a:lnTo>
                  <a:pt x="176" y="1165"/>
                </a:lnTo>
                <a:lnTo>
                  <a:pt x="178" y="1140"/>
                </a:lnTo>
                <a:lnTo>
                  <a:pt x="180" y="1113"/>
                </a:lnTo>
                <a:lnTo>
                  <a:pt x="184" y="1084"/>
                </a:lnTo>
                <a:lnTo>
                  <a:pt x="186" y="1053"/>
                </a:lnTo>
                <a:lnTo>
                  <a:pt x="188" y="1021"/>
                </a:lnTo>
                <a:lnTo>
                  <a:pt x="192" y="988"/>
                </a:lnTo>
                <a:lnTo>
                  <a:pt x="194" y="952"/>
                </a:lnTo>
                <a:lnTo>
                  <a:pt x="195" y="913"/>
                </a:lnTo>
                <a:lnTo>
                  <a:pt x="197" y="873"/>
                </a:lnTo>
                <a:lnTo>
                  <a:pt x="197" y="852"/>
                </a:lnTo>
                <a:lnTo>
                  <a:pt x="197" y="831"/>
                </a:lnTo>
                <a:lnTo>
                  <a:pt x="199" y="810"/>
                </a:lnTo>
                <a:lnTo>
                  <a:pt x="199" y="787"/>
                </a:lnTo>
                <a:lnTo>
                  <a:pt x="199" y="764"/>
                </a:lnTo>
                <a:lnTo>
                  <a:pt x="201" y="740"/>
                </a:lnTo>
                <a:lnTo>
                  <a:pt x="201" y="717"/>
                </a:lnTo>
                <a:lnTo>
                  <a:pt x="201" y="692"/>
                </a:lnTo>
                <a:lnTo>
                  <a:pt x="201" y="668"/>
                </a:lnTo>
                <a:lnTo>
                  <a:pt x="201" y="643"/>
                </a:lnTo>
                <a:lnTo>
                  <a:pt x="201" y="618"/>
                </a:lnTo>
                <a:lnTo>
                  <a:pt x="203" y="591"/>
                </a:lnTo>
                <a:lnTo>
                  <a:pt x="201" y="566"/>
                </a:lnTo>
                <a:lnTo>
                  <a:pt x="201" y="541"/>
                </a:lnTo>
                <a:lnTo>
                  <a:pt x="201" y="516"/>
                </a:lnTo>
                <a:lnTo>
                  <a:pt x="201" y="491"/>
                </a:lnTo>
                <a:lnTo>
                  <a:pt x="201" y="468"/>
                </a:lnTo>
                <a:lnTo>
                  <a:pt x="201" y="445"/>
                </a:lnTo>
                <a:lnTo>
                  <a:pt x="199" y="424"/>
                </a:lnTo>
                <a:lnTo>
                  <a:pt x="199" y="403"/>
                </a:lnTo>
                <a:lnTo>
                  <a:pt x="199" y="382"/>
                </a:lnTo>
                <a:lnTo>
                  <a:pt x="197" y="362"/>
                </a:lnTo>
                <a:lnTo>
                  <a:pt x="197" y="343"/>
                </a:lnTo>
                <a:lnTo>
                  <a:pt x="195" y="326"/>
                </a:lnTo>
                <a:lnTo>
                  <a:pt x="195" y="309"/>
                </a:lnTo>
                <a:lnTo>
                  <a:pt x="194" y="291"/>
                </a:lnTo>
                <a:lnTo>
                  <a:pt x="192" y="274"/>
                </a:lnTo>
                <a:lnTo>
                  <a:pt x="192" y="259"/>
                </a:lnTo>
                <a:lnTo>
                  <a:pt x="190" y="245"/>
                </a:lnTo>
                <a:lnTo>
                  <a:pt x="188" y="230"/>
                </a:lnTo>
                <a:lnTo>
                  <a:pt x="186" y="216"/>
                </a:lnTo>
                <a:lnTo>
                  <a:pt x="186" y="205"/>
                </a:lnTo>
                <a:lnTo>
                  <a:pt x="184" y="193"/>
                </a:lnTo>
                <a:lnTo>
                  <a:pt x="182" y="182"/>
                </a:lnTo>
                <a:lnTo>
                  <a:pt x="180" y="172"/>
                </a:lnTo>
                <a:lnTo>
                  <a:pt x="178" y="163"/>
                </a:lnTo>
                <a:lnTo>
                  <a:pt x="176" y="153"/>
                </a:lnTo>
                <a:lnTo>
                  <a:pt x="172" y="145"/>
                </a:lnTo>
                <a:lnTo>
                  <a:pt x="171" y="138"/>
                </a:lnTo>
                <a:lnTo>
                  <a:pt x="169" y="130"/>
                </a:lnTo>
                <a:lnTo>
                  <a:pt x="167" y="124"/>
                </a:lnTo>
                <a:lnTo>
                  <a:pt x="163" y="120"/>
                </a:lnTo>
                <a:lnTo>
                  <a:pt x="161" y="115"/>
                </a:lnTo>
                <a:lnTo>
                  <a:pt x="159" y="111"/>
                </a:lnTo>
                <a:lnTo>
                  <a:pt x="151" y="105"/>
                </a:lnTo>
                <a:lnTo>
                  <a:pt x="144" y="97"/>
                </a:lnTo>
                <a:lnTo>
                  <a:pt x="138" y="92"/>
                </a:lnTo>
                <a:lnTo>
                  <a:pt x="134" y="86"/>
                </a:lnTo>
                <a:lnTo>
                  <a:pt x="130" y="78"/>
                </a:lnTo>
                <a:lnTo>
                  <a:pt x="126" y="72"/>
                </a:lnTo>
                <a:lnTo>
                  <a:pt x="124" y="67"/>
                </a:lnTo>
                <a:lnTo>
                  <a:pt x="123" y="61"/>
                </a:lnTo>
                <a:lnTo>
                  <a:pt x="121" y="53"/>
                </a:lnTo>
                <a:lnTo>
                  <a:pt x="121" y="48"/>
                </a:lnTo>
                <a:lnTo>
                  <a:pt x="121" y="44"/>
                </a:lnTo>
                <a:lnTo>
                  <a:pt x="123" y="38"/>
                </a:lnTo>
                <a:lnTo>
                  <a:pt x="123" y="32"/>
                </a:lnTo>
                <a:lnTo>
                  <a:pt x="124" y="26"/>
                </a:lnTo>
                <a:lnTo>
                  <a:pt x="130" y="19"/>
                </a:lnTo>
                <a:lnTo>
                  <a:pt x="134" y="13"/>
                </a:lnTo>
                <a:lnTo>
                  <a:pt x="138" y="11"/>
                </a:lnTo>
                <a:lnTo>
                  <a:pt x="146" y="7"/>
                </a:lnTo>
                <a:lnTo>
                  <a:pt x="153" y="5"/>
                </a:lnTo>
                <a:lnTo>
                  <a:pt x="165" y="3"/>
                </a:lnTo>
                <a:lnTo>
                  <a:pt x="176" y="1"/>
                </a:lnTo>
                <a:lnTo>
                  <a:pt x="190" y="0"/>
                </a:lnTo>
                <a:lnTo>
                  <a:pt x="205" y="0"/>
                </a:lnTo>
                <a:lnTo>
                  <a:pt x="220" y="0"/>
                </a:lnTo>
                <a:lnTo>
                  <a:pt x="238" y="1"/>
                </a:lnTo>
                <a:lnTo>
                  <a:pt x="259" y="3"/>
                </a:lnTo>
                <a:lnTo>
                  <a:pt x="278" y="5"/>
                </a:lnTo>
                <a:lnTo>
                  <a:pt x="301" y="7"/>
                </a:lnTo>
                <a:lnTo>
                  <a:pt x="324" y="11"/>
                </a:lnTo>
                <a:lnTo>
                  <a:pt x="349" y="13"/>
                </a:lnTo>
                <a:lnTo>
                  <a:pt x="376" y="19"/>
                </a:lnTo>
                <a:lnTo>
                  <a:pt x="376" y="57"/>
                </a:lnTo>
                <a:lnTo>
                  <a:pt x="374" y="94"/>
                </a:lnTo>
                <a:lnTo>
                  <a:pt x="372" y="132"/>
                </a:lnTo>
                <a:lnTo>
                  <a:pt x="372" y="168"/>
                </a:lnTo>
                <a:lnTo>
                  <a:pt x="370" y="205"/>
                </a:lnTo>
                <a:lnTo>
                  <a:pt x="370" y="241"/>
                </a:lnTo>
                <a:lnTo>
                  <a:pt x="368" y="276"/>
                </a:lnTo>
                <a:lnTo>
                  <a:pt x="366" y="311"/>
                </a:lnTo>
                <a:lnTo>
                  <a:pt x="366" y="343"/>
                </a:lnTo>
                <a:lnTo>
                  <a:pt x="364" y="378"/>
                </a:lnTo>
                <a:lnTo>
                  <a:pt x="364" y="410"/>
                </a:lnTo>
                <a:lnTo>
                  <a:pt x="364" y="441"/>
                </a:lnTo>
                <a:lnTo>
                  <a:pt x="362" y="474"/>
                </a:lnTo>
                <a:lnTo>
                  <a:pt x="362" y="504"/>
                </a:lnTo>
                <a:lnTo>
                  <a:pt x="361" y="535"/>
                </a:lnTo>
                <a:lnTo>
                  <a:pt x="361" y="564"/>
                </a:lnTo>
                <a:lnTo>
                  <a:pt x="361" y="593"/>
                </a:lnTo>
                <a:lnTo>
                  <a:pt x="359" y="621"/>
                </a:lnTo>
                <a:lnTo>
                  <a:pt x="359" y="650"/>
                </a:lnTo>
                <a:lnTo>
                  <a:pt x="359" y="677"/>
                </a:lnTo>
                <a:lnTo>
                  <a:pt x="357" y="704"/>
                </a:lnTo>
                <a:lnTo>
                  <a:pt x="357" y="729"/>
                </a:lnTo>
                <a:lnTo>
                  <a:pt x="357" y="754"/>
                </a:lnTo>
                <a:lnTo>
                  <a:pt x="357" y="779"/>
                </a:lnTo>
                <a:lnTo>
                  <a:pt x="357" y="804"/>
                </a:lnTo>
                <a:lnTo>
                  <a:pt x="357" y="827"/>
                </a:lnTo>
                <a:lnTo>
                  <a:pt x="355" y="850"/>
                </a:lnTo>
                <a:lnTo>
                  <a:pt x="355" y="873"/>
                </a:lnTo>
                <a:lnTo>
                  <a:pt x="355" y="894"/>
                </a:lnTo>
                <a:lnTo>
                  <a:pt x="355" y="915"/>
                </a:lnTo>
                <a:lnTo>
                  <a:pt x="355" y="936"/>
                </a:lnTo>
                <a:lnTo>
                  <a:pt x="355" y="957"/>
                </a:lnTo>
                <a:lnTo>
                  <a:pt x="355" y="977"/>
                </a:lnTo>
                <a:lnTo>
                  <a:pt x="355" y="996"/>
                </a:lnTo>
                <a:lnTo>
                  <a:pt x="355" y="1013"/>
                </a:lnTo>
                <a:lnTo>
                  <a:pt x="355" y="1030"/>
                </a:lnTo>
                <a:lnTo>
                  <a:pt x="355" y="1048"/>
                </a:lnTo>
                <a:lnTo>
                  <a:pt x="355" y="1065"/>
                </a:lnTo>
                <a:lnTo>
                  <a:pt x="357" y="1080"/>
                </a:lnTo>
                <a:lnTo>
                  <a:pt x="357" y="1096"/>
                </a:lnTo>
                <a:lnTo>
                  <a:pt x="357" y="1109"/>
                </a:lnTo>
                <a:lnTo>
                  <a:pt x="357" y="1124"/>
                </a:lnTo>
                <a:lnTo>
                  <a:pt x="357" y="1138"/>
                </a:lnTo>
                <a:lnTo>
                  <a:pt x="359" y="1149"/>
                </a:lnTo>
                <a:lnTo>
                  <a:pt x="359" y="1163"/>
                </a:lnTo>
                <a:lnTo>
                  <a:pt x="359" y="1174"/>
                </a:lnTo>
                <a:lnTo>
                  <a:pt x="359" y="1186"/>
                </a:lnTo>
                <a:lnTo>
                  <a:pt x="361" y="1195"/>
                </a:lnTo>
                <a:lnTo>
                  <a:pt x="361" y="1205"/>
                </a:lnTo>
                <a:lnTo>
                  <a:pt x="362" y="1215"/>
                </a:lnTo>
                <a:lnTo>
                  <a:pt x="362" y="1224"/>
                </a:lnTo>
                <a:lnTo>
                  <a:pt x="362" y="1232"/>
                </a:lnTo>
                <a:lnTo>
                  <a:pt x="364" y="1240"/>
                </a:lnTo>
                <a:lnTo>
                  <a:pt x="364" y="1245"/>
                </a:lnTo>
                <a:lnTo>
                  <a:pt x="366" y="1251"/>
                </a:lnTo>
                <a:lnTo>
                  <a:pt x="366" y="1257"/>
                </a:lnTo>
                <a:lnTo>
                  <a:pt x="368" y="1263"/>
                </a:lnTo>
                <a:lnTo>
                  <a:pt x="368" y="1266"/>
                </a:lnTo>
                <a:lnTo>
                  <a:pt x="370" y="1270"/>
                </a:lnTo>
                <a:lnTo>
                  <a:pt x="372" y="1274"/>
                </a:lnTo>
                <a:lnTo>
                  <a:pt x="372" y="1276"/>
                </a:lnTo>
                <a:lnTo>
                  <a:pt x="374" y="1280"/>
                </a:lnTo>
                <a:lnTo>
                  <a:pt x="376" y="1282"/>
                </a:lnTo>
                <a:lnTo>
                  <a:pt x="378" y="1282"/>
                </a:lnTo>
                <a:lnTo>
                  <a:pt x="382" y="1282"/>
                </a:lnTo>
                <a:lnTo>
                  <a:pt x="387" y="1282"/>
                </a:lnTo>
                <a:lnTo>
                  <a:pt x="393" y="1282"/>
                </a:lnTo>
                <a:lnTo>
                  <a:pt x="401" y="1280"/>
                </a:lnTo>
                <a:lnTo>
                  <a:pt x="410" y="1278"/>
                </a:lnTo>
                <a:lnTo>
                  <a:pt x="422" y="1274"/>
                </a:lnTo>
                <a:lnTo>
                  <a:pt x="433" y="1270"/>
                </a:lnTo>
                <a:lnTo>
                  <a:pt x="447" y="1266"/>
                </a:lnTo>
                <a:lnTo>
                  <a:pt x="462" y="1263"/>
                </a:lnTo>
                <a:lnTo>
                  <a:pt x="478" y="1257"/>
                </a:lnTo>
                <a:lnTo>
                  <a:pt x="495" y="1251"/>
                </a:lnTo>
                <a:lnTo>
                  <a:pt x="514" y="1245"/>
                </a:lnTo>
                <a:lnTo>
                  <a:pt x="535" y="1238"/>
                </a:lnTo>
                <a:lnTo>
                  <a:pt x="556" y="1230"/>
                </a:lnTo>
                <a:lnTo>
                  <a:pt x="579" y="1220"/>
                </a:lnTo>
                <a:lnTo>
                  <a:pt x="604" y="1213"/>
                </a:lnTo>
                <a:lnTo>
                  <a:pt x="631" y="1203"/>
                </a:lnTo>
                <a:lnTo>
                  <a:pt x="658" y="1192"/>
                </a:lnTo>
                <a:lnTo>
                  <a:pt x="687" y="1182"/>
                </a:lnTo>
                <a:lnTo>
                  <a:pt x="716" y="1170"/>
                </a:lnTo>
                <a:lnTo>
                  <a:pt x="748" y="1157"/>
                </a:lnTo>
                <a:lnTo>
                  <a:pt x="781" y="1145"/>
                </a:lnTo>
                <a:lnTo>
                  <a:pt x="814" y="1132"/>
                </a:lnTo>
                <a:lnTo>
                  <a:pt x="850" y="1117"/>
                </a:lnTo>
                <a:lnTo>
                  <a:pt x="886" y="1103"/>
                </a:lnTo>
                <a:lnTo>
                  <a:pt x="923" y="1088"/>
                </a:lnTo>
                <a:lnTo>
                  <a:pt x="963" y="1071"/>
                </a:lnTo>
                <a:lnTo>
                  <a:pt x="1004" y="1055"/>
                </a:lnTo>
                <a:lnTo>
                  <a:pt x="1044" y="1038"/>
                </a:lnTo>
                <a:lnTo>
                  <a:pt x="1088" y="1019"/>
                </a:lnTo>
                <a:lnTo>
                  <a:pt x="1132" y="1002"/>
                </a:lnTo>
                <a:lnTo>
                  <a:pt x="1153" y="1036"/>
                </a:lnTo>
                <a:lnTo>
                  <a:pt x="1174" y="10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reeform 27"/>
          <p:cNvSpPr/>
          <p:nvPr/>
        </p:nvSpPr>
        <p:spPr>
          <a:xfrm>
            <a:off x="6210360" y="3886200"/>
            <a:ext cx="330120" cy="372960"/>
          </a:xfrm>
          <a:custGeom>
            <a:avLst/>
            <a:gdLst/>
            <a:ahLst/>
            <a:rect l="l" t="t" r="r" b="b"/>
            <a:pathLst>
              <a:path w="417" h="468">
                <a:moveTo>
                  <a:pt x="0" y="23"/>
                </a:moveTo>
                <a:lnTo>
                  <a:pt x="2" y="19"/>
                </a:lnTo>
                <a:lnTo>
                  <a:pt x="4" y="13"/>
                </a:lnTo>
                <a:lnTo>
                  <a:pt x="8" y="10"/>
                </a:lnTo>
                <a:lnTo>
                  <a:pt x="10" y="8"/>
                </a:lnTo>
                <a:lnTo>
                  <a:pt x="14" y="6"/>
                </a:lnTo>
                <a:lnTo>
                  <a:pt x="18" y="6"/>
                </a:lnTo>
                <a:lnTo>
                  <a:pt x="21" y="4"/>
                </a:lnTo>
                <a:lnTo>
                  <a:pt x="25" y="2"/>
                </a:lnTo>
                <a:lnTo>
                  <a:pt x="31" y="2"/>
                </a:lnTo>
                <a:lnTo>
                  <a:pt x="37" y="0"/>
                </a:lnTo>
                <a:lnTo>
                  <a:pt x="44" y="0"/>
                </a:lnTo>
                <a:lnTo>
                  <a:pt x="50" y="0"/>
                </a:lnTo>
                <a:lnTo>
                  <a:pt x="60" y="0"/>
                </a:lnTo>
                <a:lnTo>
                  <a:pt x="68" y="0"/>
                </a:lnTo>
                <a:lnTo>
                  <a:pt x="75" y="0"/>
                </a:lnTo>
                <a:lnTo>
                  <a:pt x="85" y="2"/>
                </a:lnTo>
                <a:lnTo>
                  <a:pt x="94" y="4"/>
                </a:lnTo>
                <a:lnTo>
                  <a:pt x="104" y="6"/>
                </a:lnTo>
                <a:lnTo>
                  <a:pt x="115" y="10"/>
                </a:lnTo>
                <a:lnTo>
                  <a:pt x="125" y="11"/>
                </a:lnTo>
                <a:lnTo>
                  <a:pt x="137" y="17"/>
                </a:lnTo>
                <a:lnTo>
                  <a:pt x="148" y="21"/>
                </a:lnTo>
                <a:lnTo>
                  <a:pt x="162" y="27"/>
                </a:lnTo>
                <a:lnTo>
                  <a:pt x="173" y="33"/>
                </a:lnTo>
                <a:lnTo>
                  <a:pt x="187" y="38"/>
                </a:lnTo>
                <a:lnTo>
                  <a:pt x="202" y="46"/>
                </a:lnTo>
                <a:lnTo>
                  <a:pt x="215" y="54"/>
                </a:lnTo>
                <a:lnTo>
                  <a:pt x="231" y="61"/>
                </a:lnTo>
                <a:lnTo>
                  <a:pt x="248" y="69"/>
                </a:lnTo>
                <a:lnTo>
                  <a:pt x="273" y="88"/>
                </a:lnTo>
                <a:lnTo>
                  <a:pt x="298" y="107"/>
                </a:lnTo>
                <a:lnTo>
                  <a:pt x="323" y="127"/>
                </a:lnTo>
                <a:lnTo>
                  <a:pt x="332" y="136"/>
                </a:lnTo>
                <a:lnTo>
                  <a:pt x="344" y="148"/>
                </a:lnTo>
                <a:lnTo>
                  <a:pt x="353" y="157"/>
                </a:lnTo>
                <a:lnTo>
                  <a:pt x="363" y="169"/>
                </a:lnTo>
                <a:lnTo>
                  <a:pt x="373" y="178"/>
                </a:lnTo>
                <a:lnTo>
                  <a:pt x="380" y="190"/>
                </a:lnTo>
                <a:lnTo>
                  <a:pt x="388" y="200"/>
                </a:lnTo>
                <a:lnTo>
                  <a:pt x="396" y="211"/>
                </a:lnTo>
                <a:lnTo>
                  <a:pt x="401" y="223"/>
                </a:lnTo>
                <a:lnTo>
                  <a:pt x="407" y="234"/>
                </a:lnTo>
                <a:lnTo>
                  <a:pt x="411" y="259"/>
                </a:lnTo>
                <a:lnTo>
                  <a:pt x="415" y="284"/>
                </a:lnTo>
                <a:lnTo>
                  <a:pt x="417" y="307"/>
                </a:lnTo>
                <a:lnTo>
                  <a:pt x="417" y="317"/>
                </a:lnTo>
                <a:lnTo>
                  <a:pt x="415" y="328"/>
                </a:lnTo>
                <a:lnTo>
                  <a:pt x="415" y="338"/>
                </a:lnTo>
                <a:lnTo>
                  <a:pt x="413" y="347"/>
                </a:lnTo>
                <a:lnTo>
                  <a:pt x="411" y="357"/>
                </a:lnTo>
                <a:lnTo>
                  <a:pt x="409" y="367"/>
                </a:lnTo>
                <a:lnTo>
                  <a:pt x="405" y="374"/>
                </a:lnTo>
                <a:lnTo>
                  <a:pt x="401" y="382"/>
                </a:lnTo>
                <a:lnTo>
                  <a:pt x="398" y="390"/>
                </a:lnTo>
                <a:lnTo>
                  <a:pt x="392" y="397"/>
                </a:lnTo>
                <a:lnTo>
                  <a:pt x="386" y="405"/>
                </a:lnTo>
                <a:lnTo>
                  <a:pt x="382" y="413"/>
                </a:lnTo>
                <a:lnTo>
                  <a:pt x="377" y="420"/>
                </a:lnTo>
                <a:lnTo>
                  <a:pt x="371" y="428"/>
                </a:lnTo>
                <a:lnTo>
                  <a:pt x="365" y="434"/>
                </a:lnTo>
                <a:lnTo>
                  <a:pt x="361" y="440"/>
                </a:lnTo>
                <a:lnTo>
                  <a:pt x="355" y="445"/>
                </a:lnTo>
                <a:lnTo>
                  <a:pt x="352" y="449"/>
                </a:lnTo>
                <a:lnTo>
                  <a:pt x="346" y="453"/>
                </a:lnTo>
                <a:lnTo>
                  <a:pt x="342" y="457"/>
                </a:lnTo>
                <a:lnTo>
                  <a:pt x="338" y="461"/>
                </a:lnTo>
                <a:lnTo>
                  <a:pt x="334" y="463"/>
                </a:lnTo>
                <a:lnTo>
                  <a:pt x="330" y="464"/>
                </a:lnTo>
                <a:lnTo>
                  <a:pt x="327" y="466"/>
                </a:lnTo>
                <a:lnTo>
                  <a:pt x="323" y="466"/>
                </a:lnTo>
                <a:lnTo>
                  <a:pt x="321" y="468"/>
                </a:lnTo>
                <a:lnTo>
                  <a:pt x="317" y="466"/>
                </a:lnTo>
                <a:lnTo>
                  <a:pt x="313" y="464"/>
                </a:lnTo>
                <a:lnTo>
                  <a:pt x="307" y="461"/>
                </a:lnTo>
                <a:lnTo>
                  <a:pt x="302" y="455"/>
                </a:lnTo>
                <a:lnTo>
                  <a:pt x="294" y="447"/>
                </a:lnTo>
                <a:lnTo>
                  <a:pt x="284" y="438"/>
                </a:lnTo>
                <a:lnTo>
                  <a:pt x="275" y="428"/>
                </a:lnTo>
                <a:lnTo>
                  <a:pt x="265" y="415"/>
                </a:lnTo>
                <a:lnTo>
                  <a:pt x="254" y="401"/>
                </a:lnTo>
                <a:lnTo>
                  <a:pt x="240" y="386"/>
                </a:lnTo>
                <a:lnTo>
                  <a:pt x="227" y="368"/>
                </a:lnTo>
                <a:lnTo>
                  <a:pt x="213" y="349"/>
                </a:lnTo>
                <a:lnTo>
                  <a:pt x="198" y="328"/>
                </a:lnTo>
                <a:lnTo>
                  <a:pt x="181" y="307"/>
                </a:lnTo>
                <a:lnTo>
                  <a:pt x="163" y="282"/>
                </a:lnTo>
                <a:lnTo>
                  <a:pt x="146" y="257"/>
                </a:lnTo>
                <a:lnTo>
                  <a:pt x="127" y="230"/>
                </a:lnTo>
                <a:lnTo>
                  <a:pt x="112" y="207"/>
                </a:lnTo>
                <a:lnTo>
                  <a:pt x="94" y="184"/>
                </a:lnTo>
                <a:lnTo>
                  <a:pt x="81" y="161"/>
                </a:lnTo>
                <a:lnTo>
                  <a:pt x="68" y="142"/>
                </a:lnTo>
                <a:lnTo>
                  <a:pt x="56" y="123"/>
                </a:lnTo>
                <a:lnTo>
                  <a:pt x="44" y="107"/>
                </a:lnTo>
                <a:lnTo>
                  <a:pt x="35" y="90"/>
                </a:lnTo>
                <a:lnTo>
                  <a:pt x="27" y="77"/>
                </a:lnTo>
                <a:lnTo>
                  <a:pt x="20" y="65"/>
                </a:lnTo>
                <a:lnTo>
                  <a:pt x="14" y="54"/>
                </a:lnTo>
                <a:lnTo>
                  <a:pt x="10" y="44"/>
                </a:lnTo>
                <a:lnTo>
                  <a:pt x="6" y="36"/>
                </a:lnTo>
                <a:lnTo>
                  <a:pt x="2" y="31"/>
                </a:lnTo>
                <a:lnTo>
                  <a:pt x="2" y="25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reeform 28"/>
          <p:cNvSpPr/>
          <p:nvPr/>
        </p:nvSpPr>
        <p:spPr>
          <a:xfrm>
            <a:off x="5726160" y="3692520"/>
            <a:ext cx="609480" cy="138240"/>
          </a:xfrm>
          <a:custGeom>
            <a:avLst/>
            <a:gdLst/>
            <a:ahLst/>
            <a:rect l="l" t="t" r="r" b="b"/>
            <a:pathLst>
              <a:path w="768" h="175">
                <a:moveTo>
                  <a:pt x="0" y="94"/>
                </a:moveTo>
                <a:lnTo>
                  <a:pt x="56" y="83"/>
                </a:lnTo>
                <a:lnTo>
                  <a:pt x="111" y="71"/>
                </a:lnTo>
                <a:lnTo>
                  <a:pt x="165" y="62"/>
                </a:lnTo>
                <a:lnTo>
                  <a:pt x="219" y="54"/>
                </a:lnTo>
                <a:lnTo>
                  <a:pt x="272" y="44"/>
                </a:lnTo>
                <a:lnTo>
                  <a:pt x="322" y="37"/>
                </a:lnTo>
                <a:lnTo>
                  <a:pt x="372" y="31"/>
                </a:lnTo>
                <a:lnTo>
                  <a:pt x="422" y="23"/>
                </a:lnTo>
                <a:lnTo>
                  <a:pt x="470" y="19"/>
                </a:lnTo>
                <a:lnTo>
                  <a:pt x="516" y="14"/>
                </a:lnTo>
                <a:lnTo>
                  <a:pt x="560" y="10"/>
                </a:lnTo>
                <a:lnTo>
                  <a:pt x="604" y="6"/>
                </a:lnTo>
                <a:lnTo>
                  <a:pt x="649" y="4"/>
                </a:lnTo>
                <a:lnTo>
                  <a:pt x="689" y="2"/>
                </a:lnTo>
                <a:lnTo>
                  <a:pt x="729" y="0"/>
                </a:lnTo>
                <a:lnTo>
                  <a:pt x="768" y="0"/>
                </a:lnTo>
                <a:lnTo>
                  <a:pt x="768" y="106"/>
                </a:lnTo>
                <a:lnTo>
                  <a:pt x="739" y="106"/>
                </a:lnTo>
                <a:lnTo>
                  <a:pt x="710" y="106"/>
                </a:lnTo>
                <a:lnTo>
                  <a:pt x="681" y="106"/>
                </a:lnTo>
                <a:lnTo>
                  <a:pt x="654" y="108"/>
                </a:lnTo>
                <a:lnTo>
                  <a:pt x="626" y="108"/>
                </a:lnTo>
                <a:lnTo>
                  <a:pt x="599" y="110"/>
                </a:lnTo>
                <a:lnTo>
                  <a:pt x="547" y="112"/>
                </a:lnTo>
                <a:lnTo>
                  <a:pt x="495" y="115"/>
                </a:lnTo>
                <a:lnTo>
                  <a:pt x="445" y="119"/>
                </a:lnTo>
                <a:lnTo>
                  <a:pt x="397" y="123"/>
                </a:lnTo>
                <a:lnTo>
                  <a:pt x="347" y="129"/>
                </a:lnTo>
                <a:lnTo>
                  <a:pt x="299" y="137"/>
                </a:lnTo>
                <a:lnTo>
                  <a:pt x="251" y="144"/>
                </a:lnTo>
                <a:lnTo>
                  <a:pt x="207" y="150"/>
                </a:lnTo>
                <a:lnTo>
                  <a:pt x="163" y="156"/>
                </a:lnTo>
                <a:lnTo>
                  <a:pt x="119" y="161"/>
                </a:lnTo>
                <a:lnTo>
                  <a:pt x="79" y="165"/>
                </a:lnTo>
                <a:lnTo>
                  <a:pt x="38" y="171"/>
                </a:lnTo>
                <a:lnTo>
                  <a:pt x="0" y="175"/>
                </a:lnTo>
                <a:lnTo>
                  <a:pt x="0" y="135"/>
                </a:lnTo>
                <a:lnTo>
                  <a:pt x="0" y="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reeform 29"/>
          <p:cNvSpPr/>
          <p:nvPr/>
        </p:nvSpPr>
        <p:spPr>
          <a:xfrm>
            <a:off x="5726160" y="3394080"/>
            <a:ext cx="460440" cy="149400"/>
          </a:xfrm>
          <a:custGeom>
            <a:avLst/>
            <a:gdLst/>
            <a:ahLst/>
            <a:rect l="l" t="t" r="r" b="b"/>
            <a:pathLst>
              <a:path w="580" h="186">
                <a:moveTo>
                  <a:pt x="290" y="46"/>
                </a:moveTo>
                <a:lnTo>
                  <a:pt x="305" y="40"/>
                </a:lnTo>
                <a:lnTo>
                  <a:pt x="320" y="35"/>
                </a:lnTo>
                <a:lnTo>
                  <a:pt x="336" y="29"/>
                </a:lnTo>
                <a:lnTo>
                  <a:pt x="349" y="23"/>
                </a:lnTo>
                <a:lnTo>
                  <a:pt x="363" y="19"/>
                </a:lnTo>
                <a:lnTo>
                  <a:pt x="374" y="15"/>
                </a:lnTo>
                <a:lnTo>
                  <a:pt x="386" y="11"/>
                </a:lnTo>
                <a:lnTo>
                  <a:pt x="395" y="10"/>
                </a:lnTo>
                <a:lnTo>
                  <a:pt x="407" y="8"/>
                </a:lnTo>
                <a:lnTo>
                  <a:pt x="414" y="6"/>
                </a:lnTo>
                <a:lnTo>
                  <a:pt x="422" y="4"/>
                </a:lnTo>
                <a:lnTo>
                  <a:pt x="430" y="2"/>
                </a:lnTo>
                <a:lnTo>
                  <a:pt x="436" y="0"/>
                </a:lnTo>
                <a:lnTo>
                  <a:pt x="441" y="0"/>
                </a:lnTo>
                <a:lnTo>
                  <a:pt x="445" y="0"/>
                </a:lnTo>
                <a:lnTo>
                  <a:pt x="449" y="0"/>
                </a:lnTo>
                <a:lnTo>
                  <a:pt x="455" y="0"/>
                </a:lnTo>
                <a:lnTo>
                  <a:pt x="461" y="2"/>
                </a:lnTo>
                <a:lnTo>
                  <a:pt x="466" y="4"/>
                </a:lnTo>
                <a:lnTo>
                  <a:pt x="474" y="6"/>
                </a:lnTo>
                <a:lnTo>
                  <a:pt x="484" y="10"/>
                </a:lnTo>
                <a:lnTo>
                  <a:pt x="487" y="11"/>
                </a:lnTo>
                <a:lnTo>
                  <a:pt x="493" y="13"/>
                </a:lnTo>
                <a:lnTo>
                  <a:pt x="499" y="15"/>
                </a:lnTo>
                <a:lnTo>
                  <a:pt x="507" y="17"/>
                </a:lnTo>
                <a:lnTo>
                  <a:pt x="514" y="21"/>
                </a:lnTo>
                <a:lnTo>
                  <a:pt x="522" y="23"/>
                </a:lnTo>
                <a:lnTo>
                  <a:pt x="530" y="25"/>
                </a:lnTo>
                <a:lnTo>
                  <a:pt x="537" y="27"/>
                </a:lnTo>
                <a:lnTo>
                  <a:pt x="543" y="31"/>
                </a:lnTo>
                <a:lnTo>
                  <a:pt x="549" y="33"/>
                </a:lnTo>
                <a:lnTo>
                  <a:pt x="555" y="36"/>
                </a:lnTo>
                <a:lnTo>
                  <a:pt x="558" y="40"/>
                </a:lnTo>
                <a:lnTo>
                  <a:pt x="564" y="42"/>
                </a:lnTo>
                <a:lnTo>
                  <a:pt x="566" y="46"/>
                </a:lnTo>
                <a:lnTo>
                  <a:pt x="570" y="50"/>
                </a:lnTo>
                <a:lnTo>
                  <a:pt x="572" y="54"/>
                </a:lnTo>
                <a:lnTo>
                  <a:pt x="576" y="59"/>
                </a:lnTo>
                <a:lnTo>
                  <a:pt x="580" y="65"/>
                </a:lnTo>
                <a:lnTo>
                  <a:pt x="580" y="69"/>
                </a:lnTo>
                <a:lnTo>
                  <a:pt x="580" y="75"/>
                </a:lnTo>
                <a:lnTo>
                  <a:pt x="578" y="79"/>
                </a:lnTo>
                <a:lnTo>
                  <a:pt x="576" y="82"/>
                </a:lnTo>
                <a:lnTo>
                  <a:pt x="572" y="86"/>
                </a:lnTo>
                <a:lnTo>
                  <a:pt x="566" y="92"/>
                </a:lnTo>
                <a:lnTo>
                  <a:pt x="560" y="96"/>
                </a:lnTo>
                <a:lnTo>
                  <a:pt x="553" y="100"/>
                </a:lnTo>
                <a:lnTo>
                  <a:pt x="545" y="104"/>
                </a:lnTo>
                <a:lnTo>
                  <a:pt x="535" y="107"/>
                </a:lnTo>
                <a:lnTo>
                  <a:pt x="526" y="111"/>
                </a:lnTo>
                <a:lnTo>
                  <a:pt x="512" y="113"/>
                </a:lnTo>
                <a:lnTo>
                  <a:pt x="499" y="117"/>
                </a:lnTo>
                <a:lnTo>
                  <a:pt x="485" y="121"/>
                </a:lnTo>
                <a:lnTo>
                  <a:pt x="470" y="123"/>
                </a:lnTo>
                <a:lnTo>
                  <a:pt x="453" y="127"/>
                </a:lnTo>
                <a:lnTo>
                  <a:pt x="434" y="129"/>
                </a:lnTo>
                <a:lnTo>
                  <a:pt x="414" y="132"/>
                </a:lnTo>
                <a:lnTo>
                  <a:pt x="393" y="136"/>
                </a:lnTo>
                <a:lnTo>
                  <a:pt x="372" y="142"/>
                </a:lnTo>
                <a:lnTo>
                  <a:pt x="349" y="146"/>
                </a:lnTo>
                <a:lnTo>
                  <a:pt x="326" y="150"/>
                </a:lnTo>
                <a:lnTo>
                  <a:pt x="301" y="154"/>
                </a:lnTo>
                <a:lnTo>
                  <a:pt x="276" y="157"/>
                </a:lnTo>
                <a:lnTo>
                  <a:pt x="249" y="161"/>
                </a:lnTo>
                <a:lnTo>
                  <a:pt x="223" y="165"/>
                </a:lnTo>
                <a:lnTo>
                  <a:pt x="194" y="169"/>
                </a:lnTo>
                <a:lnTo>
                  <a:pt x="163" y="173"/>
                </a:lnTo>
                <a:lnTo>
                  <a:pt x="132" y="177"/>
                </a:lnTo>
                <a:lnTo>
                  <a:pt x="100" y="178"/>
                </a:lnTo>
                <a:lnTo>
                  <a:pt x="67" y="182"/>
                </a:lnTo>
                <a:lnTo>
                  <a:pt x="34" y="184"/>
                </a:lnTo>
                <a:lnTo>
                  <a:pt x="0" y="186"/>
                </a:lnTo>
                <a:lnTo>
                  <a:pt x="0" y="94"/>
                </a:lnTo>
                <a:lnTo>
                  <a:pt x="36" y="92"/>
                </a:lnTo>
                <a:lnTo>
                  <a:pt x="75" y="90"/>
                </a:lnTo>
                <a:lnTo>
                  <a:pt x="113" y="88"/>
                </a:lnTo>
                <a:lnTo>
                  <a:pt x="150" y="82"/>
                </a:lnTo>
                <a:lnTo>
                  <a:pt x="186" y="77"/>
                </a:lnTo>
                <a:lnTo>
                  <a:pt x="203" y="73"/>
                </a:lnTo>
                <a:lnTo>
                  <a:pt x="223" y="69"/>
                </a:lnTo>
                <a:lnTo>
                  <a:pt x="240" y="63"/>
                </a:lnTo>
                <a:lnTo>
                  <a:pt x="255" y="58"/>
                </a:lnTo>
                <a:lnTo>
                  <a:pt x="272" y="52"/>
                </a:lnTo>
                <a:lnTo>
                  <a:pt x="290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reeform 30"/>
          <p:cNvSpPr/>
          <p:nvPr/>
        </p:nvSpPr>
        <p:spPr>
          <a:xfrm>
            <a:off x="5656320" y="3041640"/>
            <a:ext cx="957240" cy="752400"/>
          </a:xfrm>
          <a:custGeom>
            <a:avLst/>
            <a:gdLst/>
            <a:ahLst/>
            <a:rect l="l" t="t" r="r" b="b"/>
            <a:pathLst>
              <a:path w="1205" h="948">
                <a:moveTo>
                  <a:pt x="1147" y="222"/>
                </a:moveTo>
                <a:lnTo>
                  <a:pt x="1142" y="224"/>
                </a:lnTo>
                <a:lnTo>
                  <a:pt x="1136" y="228"/>
                </a:lnTo>
                <a:lnTo>
                  <a:pt x="1130" y="232"/>
                </a:lnTo>
                <a:lnTo>
                  <a:pt x="1124" y="238"/>
                </a:lnTo>
                <a:lnTo>
                  <a:pt x="1119" y="243"/>
                </a:lnTo>
                <a:lnTo>
                  <a:pt x="1115" y="249"/>
                </a:lnTo>
                <a:lnTo>
                  <a:pt x="1109" y="257"/>
                </a:lnTo>
                <a:lnTo>
                  <a:pt x="1103" y="266"/>
                </a:lnTo>
                <a:lnTo>
                  <a:pt x="1097" y="274"/>
                </a:lnTo>
                <a:lnTo>
                  <a:pt x="1092" y="286"/>
                </a:lnTo>
                <a:lnTo>
                  <a:pt x="1086" y="295"/>
                </a:lnTo>
                <a:lnTo>
                  <a:pt x="1080" y="307"/>
                </a:lnTo>
                <a:lnTo>
                  <a:pt x="1076" y="320"/>
                </a:lnTo>
                <a:lnTo>
                  <a:pt x="1071" y="334"/>
                </a:lnTo>
                <a:lnTo>
                  <a:pt x="1065" y="347"/>
                </a:lnTo>
                <a:lnTo>
                  <a:pt x="1059" y="362"/>
                </a:lnTo>
                <a:lnTo>
                  <a:pt x="1051" y="380"/>
                </a:lnTo>
                <a:lnTo>
                  <a:pt x="1044" y="399"/>
                </a:lnTo>
                <a:lnTo>
                  <a:pt x="1036" y="418"/>
                </a:lnTo>
                <a:lnTo>
                  <a:pt x="1030" y="437"/>
                </a:lnTo>
                <a:lnTo>
                  <a:pt x="1023" y="458"/>
                </a:lnTo>
                <a:lnTo>
                  <a:pt x="1015" y="478"/>
                </a:lnTo>
                <a:lnTo>
                  <a:pt x="1009" y="501"/>
                </a:lnTo>
                <a:lnTo>
                  <a:pt x="1002" y="522"/>
                </a:lnTo>
                <a:lnTo>
                  <a:pt x="994" y="545"/>
                </a:lnTo>
                <a:lnTo>
                  <a:pt x="988" y="568"/>
                </a:lnTo>
                <a:lnTo>
                  <a:pt x="980" y="593"/>
                </a:lnTo>
                <a:lnTo>
                  <a:pt x="973" y="618"/>
                </a:lnTo>
                <a:lnTo>
                  <a:pt x="967" y="643"/>
                </a:lnTo>
                <a:lnTo>
                  <a:pt x="959" y="670"/>
                </a:lnTo>
                <a:lnTo>
                  <a:pt x="952" y="696"/>
                </a:lnTo>
                <a:lnTo>
                  <a:pt x="944" y="725"/>
                </a:lnTo>
                <a:lnTo>
                  <a:pt x="940" y="739"/>
                </a:lnTo>
                <a:lnTo>
                  <a:pt x="936" y="752"/>
                </a:lnTo>
                <a:lnTo>
                  <a:pt x="929" y="779"/>
                </a:lnTo>
                <a:lnTo>
                  <a:pt x="923" y="802"/>
                </a:lnTo>
                <a:lnTo>
                  <a:pt x="917" y="825"/>
                </a:lnTo>
                <a:lnTo>
                  <a:pt x="911" y="844"/>
                </a:lnTo>
                <a:lnTo>
                  <a:pt x="906" y="861"/>
                </a:lnTo>
                <a:lnTo>
                  <a:pt x="902" y="879"/>
                </a:lnTo>
                <a:lnTo>
                  <a:pt x="896" y="894"/>
                </a:lnTo>
                <a:lnTo>
                  <a:pt x="892" y="906"/>
                </a:lnTo>
                <a:lnTo>
                  <a:pt x="888" y="917"/>
                </a:lnTo>
                <a:lnTo>
                  <a:pt x="886" y="927"/>
                </a:lnTo>
                <a:lnTo>
                  <a:pt x="883" y="934"/>
                </a:lnTo>
                <a:lnTo>
                  <a:pt x="879" y="940"/>
                </a:lnTo>
                <a:lnTo>
                  <a:pt x="877" y="944"/>
                </a:lnTo>
                <a:lnTo>
                  <a:pt x="873" y="946"/>
                </a:lnTo>
                <a:lnTo>
                  <a:pt x="871" y="948"/>
                </a:lnTo>
                <a:lnTo>
                  <a:pt x="865" y="948"/>
                </a:lnTo>
                <a:lnTo>
                  <a:pt x="858" y="946"/>
                </a:lnTo>
                <a:lnTo>
                  <a:pt x="850" y="944"/>
                </a:lnTo>
                <a:lnTo>
                  <a:pt x="842" y="940"/>
                </a:lnTo>
                <a:lnTo>
                  <a:pt x="835" y="936"/>
                </a:lnTo>
                <a:lnTo>
                  <a:pt x="827" y="933"/>
                </a:lnTo>
                <a:lnTo>
                  <a:pt x="819" y="929"/>
                </a:lnTo>
                <a:lnTo>
                  <a:pt x="813" y="925"/>
                </a:lnTo>
                <a:lnTo>
                  <a:pt x="802" y="919"/>
                </a:lnTo>
                <a:lnTo>
                  <a:pt x="794" y="913"/>
                </a:lnTo>
                <a:lnTo>
                  <a:pt x="787" y="906"/>
                </a:lnTo>
                <a:lnTo>
                  <a:pt x="781" y="900"/>
                </a:lnTo>
                <a:lnTo>
                  <a:pt x="775" y="890"/>
                </a:lnTo>
                <a:lnTo>
                  <a:pt x="771" y="883"/>
                </a:lnTo>
                <a:lnTo>
                  <a:pt x="769" y="875"/>
                </a:lnTo>
                <a:lnTo>
                  <a:pt x="769" y="865"/>
                </a:lnTo>
                <a:lnTo>
                  <a:pt x="769" y="863"/>
                </a:lnTo>
                <a:lnTo>
                  <a:pt x="769" y="860"/>
                </a:lnTo>
                <a:lnTo>
                  <a:pt x="769" y="856"/>
                </a:lnTo>
                <a:lnTo>
                  <a:pt x="769" y="852"/>
                </a:lnTo>
                <a:lnTo>
                  <a:pt x="771" y="848"/>
                </a:lnTo>
                <a:lnTo>
                  <a:pt x="771" y="842"/>
                </a:lnTo>
                <a:lnTo>
                  <a:pt x="771" y="837"/>
                </a:lnTo>
                <a:lnTo>
                  <a:pt x="771" y="831"/>
                </a:lnTo>
                <a:lnTo>
                  <a:pt x="773" y="823"/>
                </a:lnTo>
                <a:lnTo>
                  <a:pt x="773" y="815"/>
                </a:lnTo>
                <a:lnTo>
                  <a:pt x="775" y="808"/>
                </a:lnTo>
                <a:lnTo>
                  <a:pt x="775" y="800"/>
                </a:lnTo>
                <a:lnTo>
                  <a:pt x="777" y="790"/>
                </a:lnTo>
                <a:lnTo>
                  <a:pt x="777" y="783"/>
                </a:lnTo>
                <a:lnTo>
                  <a:pt x="779" y="771"/>
                </a:lnTo>
                <a:lnTo>
                  <a:pt x="781" y="762"/>
                </a:lnTo>
                <a:lnTo>
                  <a:pt x="783" y="750"/>
                </a:lnTo>
                <a:lnTo>
                  <a:pt x="783" y="739"/>
                </a:lnTo>
                <a:lnTo>
                  <a:pt x="785" y="727"/>
                </a:lnTo>
                <a:lnTo>
                  <a:pt x="787" y="716"/>
                </a:lnTo>
                <a:lnTo>
                  <a:pt x="788" y="702"/>
                </a:lnTo>
                <a:lnTo>
                  <a:pt x="790" y="689"/>
                </a:lnTo>
                <a:lnTo>
                  <a:pt x="792" y="673"/>
                </a:lnTo>
                <a:lnTo>
                  <a:pt x="794" y="660"/>
                </a:lnTo>
                <a:lnTo>
                  <a:pt x="796" y="645"/>
                </a:lnTo>
                <a:lnTo>
                  <a:pt x="798" y="629"/>
                </a:lnTo>
                <a:lnTo>
                  <a:pt x="800" y="614"/>
                </a:lnTo>
                <a:lnTo>
                  <a:pt x="802" y="597"/>
                </a:lnTo>
                <a:lnTo>
                  <a:pt x="806" y="579"/>
                </a:lnTo>
                <a:lnTo>
                  <a:pt x="808" y="562"/>
                </a:lnTo>
                <a:lnTo>
                  <a:pt x="810" y="545"/>
                </a:lnTo>
                <a:lnTo>
                  <a:pt x="813" y="526"/>
                </a:lnTo>
                <a:lnTo>
                  <a:pt x="815" y="508"/>
                </a:lnTo>
                <a:lnTo>
                  <a:pt x="817" y="489"/>
                </a:lnTo>
                <a:lnTo>
                  <a:pt x="821" y="472"/>
                </a:lnTo>
                <a:lnTo>
                  <a:pt x="823" y="455"/>
                </a:lnTo>
                <a:lnTo>
                  <a:pt x="825" y="439"/>
                </a:lnTo>
                <a:lnTo>
                  <a:pt x="827" y="424"/>
                </a:lnTo>
                <a:lnTo>
                  <a:pt x="829" y="408"/>
                </a:lnTo>
                <a:lnTo>
                  <a:pt x="831" y="393"/>
                </a:lnTo>
                <a:lnTo>
                  <a:pt x="833" y="378"/>
                </a:lnTo>
                <a:lnTo>
                  <a:pt x="835" y="364"/>
                </a:lnTo>
                <a:lnTo>
                  <a:pt x="836" y="351"/>
                </a:lnTo>
                <a:lnTo>
                  <a:pt x="838" y="337"/>
                </a:lnTo>
                <a:lnTo>
                  <a:pt x="840" y="326"/>
                </a:lnTo>
                <a:lnTo>
                  <a:pt x="840" y="314"/>
                </a:lnTo>
                <a:lnTo>
                  <a:pt x="842" y="303"/>
                </a:lnTo>
                <a:lnTo>
                  <a:pt x="844" y="291"/>
                </a:lnTo>
                <a:lnTo>
                  <a:pt x="844" y="282"/>
                </a:lnTo>
                <a:lnTo>
                  <a:pt x="846" y="272"/>
                </a:lnTo>
                <a:lnTo>
                  <a:pt x="846" y="263"/>
                </a:lnTo>
                <a:lnTo>
                  <a:pt x="846" y="255"/>
                </a:lnTo>
                <a:lnTo>
                  <a:pt x="846" y="247"/>
                </a:lnTo>
                <a:lnTo>
                  <a:pt x="848" y="240"/>
                </a:lnTo>
                <a:lnTo>
                  <a:pt x="848" y="234"/>
                </a:lnTo>
                <a:lnTo>
                  <a:pt x="848" y="226"/>
                </a:lnTo>
                <a:lnTo>
                  <a:pt x="848" y="220"/>
                </a:lnTo>
                <a:lnTo>
                  <a:pt x="846" y="217"/>
                </a:lnTo>
                <a:lnTo>
                  <a:pt x="846" y="213"/>
                </a:lnTo>
                <a:lnTo>
                  <a:pt x="846" y="209"/>
                </a:lnTo>
                <a:lnTo>
                  <a:pt x="844" y="205"/>
                </a:lnTo>
                <a:lnTo>
                  <a:pt x="844" y="203"/>
                </a:lnTo>
                <a:lnTo>
                  <a:pt x="842" y="199"/>
                </a:lnTo>
                <a:lnTo>
                  <a:pt x="838" y="197"/>
                </a:lnTo>
                <a:lnTo>
                  <a:pt x="835" y="195"/>
                </a:lnTo>
                <a:lnTo>
                  <a:pt x="831" y="194"/>
                </a:lnTo>
                <a:lnTo>
                  <a:pt x="827" y="192"/>
                </a:lnTo>
                <a:lnTo>
                  <a:pt x="821" y="192"/>
                </a:lnTo>
                <a:lnTo>
                  <a:pt x="815" y="190"/>
                </a:lnTo>
                <a:lnTo>
                  <a:pt x="802" y="188"/>
                </a:lnTo>
                <a:lnTo>
                  <a:pt x="788" y="188"/>
                </a:lnTo>
                <a:lnTo>
                  <a:pt x="773" y="188"/>
                </a:lnTo>
                <a:lnTo>
                  <a:pt x="756" y="188"/>
                </a:lnTo>
                <a:lnTo>
                  <a:pt x="740" y="188"/>
                </a:lnTo>
                <a:lnTo>
                  <a:pt x="735" y="188"/>
                </a:lnTo>
                <a:lnTo>
                  <a:pt x="727" y="190"/>
                </a:lnTo>
                <a:lnTo>
                  <a:pt x="719" y="192"/>
                </a:lnTo>
                <a:lnTo>
                  <a:pt x="710" y="192"/>
                </a:lnTo>
                <a:lnTo>
                  <a:pt x="698" y="194"/>
                </a:lnTo>
                <a:lnTo>
                  <a:pt x="687" y="195"/>
                </a:lnTo>
                <a:lnTo>
                  <a:pt x="675" y="197"/>
                </a:lnTo>
                <a:lnTo>
                  <a:pt x="662" y="199"/>
                </a:lnTo>
                <a:lnTo>
                  <a:pt x="646" y="203"/>
                </a:lnTo>
                <a:lnTo>
                  <a:pt x="631" y="205"/>
                </a:lnTo>
                <a:lnTo>
                  <a:pt x="614" y="207"/>
                </a:lnTo>
                <a:lnTo>
                  <a:pt x="595" y="209"/>
                </a:lnTo>
                <a:lnTo>
                  <a:pt x="575" y="213"/>
                </a:lnTo>
                <a:lnTo>
                  <a:pt x="556" y="215"/>
                </a:lnTo>
                <a:lnTo>
                  <a:pt x="533" y="218"/>
                </a:lnTo>
                <a:lnTo>
                  <a:pt x="512" y="222"/>
                </a:lnTo>
                <a:lnTo>
                  <a:pt x="487" y="224"/>
                </a:lnTo>
                <a:lnTo>
                  <a:pt x="462" y="228"/>
                </a:lnTo>
                <a:lnTo>
                  <a:pt x="437" y="232"/>
                </a:lnTo>
                <a:lnTo>
                  <a:pt x="410" y="236"/>
                </a:lnTo>
                <a:lnTo>
                  <a:pt x="382" y="240"/>
                </a:lnTo>
                <a:lnTo>
                  <a:pt x="353" y="243"/>
                </a:lnTo>
                <a:lnTo>
                  <a:pt x="322" y="247"/>
                </a:lnTo>
                <a:lnTo>
                  <a:pt x="291" y="253"/>
                </a:lnTo>
                <a:lnTo>
                  <a:pt x="259" y="257"/>
                </a:lnTo>
                <a:lnTo>
                  <a:pt x="224" y="261"/>
                </a:lnTo>
                <a:lnTo>
                  <a:pt x="190" y="266"/>
                </a:lnTo>
                <a:lnTo>
                  <a:pt x="155" y="270"/>
                </a:lnTo>
                <a:lnTo>
                  <a:pt x="117" y="276"/>
                </a:lnTo>
                <a:lnTo>
                  <a:pt x="78" y="282"/>
                </a:lnTo>
                <a:lnTo>
                  <a:pt x="40" y="288"/>
                </a:lnTo>
                <a:lnTo>
                  <a:pt x="0" y="293"/>
                </a:lnTo>
                <a:lnTo>
                  <a:pt x="0" y="240"/>
                </a:lnTo>
                <a:lnTo>
                  <a:pt x="0" y="188"/>
                </a:lnTo>
                <a:lnTo>
                  <a:pt x="30" y="186"/>
                </a:lnTo>
                <a:lnTo>
                  <a:pt x="59" y="186"/>
                </a:lnTo>
                <a:lnTo>
                  <a:pt x="90" y="184"/>
                </a:lnTo>
                <a:lnTo>
                  <a:pt x="120" y="182"/>
                </a:lnTo>
                <a:lnTo>
                  <a:pt x="180" y="178"/>
                </a:lnTo>
                <a:lnTo>
                  <a:pt x="241" y="170"/>
                </a:lnTo>
                <a:lnTo>
                  <a:pt x="303" y="163"/>
                </a:lnTo>
                <a:lnTo>
                  <a:pt x="364" y="153"/>
                </a:lnTo>
                <a:lnTo>
                  <a:pt x="430" y="142"/>
                </a:lnTo>
                <a:lnTo>
                  <a:pt x="493" y="128"/>
                </a:lnTo>
                <a:lnTo>
                  <a:pt x="525" y="122"/>
                </a:lnTo>
                <a:lnTo>
                  <a:pt x="556" y="115"/>
                </a:lnTo>
                <a:lnTo>
                  <a:pt x="583" y="109"/>
                </a:lnTo>
                <a:lnTo>
                  <a:pt x="610" y="103"/>
                </a:lnTo>
                <a:lnTo>
                  <a:pt x="635" y="98"/>
                </a:lnTo>
                <a:lnTo>
                  <a:pt x="658" y="92"/>
                </a:lnTo>
                <a:lnTo>
                  <a:pt x="679" y="86"/>
                </a:lnTo>
                <a:lnTo>
                  <a:pt x="698" y="82"/>
                </a:lnTo>
                <a:lnTo>
                  <a:pt x="716" y="76"/>
                </a:lnTo>
                <a:lnTo>
                  <a:pt x="731" y="71"/>
                </a:lnTo>
                <a:lnTo>
                  <a:pt x="739" y="69"/>
                </a:lnTo>
                <a:lnTo>
                  <a:pt x="744" y="65"/>
                </a:lnTo>
                <a:lnTo>
                  <a:pt x="752" y="63"/>
                </a:lnTo>
                <a:lnTo>
                  <a:pt x="756" y="59"/>
                </a:lnTo>
                <a:lnTo>
                  <a:pt x="762" y="57"/>
                </a:lnTo>
                <a:lnTo>
                  <a:pt x="767" y="53"/>
                </a:lnTo>
                <a:lnTo>
                  <a:pt x="771" y="50"/>
                </a:lnTo>
                <a:lnTo>
                  <a:pt x="775" y="48"/>
                </a:lnTo>
                <a:lnTo>
                  <a:pt x="777" y="44"/>
                </a:lnTo>
                <a:lnTo>
                  <a:pt x="781" y="42"/>
                </a:lnTo>
                <a:lnTo>
                  <a:pt x="783" y="38"/>
                </a:lnTo>
                <a:lnTo>
                  <a:pt x="785" y="34"/>
                </a:lnTo>
                <a:lnTo>
                  <a:pt x="790" y="27"/>
                </a:lnTo>
                <a:lnTo>
                  <a:pt x="796" y="19"/>
                </a:lnTo>
                <a:lnTo>
                  <a:pt x="806" y="13"/>
                </a:lnTo>
                <a:lnTo>
                  <a:pt x="815" y="9"/>
                </a:lnTo>
                <a:lnTo>
                  <a:pt x="825" y="5"/>
                </a:lnTo>
                <a:lnTo>
                  <a:pt x="835" y="2"/>
                </a:lnTo>
                <a:lnTo>
                  <a:pt x="846" y="0"/>
                </a:lnTo>
                <a:lnTo>
                  <a:pt x="856" y="0"/>
                </a:lnTo>
                <a:lnTo>
                  <a:pt x="859" y="0"/>
                </a:lnTo>
                <a:lnTo>
                  <a:pt x="865" y="2"/>
                </a:lnTo>
                <a:lnTo>
                  <a:pt x="871" y="2"/>
                </a:lnTo>
                <a:lnTo>
                  <a:pt x="879" y="3"/>
                </a:lnTo>
                <a:lnTo>
                  <a:pt x="886" y="7"/>
                </a:lnTo>
                <a:lnTo>
                  <a:pt x="896" y="9"/>
                </a:lnTo>
                <a:lnTo>
                  <a:pt x="907" y="13"/>
                </a:lnTo>
                <a:lnTo>
                  <a:pt x="919" y="17"/>
                </a:lnTo>
                <a:lnTo>
                  <a:pt x="930" y="21"/>
                </a:lnTo>
                <a:lnTo>
                  <a:pt x="944" y="27"/>
                </a:lnTo>
                <a:lnTo>
                  <a:pt x="959" y="32"/>
                </a:lnTo>
                <a:lnTo>
                  <a:pt x="975" y="38"/>
                </a:lnTo>
                <a:lnTo>
                  <a:pt x="992" y="46"/>
                </a:lnTo>
                <a:lnTo>
                  <a:pt x="1009" y="53"/>
                </a:lnTo>
                <a:lnTo>
                  <a:pt x="1026" y="61"/>
                </a:lnTo>
                <a:lnTo>
                  <a:pt x="1046" y="71"/>
                </a:lnTo>
                <a:lnTo>
                  <a:pt x="1063" y="78"/>
                </a:lnTo>
                <a:lnTo>
                  <a:pt x="1080" y="88"/>
                </a:lnTo>
                <a:lnTo>
                  <a:pt x="1097" y="96"/>
                </a:lnTo>
                <a:lnTo>
                  <a:pt x="1113" y="103"/>
                </a:lnTo>
                <a:lnTo>
                  <a:pt x="1126" y="111"/>
                </a:lnTo>
                <a:lnTo>
                  <a:pt x="1140" y="117"/>
                </a:lnTo>
                <a:lnTo>
                  <a:pt x="1153" y="124"/>
                </a:lnTo>
                <a:lnTo>
                  <a:pt x="1163" y="130"/>
                </a:lnTo>
                <a:lnTo>
                  <a:pt x="1172" y="136"/>
                </a:lnTo>
                <a:lnTo>
                  <a:pt x="1182" y="142"/>
                </a:lnTo>
                <a:lnTo>
                  <a:pt x="1188" y="146"/>
                </a:lnTo>
                <a:lnTo>
                  <a:pt x="1193" y="151"/>
                </a:lnTo>
                <a:lnTo>
                  <a:pt x="1199" y="155"/>
                </a:lnTo>
                <a:lnTo>
                  <a:pt x="1203" y="159"/>
                </a:lnTo>
                <a:lnTo>
                  <a:pt x="1205" y="161"/>
                </a:lnTo>
                <a:lnTo>
                  <a:pt x="1205" y="165"/>
                </a:lnTo>
                <a:lnTo>
                  <a:pt x="1205" y="172"/>
                </a:lnTo>
                <a:lnTo>
                  <a:pt x="1201" y="180"/>
                </a:lnTo>
                <a:lnTo>
                  <a:pt x="1197" y="190"/>
                </a:lnTo>
                <a:lnTo>
                  <a:pt x="1195" y="194"/>
                </a:lnTo>
                <a:lnTo>
                  <a:pt x="1192" y="197"/>
                </a:lnTo>
                <a:lnTo>
                  <a:pt x="1188" y="201"/>
                </a:lnTo>
                <a:lnTo>
                  <a:pt x="1184" y="205"/>
                </a:lnTo>
                <a:lnTo>
                  <a:pt x="1180" y="209"/>
                </a:lnTo>
                <a:lnTo>
                  <a:pt x="1174" y="211"/>
                </a:lnTo>
                <a:lnTo>
                  <a:pt x="1168" y="215"/>
                </a:lnTo>
                <a:lnTo>
                  <a:pt x="1161" y="217"/>
                </a:lnTo>
                <a:lnTo>
                  <a:pt x="1155" y="220"/>
                </a:lnTo>
                <a:lnTo>
                  <a:pt x="1147" y="22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31"/>
          <p:cNvSpPr/>
          <p:nvPr/>
        </p:nvSpPr>
        <p:spPr>
          <a:xfrm>
            <a:off x="5934240" y="2698920"/>
            <a:ext cx="492120" cy="195120"/>
          </a:xfrm>
          <a:custGeom>
            <a:avLst/>
            <a:gdLst/>
            <a:ahLst/>
            <a:rect l="l" t="t" r="r" b="b"/>
            <a:pathLst>
              <a:path w="620" h="245">
                <a:moveTo>
                  <a:pt x="29" y="23"/>
                </a:moveTo>
                <a:lnTo>
                  <a:pt x="34" y="21"/>
                </a:lnTo>
                <a:lnTo>
                  <a:pt x="40" y="17"/>
                </a:lnTo>
                <a:lnTo>
                  <a:pt x="50" y="15"/>
                </a:lnTo>
                <a:lnTo>
                  <a:pt x="57" y="13"/>
                </a:lnTo>
                <a:lnTo>
                  <a:pt x="69" y="11"/>
                </a:lnTo>
                <a:lnTo>
                  <a:pt x="79" y="9"/>
                </a:lnTo>
                <a:lnTo>
                  <a:pt x="92" y="7"/>
                </a:lnTo>
                <a:lnTo>
                  <a:pt x="104" y="6"/>
                </a:lnTo>
                <a:lnTo>
                  <a:pt x="119" y="4"/>
                </a:lnTo>
                <a:lnTo>
                  <a:pt x="134" y="4"/>
                </a:lnTo>
                <a:lnTo>
                  <a:pt x="150" y="2"/>
                </a:lnTo>
                <a:lnTo>
                  <a:pt x="167" y="2"/>
                </a:lnTo>
                <a:lnTo>
                  <a:pt x="186" y="0"/>
                </a:lnTo>
                <a:lnTo>
                  <a:pt x="205" y="0"/>
                </a:lnTo>
                <a:lnTo>
                  <a:pt x="224" y="0"/>
                </a:lnTo>
                <a:lnTo>
                  <a:pt x="246" y="0"/>
                </a:lnTo>
                <a:lnTo>
                  <a:pt x="267" y="0"/>
                </a:lnTo>
                <a:lnTo>
                  <a:pt x="288" y="0"/>
                </a:lnTo>
                <a:lnTo>
                  <a:pt x="309" y="0"/>
                </a:lnTo>
                <a:lnTo>
                  <a:pt x="328" y="2"/>
                </a:lnTo>
                <a:lnTo>
                  <a:pt x="347" y="2"/>
                </a:lnTo>
                <a:lnTo>
                  <a:pt x="365" y="4"/>
                </a:lnTo>
                <a:lnTo>
                  <a:pt x="382" y="4"/>
                </a:lnTo>
                <a:lnTo>
                  <a:pt x="399" y="6"/>
                </a:lnTo>
                <a:lnTo>
                  <a:pt x="415" y="7"/>
                </a:lnTo>
                <a:lnTo>
                  <a:pt x="430" y="9"/>
                </a:lnTo>
                <a:lnTo>
                  <a:pt x="445" y="11"/>
                </a:lnTo>
                <a:lnTo>
                  <a:pt x="459" y="13"/>
                </a:lnTo>
                <a:lnTo>
                  <a:pt x="472" y="15"/>
                </a:lnTo>
                <a:lnTo>
                  <a:pt x="484" y="17"/>
                </a:lnTo>
                <a:lnTo>
                  <a:pt x="495" y="21"/>
                </a:lnTo>
                <a:lnTo>
                  <a:pt x="507" y="23"/>
                </a:lnTo>
                <a:lnTo>
                  <a:pt x="524" y="32"/>
                </a:lnTo>
                <a:lnTo>
                  <a:pt x="539" y="42"/>
                </a:lnTo>
                <a:lnTo>
                  <a:pt x="555" y="55"/>
                </a:lnTo>
                <a:lnTo>
                  <a:pt x="568" y="69"/>
                </a:lnTo>
                <a:lnTo>
                  <a:pt x="581" y="82"/>
                </a:lnTo>
                <a:lnTo>
                  <a:pt x="587" y="92"/>
                </a:lnTo>
                <a:lnTo>
                  <a:pt x="593" y="100"/>
                </a:lnTo>
                <a:lnTo>
                  <a:pt x="599" y="109"/>
                </a:lnTo>
                <a:lnTo>
                  <a:pt x="603" y="119"/>
                </a:lnTo>
                <a:lnTo>
                  <a:pt x="606" y="128"/>
                </a:lnTo>
                <a:lnTo>
                  <a:pt x="608" y="140"/>
                </a:lnTo>
                <a:lnTo>
                  <a:pt x="612" y="149"/>
                </a:lnTo>
                <a:lnTo>
                  <a:pt x="614" y="159"/>
                </a:lnTo>
                <a:lnTo>
                  <a:pt x="616" y="169"/>
                </a:lnTo>
                <a:lnTo>
                  <a:pt x="616" y="176"/>
                </a:lnTo>
                <a:lnTo>
                  <a:pt x="618" y="184"/>
                </a:lnTo>
                <a:lnTo>
                  <a:pt x="620" y="192"/>
                </a:lnTo>
                <a:lnTo>
                  <a:pt x="620" y="197"/>
                </a:lnTo>
                <a:lnTo>
                  <a:pt x="620" y="203"/>
                </a:lnTo>
                <a:lnTo>
                  <a:pt x="620" y="209"/>
                </a:lnTo>
                <a:lnTo>
                  <a:pt x="620" y="213"/>
                </a:lnTo>
                <a:lnTo>
                  <a:pt x="616" y="222"/>
                </a:lnTo>
                <a:lnTo>
                  <a:pt x="614" y="228"/>
                </a:lnTo>
                <a:lnTo>
                  <a:pt x="608" y="234"/>
                </a:lnTo>
                <a:lnTo>
                  <a:pt x="603" y="238"/>
                </a:lnTo>
                <a:lnTo>
                  <a:pt x="595" y="240"/>
                </a:lnTo>
                <a:lnTo>
                  <a:pt x="587" y="242"/>
                </a:lnTo>
                <a:lnTo>
                  <a:pt x="576" y="244"/>
                </a:lnTo>
                <a:lnTo>
                  <a:pt x="564" y="244"/>
                </a:lnTo>
                <a:lnTo>
                  <a:pt x="553" y="244"/>
                </a:lnTo>
                <a:lnTo>
                  <a:pt x="537" y="245"/>
                </a:lnTo>
                <a:lnTo>
                  <a:pt x="522" y="245"/>
                </a:lnTo>
                <a:lnTo>
                  <a:pt x="518" y="244"/>
                </a:lnTo>
                <a:lnTo>
                  <a:pt x="512" y="244"/>
                </a:lnTo>
                <a:lnTo>
                  <a:pt x="507" y="244"/>
                </a:lnTo>
                <a:lnTo>
                  <a:pt x="499" y="242"/>
                </a:lnTo>
                <a:lnTo>
                  <a:pt x="491" y="240"/>
                </a:lnTo>
                <a:lnTo>
                  <a:pt x="484" y="238"/>
                </a:lnTo>
                <a:lnTo>
                  <a:pt x="474" y="236"/>
                </a:lnTo>
                <a:lnTo>
                  <a:pt x="464" y="234"/>
                </a:lnTo>
                <a:lnTo>
                  <a:pt x="455" y="230"/>
                </a:lnTo>
                <a:lnTo>
                  <a:pt x="443" y="228"/>
                </a:lnTo>
                <a:lnTo>
                  <a:pt x="430" y="224"/>
                </a:lnTo>
                <a:lnTo>
                  <a:pt x="418" y="220"/>
                </a:lnTo>
                <a:lnTo>
                  <a:pt x="403" y="215"/>
                </a:lnTo>
                <a:lnTo>
                  <a:pt x="390" y="211"/>
                </a:lnTo>
                <a:lnTo>
                  <a:pt x="374" y="205"/>
                </a:lnTo>
                <a:lnTo>
                  <a:pt x="359" y="199"/>
                </a:lnTo>
                <a:lnTo>
                  <a:pt x="342" y="194"/>
                </a:lnTo>
                <a:lnTo>
                  <a:pt x="324" y="188"/>
                </a:lnTo>
                <a:lnTo>
                  <a:pt x="305" y="182"/>
                </a:lnTo>
                <a:lnTo>
                  <a:pt x="286" y="174"/>
                </a:lnTo>
                <a:lnTo>
                  <a:pt x="267" y="167"/>
                </a:lnTo>
                <a:lnTo>
                  <a:pt x="246" y="159"/>
                </a:lnTo>
                <a:lnTo>
                  <a:pt x="224" y="151"/>
                </a:lnTo>
                <a:lnTo>
                  <a:pt x="203" y="142"/>
                </a:lnTo>
                <a:lnTo>
                  <a:pt x="180" y="132"/>
                </a:lnTo>
                <a:lnTo>
                  <a:pt x="157" y="123"/>
                </a:lnTo>
                <a:lnTo>
                  <a:pt x="132" y="113"/>
                </a:lnTo>
                <a:lnTo>
                  <a:pt x="107" y="103"/>
                </a:lnTo>
                <a:lnTo>
                  <a:pt x="81" y="92"/>
                </a:lnTo>
                <a:lnTo>
                  <a:pt x="54" y="80"/>
                </a:lnTo>
                <a:lnTo>
                  <a:pt x="27" y="69"/>
                </a:lnTo>
                <a:lnTo>
                  <a:pt x="0" y="57"/>
                </a:lnTo>
                <a:lnTo>
                  <a:pt x="0" y="54"/>
                </a:lnTo>
                <a:lnTo>
                  <a:pt x="2" y="50"/>
                </a:lnTo>
                <a:lnTo>
                  <a:pt x="4" y="44"/>
                </a:lnTo>
                <a:lnTo>
                  <a:pt x="8" y="40"/>
                </a:lnTo>
                <a:lnTo>
                  <a:pt x="13" y="36"/>
                </a:lnTo>
                <a:lnTo>
                  <a:pt x="17" y="30"/>
                </a:lnTo>
                <a:lnTo>
                  <a:pt x="29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凌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2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53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54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组合 8"/>
          <p:cNvGrpSpPr/>
          <p:nvPr/>
        </p:nvGrpSpPr>
        <p:grpSpPr>
          <a:xfrm>
            <a:off x="1390680" y="3975120"/>
            <a:ext cx="2863800" cy="1621440"/>
            <a:chOff x="1390680" y="3975120"/>
            <a:chExt cx="2863800" cy="1621440"/>
          </a:xfrm>
        </p:grpSpPr>
        <p:pic>
          <p:nvPicPr>
            <p:cNvPr id="258" name="图示 4" descr=""/>
            <p:cNvPicPr/>
            <p:nvPr/>
          </p:nvPicPr>
          <p:blipFill>
            <a:blip r:embed="rId3"/>
            <a:stretch/>
          </p:blipFill>
          <p:spPr>
            <a:xfrm>
              <a:off x="1390680" y="3975120"/>
              <a:ext cx="2863800" cy="15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矩形 2"/>
            <p:cNvSpPr/>
            <p:nvPr/>
          </p:nvSpPr>
          <p:spPr>
            <a:xfrm>
              <a:off x="1435680" y="4588200"/>
              <a:ext cx="279576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右下撇捺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" name="矩形 3"/>
          <p:cNvSpPr/>
          <p:nvPr/>
        </p:nvSpPr>
        <p:spPr>
          <a:xfrm>
            <a:off x="2136600" y="1868400"/>
            <a:ext cx="146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í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24"/>
          <p:cNvSpPr/>
          <p:nvPr/>
        </p:nvSpPr>
        <p:spPr>
          <a:xfrm>
            <a:off x="6440400" y="4367160"/>
            <a:ext cx="1287720" cy="652680"/>
          </a:xfrm>
          <a:custGeom>
            <a:avLst/>
            <a:gdLst/>
            <a:ahLst/>
            <a:rect l="l" t="t" r="r" b="b"/>
            <a:pathLst>
              <a:path w="1621" h="824">
                <a:moveTo>
                  <a:pt x="1620" y="701"/>
                </a:moveTo>
                <a:lnTo>
                  <a:pt x="1621" y="706"/>
                </a:lnTo>
                <a:lnTo>
                  <a:pt x="1621" y="710"/>
                </a:lnTo>
                <a:lnTo>
                  <a:pt x="1621" y="714"/>
                </a:lnTo>
                <a:lnTo>
                  <a:pt x="1620" y="720"/>
                </a:lnTo>
                <a:lnTo>
                  <a:pt x="1618" y="724"/>
                </a:lnTo>
                <a:lnTo>
                  <a:pt x="1614" y="728"/>
                </a:lnTo>
                <a:lnTo>
                  <a:pt x="1608" y="731"/>
                </a:lnTo>
                <a:lnTo>
                  <a:pt x="1602" y="737"/>
                </a:lnTo>
                <a:lnTo>
                  <a:pt x="1596" y="741"/>
                </a:lnTo>
                <a:lnTo>
                  <a:pt x="1589" y="745"/>
                </a:lnTo>
                <a:lnTo>
                  <a:pt x="1579" y="749"/>
                </a:lnTo>
                <a:lnTo>
                  <a:pt x="1570" y="751"/>
                </a:lnTo>
                <a:lnTo>
                  <a:pt x="1560" y="754"/>
                </a:lnTo>
                <a:lnTo>
                  <a:pt x="1549" y="758"/>
                </a:lnTo>
                <a:lnTo>
                  <a:pt x="1535" y="760"/>
                </a:lnTo>
                <a:lnTo>
                  <a:pt x="1522" y="762"/>
                </a:lnTo>
                <a:lnTo>
                  <a:pt x="1491" y="768"/>
                </a:lnTo>
                <a:lnTo>
                  <a:pt x="1458" y="774"/>
                </a:lnTo>
                <a:lnTo>
                  <a:pt x="1426" y="779"/>
                </a:lnTo>
                <a:lnTo>
                  <a:pt x="1391" y="787"/>
                </a:lnTo>
                <a:lnTo>
                  <a:pt x="1357" y="795"/>
                </a:lnTo>
                <a:lnTo>
                  <a:pt x="1320" y="801"/>
                </a:lnTo>
                <a:lnTo>
                  <a:pt x="1301" y="804"/>
                </a:lnTo>
                <a:lnTo>
                  <a:pt x="1282" y="806"/>
                </a:lnTo>
                <a:lnTo>
                  <a:pt x="1263" y="808"/>
                </a:lnTo>
                <a:lnTo>
                  <a:pt x="1241" y="812"/>
                </a:lnTo>
                <a:lnTo>
                  <a:pt x="1222" y="814"/>
                </a:lnTo>
                <a:lnTo>
                  <a:pt x="1201" y="816"/>
                </a:lnTo>
                <a:lnTo>
                  <a:pt x="1182" y="818"/>
                </a:lnTo>
                <a:lnTo>
                  <a:pt x="1165" y="820"/>
                </a:lnTo>
                <a:lnTo>
                  <a:pt x="1145" y="820"/>
                </a:lnTo>
                <a:lnTo>
                  <a:pt x="1128" y="822"/>
                </a:lnTo>
                <a:lnTo>
                  <a:pt x="1111" y="822"/>
                </a:lnTo>
                <a:lnTo>
                  <a:pt x="1096" y="822"/>
                </a:lnTo>
                <a:lnTo>
                  <a:pt x="1080" y="824"/>
                </a:lnTo>
                <a:lnTo>
                  <a:pt x="1065" y="824"/>
                </a:lnTo>
                <a:lnTo>
                  <a:pt x="1049" y="824"/>
                </a:lnTo>
                <a:lnTo>
                  <a:pt x="1036" y="824"/>
                </a:lnTo>
                <a:lnTo>
                  <a:pt x="1023" y="824"/>
                </a:lnTo>
                <a:lnTo>
                  <a:pt x="1009" y="824"/>
                </a:lnTo>
                <a:lnTo>
                  <a:pt x="998" y="824"/>
                </a:lnTo>
                <a:lnTo>
                  <a:pt x="986" y="824"/>
                </a:lnTo>
                <a:lnTo>
                  <a:pt x="975" y="822"/>
                </a:lnTo>
                <a:lnTo>
                  <a:pt x="963" y="818"/>
                </a:lnTo>
                <a:lnTo>
                  <a:pt x="952" y="814"/>
                </a:lnTo>
                <a:lnTo>
                  <a:pt x="940" y="810"/>
                </a:lnTo>
                <a:lnTo>
                  <a:pt x="929" y="804"/>
                </a:lnTo>
                <a:lnTo>
                  <a:pt x="915" y="799"/>
                </a:lnTo>
                <a:lnTo>
                  <a:pt x="904" y="793"/>
                </a:lnTo>
                <a:lnTo>
                  <a:pt x="892" y="785"/>
                </a:lnTo>
                <a:lnTo>
                  <a:pt x="879" y="778"/>
                </a:lnTo>
                <a:lnTo>
                  <a:pt x="865" y="770"/>
                </a:lnTo>
                <a:lnTo>
                  <a:pt x="852" y="760"/>
                </a:lnTo>
                <a:lnTo>
                  <a:pt x="838" y="751"/>
                </a:lnTo>
                <a:lnTo>
                  <a:pt x="825" y="739"/>
                </a:lnTo>
                <a:lnTo>
                  <a:pt x="810" y="728"/>
                </a:lnTo>
                <a:lnTo>
                  <a:pt x="794" y="714"/>
                </a:lnTo>
                <a:lnTo>
                  <a:pt x="779" y="701"/>
                </a:lnTo>
                <a:lnTo>
                  <a:pt x="771" y="693"/>
                </a:lnTo>
                <a:lnTo>
                  <a:pt x="762" y="685"/>
                </a:lnTo>
                <a:lnTo>
                  <a:pt x="750" y="678"/>
                </a:lnTo>
                <a:lnTo>
                  <a:pt x="739" y="666"/>
                </a:lnTo>
                <a:lnTo>
                  <a:pt x="727" y="657"/>
                </a:lnTo>
                <a:lnTo>
                  <a:pt x="714" y="645"/>
                </a:lnTo>
                <a:lnTo>
                  <a:pt x="698" y="634"/>
                </a:lnTo>
                <a:lnTo>
                  <a:pt x="683" y="620"/>
                </a:lnTo>
                <a:lnTo>
                  <a:pt x="666" y="607"/>
                </a:lnTo>
                <a:lnTo>
                  <a:pt x="648" y="593"/>
                </a:lnTo>
                <a:lnTo>
                  <a:pt x="629" y="578"/>
                </a:lnTo>
                <a:lnTo>
                  <a:pt x="610" y="563"/>
                </a:lnTo>
                <a:lnTo>
                  <a:pt x="589" y="545"/>
                </a:lnTo>
                <a:lnTo>
                  <a:pt x="568" y="528"/>
                </a:lnTo>
                <a:lnTo>
                  <a:pt x="545" y="509"/>
                </a:lnTo>
                <a:lnTo>
                  <a:pt x="520" y="490"/>
                </a:lnTo>
                <a:lnTo>
                  <a:pt x="495" y="470"/>
                </a:lnTo>
                <a:lnTo>
                  <a:pt x="470" y="449"/>
                </a:lnTo>
                <a:lnTo>
                  <a:pt x="443" y="428"/>
                </a:lnTo>
                <a:lnTo>
                  <a:pt x="414" y="405"/>
                </a:lnTo>
                <a:lnTo>
                  <a:pt x="385" y="382"/>
                </a:lnTo>
                <a:lnTo>
                  <a:pt x="355" y="359"/>
                </a:lnTo>
                <a:lnTo>
                  <a:pt x="324" y="334"/>
                </a:lnTo>
                <a:lnTo>
                  <a:pt x="291" y="309"/>
                </a:lnTo>
                <a:lnTo>
                  <a:pt x="259" y="282"/>
                </a:lnTo>
                <a:lnTo>
                  <a:pt x="224" y="255"/>
                </a:lnTo>
                <a:lnTo>
                  <a:pt x="190" y="227"/>
                </a:lnTo>
                <a:lnTo>
                  <a:pt x="153" y="198"/>
                </a:lnTo>
                <a:lnTo>
                  <a:pt x="117" y="169"/>
                </a:lnTo>
                <a:lnTo>
                  <a:pt x="78" y="138"/>
                </a:lnTo>
                <a:lnTo>
                  <a:pt x="40" y="106"/>
                </a:lnTo>
                <a:lnTo>
                  <a:pt x="0" y="75"/>
                </a:lnTo>
                <a:lnTo>
                  <a:pt x="13" y="56"/>
                </a:lnTo>
                <a:lnTo>
                  <a:pt x="28" y="37"/>
                </a:lnTo>
                <a:lnTo>
                  <a:pt x="59" y="0"/>
                </a:lnTo>
                <a:lnTo>
                  <a:pt x="138" y="56"/>
                </a:lnTo>
                <a:lnTo>
                  <a:pt x="215" y="110"/>
                </a:lnTo>
                <a:lnTo>
                  <a:pt x="293" y="161"/>
                </a:lnTo>
                <a:lnTo>
                  <a:pt x="372" y="211"/>
                </a:lnTo>
                <a:lnTo>
                  <a:pt x="451" y="259"/>
                </a:lnTo>
                <a:lnTo>
                  <a:pt x="531" y="305"/>
                </a:lnTo>
                <a:lnTo>
                  <a:pt x="612" y="351"/>
                </a:lnTo>
                <a:lnTo>
                  <a:pt x="694" y="394"/>
                </a:lnTo>
                <a:lnTo>
                  <a:pt x="733" y="417"/>
                </a:lnTo>
                <a:lnTo>
                  <a:pt x="771" y="438"/>
                </a:lnTo>
                <a:lnTo>
                  <a:pt x="810" y="459"/>
                </a:lnTo>
                <a:lnTo>
                  <a:pt x="848" y="478"/>
                </a:lnTo>
                <a:lnTo>
                  <a:pt x="886" y="495"/>
                </a:lnTo>
                <a:lnTo>
                  <a:pt x="927" y="513"/>
                </a:lnTo>
                <a:lnTo>
                  <a:pt x="965" y="528"/>
                </a:lnTo>
                <a:lnTo>
                  <a:pt x="1003" y="543"/>
                </a:lnTo>
                <a:lnTo>
                  <a:pt x="1042" y="557"/>
                </a:lnTo>
                <a:lnTo>
                  <a:pt x="1082" y="570"/>
                </a:lnTo>
                <a:lnTo>
                  <a:pt x="1120" y="582"/>
                </a:lnTo>
                <a:lnTo>
                  <a:pt x="1159" y="593"/>
                </a:lnTo>
                <a:lnTo>
                  <a:pt x="1199" y="603"/>
                </a:lnTo>
                <a:lnTo>
                  <a:pt x="1238" y="612"/>
                </a:lnTo>
                <a:lnTo>
                  <a:pt x="1276" y="620"/>
                </a:lnTo>
                <a:lnTo>
                  <a:pt x="1314" y="628"/>
                </a:lnTo>
                <a:lnTo>
                  <a:pt x="1334" y="630"/>
                </a:lnTo>
                <a:lnTo>
                  <a:pt x="1353" y="632"/>
                </a:lnTo>
                <a:lnTo>
                  <a:pt x="1370" y="634"/>
                </a:lnTo>
                <a:lnTo>
                  <a:pt x="1387" y="637"/>
                </a:lnTo>
                <a:lnTo>
                  <a:pt x="1405" y="639"/>
                </a:lnTo>
                <a:lnTo>
                  <a:pt x="1420" y="641"/>
                </a:lnTo>
                <a:lnTo>
                  <a:pt x="1435" y="643"/>
                </a:lnTo>
                <a:lnTo>
                  <a:pt x="1451" y="645"/>
                </a:lnTo>
                <a:lnTo>
                  <a:pt x="1464" y="649"/>
                </a:lnTo>
                <a:lnTo>
                  <a:pt x="1477" y="651"/>
                </a:lnTo>
                <a:lnTo>
                  <a:pt x="1491" y="653"/>
                </a:lnTo>
                <a:lnTo>
                  <a:pt x="1502" y="655"/>
                </a:lnTo>
                <a:lnTo>
                  <a:pt x="1514" y="657"/>
                </a:lnTo>
                <a:lnTo>
                  <a:pt x="1525" y="660"/>
                </a:lnTo>
                <a:lnTo>
                  <a:pt x="1535" y="662"/>
                </a:lnTo>
                <a:lnTo>
                  <a:pt x="1545" y="664"/>
                </a:lnTo>
                <a:lnTo>
                  <a:pt x="1554" y="666"/>
                </a:lnTo>
                <a:lnTo>
                  <a:pt x="1562" y="668"/>
                </a:lnTo>
                <a:lnTo>
                  <a:pt x="1570" y="672"/>
                </a:lnTo>
                <a:lnTo>
                  <a:pt x="1577" y="674"/>
                </a:lnTo>
                <a:lnTo>
                  <a:pt x="1585" y="676"/>
                </a:lnTo>
                <a:lnTo>
                  <a:pt x="1591" y="678"/>
                </a:lnTo>
                <a:lnTo>
                  <a:pt x="1596" y="680"/>
                </a:lnTo>
                <a:lnTo>
                  <a:pt x="1600" y="683"/>
                </a:lnTo>
                <a:lnTo>
                  <a:pt x="1606" y="685"/>
                </a:lnTo>
                <a:lnTo>
                  <a:pt x="1610" y="687"/>
                </a:lnTo>
                <a:lnTo>
                  <a:pt x="1612" y="689"/>
                </a:lnTo>
                <a:lnTo>
                  <a:pt x="1616" y="691"/>
                </a:lnTo>
                <a:lnTo>
                  <a:pt x="1618" y="695"/>
                </a:lnTo>
                <a:lnTo>
                  <a:pt x="1618" y="697"/>
                </a:lnTo>
                <a:lnTo>
                  <a:pt x="1620" y="699"/>
                </a:lnTo>
                <a:lnTo>
                  <a:pt x="1620" y="7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reeform 25"/>
          <p:cNvSpPr/>
          <p:nvPr/>
        </p:nvSpPr>
        <p:spPr>
          <a:xfrm>
            <a:off x="6234120" y="4132440"/>
            <a:ext cx="804960" cy="911160"/>
          </a:xfrm>
          <a:custGeom>
            <a:avLst/>
            <a:gdLst/>
            <a:ahLst/>
            <a:rect l="l" t="t" r="r" b="b"/>
            <a:pathLst>
              <a:path w="1014" h="1147">
                <a:moveTo>
                  <a:pt x="442" y="74"/>
                </a:moveTo>
                <a:lnTo>
                  <a:pt x="461" y="74"/>
                </a:lnTo>
                <a:lnTo>
                  <a:pt x="482" y="74"/>
                </a:lnTo>
                <a:lnTo>
                  <a:pt x="499" y="74"/>
                </a:lnTo>
                <a:lnTo>
                  <a:pt x="519" y="74"/>
                </a:lnTo>
                <a:lnTo>
                  <a:pt x="536" y="74"/>
                </a:lnTo>
                <a:lnTo>
                  <a:pt x="553" y="72"/>
                </a:lnTo>
                <a:lnTo>
                  <a:pt x="570" y="72"/>
                </a:lnTo>
                <a:lnTo>
                  <a:pt x="586" y="72"/>
                </a:lnTo>
                <a:lnTo>
                  <a:pt x="601" y="72"/>
                </a:lnTo>
                <a:lnTo>
                  <a:pt x="615" y="71"/>
                </a:lnTo>
                <a:lnTo>
                  <a:pt x="628" y="71"/>
                </a:lnTo>
                <a:lnTo>
                  <a:pt x="642" y="69"/>
                </a:lnTo>
                <a:lnTo>
                  <a:pt x="653" y="67"/>
                </a:lnTo>
                <a:lnTo>
                  <a:pt x="665" y="65"/>
                </a:lnTo>
                <a:lnTo>
                  <a:pt x="676" y="63"/>
                </a:lnTo>
                <a:lnTo>
                  <a:pt x="686" y="61"/>
                </a:lnTo>
                <a:lnTo>
                  <a:pt x="699" y="57"/>
                </a:lnTo>
                <a:lnTo>
                  <a:pt x="713" y="51"/>
                </a:lnTo>
                <a:lnTo>
                  <a:pt x="724" y="48"/>
                </a:lnTo>
                <a:lnTo>
                  <a:pt x="737" y="44"/>
                </a:lnTo>
                <a:lnTo>
                  <a:pt x="747" y="38"/>
                </a:lnTo>
                <a:lnTo>
                  <a:pt x="757" y="34"/>
                </a:lnTo>
                <a:lnTo>
                  <a:pt x="761" y="32"/>
                </a:lnTo>
                <a:lnTo>
                  <a:pt x="764" y="30"/>
                </a:lnTo>
                <a:lnTo>
                  <a:pt x="768" y="26"/>
                </a:lnTo>
                <a:lnTo>
                  <a:pt x="770" y="25"/>
                </a:lnTo>
                <a:lnTo>
                  <a:pt x="776" y="21"/>
                </a:lnTo>
                <a:lnTo>
                  <a:pt x="780" y="17"/>
                </a:lnTo>
                <a:lnTo>
                  <a:pt x="785" y="15"/>
                </a:lnTo>
                <a:lnTo>
                  <a:pt x="791" y="13"/>
                </a:lnTo>
                <a:lnTo>
                  <a:pt x="797" y="11"/>
                </a:lnTo>
                <a:lnTo>
                  <a:pt x="803" y="7"/>
                </a:lnTo>
                <a:lnTo>
                  <a:pt x="810" y="3"/>
                </a:lnTo>
                <a:lnTo>
                  <a:pt x="820" y="0"/>
                </a:lnTo>
                <a:lnTo>
                  <a:pt x="822" y="0"/>
                </a:lnTo>
                <a:lnTo>
                  <a:pt x="826" y="1"/>
                </a:lnTo>
                <a:lnTo>
                  <a:pt x="830" y="3"/>
                </a:lnTo>
                <a:lnTo>
                  <a:pt x="833" y="5"/>
                </a:lnTo>
                <a:lnTo>
                  <a:pt x="837" y="7"/>
                </a:lnTo>
                <a:lnTo>
                  <a:pt x="843" y="9"/>
                </a:lnTo>
                <a:lnTo>
                  <a:pt x="849" y="13"/>
                </a:lnTo>
                <a:lnTo>
                  <a:pt x="856" y="17"/>
                </a:lnTo>
                <a:lnTo>
                  <a:pt x="864" y="21"/>
                </a:lnTo>
                <a:lnTo>
                  <a:pt x="872" y="26"/>
                </a:lnTo>
                <a:lnTo>
                  <a:pt x="880" y="30"/>
                </a:lnTo>
                <a:lnTo>
                  <a:pt x="887" y="36"/>
                </a:lnTo>
                <a:lnTo>
                  <a:pt x="897" y="42"/>
                </a:lnTo>
                <a:lnTo>
                  <a:pt x="908" y="48"/>
                </a:lnTo>
                <a:lnTo>
                  <a:pt x="918" y="55"/>
                </a:lnTo>
                <a:lnTo>
                  <a:pt x="929" y="61"/>
                </a:lnTo>
                <a:lnTo>
                  <a:pt x="939" y="71"/>
                </a:lnTo>
                <a:lnTo>
                  <a:pt x="951" y="80"/>
                </a:lnTo>
                <a:lnTo>
                  <a:pt x="960" y="88"/>
                </a:lnTo>
                <a:lnTo>
                  <a:pt x="968" y="96"/>
                </a:lnTo>
                <a:lnTo>
                  <a:pt x="975" y="103"/>
                </a:lnTo>
                <a:lnTo>
                  <a:pt x="983" y="111"/>
                </a:lnTo>
                <a:lnTo>
                  <a:pt x="989" y="119"/>
                </a:lnTo>
                <a:lnTo>
                  <a:pt x="995" y="124"/>
                </a:lnTo>
                <a:lnTo>
                  <a:pt x="999" y="130"/>
                </a:lnTo>
                <a:lnTo>
                  <a:pt x="1002" y="136"/>
                </a:lnTo>
                <a:lnTo>
                  <a:pt x="1006" y="142"/>
                </a:lnTo>
                <a:lnTo>
                  <a:pt x="1010" y="147"/>
                </a:lnTo>
                <a:lnTo>
                  <a:pt x="1012" y="151"/>
                </a:lnTo>
                <a:lnTo>
                  <a:pt x="1014" y="155"/>
                </a:lnTo>
                <a:lnTo>
                  <a:pt x="1014" y="157"/>
                </a:lnTo>
                <a:lnTo>
                  <a:pt x="1014" y="161"/>
                </a:lnTo>
                <a:lnTo>
                  <a:pt x="1014" y="168"/>
                </a:lnTo>
                <a:lnTo>
                  <a:pt x="1012" y="176"/>
                </a:lnTo>
                <a:lnTo>
                  <a:pt x="1010" y="184"/>
                </a:lnTo>
                <a:lnTo>
                  <a:pt x="1004" y="190"/>
                </a:lnTo>
                <a:lnTo>
                  <a:pt x="1000" y="195"/>
                </a:lnTo>
                <a:lnTo>
                  <a:pt x="995" y="199"/>
                </a:lnTo>
                <a:lnTo>
                  <a:pt x="987" y="205"/>
                </a:lnTo>
                <a:lnTo>
                  <a:pt x="977" y="209"/>
                </a:lnTo>
                <a:lnTo>
                  <a:pt x="974" y="213"/>
                </a:lnTo>
                <a:lnTo>
                  <a:pt x="968" y="216"/>
                </a:lnTo>
                <a:lnTo>
                  <a:pt x="962" y="224"/>
                </a:lnTo>
                <a:lnTo>
                  <a:pt x="954" y="232"/>
                </a:lnTo>
                <a:lnTo>
                  <a:pt x="947" y="243"/>
                </a:lnTo>
                <a:lnTo>
                  <a:pt x="939" y="255"/>
                </a:lnTo>
                <a:lnTo>
                  <a:pt x="931" y="268"/>
                </a:lnTo>
                <a:lnTo>
                  <a:pt x="922" y="284"/>
                </a:lnTo>
                <a:lnTo>
                  <a:pt x="912" y="299"/>
                </a:lnTo>
                <a:lnTo>
                  <a:pt x="903" y="318"/>
                </a:lnTo>
                <a:lnTo>
                  <a:pt x="893" y="339"/>
                </a:lnTo>
                <a:lnTo>
                  <a:pt x="881" y="360"/>
                </a:lnTo>
                <a:lnTo>
                  <a:pt x="870" y="385"/>
                </a:lnTo>
                <a:lnTo>
                  <a:pt x="858" y="410"/>
                </a:lnTo>
                <a:lnTo>
                  <a:pt x="845" y="439"/>
                </a:lnTo>
                <a:lnTo>
                  <a:pt x="832" y="468"/>
                </a:lnTo>
                <a:lnTo>
                  <a:pt x="816" y="497"/>
                </a:lnTo>
                <a:lnTo>
                  <a:pt x="801" y="525"/>
                </a:lnTo>
                <a:lnTo>
                  <a:pt x="784" y="554"/>
                </a:lnTo>
                <a:lnTo>
                  <a:pt x="768" y="581"/>
                </a:lnTo>
                <a:lnTo>
                  <a:pt x="751" y="606"/>
                </a:lnTo>
                <a:lnTo>
                  <a:pt x="736" y="631"/>
                </a:lnTo>
                <a:lnTo>
                  <a:pt x="718" y="656"/>
                </a:lnTo>
                <a:lnTo>
                  <a:pt x="703" y="679"/>
                </a:lnTo>
                <a:lnTo>
                  <a:pt x="686" y="702"/>
                </a:lnTo>
                <a:lnTo>
                  <a:pt x="668" y="723"/>
                </a:lnTo>
                <a:lnTo>
                  <a:pt x="651" y="744"/>
                </a:lnTo>
                <a:lnTo>
                  <a:pt x="634" y="765"/>
                </a:lnTo>
                <a:lnTo>
                  <a:pt x="617" y="785"/>
                </a:lnTo>
                <a:lnTo>
                  <a:pt x="599" y="802"/>
                </a:lnTo>
                <a:lnTo>
                  <a:pt x="582" y="819"/>
                </a:lnTo>
                <a:lnTo>
                  <a:pt x="563" y="836"/>
                </a:lnTo>
                <a:lnTo>
                  <a:pt x="546" y="852"/>
                </a:lnTo>
                <a:lnTo>
                  <a:pt x="526" y="869"/>
                </a:lnTo>
                <a:lnTo>
                  <a:pt x="505" y="884"/>
                </a:lnTo>
                <a:lnTo>
                  <a:pt x="486" y="902"/>
                </a:lnTo>
                <a:lnTo>
                  <a:pt x="465" y="917"/>
                </a:lnTo>
                <a:lnTo>
                  <a:pt x="444" y="932"/>
                </a:lnTo>
                <a:lnTo>
                  <a:pt x="400" y="963"/>
                </a:lnTo>
                <a:lnTo>
                  <a:pt x="356" y="992"/>
                </a:lnTo>
                <a:lnTo>
                  <a:pt x="308" y="1019"/>
                </a:lnTo>
                <a:lnTo>
                  <a:pt x="260" y="1046"/>
                </a:lnTo>
                <a:lnTo>
                  <a:pt x="235" y="1057"/>
                </a:lnTo>
                <a:lnTo>
                  <a:pt x="210" y="1071"/>
                </a:lnTo>
                <a:lnTo>
                  <a:pt x="185" y="1080"/>
                </a:lnTo>
                <a:lnTo>
                  <a:pt x="162" y="1092"/>
                </a:lnTo>
                <a:lnTo>
                  <a:pt x="141" y="1101"/>
                </a:lnTo>
                <a:lnTo>
                  <a:pt x="121" y="1109"/>
                </a:lnTo>
                <a:lnTo>
                  <a:pt x="102" y="1117"/>
                </a:lnTo>
                <a:lnTo>
                  <a:pt x="85" y="1124"/>
                </a:lnTo>
                <a:lnTo>
                  <a:pt x="70" y="1130"/>
                </a:lnTo>
                <a:lnTo>
                  <a:pt x="56" y="1134"/>
                </a:lnTo>
                <a:lnTo>
                  <a:pt x="45" y="1140"/>
                </a:lnTo>
                <a:lnTo>
                  <a:pt x="33" y="1142"/>
                </a:lnTo>
                <a:lnTo>
                  <a:pt x="23" y="1145"/>
                </a:lnTo>
                <a:lnTo>
                  <a:pt x="16" y="1145"/>
                </a:lnTo>
                <a:lnTo>
                  <a:pt x="10" y="1147"/>
                </a:lnTo>
                <a:lnTo>
                  <a:pt x="6" y="1147"/>
                </a:lnTo>
                <a:lnTo>
                  <a:pt x="2" y="1145"/>
                </a:lnTo>
                <a:lnTo>
                  <a:pt x="2" y="1144"/>
                </a:lnTo>
                <a:lnTo>
                  <a:pt x="2" y="1142"/>
                </a:lnTo>
                <a:lnTo>
                  <a:pt x="0" y="1140"/>
                </a:lnTo>
                <a:lnTo>
                  <a:pt x="2" y="1138"/>
                </a:lnTo>
                <a:lnTo>
                  <a:pt x="2" y="1136"/>
                </a:lnTo>
                <a:lnTo>
                  <a:pt x="4" y="1134"/>
                </a:lnTo>
                <a:lnTo>
                  <a:pt x="6" y="1130"/>
                </a:lnTo>
                <a:lnTo>
                  <a:pt x="8" y="1126"/>
                </a:lnTo>
                <a:lnTo>
                  <a:pt x="12" y="1122"/>
                </a:lnTo>
                <a:lnTo>
                  <a:pt x="16" y="1119"/>
                </a:lnTo>
                <a:lnTo>
                  <a:pt x="20" y="1115"/>
                </a:lnTo>
                <a:lnTo>
                  <a:pt x="25" y="1109"/>
                </a:lnTo>
                <a:lnTo>
                  <a:pt x="31" y="1105"/>
                </a:lnTo>
                <a:lnTo>
                  <a:pt x="37" y="1099"/>
                </a:lnTo>
                <a:lnTo>
                  <a:pt x="43" y="1094"/>
                </a:lnTo>
                <a:lnTo>
                  <a:pt x="50" y="1088"/>
                </a:lnTo>
                <a:lnTo>
                  <a:pt x="58" y="1080"/>
                </a:lnTo>
                <a:lnTo>
                  <a:pt x="66" y="1074"/>
                </a:lnTo>
                <a:lnTo>
                  <a:pt x="75" y="1067"/>
                </a:lnTo>
                <a:lnTo>
                  <a:pt x="85" y="1059"/>
                </a:lnTo>
                <a:lnTo>
                  <a:pt x="94" y="1051"/>
                </a:lnTo>
                <a:lnTo>
                  <a:pt x="106" y="1044"/>
                </a:lnTo>
                <a:lnTo>
                  <a:pt x="116" y="1036"/>
                </a:lnTo>
                <a:lnTo>
                  <a:pt x="127" y="1026"/>
                </a:lnTo>
                <a:lnTo>
                  <a:pt x="141" y="1019"/>
                </a:lnTo>
                <a:lnTo>
                  <a:pt x="152" y="1009"/>
                </a:lnTo>
                <a:lnTo>
                  <a:pt x="165" y="1000"/>
                </a:lnTo>
                <a:lnTo>
                  <a:pt x="181" y="988"/>
                </a:lnTo>
                <a:lnTo>
                  <a:pt x="194" y="978"/>
                </a:lnTo>
                <a:lnTo>
                  <a:pt x="210" y="969"/>
                </a:lnTo>
                <a:lnTo>
                  <a:pt x="225" y="957"/>
                </a:lnTo>
                <a:lnTo>
                  <a:pt x="242" y="946"/>
                </a:lnTo>
                <a:lnTo>
                  <a:pt x="260" y="934"/>
                </a:lnTo>
                <a:lnTo>
                  <a:pt x="290" y="911"/>
                </a:lnTo>
                <a:lnTo>
                  <a:pt x="321" y="886"/>
                </a:lnTo>
                <a:lnTo>
                  <a:pt x="350" y="861"/>
                </a:lnTo>
                <a:lnTo>
                  <a:pt x="379" y="835"/>
                </a:lnTo>
                <a:lnTo>
                  <a:pt x="407" y="808"/>
                </a:lnTo>
                <a:lnTo>
                  <a:pt x="434" y="781"/>
                </a:lnTo>
                <a:lnTo>
                  <a:pt x="461" y="752"/>
                </a:lnTo>
                <a:lnTo>
                  <a:pt x="486" y="723"/>
                </a:lnTo>
                <a:lnTo>
                  <a:pt x="509" y="694"/>
                </a:lnTo>
                <a:lnTo>
                  <a:pt x="534" y="664"/>
                </a:lnTo>
                <a:lnTo>
                  <a:pt x="555" y="633"/>
                </a:lnTo>
                <a:lnTo>
                  <a:pt x="576" y="600"/>
                </a:lnTo>
                <a:lnTo>
                  <a:pt x="595" y="570"/>
                </a:lnTo>
                <a:lnTo>
                  <a:pt x="615" y="535"/>
                </a:lnTo>
                <a:lnTo>
                  <a:pt x="632" y="502"/>
                </a:lnTo>
                <a:lnTo>
                  <a:pt x="649" y="468"/>
                </a:lnTo>
                <a:lnTo>
                  <a:pt x="657" y="451"/>
                </a:lnTo>
                <a:lnTo>
                  <a:pt x="665" y="433"/>
                </a:lnTo>
                <a:lnTo>
                  <a:pt x="670" y="418"/>
                </a:lnTo>
                <a:lnTo>
                  <a:pt x="678" y="403"/>
                </a:lnTo>
                <a:lnTo>
                  <a:pt x="684" y="387"/>
                </a:lnTo>
                <a:lnTo>
                  <a:pt x="691" y="372"/>
                </a:lnTo>
                <a:lnTo>
                  <a:pt x="697" y="358"/>
                </a:lnTo>
                <a:lnTo>
                  <a:pt x="703" y="345"/>
                </a:lnTo>
                <a:lnTo>
                  <a:pt x="709" y="332"/>
                </a:lnTo>
                <a:lnTo>
                  <a:pt x="714" y="320"/>
                </a:lnTo>
                <a:lnTo>
                  <a:pt x="718" y="307"/>
                </a:lnTo>
                <a:lnTo>
                  <a:pt x="724" y="295"/>
                </a:lnTo>
                <a:lnTo>
                  <a:pt x="728" y="286"/>
                </a:lnTo>
                <a:lnTo>
                  <a:pt x="732" y="274"/>
                </a:lnTo>
                <a:lnTo>
                  <a:pt x="736" y="264"/>
                </a:lnTo>
                <a:lnTo>
                  <a:pt x="739" y="255"/>
                </a:lnTo>
                <a:lnTo>
                  <a:pt x="743" y="245"/>
                </a:lnTo>
                <a:lnTo>
                  <a:pt x="745" y="238"/>
                </a:lnTo>
                <a:lnTo>
                  <a:pt x="749" y="230"/>
                </a:lnTo>
                <a:lnTo>
                  <a:pt x="751" y="222"/>
                </a:lnTo>
                <a:lnTo>
                  <a:pt x="753" y="215"/>
                </a:lnTo>
                <a:lnTo>
                  <a:pt x="755" y="209"/>
                </a:lnTo>
                <a:lnTo>
                  <a:pt x="757" y="203"/>
                </a:lnTo>
                <a:lnTo>
                  <a:pt x="759" y="197"/>
                </a:lnTo>
                <a:lnTo>
                  <a:pt x="759" y="193"/>
                </a:lnTo>
                <a:lnTo>
                  <a:pt x="761" y="188"/>
                </a:lnTo>
                <a:lnTo>
                  <a:pt x="761" y="184"/>
                </a:lnTo>
                <a:lnTo>
                  <a:pt x="761" y="182"/>
                </a:lnTo>
                <a:lnTo>
                  <a:pt x="761" y="178"/>
                </a:lnTo>
                <a:lnTo>
                  <a:pt x="761" y="176"/>
                </a:lnTo>
                <a:lnTo>
                  <a:pt x="759" y="174"/>
                </a:lnTo>
                <a:lnTo>
                  <a:pt x="759" y="172"/>
                </a:lnTo>
                <a:lnTo>
                  <a:pt x="757" y="170"/>
                </a:lnTo>
                <a:lnTo>
                  <a:pt x="755" y="170"/>
                </a:lnTo>
                <a:lnTo>
                  <a:pt x="753" y="168"/>
                </a:lnTo>
                <a:lnTo>
                  <a:pt x="749" y="168"/>
                </a:lnTo>
                <a:lnTo>
                  <a:pt x="745" y="167"/>
                </a:lnTo>
                <a:lnTo>
                  <a:pt x="741" y="167"/>
                </a:lnTo>
                <a:lnTo>
                  <a:pt x="736" y="167"/>
                </a:lnTo>
                <a:lnTo>
                  <a:pt x="732" y="165"/>
                </a:lnTo>
                <a:lnTo>
                  <a:pt x="726" y="165"/>
                </a:lnTo>
                <a:lnTo>
                  <a:pt x="718" y="165"/>
                </a:lnTo>
                <a:lnTo>
                  <a:pt x="713" y="163"/>
                </a:lnTo>
                <a:lnTo>
                  <a:pt x="705" y="163"/>
                </a:lnTo>
                <a:lnTo>
                  <a:pt x="695" y="163"/>
                </a:lnTo>
                <a:lnTo>
                  <a:pt x="688" y="163"/>
                </a:lnTo>
                <a:lnTo>
                  <a:pt x="678" y="161"/>
                </a:lnTo>
                <a:lnTo>
                  <a:pt x="668" y="161"/>
                </a:lnTo>
                <a:lnTo>
                  <a:pt x="659" y="161"/>
                </a:lnTo>
                <a:lnTo>
                  <a:pt x="647" y="161"/>
                </a:lnTo>
                <a:lnTo>
                  <a:pt x="636" y="161"/>
                </a:lnTo>
                <a:lnTo>
                  <a:pt x="624" y="161"/>
                </a:lnTo>
                <a:lnTo>
                  <a:pt x="611" y="161"/>
                </a:lnTo>
                <a:lnTo>
                  <a:pt x="599" y="161"/>
                </a:lnTo>
                <a:lnTo>
                  <a:pt x="586" y="161"/>
                </a:lnTo>
                <a:lnTo>
                  <a:pt x="570" y="161"/>
                </a:lnTo>
                <a:lnTo>
                  <a:pt x="557" y="161"/>
                </a:lnTo>
                <a:lnTo>
                  <a:pt x="542" y="161"/>
                </a:lnTo>
                <a:lnTo>
                  <a:pt x="526" y="161"/>
                </a:lnTo>
                <a:lnTo>
                  <a:pt x="511" y="161"/>
                </a:lnTo>
                <a:lnTo>
                  <a:pt x="494" y="161"/>
                </a:lnTo>
                <a:lnTo>
                  <a:pt x="476" y="161"/>
                </a:lnTo>
                <a:lnTo>
                  <a:pt x="459" y="161"/>
                </a:lnTo>
                <a:lnTo>
                  <a:pt x="442" y="161"/>
                </a:lnTo>
                <a:lnTo>
                  <a:pt x="442" y="117"/>
                </a:lnTo>
                <a:lnTo>
                  <a:pt x="442" y="7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reeform 26"/>
          <p:cNvSpPr/>
          <p:nvPr/>
        </p:nvSpPr>
        <p:spPr>
          <a:xfrm>
            <a:off x="5857920" y="4029120"/>
            <a:ext cx="833400" cy="876240"/>
          </a:xfrm>
          <a:custGeom>
            <a:avLst/>
            <a:gdLst/>
            <a:ahLst/>
            <a:rect l="l" t="t" r="r" b="b"/>
            <a:pathLst>
              <a:path w="1050" h="1106">
                <a:moveTo>
                  <a:pt x="208" y="1029"/>
                </a:moveTo>
                <a:lnTo>
                  <a:pt x="185" y="1040"/>
                </a:lnTo>
                <a:lnTo>
                  <a:pt x="162" y="1050"/>
                </a:lnTo>
                <a:lnTo>
                  <a:pt x="140" y="1060"/>
                </a:lnTo>
                <a:lnTo>
                  <a:pt x="121" y="1069"/>
                </a:lnTo>
                <a:lnTo>
                  <a:pt x="104" y="1077"/>
                </a:lnTo>
                <a:lnTo>
                  <a:pt x="87" y="1083"/>
                </a:lnTo>
                <a:lnTo>
                  <a:pt x="73" y="1088"/>
                </a:lnTo>
                <a:lnTo>
                  <a:pt x="60" y="1094"/>
                </a:lnTo>
                <a:lnTo>
                  <a:pt x="46" y="1098"/>
                </a:lnTo>
                <a:lnTo>
                  <a:pt x="37" y="1102"/>
                </a:lnTo>
                <a:lnTo>
                  <a:pt x="27" y="1104"/>
                </a:lnTo>
                <a:lnTo>
                  <a:pt x="20" y="1106"/>
                </a:lnTo>
                <a:lnTo>
                  <a:pt x="14" y="1106"/>
                </a:lnTo>
                <a:lnTo>
                  <a:pt x="8" y="1106"/>
                </a:lnTo>
                <a:lnTo>
                  <a:pt x="4" y="1104"/>
                </a:lnTo>
                <a:lnTo>
                  <a:pt x="0" y="1102"/>
                </a:lnTo>
                <a:lnTo>
                  <a:pt x="0" y="1100"/>
                </a:lnTo>
                <a:lnTo>
                  <a:pt x="0" y="1098"/>
                </a:lnTo>
                <a:lnTo>
                  <a:pt x="0" y="1094"/>
                </a:lnTo>
                <a:lnTo>
                  <a:pt x="2" y="1092"/>
                </a:lnTo>
                <a:lnTo>
                  <a:pt x="4" y="1088"/>
                </a:lnTo>
                <a:lnTo>
                  <a:pt x="6" y="1086"/>
                </a:lnTo>
                <a:lnTo>
                  <a:pt x="10" y="1083"/>
                </a:lnTo>
                <a:lnTo>
                  <a:pt x="14" y="1079"/>
                </a:lnTo>
                <a:lnTo>
                  <a:pt x="18" y="1073"/>
                </a:lnTo>
                <a:lnTo>
                  <a:pt x="21" y="1069"/>
                </a:lnTo>
                <a:lnTo>
                  <a:pt x="27" y="1063"/>
                </a:lnTo>
                <a:lnTo>
                  <a:pt x="33" y="1060"/>
                </a:lnTo>
                <a:lnTo>
                  <a:pt x="39" y="1054"/>
                </a:lnTo>
                <a:lnTo>
                  <a:pt x="46" y="1048"/>
                </a:lnTo>
                <a:lnTo>
                  <a:pt x="54" y="1042"/>
                </a:lnTo>
                <a:lnTo>
                  <a:pt x="62" y="1035"/>
                </a:lnTo>
                <a:lnTo>
                  <a:pt x="69" y="1029"/>
                </a:lnTo>
                <a:lnTo>
                  <a:pt x="77" y="1021"/>
                </a:lnTo>
                <a:lnTo>
                  <a:pt x="87" y="1013"/>
                </a:lnTo>
                <a:lnTo>
                  <a:pt x="106" y="998"/>
                </a:lnTo>
                <a:lnTo>
                  <a:pt x="129" y="983"/>
                </a:lnTo>
                <a:lnTo>
                  <a:pt x="152" y="964"/>
                </a:lnTo>
                <a:lnTo>
                  <a:pt x="177" y="946"/>
                </a:lnTo>
                <a:lnTo>
                  <a:pt x="204" y="925"/>
                </a:lnTo>
                <a:lnTo>
                  <a:pt x="233" y="906"/>
                </a:lnTo>
                <a:lnTo>
                  <a:pt x="261" y="885"/>
                </a:lnTo>
                <a:lnTo>
                  <a:pt x="290" y="862"/>
                </a:lnTo>
                <a:lnTo>
                  <a:pt x="319" y="841"/>
                </a:lnTo>
                <a:lnTo>
                  <a:pt x="346" y="818"/>
                </a:lnTo>
                <a:lnTo>
                  <a:pt x="375" y="795"/>
                </a:lnTo>
                <a:lnTo>
                  <a:pt x="401" y="772"/>
                </a:lnTo>
                <a:lnTo>
                  <a:pt x="426" y="747"/>
                </a:lnTo>
                <a:lnTo>
                  <a:pt x="451" y="724"/>
                </a:lnTo>
                <a:lnTo>
                  <a:pt x="476" y="699"/>
                </a:lnTo>
                <a:lnTo>
                  <a:pt x="501" y="672"/>
                </a:lnTo>
                <a:lnTo>
                  <a:pt x="526" y="647"/>
                </a:lnTo>
                <a:lnTo>
                  <a:pt x="549" y="620"/>
                </a:lnTo>
                <a:lnTo>
                  <a:pt x="570" y="595"/>
                </a:lnTo>
                <a:lnTo>
                  <a:pt x="593" y="568"/>
                </a:lnTo>
                <a:lnTo>
                  <a:pt x="615" y="539"/>
                </a:lnTo>
                <a:lnTo>
                  <a:pt x="636" y="513"/>
                </a:lnTo>
                <a:lnTo>
                  <a:pt x="653" y="486"/>
                </a:lnTo>
                <a:lnTo>
                  <a:pt x="670" y="459"/>
                </a:lnTo>
                <a:lnTo>
                  <a:pt x="686" y="434"/>
                </a:lnTo>
                <a:lnTo>
                  <a:pt x="701" y="409"/>
                </a:lnTo>
                <a:lnTo>
                  <a:pt x="714" y="386"/>
                </a:lnTo>
                <a:lnTo>
                  <a:pt x="730" y="363"/>
                </a:lnTo>
                <a:lnTo>
                  <a:pt x="741" y="340"/>
                </a:lnTo>
                <a:lnTo>
                  <a:pt x="753" y="321"/>
                </a:lnTo>
                <a:lnTo>
                  <a:pt x="764" y="299"/>
                </a:lnTo>
                <a:lnTo>
                  <a:pt x="776" y="282"/>
                </a:lnTo>
                <a:lnTo>
                  <a:pt x="783" y="265"/>
                </a:lnTo>
                <a:lnTo>
                  <a:pt x="793" y="248"/>
                </a:lnTo>
                <a:lnTo>
                  <a:pt x="801" y="232"/>
                </a:lnTo>
                <a:lnTo>
                  <a:pt x="806" y="219"/>
                </a:lnTo>
                <a:lnTo>
                  <a:pt x="812" y="205"/>
                </a:lnTo>
                <a:lnTo>
                  <a:pt x="818" y="192"/>
                </a:lnTo>
                <a:lnTo>
                  <a:pt x="822" y="171"/>
                </a:lnTo>
                <a:lnTo>
                  <a:pt x="824" y="150"/>
                </a:lnTo>
                <a:lnTo>
                  <a:pt x="826" y="140"/>
                </a:lnTo>
                <a:lnTo>
                  <a:pt x="826" y="131"/>
                </a:lnTo>
                <a:lnTo>
                  <a:pt x="828" y="121"/>
                </a:lnTo>
                <a:lnTo>
                  <a:pt x="828" y="113"/>
                </a:lnTo>
                <a:lnTo>
                  <a:pt x="828" y="106"/>
                </a:lnTo>
                <a:lnTo>
                  <a:pt x="826" y="98"/>
                </a:lnTo>
                <a:lnTo>
                  <a:pt x="826" y="92"/>
                </a:lnTo>
                <a:lnTo>
                  <a:pt x="826" y="86"/>
                </a:lnTo>
                <a:lnTo>
                  <a:pt x="824" y="81"/>
                </a:lnTo>
                <a:lnTo>
                  <a:pt x="822" y="77"/>
                </a:lnTo>
                <a:lnTo>
                  <a:pt x="820" y="73"/>
                </a:lnTo>
                <a:lnTo>
                  <a:pt x="818" y="69"/>
                </a:lnTo>
                <a:lnTo>
                  <a:pt x="814" y="67"/>
                </a:lnTo>
                <a:lnTo>
                  <a:pt x="810" y="65"/>
                </a:lnTo>
                <a:lnTo>
                  <a:pt x="806" y="61"/>
                </a:lnTo>
                <a:lnTo>
                  <a:pt x="805" y="58"/>
                </a:lnTo>
                <a:lnTo>
                  <a:pt x="803" y="56"/>
                </a:lnTo>
                <a:lnTo>
                  <a:pt x="801" y="52"/>
                </a:lnTo>
                <a:lnTo>
                  <a:pt x="801" y="48"/>
                </a:lnTo>
                <a:lnTo>
                  <a:pt x="799" y="44"/>
                </a:lnTo>
                <a:lnTo>
                  <a:pt x="801" y="40"/>
                </a:lnTo>
                <a:lnTo>
                  <a:pt x="801" y="35"/>
                </a:lnTo>
                <a:lnTo>
                  <a:pt x="803" y="31"/>
                </a:lnTo>
                <a:lnTo>
                  <a:pt x="805" y="27"/>
                </a:lnTo>
                <a:lnTo>
                  <a:pt x="806" y="21"/>
                </a:lnTo>
                <a:lnTo>
                  <a:pt x="810" y="17"/>
                </a:lnTo>
                <a:lnTo>
                  <a:pt x="814" y="13"/>
                </a:lnTo>
                <a:lnTo>
                  <a:pt x="818" y="8"/>
                </a:lnTo>
                <a:lnTo>
                  <a:pt x="824" y="6"/>
                </a:lnTo>
                <a:lnTo>
                  <a:pt x="828" y="4"/>
                </a:lnTo>
                <a:lnTo>
                  <a:pt x="833" y="2"/>
                </a:lnTo>
                <a:lnTo>
                  <a:pt x="841" y="2"/>
                </a:lnTo>
                <a:lnTo>
                  <a:pt x="847" y="0"/>
                </a:lnTo>
                <a:lnTo>
                  <a:pt x="854" y="0"/>
                </a:lnTo>
                <a:lnTo>
                  <a:pt x="862" y="0"/>
                </a:lnTo>
                <a:lnTo>
                  <a:pt x="872" y="2"/>
                </a:lnTo>
                <a:lnTo>
                  <a:pt x="879" y="4"/>
                </a:lnTo>
                <a:lnTo>
                  <a:pt x="889" y="6"/>
                </a:lnTo>
                <a:lnTo>
                  <a:pt x="899" y="8"/>
                </a:lnTo>
                <a:lnTo>
                  <a:pt x="908" y="12"/>
                </a:lnTo>
                <a:lnTo>
                  <a:pt x="920" y="15"/>
                </a:lnTo>
                <a:lnTo>
                  <a:pt x="929" y="21"/>
                </a:lnTo>
                <a:lnTo>
                  <a:pt x="941" y="27"/>
                </a:lnTo>
                <a:lnTo>
                  <a:pt x="952" y="33"/>
                </a:lnTo>
                <a:lnTo>
                  <a:pt x="962" y="40"/>
                </a:lnTo>
                <a:lnTo>
                  <a:pt x="973" y="46"/>
                </a:lnTo>
                <a:lnTo>
                  <a:pt x="983" y="52"/>
                </a:lnTo>
                <a:lnTo>
                  <a:pt x="991" y="58"/>
                </a:lnTo>
                <a:lnTo>
                  <a:pt x="998" y="63"/>
                </a:lnTo>
                <a:lnTo>
                  <a:pt x="1006" y="69"/>
                </a:lnTo>
                <a:lnTo>
                  <a:pt x="1012" y="75"/>
                </a:lnTo>
                <a:lnTo>
                  <a:pt x="1020" y="81"/>
                </a:lnTo>
                <a:lnTo>
                  <a:pt x="1023" y="86"/>
                </a:lnTo>
                <a:lnTo>
                  <a:pt x="1029" y="90"/>
                </a:lnTo>
                <a:lnTo>
                  <a:pt x="1033" y="96"/>
                </a:lnTo>
                <a:lnTo>
                  <a:pt x="1037" y="100"/>
                </a:lnTo>
                <a:lnTo>
                  <a:pt x="1044" y="109"/>
                </a:lnTo>
                <a:lnTo>
                  <a:pt x="1050" y="119"/>
                </a:lnTo>
                <a:lnTo>
                  <a:pt x="1048" y="125"/>
                </a:lnTo>
                <a:lnTo>
                  <a:pt x="1046" y="132"/>
                </a:lnTo>
                <a:lnTo>
                  <a:pt x="1043" y="140"/>
                </a:lnTo>
                <a:lnTo>
                  <a:pt x="1039" y="152"/>
                </a:lnTo>
                <a:lnTo>
                  <a:pt x="1031" y="163"/>
                </a:lnTo>
                <a:lnTo>
                  <a:pt x="1023" y="177"/>
                </a:lnTo>
                <a:lnTo>
                  <a:pt x="1016" y="194"/>
                </a:lnTo>
                <a:lnTo>
                  <a:pt x="1004" y="211"/>
                </a:lnTo>
                <a:lnTo>
                  <a:pt x="993" y="230"/>
                </a:lnTo>
                <a:lnTo>
                  <a:pt x="981" y="251"/>
                </a:lnTo>
                <a:lnTo>
                  <a:pt x="966" y="275"/>
                </a:lnTo>
                <a:lnTo>
                  <a:pt x="950" y="298"/>
                </a:lnTo>
                <a:lnTo>
                  <a:pt x="935" y="324"/>
                </a:lnTo>
                <a:lnTo>
                  <a:pt x="918" y="353"/>
                </a:lnTo>
                <a:lnTo>
                  <a:pt x="899" y="382"/>
                </a:lnTo>
                <a:lnTo>
                  <a:pt x="879" y="415"/>
                </a:lnTo>
                <a:lnTo>
                  <a:pt x="858" y="447"/>
                </a:lnTo>
                <a:lnTo>
                  <a:pt x="839" y="480"/>
                </a:lnTo>
                <a:lnTo>
                  <a:pt x="818" y="513"/>
                </a:lnTo>
                <a:lnTo>
                  <a:pt x="797" y="541"/>
                </a:lnTo>
                <a:lnTo>
                  <a:pt x="778" y="570"/>
                </a:lnTo>
                <a:lnTo>
                  <a:pt x="757" y="597"/>
                </a:lnTo>
                <a:lnTo>
                  <a:pt x="735" y="622"/>
                </a:lnTo>
                <a:lnTo>
                  <a:pt x="716" y="647"/>
                </a:lnTo>
                <a:lnTo>
                  <a:pt x="695" y="670"/>
                </a:lnTo>
                <a:lnTo>
                  <a:pt x="676" y="691"/>
                </a:lnTo>
                <a:lnTo>
                  <a:pt x="657" y="710"/>
                </a:lnTo>
                <a:lnTo>
                  <a:pt x="638" y="729"/>
                </a:lnTo>
                <a:lnTo>
                  <a:pt x="618" y="749"/>
                </a:lnTo>
                <a:lnTo>
                  <a:pt x="599" y="766"/>
                </a:lnTo>
                <a:lnTo>
                  <a:pt x="580" y="781"/>
                </a:lnTo>
                <a:lnTo>
                  <a:pt x="563" y="795"/>
                </a:lnTo>
                <a:lnTo>
                  <a:pt x="544" y="812"/>
                </a:lnTo>
                <a:lnTo>
                  <a:pt x="524" y="827"/>
                </a:lnTo>
                <a:lnTo>
                  <a:pt x="505" y="843"/>
                </a:lnTo>
                <a:lnTo>
                  <a:pt x="484" y="858"/>
                </a:lnTo>
                <a:lnTo>
                  <a:pt x="465" y="873"/>
                </a:lnTo>
                <a:lnTo>
                  <a:pt x="442" y="887"/>
                </a:lnTo>
                <a:lnTo>
                  <a:pt x="421" y="902"/>
                </a:lnTo>
                <a:lnTo>
                  <a:pt x="400" y="916"/>
                </a:lnTo>
                <a:lnTo>
                  <a:pt x="353" y="944"/>
                </a:lnTo>
                <a:lnTo>
                  <a:pt x="306" y="973"/>
                </a:lnTo>
                <a:lnTo>
                  <a:pt x="258" y="1000"/>
                </a:lnTo>
                <a:lnTo>
                  <a:pt x="208" y="10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27"/>
          <p:cNvSpPr/>
          <p:nvPr/>
        </p:nvSpPr>
        <p:spPr>
          <a:xfrm>
            <a:off x="6824520" y="3784680"/>
            <a:ext cx="349560" cy="328680"/>
          </a:xfrm>
          <a:custGeom>
            <a:avLst/>
            <a:gdLst/>
            <a:ahLst/>
            <a:rect l="l" t="t" r="r" b="b"/>
            <a:pathLst>
              <a:path w="442" h="415">
                <a:moveTo>
                  <a:pt x="161" y="33"/>
                </a:moveTo>
                <a:lnTo>
                  <a:pt x="183" y="38"/>
                </a:lnTo>
                <a:lnTo>
                  <a:pt x="202" y="42"/>
                </a:lnTo>
                <a:lnTo>
                  <a:pt x="219" y="48"/>
                </a:lnTo>
                <a:lnTo>
                  <a:pt x="236" y="54"/>
                </a:lnTo>
                <a:lnTo>
                  <a:pt x="254" y="59"/>
                </a:lnTo>
                <a:lnTo>
                  <a:pt x="269" y="65"/>
                </a:lnTo>
                <a:lnTo>
                  <a:pt x="284" y="71"/>
                </a:lnTo>
                <a:lnTo>
                  <a:pt x="300" y="79"/>
                </a:lnTo>
                <a:lnTo>
                  <a:pt x="313" y="86"/>
                </a:lnTo>
                <a:lnTo>
                  <a:pt x="325" y="92"/>
                </a:lnTo>
                <a:lnTo>
                  <a:pt x="336" y="100"/>
                </a:lnTo>
                <a:lnTo>
                  <a:pt x="348" y="109"/>
                </a:lnTo>
                <a:lnTo>
                  <a:pt x="357" y="117"/>
                </a:lnTo>
                <a:lnTo>
                  <a:pt x="365" y="125"/>
                </a:lnTo>
                <a:lnTo>
                  <a:pt x="375" y="134"/>
                </a:lnTo>
                <a:lnTo>
                  <a:pt x="380" y="144"/>
                </a:lnTo>
                <a:lnTo>
                  <a:pt x="394" y="165"/>
                </a:lnTo>
                <a:lnTo>
                  <a:pt x="405" y="186"/>
                </a:lnTo>
                <a:lnTo>
                  <a:pt x="417" y="207"/>
                </a:lnTo>
                <a:lnTo>
                  <a:pt x="424" y="226"/>
                </a:lnTo>
                <a:lnTo>
                  <a:pt x="432" y="244"/>
                </a:lnTo>
                <a:lnTo>
                  <a:pt x="434" y="253"/>
                </a:lnTo>
                <a:lnTo>
                  <a:pt x="438" y="261"/>
                </a:lnTo>
                <a:lnTo>
                  <a:pt x="440" y="269"/>
                </a:lnTo>
                <a:lnTo>
                  <a:pt x="440" y="276"/>
                </a:lnTo>
                <a:lnTo>
                  <a:pt x="442" y="284"/>
                </a:lnTo>
                <a:lnTo>
                  <a:pt x="442" y="292"/>
                </a:lnTo>
                <a:lnTo>
                  <a:pt x="442" y="305"/>
                </a:lnTo>
                <a:lnTo>
                  <a:pt x="440" y="319"/>
                </a:lnTo>
                <a:lnTo>
                  <a:pt x="438" y="330"/>
                </a:lnTo>
                <a:lnTo>
                  <a:pt x="434" y="344"/>
                </a:lnTo>
                <a:lnTo>
                  <a:pt x="430" y="353"/>
                </a:lnTo>
                <a:lnTo>
                  <a:pt x="426" y="363"/>
                </a:lnTo>
                <a:lnTo>
                  <a:pt x="424" y="367"/>
                </a:lnTo>
                <a:lnTo>
                  <a:pt x="423" y="370"/>
                </a:lnTo>
                <a:lnTo>
                  <a:pt x="421" y="374"/>
                </a:lnTo>
                <a:lnTo>
                  <a:pt x="419" y="376"/>
                </a:lnTo>
                <a:lnTo>
                  <a:pt x="409" y="386"/>
                </a:lnTo>
                <a:lnTo>
                  <a:pt x="399" y="393"/>
                </a:lnTo>
                <a:lnTo>
                  <a:pt x="392" y="399"/>
                </a:lnTo>
                <a:lnTo>
                  <a:pt x="382" y="405"/>
                </a:lnTo>
                <a:lnTo>
                  <a:pt x="375" y="409"/>
                </a:lnTo>
                <a:lnTo>
                  <a:pt x="369" y="411"/>
                </a:lnTo>
                <a:lnTo>
                  <a:pt x="361" y="413"/>
                </a:lnTo>
                <a:lnTo>
                  <a:pt x="357" y="415"/>
                </a:lnTo>
                <a:lnTo>
                  <a:pt x="353" y="413"/>
                </a:lnTo>
                <a:lnTo>
                  <a:pt x="350" y="413"/>
                </a:lnTo>
                <a:lnTo>
                  <a:pt x="346" y="409"/>
                </a:lnTo>
                <a:lnTo>
                  <a:pt x="340" y="407"/>
                </a:lnTo>
                <a:lnTo>
                  <a:pt x="334" y="403"/>
                </a:lnTo>
                <a:lnTo>
                  <a:pt x="328" y="397"/>
                </a:lnTo>
                <a:lnTo>
                  <a:pt x="321" y="391"/>
                </a:lnTo>
                <a:lnTo>
                  <a:pt x="311" y="384"/>
                </a:lnTo>
                <a:lnTo>
                  <a:pt x="304" y="376"/>
                </a:lnTo>
                <a:lnTo>
                  <a:pt x="294" y="368"/>
                </a:lnTo>
                <a:lnTo>
                  <a:pt x="282" y="357"/>
                </a:lnTo>
                <a:lnTo>
                  <a:pt x="273" y="347"/>
                </a:lnTo>
                <a:lnTo>
                  <a:pt x="261" y="334"/>
                </a:lnTo>
                <a:lnTo>
                  <a:pt x="248" y="320"/>
                </a:lnTo>
                <a:lnTo>
                  <a:pt x="236" y="307"/>
                </a:lnTo>
                <a:lnTo>
                  <a:pt x="223" y="292"/>
                </a:lnTo>
                <a:lnTo>
                  <a:pt x="208" y="274"/>
                </a:lnTo>
                <a:lnTo>
                  <a:pt x="192" y="259"/>
                </a:lnTo>
                <a:lnTo>
                  <a:pt x="179" y="246"/>
                </a:lnTo>
                <a:lnTo>
                  <a:pt x="165" y="230"/>
                </a:lnTo>
                <a:lnTo>
                  <a:pt x="152" y="217"/>
                </a:lnTo>
                <a:lnTo>
                  <a:pt x="140" y="203"/>
                </a:lnTo>
                <a:lnTo>
                  <a:pt x="129" y="192"/>
                </a:lnTo>
                <a:lnTo>
                  <a:pt x="119" y="180"/>
                </a:lnTo>
                <a:lnTo>
                  <a:pt x="110" y="169"/>
                </a:lnTo>
                <a:lnTo>
                  <a:pt x="100" y="157"/>
                </a:lnTo>
                <a:lnTo>
                  <a:pt x="90" y="148"/>
                </a:lnTo>
                <a:lnTo>
                  <a:pt x="83" y="138"/>
                </a:lnTo>
                <a:lnTo>
                  <a:pt x="73" y="130"/>
                </a:lnTo>
                <a:lnTo>
                  <a:pt x="65" y="121"/>
                </a:lnTo>
                <a:lnTo>
                  <a:pt x="58" y="113"/>
                </a:lnTo>
                <a:lnTo>
                  <a:pt x="52" y="107"/>
                </a:lnTo>
                <a:lnTo>
                  <a:pt x="39" y="92"/>
                </a:lnTo>
                <a:lnTo>
                  <a:pt x="27" y="79"/>
                </a:lnTo>
                <a:lnTo>
                  <a:pt x="21" y="73"/>
                </a:lnTo>
                <a:lnTo>
                  <a:pt x="18" y="65"/>
                </a:lnTo>
                <a:lnTo>
                  <a:pt x="14" y="59"/>
                </a:lnTo>
                <a:lnTo>
                  <a:pt x="10" y="52"/>
                </a:lnTo>
                <a:lnTo>
                  <a:pt x="6" y="46"/>
                </a:lnTo>
                <a:lnTo>
                  <a:pt x="4" y="40"/>
                </a:lnTo>
                <a:lnTo>
                  <a:pt x="2" y="34"/>
                </a:lnTo>
                <a:lnTo>
                  <a:pt x="0" y="29"/>
                </a:lnTo>
                <a:lnTo>
                  <a:pt x="0" y="23"/>
                </a:lnTo>
                <a:lnTo>
                  <a:pt x="0" y="17"/>
                </a:lnTo>
                <a:lnTo>
                  <a:pt x="2" y="13"/>
                </a:lnTo>
                <a:lnTo>
                  <a:pt x="4" y="8"/>
                </a:lnTo>
                <a:lnTo>
                  <a:pt x="4" y="6"/>
                </a:lnTo>
                <a:lnTo>
                  <a:pt x="6" y="4"/>
                </a:lnTo>
                <a:lnTo>
                  <a:pt x="8" y="2"/>
                </a:lnTo>
                <a:lnTo>
                  <a:pt x="12" y="2"/>
                </a:lnTo>
                <a:lnTo>
                  <a:pt x="18" y="0"/>
                </a:lnTo>
                <a:lnTo>
                  <a:pt x="25" y="0"/>
                </a:lnTo>
                <a:lnTo>
                  <a:pt x="33" y="0"/>
                </a:lnTo>
                <a:lnTo>
                  <a:pt x="41" y="2"/>
                </a:lnTo>
                <a:lnTo>
                  <a:pt x="52" y="4"/>
                </a:lnTo>
                <a:lnTo>
                  <a:pt x="64" y="6"/>
                </a:lnTo>
                <a:lnTo>
                  <a:pt x="77" y="8"/>
                </a:lnTo>
                <a:lnTo>
                  <a:pt x="90" y="11"/>
                </a:lnTo>
                <a:lnTo>
                  <a:pt x="106" y="15"/>
                </a:lnTo>
                <a:lnTo>
                  <a:pt x="123" y="21"/>
                </a:lnTo>
                <a:lnTo>
                  <a:pt x="142" y="27"/>
                </a:lnTo>
                <a:lnTo>
                  <a:pt x="161" y="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reeform 28"/>
          <p:cNvSpPr/>
          <p:nvPr/>
        </p:nvSpPr>
        <p:spPr>
          <a:xfrm>
            <a:off x="6089760" y="3807000"/>
            <a:ext cx="436320" cy="483840"/>
          </a:xfrm>
          <a:custGeom>
            <a:avLst/>
            <a:gdLst/>
            <a:ahLst/>
            <a:rect l="l" t="t" r="r" b="b"/>
            <a:pathLst>
              <a:path w="551" h="608">
                <a:moveTo>
                  <a:pt x="355" y="65"/>
                </a:moveTo>
                <a:lnTo>
                  <a:pt x="351" y="55"/>
                </a:lnTo>
                <a:lnTo>
                  <a:pt x="349" y="48"/>
                </a:lnTo>
                <a:lnTo>
                  <a:pt x="347" y="38"/>
                </a:lnTo>
                <a:lnTo>
                  <a:pt x="347" y="30"/>
                </a:lnTo>
                <a:lnTo>
                  <a:pt x="349" y="23"/>
                </a:lnTo>
                <a:lnTo>
                  <a:pt x="351" y="19"/>
                </a:lnTo>
                <a:lnTo>
                  <a:pt x="353" y="15"/>
                </a:lnTo>
                <a:lnTo>
                  <a:pt x="357" y="11"/>
                </a:lnTo>
                <a:lnTo>
                  <a:pt x="359" y="9"/>
                </a:lnTo>
                <a:lnTo>
                  <a:pt x="363" y="5"/>
                </a:lnTo>
                <a:lnTo>
                  <a:pt x="367" y="4"/>
                </a:lnTo>
                <a:lnTo>
                  <a:pt x="372" y="2"/>
                </a:lnTo>
                <a:lnTo>
                  <a:pt x="376" y="0"/>
                </a:lnTo>
                <a:lnTo>
                  <a:pt x="382" y="0"/>
                </a:lnTo>
                <a:lnTo>
                  <a:pt x="388" y="2"/>
                </a:lnTo>
                <a:lnTo>
                  <a:pt x="394" y="2"/>
                </a:lnTo>
                <a:lnTo>
                  <a:pt x="399" y="4"/>
                </a:lnTo>
                <a:lnTo>
                  <a:pt x="407" y="5"/>
                </a:lnTo>
                <a:lnTo>
                  <a:pt x="413" y="9"/>
                </a:lnTo>
                <a:lnTo>
                  <a:pt x="420" y="13"/>
                </a:lnTo>
                <a:lnTo>
                  <a:pt x="428" y="17"/>
                </a:lnTo>
                <a:lnTo>
                  <a:pt x="436" y="23"/>
                </a:lnTo>
                <a:lnTo>
                  <a:pt x="443" y="27"/>
                </a:lnTo>
                <a:lnTo>
                  <a:pt x="459" y="40"/>
                </a:lnTo>
                <a:lnTo>
                  <a:pt x="478" y="53"/>
                </a:lnTo>
                <a:lnTo>
                  <a:pt x="486" y="59"/>
                </a:lnTo>
                <a:lnTo>
                  <a:pt x="493" y="67"/>
                </a:lnTo>
                <a:lnTo>
                  <a:pt x="501" y="73"/>
                </a:lnTo>
                <a:lnTo>
                  <a:pt x="509" y="80"/>
                </a:lnTo>
                <a:lnTo>
                  <a:pt x="516" y="86"/>
                </a:lnTo>
                <a:lnTo>
                  <a:pt x="522" y="94"/>
                </a:lnTo>
                <a:lnTo>
                  <a:pt x="526" y="100"/>
                </a:lnTo>
                <a:lnTo>
                  <a:pt x="532" y="105"/>
                </a:lnTo>
                <a:lnTo>
                  <a:pt x="536" y="111"/>
                </a:lnTo>
                <a:lnTo>
                  <a:pt x="539" y="117"/>
                </a:lnTo>
                <a:lnTo>
                  <a:pt x="543" y="121"/>
                </a:lnTo>
                <a:lnTo>
                  <a:pt x="545" y="124"/>
                </a:lnTo>
                <a:lnTo>
                  <a:pt x="547" y="130"/>
                </a:lnTo>
                <a:lnTo>
                  <a:pt x="549" y="134"/>
                </a:lnTo>
                <a:lnTo>
                  <a:pt x="549" y="136"/>
                </a:lnTo>
                <a:lnTo>
                  <a:pt x="551" y="140"/>
                </a:lnTo>
                <a:lnTo>
                  <a:pt x="549" y="144"/>
                </a:lnTo>
                <a:lnTo>
                  <a:pt x="549" y="149"/>
                </a:lnTo>
                <a:lnTo>
                  <a:pt x="547" y="155"/>
                </a:lnTo>
                <a:lnTo>
                  <a:pt x="545" y="161"/>
                </a:lnTo>
                <a:lnTo>
                  <a:pt x="543" y="169"/>
                </a:lnTo>
                <a:lnTo>
                  <a:pt x="539" y="176"/>
                </a:lnTo>
                <a:lnTo>
                  <a:pt x="536" y="184"/>
                </a:lnTo>
                <a:lnTo>
                  <a:pt x="530" y="192"/>
                </a:lnTo>
                <a:lnTo>
                  <a:pt x="524" y="201"/>
                </a:lnTo>
                <a:lnTo>
                  <a:pt x="518" y="211"/>
                </a:lnTo>
                <a:lnTo>
                  <a:pt x="511" y="220"/>
                </a:lnTo>
                <a:lnTo>
                  <a:pt x="503" y="230"/>
                </a:lnTo>
                <a:lnTo>
                  <a:pt x="495" y="242"/>
                </a:lnTo>
                <a:lnTo>
                  <a:pt x="486" y="251"/>
                </a:lnTo>
                <a:lnTo>
                  <a:pt x="476" y="263"/>
                </a:lnTo>
                <a:lnTo>
                  <a:pt x="465" y="274"/>
                </a:lnTo>
                <a:lnTo>
                  <a:pt x="453" y="286"/>
                </a:lnTo>
                <a:lnTo>
                  <a:pt x="442" y="297"/>
                </a:lnTo>
                <a:lnTo>
                  <a:pt x="428" y="311"/>
                </a:lnTo>
                <a:lnTo>
                  <a:pt x="415" y="322"/>
                </a:lnTo>
                <a:lnTo>
                  <a:pt x="401" y="336"/>
                </a:lnTo>
                <a:lnTo>
                  <a:pt x="386" y="349"/>
                </a:lnTo>
                <a:lnTo>
                  <a:pt x="371" y="362"/>
                </a:lnTo>
                <a:lnTo>
                  <a:pt x="355" y="376"/>
                </a:lnTo>
                <a:lnTo>
                  <a:pt x="338" y="389"/>
                </a:lnTo>
                <a:lnTo>
                  <a:pt x="323" y="403"/>
                </a:lnTo>
                <a:lnTo>
                  <a:pt x="305" y="418"/>
                </a:lnTo>
                <a:lnTo>
                  <a:pt x="286" y="434"/>
                </a:lnTo>
                <a:lnTo>
                  <a:pt x="267" y="449"/>
                </a:lnTo>
                <a:lnTo>
                  <a:pt x="250" y="464"/>
                </a:lnTo>
                <a:lnTo>
                  <a:pt x="228" y="480"/>
                </a:lnTo>
                <a:lnTo>
                  <a:pt x="209" y="495"/>
                </a:lnTo>
                <a:lnTo>
                  <a:pt x="186" y="510"/>
                </a:lnTo>
                <a:lnTo>
                  <a:pt x="165" y="526"/>
                </a:lnTo>
                <a:lnTo>
                  <a:pt x="146" y="539"/>
                </a:lnTo>
                <a:lnTo>
                  <a:pt x="127" y="551"/>
                </a:lnTo>
                <a:lnTo>
                  <a:pt x="109" y="562"/>
                </a:lnTo>
                <a:lnTo>
                  <a:pt x="94" y="572"/>
                </a:lnTo>
                <a:lnTo>
                  <a:pt x="79" y="581"/>
                </a:lnTo>
                <a:lnTo>
                  <a:pt x="63" y="587"/>
                </a:lnTo>
                <a:lnTo>
                  <a:pt x="52" y="595"/>
                </a:lnTo>
                <a:lnTo>
                  <a:pt x="40" y="599"/>
                </a:lnTo>
                <a:lnTo>
                  <a:pt x="31" y="602"/>
                </a:lnTo>
                <a:lnTo>
                  <a:pt x="21" y="606"/>
                </a:lnTo>
                <a:lnTo>
                  <a:pt x="15" y="608"/>
                </a:lnTo>
                <a:lnTo>
                  <a:pt x="10" y="608"/>
                </a:lnTo>
                <a:lnTo>
                  <a:pt x="4" y="608"/>
                </a:lnTo>
                <a:lnTo>
                  <a:pt x="2" y="606"/>
                </a:lnTo>
                <a:lnTo>
                  <a:pt x="0" y="602"/>
                </a:lnTo>
                <a:lnTo>
                  <a:pt x="0" y="599"/>
                </a:lnTo>
                <a:lnTo>
                  <a:pt x="0" y="595"/>
                </a:lnTo>
                <a:lnTo>
                  <a:pt x="2" y="589"/>
                </a:lnTo>
                <a:lnTo>
                  <a:pt x="6" y="583"/>
                </a:lnTo>
                <a:lnTo>
                  <a:pt x="10" y="576"/>
                </a:lnTo>
                <a:lnTo>
                  <a:pt x="15" y="566"/>
                </a:lnTo>
                <a:lnTo>
                  <a:pt x="21" y="556"/>
                </a:lnTo>
                <a:lnTo>
                  <a:pt x="31" y="547"/>
                </a:lnTo>
                <a:lnTo>
                  <a:pt x="38" y="533"/>
                </a:lnTo>
                <a:lnTo>
                  <a:pt x="50" y="520"/>
                </a:lnTo>
                <a:lnTo>
                  <a:pt x="61" y="506"/>
                </a:lnTo>
                <a:lnTo>
                  <a:pt x="75" y="491"/>
                </a:lnTo>
                <a:lnTo>
                  <a:pt x="90" y="474"/>
                </a:lnTo>
                <a:lnTo>
                  <a:pt x="106" y="455"/>
                </a:lnTo>
                <a:lnTo>
                  <a:pt x="123" y="434"/>
                </a:lnTo>
                <a:lnTo>
                  <a:pt x="156" y="397"/>
                </a:lnTo>
                <a:lnTo>
                  <a:pt x="184" y="362"/>
                </a:lnTo>
                <a:lnTo>
                  <a:pt x="213" y="328"/>
                </a:lnTo>
                <a:lnTo>
                  <a:pt x="240" y="297"/>
                </a:lnTo>
                <a:lnTo>
                  <a:pt x="267" y="267"/>
                </a:lnTo>
                <a:lnTo>
                  <a:pt x="278" y="253"/>
                </a:lnTo>
                <a:lnTo>
                  <a:pt x="290" y="238"/>
                </a:lnTo>
                <a:lnTo>
                  <a:pt x="301" y="224"/>
                </a:lnTo>
                <a:lnTo>
                  <a:pt x="311" y="213"/>
                </a:lnTo>
                <a:lnTo>
                  <a:pt x="321" y="199"/>
                </a:lnTo>
                <a:lnTo>
                  <a:pt x="330" y="188"/>
                </a:lnTo>
                <a:lnTo>
                  <a:pt x="338" y="176"/>
                </a:lnTo>
                <a:lnTo>
                  <a:pt x="344" y="165"/>
                </a:lnTo>
                <a:lnTo>
                  <a:pt x="347" y="155"/>
                </a:lnTo>
                <a:lnTo>
                  <a:pt x="353" y="144"/>
                </a:lnTo>
                <a:lnTo>
                  <a:pt x="357" y="134"/>
                </a:lnTo>
                <a:lnTo>
                  <a:pt x="361" y="124"/>
                </a:lnTo>
                <a:lnTo>
                  <a:pt x="363" y="117"/>
                </a:lnTo>
                <a:lnTo>
                  <a:pt x="365" y="107"/>
                </a:lnTo>
                <a:lnTo>
                  <a:pt x="367" y="100"/>
                </a:lnTo>
                <a:lnTo>
                  <a:pt x="367" y="94"/>
                </a:lnTo>
                <a:lnTo>
                  <a:pt x="367" y="86"/>
                </a:lnTo>
                <a:lnTo>
                  <a:pt x="367" y="80"/>
                </a:lnTo>
                <a:lnTo>
                  <a:pt x="365" y="76"/>
                </a:lnTo>
                <a:lnTo>
                  <a:pt x="363" y="71"/>
                </a:lnTo>
                <a:lnTo>
                  <a:pt x="359" y="67"/>
                </a:lnTo>
                <a:lnTo>
                  <a:pt x="355" y="6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Freeform 29"/>
          <p:cNvSpPr/>
          <p:nvPr/>
        </p:nvSpPr>
        <p:spPr>
          <a:xfrm>
            <a:off x="6022800" y="3517920"/>
            <a:ext cx="1365480" cy="284040"/>
          </a:xfrm>
          <a:custGeom>
            <a:avLst/>
            <a:gdLst/>
            <a:ahLst/>
            <a:rect l="l" t="t" r="r" b="b"/>
            <a:pathLst>
              <a:path w="1719" h="357">
                <a:moveTo>
                  <a:pt x="0" y="257"/>
                </a:moveTo>
                <a:lnTo>
                  <a:pt x="84" y="242"/>
                </a:lnTo>
                <a:lnTo>
                  <a:pt x="167" y="227"/>
                </a:lnTo>
                <a:lnTo>
                  <a:pt x="245" y="211"/>
                </a:lnTo>
                <a:lnTo>
                  <a:pt x="322" y="196"/>
                </a:lnTo>
                <a:lnTo>
                  <a:pt x="397" y="182"/>
                </a:lnTo>
                <a:lnTo>
                  <a:pt x="470" y="169"/>
                </a:lnTo>
                <a:lnTo>
                  <a:pt x="539" y="156"/>
                </a:lnTo>
                <a:lnTo>
                  <a:pt x="606" y="144"/>
                </a:lnTo>
                <a:lnTo>
                  <a:pt x="671" y="131"/>
                </a:lnTo>
                <a:lnTo>
                  <a:pt x="733" y="121"/>
                </a:lnTo>
                <a:lnTo>
                  <a:pt x="792" y="109"/>
                </a:lnTo>
                <a:lnTo>
                  <a:pt x="850" y="100"/>
                </a:lnTo>
                <a:lnTo>
                  <a:pt x="904" y="88"/>
                </a:lnTo>
                <a:lnTo>
                  <a:pt x="957" y="81"/>
                </a:lnTo>
                <a:lnTo>
                  <a:pt x="1007" y="71"/>
                </a:lnTo>
                <a:lnTo>
                  <a:pt x="1055" y="63"/>
                </a:lnTo>
                <a:lnTo>
                  <a:pt x="1099" y="56"/>
                </a:lnTo>
                <a:lnTo>
                  <a:pt x="1142" y="48"/>
                </a:lnTo>
                <a:lnTo>
                  <a:pt x="1182" y="40"/>
                </a:lnTo>
                <a:lnTo>
                  <a:pt x="1220" y="35"/>
                </a:lnTo>
                <a:lnTo>
                  <a:pt x="1255" y="29"/>
                </a:lnTo>
                <a:lnTo>
                  <a:pt x="1289" y="25"/>
                </a:lnTo>
                <a:lnTo>
                  <a:pt x="1320" y="19"/>
                </a:lnTo>
                <a:lnTo>
                  <a:pt x="1347" y="15"/>
                </a:lnTo>
                <a:lnTo>
                  <a:pt x="1374" y="12"/>
                </a:lnTo>
                <a:lnTo>
                  <a:pt x="1397" y="8"/>
                </a:lnTo>
                <a:lnTo>
                  <a:pt x="1418" y="6"/>
                </a:lnTo>
                <a:lnTo>
                  <a:pt x="1437" y="4"/>
                </a:lnTo>
                <a:lnTo>
                  <a:pt x="1453" y="2"/>
                </a:lnTo>
                <a:lnTo>
                  <a:pt x="1466" y="0"/>
                </a:lnTo>
                <a:lnTo>
                  <a:pt x="1478" y="0"/>
                </a:lnTo>
                <a:lnTo>
                  <a:pt x="1487" y="0"/>
                </a:lnTo>
                <a:lnTo>
                  <a:pt x="1514" y="0"/>
                </a:lnTo>
                <a:lnTo>
                  <a:pt x="1541" y="2"/>
                </a:lnTo>
                <a:lnTo>
                  <a:pt x="1564" y="6"/>
                </a:lnTo>
                <a:lnTo>
                  <a:pt x="1587" y="10"/>
                </a:lnTo>
                <a:lnTo>
                  <a:pt x="1608" y="17"/>
                </a:lnTo>
                <a:lnTo>
                  <a:pt x="1618" y="21"/>
                </a:lnTo>
                <a:lnTo>
                  <a:pt x="1627" y="25"/>
                </a:lnTo>
                <a:lnTo>
                  <a:pt x="1635" y="31"/>
                </a:lnTo>
                <a:lnTo>
                  <a:pt x="1643" y="37"/>
                </a:lnTo>
                <a:lnTo>
                  <a:pt x="1650" y="42"/>
                </a:lnTo>
                <a:lnTo>
                  <a:pt x="1658" y="50"/>
                </a:lnTo>
                <a:lnTo>
                  <a:pt x="1671" y="61"/>
                </a:lnTo>
                <a:lnTo>
                  <a:pt x="1683" y="75"/>
                </a:lnTo>
                <a:lnTo>
                  <a:pt x="1693" y="84"/>
                </a:lnTo>
                <a:lnTo>
                  <a:pt x="1702" y="96"/>
                </a:lnTo>
                <a:lnTo>
                  <a:pt x="1710" y="104"/>
                </a:lnTo>
                <a:lnTo>
                  <a:pt x="1712" y="108"/>
                </a:lnTo>
                <a:lnTo>
                  <a:pt x="1714" y="111"/>
                </a:lnTo>
                <a:lnTo>
                  <a:pt x="1716" y="115"/>
                </a:lnTo>
                <a:lnTo>
                  <a:pt x="1718" y="117"/>
                </a:lnTo>
                <a:lnTo>
                  <a:pt x="1719" y="121"/>
                </a:lnTo>
                <a:lnTo>
                  <a:pt x="1719" y="123"/>
                </a:lnTo>
                <a:lnTo>
                  <a:pt x="1719" y="127"/>
                </a:lnTo>
                <a:lnTo>
                  <a:pt x="1718" y="131"/>
                </a:lnTo>
                <a:lnTo>
                  <a:pt x="1716" y="134"/>
                </a:lnTo>
                <a:lnTo>
                  <a:pt x="1712" y="138"/>
                </a:lnTo>
                <a:lnTo>
                  <a:pt x="1708" y="142"/>
                </a:lnTo>
                <a:lnTo>
                  <a:pt x="1704" y="146"/>
                </a:lnTo>
                <a:lnTo>
                  <a:pt x="1698" y="148"/>
                </a:lnTo>
                <a:lnTo>
                  <a:pt x="1693" y="150"/>
                </a:lnTo>
                <a:lnTo>
                  <a:pt x="1685" y="152"/>
                </a:lnTo>
                <a:lnTo>
                  <a:pt x="1677" y="154"/>
                </a:lnTo>
                <a:lnTo>
                  <a:pt x="1668" y="156"/>
                </a:lnTo>
                <a:lnTo>
                  <a:pt x="1658" y="157"/>
                </a:lnTo>
                <a:lnTo>
                  <a:pt x="1646" y="157"/>
                </a:lnTo>
                <a:lnTo>
                  <a:pt x="1635" y="159"/>
                </a:lnTo>
                <a:lnTo>
                  <a:pt x="1623" y="159"/>
                </a:lnTo>
                <a:lnTo>
                  <a:pt x="1610" y="159"/>
                </a:lnTo>
                <a:lnTo>
                  <a:pt x="1602" y="159"/>
                </a:lnTo>
                <a:lnTo>
                  <a:pt x="1595" y="159"/>
                </a:lnTo>
                <a:lnTo>
                  <a:pt x="1587" y="159"/>
                </a:lnTo>
                <a:lnTo>
                  <a:pt x="1577" y="159"/>
                </a:lnTo>
                <a:lnTo>
                  <a:pt x="1568" y="159"/>
                </a:lnTo>
                <a:lnTo>
                  <a:pt x="1556" y="161"/>
                </a:lnTo>
                <a:lnTo>
                  <a:pt x="1547" y="161"/>
                </a:lnTo>
                <a:lnTo>
                  <a:pt x="1533" y="161"/>
                </a:lnTo>
                <a:lnTo>
                  <a:pt x="1522" y="163"/>
                </a:lnTo>
                <a:lnTo>
                  <a:pt x="1508" y="163"/>
                </a:lnTo>
                <a:lnTo>
                  <a:pt x="1495" y="163"/>
                </a:lnTo>
                <a:lnTo>
                  <a:pt x="1481" y="165"/>
                </a:lnTo>
                <a:lnTo>
                  <a:pt x="1466" y="167"/>
                </a:lnTo>
                <a:lnTo>
                  <a:pt x="1451" y="167"/>
                </a:lnTo>
                <a:lnTo>
                  <a:pt x="1435" y="169"/>
                </a:lnTo>
                <a:lnTo>
                  <a:pt x="1418" y="169"/>
                </a:lnTo>
                <a:lnTo>
                  <a:pt x="1401" y="171"/>
                </a:lnTo>
                <a:lnTo>
                  <a:pt x="1384" y="173"/>
                </a:lnTo>
                <a:lnTo>
                  <a:pt x="1366" y="175"/>
                </a:lnTo>
                <a:lnTo>
                  <a:pt x="1347" y="177"/>
                </a:lnTo>
                <a:lnTo>
                  <a:pt x="1328" y="179"/>
                </a:lnTo>
                <a:lnTo>
                  <a:pt x="1307" y="180"/>
                </a:lnTo>
                <a:lnTo>
                  <a:pt x="1286" y="182"/>
                </a:lnTo>
                <a:lnTo>
                  <a:pt x="1265" y="184"/>
                </a:lnTo>
                <a:lnTo>
                  <a:pt x="1243" y="188"/>
                </a:lnTo>
                <a:lnTo>
                  <a:pt x="1220" y="190"/>
                </a:lnTo>
                <a:lnTo>
                  <a:pt x="1197" y="192"/>
                </a:lnTo>
                <a:lnTo>
                  <a:pt x="1174" y="196"/>
                </a:lnTo>
                <a:lnTo>
                  <a:pt x="1149" y="200"/>
                </a:lnTo>
                <a:lnTo>
                  <a:pt x="1124" y="202"/>
                </a:lnTo>
                <a:lnTo>
                  <a:pt x="1099" y="205"/>
                </a:lnTo>
                <a:lnTo>
                  <a:pt x="1073" y="209"/>
                </a:lnTo>
                <a:lnTo>
                  <a:pt x="1021" y="215"/>
                </a:lnTo>
                <a:lnTo>
                  <a:pt x="971" y="223"/>
                </a:lnTo>
                <a:lnTo>
                  <a:pt x="923" y="228"/>
                </a:lnTo>
                <a:lnTo>
                  <a:pt x="875" y="234"/>
                </a:lnTo>
                <a:lnTo>
                  <a:pt x="829" y="240"/>
                </a:lnTo>
                <a:lnTo>
                  <a:pt x="785" y="246"/>
                </a:lnTo>
                <a:lnTo>
                  <a:pt x="742" y="251"/>
                </a:lnTo>
                <a:lnTo>
                  <a:pt x="702" y="257"/>
                </a:lnTo>
                <a:lnTo>
                  <a:pt x="662" y="263"/>
                </a:lnTo>
                <a:lnTo>
                  <a:pt x="625" y="269"/>
                </a:lnTo>
                <a:lnTo>
                  <a:pt x="589" y="275"/>
                </a:lnTo>
                <a:lnTo>
                  <a:pt x="556" y="280"/>
                </a:lnTo>
                <a:lnTo>
                  <a:pt x="524" y="288"/>
                </a:lnTo>
                <a:lnTo>
                  <a:pt x="508" y="290"/>
                </a:lnTo>
                <a:lnTo>
                  <a:pt x="493" y="294"/>
                </a:lnTo>
                <a:lnTo>
                  <a:pt x="479" y="298"/>
                </a:lnTo>
                <a:lnTo>
                  <a:pt x="466" y="299"/>
                </a:lnTo>
                <a:lnTo>
                  <a:pt x="453" y="303"/>
                </a:lnTo>
                <a:lnTo>
                  <a:pt x="439" y="307"/>
                </a:lnTo>
                <a:lnTo>
                  <a:pt x="414" y="315"/>
                </a:lnTo>
                <a:lnTo>
                  <a:pt x="391" y="321"/>
                </a:lnTo>
                <a:lnTo>
                  <a:pt x="368" y="326"/>
                </a:lnTo>
                <a:lnTo>
                  <a:pt x="345" y="330"/>
                </a:lnTo>
                <a:lnTo>
                  <a:pt x="324" y="336"/>
                </a:lnTo>
                <a:lnTo>
                  <a:pt x="303" y="340"/>
                </a:lnTo>
                <a:lnTo>
                  <a:pt x="284" y="342"/>
                </a:lnTo>
                <a:lnTo>
                  <a:pt x="266" y="346"/>
                </a:lnTo>
                <a:lnTo>
                  <a:pt x="247" y="347"/>
                </a:lnTo>
                <a:lnTo>
                  <a:pt x="230" y="351"/>
                </a:lnTo>
                <a:lnTo>
                  <a:pt x="215" y="353"/>
                </a:lnTo>
                <a:lnTo>
                  <a:pt x="199" y="353"/>
                </a:lnTo>
                <a:lnTo>
                  <a:pt x="184" y="355"/>
                </a:lnTo>
                <a:lnTo>
                  <a:pt x="170" y="355"/>
                </a:lnTo>
                <a:lnTo>
                  <a:pt x="159" y="355"/>
                </a:lnTo>
                <a:lnTo>
                  <a:pt x="147" y="357"/>
                </a:lnTo>
                <a:lnTo>
                  <a:pt x="136" y="355"/>
                </a:lnTo>
                <a:lnTo>
                  <a:pt x="124" y="355"/>
                </a:lnTo>
                <a:lnTo>
                  <a:pt x="113" y="353"/>
                </a:lnTo>
                <a:lnTo>
                  <a:pt x="103" y="349"/>
                </a:lnTo>
                <a:lnTo>
                  <a:pt x="94" y="346"/>
                </a:lnTo>
                <a:lnTo>
                  <a:pt x="82" y="342"/>
                </a:lnTo>
                <a:lnTo>
                  <a:pt x="73" y="336"/>
                </a:lnTo>
                <a:lnTo>
                  <a:pt x="65" y="330"/>
                </a:lnTo>
                <a:lnTo>
                  <a:pt x="55" y="324"/>
                </a:lnTo>
                <a:lnTo>
                  <a:pt x="46" y="317"/>
                </a:lnTo>
                <a:lnTo>
                  <a:pt x="38" y="307"/>
                </a:lnTo>
                <a:lnTo>
                  <a:pt x="30" y="299"/>
                </a:lnTo>
                <a:lnTo>
                  <a:pt x="23" y="290"/>
                </a:lnTo>
                <a:lnTo>
                  <a:pt x="15" y="280"/>
                </a:lnTo>
                <a:lnTo>
                  <a:pt x="7" y="269"/>
                </a:lnTo>
                <a:lnTo>
                  <a:pt x="0" y="2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Freeform 30"/>
          <p:cNvSpPr/>
          <p:nvPr/>
        </p:nvSpPr>
        <p:spPr>
          <a:xfrm>
            <a:off x="6515280" y="2766960"/>
            <a:ext cx="252360" cy="906480"/>
          </a:xfrm>
          <a:custGeom>
            <a:avLst/>
            <a:gdLst/>
            <a:ahLst/>
            <a:rect l="l" t="t" r="r" b="b"/>
            <a:pathLst>
              <a:path w="318" h="1142">
                <a:moveTo>
                  <a:pt x="295" y="232"/>
                </a:moveTo>
                <a:lnTo>
                  <a:pt x="293" y="236"/>
                </a:lnTo>
                <a:lnTo>
                  <a:pt x="293" y="238"/>
                </a:lnTo>
                <a:lnTo>
                  <a:pt x="291" y="242"/>
                </a:lnTo>
                <a:lnTo>
                  <a:pt x="289" y="247"/>
                </a:lnTo>
                <a:lnTo>
                  <a:pt x="289" y="251"/>
                </a:lnTo>
                <a:lnTo>
                  <a:pt x="288" y="257"/>
                </a:lnTo>
                <a:lnTo>
                  <a:pt x="288" y="263"/>
                </a:lnTo>
                <a:lnTo>
                  <a:pt x="286" y="270"/>
                </a:lnTo>
                <a:lnTo>
                  <a:pt x="284" y="276"/>
                </a:lnTo>
                <a:lnTo>
                  <a:pt x="284" y="284"/>
                </a:lnTo>
                <a:lnTo>
                  <a:pt x="282" y="293"/>
                </a:lnTo>
                <a:lnTo>
                  <a:pt x="282" y="301"/>
                </a:lnTo>
                <a:lnTo>
                  <a:pt x="280" y="311"/>
                </a:lnTo>
                <a:lnTo>
                  <a:pt x="278" y="322"/>
                </a:lnTo>
                <a:lnTo>
                  <a:pt x="278" y="332"/>
                </a:lnTo>
                <a:lnTo>
                  <a:pt x="276" y="343"/>
                </a:lnTo>
                <a:lnTo>
                  <a:pt x="276" y="355"/>
                </a:lnTo>
                <a:lnTo>
                  <a:pt x="274" y="368"/>
                </a:lnTo>
                <a:lnTo>
                  <a:pt x="272" y="380"/>
                </a:lnTo>
                <a:lnTo>
                  <a:pt x="272" y="393"/>
                </a:lnTo>
                <a:lnTo>
                  <a:pt x="270" y="409"/>
                </a:lnTo>
                <a:lnTo>
                  <a:pt x="268" y="422"/>
                </a:lnTo>
                <a:lnTo>
                  <a:pt x="268" y="437"/>
                </a:lnTo>
                <a:lnTo>
                  <a:pt x="266" y="455"/>
                </a:lnTo>
                <a:lnTo>
                  <a:pt x="266" y="470"/>
                </a:lnTo>
                <a:lnTo>
                  <a:pt x="264" y="487"/>
                </a:lnTo>
                <a:lnTo>
                  <a:pt x="263" y="505"/>
                </a:lnTo>
                <a:lnTo>
                  <a:pt x="263" y="524"/>
                </a:lnTo>
                <a:lnTo>
                  <a:pt x="261" y="541"/>
                </a:lnTo>
                <a:lnTo>
                  <a:pt x="261" y="562"/>
                </a:lnTo>
                <a:lnTo>
                  <a:pt x="259" y="581"/>
                </a:lnTo>
                <a:lnTo>
                  <a:pt x="259" y="602"/>
                </a:lnTo>
                <a:lnTo>
                  <a:pt x="255" y="645"/>
                </a:lnTo>
                <a:lnTo>
                  <a:pt x="253" y="687"/>
                </a:lnTo>
                <a:lnTo>
                  <a:pt x="253" y="727"/>
                </a:lnTo>
                <a:lnTo>
                  <a:pt x="251" y="766"/>
                </a:lnTo>
                <a:lnTo>
                  <a:pt x="249" y="804"/>
                </a:lnTo>
                <a:lnTo>
                  <a:pt x="249" y="840"/>
                </a:lnTo>
                <a:lnTo>
                  <a:pt x="247" y="875"/>
                </a:lnTo>
                <a:lnTo>
                  <a:pt x="247" y="910"/>
                </a:lnTo>
                <a:lnTo>
                  <a:pt x="247" y="942"/>
                </a:lnTo>
                <a:lnTo>
                  <a:pt x="247" y="973"/>
                </a:lnTo>
                <a:lnTo>
                  <a:pt x="245" y="1004"/>
                </a:lnTo>
                <a:lnTo>
                  <a:pt x="245" y="1034"/>
                </a:lnTo>
                <a:lnTo>
                  <a:pt x="245" y="1063"/>
                </a:lnTo>
                <a:lnTo>
                  <a:pt x="245" y="1090"/>
                </a:lnTo>
                <a:lnTo>
                  <a:pt x="245" y="1117"/>
                </a:lnTo>
                <a:lnTo>
                  <a:pt x="245" y="1142"/>
                </a:lnTo>
                <a:lnTo>
                  <a:pt x="113" y="1142"/>
                </a:lnTo>
                <a:lnTo>
                  <a:pt x="113" y="1111"/>
                </a:lnTo>
                <a:lnTo>
                  <a:pt x="111" y="1080"/>
                </a:lnTo>
                <a:lnTo>
                  <a:pt x="111" y="1050"/>
                </a:lnTo>
                <a:lnTo>
                  <a:pt x="111" y="1019"/>
                </a:lnTo>
                <a:lnTo>
                  <a:pt x="111" y="990"/>
                </a:lnTo>
                <a:lnTo>
                  <a:pt x="111" y="961"/>
                </a:lnTo>
                <a:lnTo>
                  <a:pt x="111" y="933"/>
                </a:lnTo>
                <a:lnTo>
                  <a:pt x="111" y="904"/>
                </a:lnTo>
                <a:lnTo>
                  <a:pt x="111" y="877"/>
                </a:lnTo>
                <a:lnTo>
                  <a:pt x="111" y="850"/>
                </a:lnTo>
                <a:lnTo>
                  <a:pt x="109" y="823"/>
                </a:lnTo>
                <a:lnTo>
                  <a:pt x="109" y="796"/>
                </a:lnTo>
                <a:lnTo>
                  <a:pt x="109" y="771"/>
                </a:lnTo>
                <a:lnTo>
                  <a:pt x="109" y="746"/>
                </a:lnTo>
                <a:lnTo>
                  <a:pt x="107" y="721"/>
                </a:lnTo>
                <a:lnTo>
                  <a:pt x="107" y="697"/>
                </a:lnTo>
                <a:lnTo>
                  <a:pt x="107" y="673"/>
                </a:lnTo>
                <a:lnTo>
                  <a:pt x="107" y="650"/>
                </a:lnTo>
                <a:lnTo>
                  <a:pt x="105" y="627"/>
                </a:lnTo>
                <a:lnTo>
                  <a:pt x="105" y="606"/>
                </a:lnTo>
                <a:lnTo>
                  <a:pt x="105" y="583"/>
                </a:lnTo>
                <a:lnTo>
                  <a:pt x="103" y="562"/>
                </a:lnTo>
                <a:lnTo>
                  <a:pt x="101" y="522"/>
                </a:lnTo>
                <a:lnTo>
                  <a:pt x="101" y="482"/>
                </a:lnTo>
                <a:lnTo>
                  <a:pt x="99" y="445"/>
                </a:lnTo>
                <a:lnTo>
                  <a:pt x="97" y="409"/>
                </a:lnTo>
                <a:lnTo>
                  <a:pt x="96" y="376"/>
                </a:lnTo>
                <a:lnTo>
                  <a:pt x="94" y="343"/>
                </a:lnTo>
                <a:lnTo>
                  <a:pt x="90" y="315"/>
                </a:lnTo>
                <a:lnTo>
                  <a:pt x="88" y="286"/>
                </a:lnTo>
                <a:lnTo>
                  <a:pt x="86" y="261"/>
                </a:lnTo>
                <a:lnTo>
                  <a:pt x="84" y="236"/>
                </a:lnTo>
                <a:lnTo>
                  <a:pt x="80" y="215"/>
                </a:lnTo>
                <a:lnTo>
                  <a:pt x="78" y="194"/>
                </a:lnTo>
                <a:lnTo>
                  <a:pt x="76" y="176"/>
                </a:lnTo>
                <a:lnTo>
                  <a:pt x="73" y="159"/>
                </a:lnTo>
                <a:lnTo>
                  <a:pt x="71" y="146"/>
                </a:lnTo>
                <a:lnTo>
                  <a:pt x="67" y="132"/>
                </a:lnTo>
                <a:lnTo>
                  <a:pt x="63" y="121"/>
                </a:lnTo>
                <a:lnTo>
                  <a:pt x="61" y="113"/>
                </a:lnTo>
                <a:lnTo>
                  <a:pt x="57" y="105"/>
                </a:lnTo>
                <a:lnTo>
                  <a:pt x="53" y="100"/>
                </a:lnTo>
                <a:lnTo>
                  <a:pt x="51" y="98"/>
                </a:lnTo>
                <a:lnTo>
                  <a:pt x="38" y="88"/>
                </a:lnTo>
                <a:lnTo>
                  <a:pt x="26" y="78"/>
                </a:lnTo>
                <a:lnTo>
                  <a:pt x="21" y="75"/>
                </a:lnTo>
                <a:lnTo>
                  <a:pt x="17" y="69"/>
                </a:lnTo>
                <a:lnTo>
                  <a:pt x="11" y="65"/>
                </a:lnTo>
                <a:lnTo>
                  <a:pt x="9" y="61"/>
                </a:lnTo>
                <a:lnTo>
                  <a:pt x="5" y="55"/>
                </a:lnTo>
                <a:lnTo>
                  <a:pt x="3" y="52"/>
                </a:lnTo>
                <a:lnTo>
                  <a:pt x="2" y="46"/>
                </a:lnTo>
                <a:lnTo>
                  <a:pt x="0" y="42"/>
                </a:lnTo>
                <a:lnTo>
                  <a:pt x="0" y="38"/>
                </a:lnTo>
                <a:lnTo>
                  <a:pt x="0" y="32"/>
                </a:lnTo>
                <a:lnTo>
                  <a:pt x="0" y="29"/>
                </a:lnTo>
                <a:lnTo>
                  <a:pt x="2" y="25"/>
                </a:lnTo>
                <a:lnTo>
                  <a:pt x="7" y="19"/>
                </a:lnTo>
                <a:lnTo>
                  <a:pt x="11" y="15"/>
                </a:lnTo>
                <a:lnTo>
                  <a:pt x="17" y="11"/>
                </a:lnTo>
                <a:lnTo>
                  <a:pt x="23" y="7"/>
                </a:lnTo>
                <a:lnTo>
                  <a:pt x="30" y="4"/>
                </a:lnTo>
                <a:lnTo>
                  <a:pt x="40" y="2"/>
                </a:lnTo>
                <a:lnTo>
                  <a:pt x="46" y="0"/>
                </a:lnTo>
                <a:lnTo>
                  <a:pt x="49" y="0"/>
                </a:lnTo>
                <a:lnTo>
                  <a:pt x="57" y="0"/>
                </a:lnTo>
                <a:lnTo>
                  <a:pt x="63" y="0"/>
                </a:lnTo>
                <a:lnTo>
                  <a:pt x="76" y="0"/>
                </a:lnTo>
                <a:lnTo>
                  <a:pt x="92" y="2"/>
                </a:lnTo>
                <a:lnTo>
                  <a:pt x="109" y="6"/>
                </a:lnTo>
                <a:lnTo>
                  <a:pt x="126" y="9"/>
                </a:lnTo>
                <a:lnTo>
                  <a:pt x="145" y="17"/>
                </a:lnTo>
                <a:lnTo>
                  <a:pt x="155" y="21"/>
                </a:lnTo>
                <a:lnTo>
                  <a:pt x="167" y="25"/>
                </a:lnTo>
                <a:lnTo>
                  <a:pt x="176" y="30"/>
                </a:lnTo>
                <a:lnTo>
                  <a:pt x="188" y="36"/>
                </a:lnTo>
                <a:lnTo>
                  <a:pt x="197" y="42"/>
                </a:lnTo>
                <a:lnTo>
                  <a:pt x="209" y="48"/>
                </a:lnTo>
                <a:lnTo>
                  <a:pt x="220" y="55"/>
                </a:lnTo>
                <a:lnTo>
                  <a:pt x="232" y="63"/>
                </a:lnTo>
                <a:lnTo>
                  <a:pt x="241" y="69"/>
                </a:lnTo>
                <a:lnTo>
                  <a:pt x="251" y="77"/>
                </a:lnTo>
                <a:lnTo>
                  <a:pt x="259" y="82"/>
                </a:lnTo>
                <a:lnTo>
                  <a:pt x="268" y="90"/>
                </a:lnTo>
                <a:lnTo>
                  <a:pt x="276" y="96"/>
                </a:lnTo>
                <a:lnTo>
                  <a:pt x="282" y="101"/>
                </a:lnTo>
                <a:lnTo>
                  <a:pt x="289" y="109"/>
                </a:lnTo>
                <a:lnTo>
                  <a:pt x="295" y="115"/>
                </a:lnTo>
                <a:lnTo>
                  <a:pt x="301" y="121"/>
                </a:lnTo>
                <a:lnTo>
                  <a:pt x="305" y="126"/>
                </a:lnTo>
                <a:lnTo>
                  <a:pt x="309" y="132"/>
                </a:lnTo>
                <a:lnTo>
                  <a:pt x="312" y="136"/>
                </a:lnTo>
                <a:lnTo>
                  <a:pt x="316" y="142"/>
                </a:lnTo>
                <a:lnTo>
                  <a:pt x="318" y="148"/>
                </a:lnTo>
                <a:lnTo>
                  <a:pt x="318" y="155"/>
                </a:lnTo>
                <a:lnTo>
                  <a:pt x="316" y="165"/>
                </a:lnTo>
                <a:lnTo>
                  <a:pt x="314" y="174"/>
                </a:lnTo>
                <a:lnTo>
                  <a:pt x="311" y="184"/>
                </a:lnTo>
                <a:lnTo>
                  <a:pt x="307" y="196"/>
                </a:lnTo>
                <a:lnTo>
                  <a:pt x="303" y="207"/>
                </a:lnTo>
                <a:lnTo>
                  <a:pt x="299" y="219"/>
                </a:lnTo>
                <a:lnTo>
                  <a:pt x="295" y="2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Freeform 31"/>
          <p:cNvSpPr/>
          <p:nvPr/>
        </p:nvSpPr>
        <p:spPr>
          <a:xfrm>
            <a:off x="6286680" y="3201840"/>
            <a:ext cx="763560" cy="227160"/>
          </a:xfrm>
          <a:custGeom>
            <a:avLst/>
            <a:gdLst/>
            <a:ahLst/>
            <a:rect l="l" t="t" r="r" b="b"/>
            <a:pathLst>
              <a:path w="961" h="286">
                <a:moveTo>
                  <a:pt x="9" y="249"/>
                </a:moveTo>
                <a:lnTo>
                  <a:pt x="5" y="240"/>
                </a:lnTo>
                <a:lnTo>
                  <a:pt x="4" y="232"/>
                </a:lnTo>
                <a:lnTo>
                  <a:pt x="2" y="226"/>
                </a:lnTo>
                <a:lnTo>
                  <a:pt x="0" y="220"/>
                </a:lnTo>
                <a:lnTo>
                  <a:pt x="2" y="215"/>
                </a:lnTo>
                <a:lnTo>
                  <a:pt x="4" y="209"/>
                </a:lnTo>
                <a:lnTo>
                  <a:pt x="5" y="205"/>
                </a:lnTo>
                <a:lnTo>
                  <a:pt x="9" y="199"/>
                </a:lnTo>
                <a:lnTo>
                  <a:pt x="11" y="199"/>
                </a:lnTo>
                <a:lnTo>
                  <a:pt x="13" y="199"/>
                </a:lnTo>
                <a:lnTo>
                  <a:pt x="17" y="199"/>
                </a:lnTo>
                <a:lnTo>
                  <a:pt x="21" y="197"/>
                </a:lnTo>
                <a:lnTo>
                  <a:pt x="25" y="197"/>
                </a:lnTo>
                <a:lnTo>
                  <a:pt x="28" y="195"/>
                </a:lnTo>
                <a:lnTo>
                  <a:pt x="34" y="195"/>
                </a:lnTo>
                <a:lnTo>
                  <a:pt x="42" y="194"/>
                </a:lnTo>
                <a:lnTo>
                  <a:pt x="50" y="192"/>
                </a:lnTo>
                <a:lnTo>
                  <a:pt x="57" y="190"/>
                </a:lnTo>
                <a:lnTo>
                  <a:pt x="65" y="188"/>
                </a:lnTo>
                <a:lnTo>
                  <a:pt x="75" y="184"/>
                </a:lnTo>
                <a:lnTo>
                  <a:pt x="84" y="182"/>
                </a:lnTo>
                <a:lnTo>
                  <a:pt x="96" y="178"/>
                </a:lnTo>
                <a:lnTo>
                  <a:pt x="105" y="176"/>
                </a:lnTo>
                <a:lnTo>
                  <a:pt x="119" y="172"/>
                </a:lnTo>
                <a:lnTo>
                  <a:pt x="130" y="169"/>
                </a:lnTo>
                <a:lnTo>
                  <a:pt x="144" y="165"/>
                </a:lnTo>
                <a:lnTo>
                  <a:pt x="157" y="161"/>
                </a:lnTo>
                <a:lnTo>
                  <a:pt x="172" y="157"/>
                </a:lnTo>
                <a:lnTo>
                  <a:pt x="188" y="153"/>
                </a:lnTo>
                <a:lnTo>
                  <a:pt x="203" y="148"/>
                </a:lnTo>
                <a:lnTo>
                  <a:pt x="220" y="144"/>
                </a:lnTo>
                <a:lnTo>
                  <a:pt x="238" y="138"/>
                </a:lnTo>
                <a:lnTo>
                  <a:pt x="255" y="132"/>
                </a:lnTo>
                <a:lnTo>
                  <a:pt x="274" y="128"/>
                </a:lnTo>
                <a:lnTo>
                  <a:pt x="293" y="123"/>
                </a:lnTo>
                <a:lnTo>
                  <a:pt x="314" y="115"/>
                </a:lnTo>
                <a:lnTo>
                  <a:pt x="334" y="109"/>
                </a:lnTo>
                <a:lnTo>
                  <a:pt x="355" y="103"/>
                </a:lnTo>
                <a:lnTo>
                  <a:pt x="378" y="96"/>
                </a:lnTo>
                <a:lnTo>
                  <a:pt x="401" y="90"/>
                </a:lnTo>
                <a:lnTo>
                  <a:pt x="422" y="82"/>
                </a:lnTo>
                <a:lnTo>
                  <a:pt x="445" y="76"/>
                </a:lnTo>
                <a:lnTo>
                  <a:pt x="466" y="69"/>
                </a:lnTo>
                <a:lnTo>
                  <a:pt x="487" y="63"/>
                </a:lnTo>
                <a:lnTo>
                  <a:pt x="508" y="57"/>
                </a:lnTo>
                <a:lnTo>
                  <a:pt x="528" y="52"/>
                </a:lnTo>
                <a:lnTo>
                  <a:pt x="547" y="48"/>
                </a:lnTo>
                <a:lnTo>
                  <a:pt x="566" y="42"/>
                </a:lnTo>
                <a:lnTo>
                  <a:pt x="585" y="38"/>
                </a:lnTo>
                <a:lnTo>
                  <a:pt x="602" y="34"/>
                </a:lnTo>
                <a:lnTo>
                  <a:pt x="620" y="30"/>
                </a:lnTo>
                <a:lnTo>
                  <a:pt x="637" y="27"/>
                </a:lnTo>
                <a:lnTo>
                  <a:pt x="654" y="23"/>
                </a:lnTo>
                <a:lnTo>
                  <a:pt x="670" y="19"/>
                </a:lnTo>
                <a:lnTo>
                  <a:pt x="685" y="17"/>
                </a:lnTo>
                <a:lnTo>
                  <a:pt x="700" y="13"/>
                </a:lnTo>
                <a:lnTo>
                  <a:pt x="714" y="11"/>
                </a:lnTo>
                <a:lnTo>
                  <a:pt x="727" y="9"/>
                </a:lnTo>
                <a:lnTo>
                  <a:pt x="741" y="7"/>
                </a:lnTo>
                <a:lnTo>
                  <a:pt x="754" y="5"/>
                </a:lnTo>
                <a:lnTo>
                  <a:pt x="766" y="4"/>
                </a:lnTo>
                <a:lnTo>
                  <a:pt x="777" y="2"/>
                </a:lnTo>
                <a:lnTo>
                  <a:pt x="789" y="2"/>
                </a:lnTo>
                <a:lnTo>
                  <a:pt x="800" y="2"/>
                </a:lnTo>
                <a:lnTo>
                  <a:pt x="810" y="0"/>
                </a:lnTo>
                <a:lnTo>
                  <a:pt x="819" y="0"/>
                </a:lnTo>
                <a:lnTo>
                  <a:pt x="827" y="0"/>
                </a:lnTo>
                <a:lnTo>
                  <a:pt x="835" y="0"/>
                </a:lnTo>
                <a:lnTo>
                  <a:pt x="844" y="0"/>
                </a:lnTo>
                <a:lnTo>
                  <a:pt x="850" y="2"/>
                </a:lnTo>
                <a:lnTo>
                  <a:pt x="858" y="2"/>
                </a:lnTo>
                <a:lnTo>
                  <a:pt x="863" y="4"/>
                </a:lnTo>
                <a:lnTo>
                  <a:pt x="875" y="5"/>
                </a:lnTo>
                <a:lnTo>
                  <a:pt x="885" y="9"/>
                </a:lnTo>
                <a:lnTo>
                  <a:pt x="894" y="11"/>
                </a:lnTo>
                <a:lnTo>
                  <a:pt x="904" y="15"/>
                </a:lnTo>
                <a:lnTo>
                  <a:pt x="913" y="19"/>
                </a:lnTo>
                <a:lnTo>
                  <a:pt x="921" y="23"/>
                </a:lnTo>
                <a:lnTo>
                  <a:pt x="929" y="27"/>
                </a:lnTo>
                <a:lnTo>
                  <a:pt x="934" y="30"/>
                </a:lnTo>
                <a:lnTo>
                  <a:pt x="940" y="36"/>
                </a:lnTo>
                <a:lnTo>
                  <a:pt x="946" y="40"/>
                </a:lnTo>
                <a:lnTo>
                  <a:pt x="950" y="46"/>
                </a:lnTo>
                <a:lnTo>
                  <a:pt x="954" y="52"/>
                </a:lnTo>
                <a:lnTo>
                  <a:pt x="957" y="57"/>
                </a:lnTo>
                <a:lnTo>
                  <a:pt x="959" y="63"/>
                </a:lnTo>
                <a:lnTo>
                  <a:pt x="959" y="71"/>
                </a:lnTo>
                <a:lnTo>
                  <a:pt x="961" y="76"/>
                </a:lnTo>
                <a:lnTo>
                  <a:pt x="959" y="80"/>
                </a:lnTo>
                <a:lnTo>
                  <a:pt x="959" y="84"/>
                </a:lnTo>
                <a:lnTo>
                  <a:pt x="957" y="88"/>
                </a:lnTo>
                <a:lnTo>
                  <a:pt x="956" y="90"/>
                </a:lnTo>
                <a:lnTo>
                  <a:pt x="952" y="94"/>
                </a:lnTo>
                <a:lnTo>
                  <a:pt x="948" y="98"/>
                </a:lnTo>
                <a:lnTo>
                  <a:pt x="942" y="101"/>
                </a:lnTo>
                <a:lnTo>
                  <a:pt x="938" y="105"/>
                </a:lnTo>
                <a:lnTo>
                  <a:pt x="933" y="109"/>
                </a:lnTo>
                <a:lnTo>
                  <a:pt x="925" y="111"/>
                </a:lnTo>
                <a:lnTo>
                  <a:pt x="917" y="115"/>
                </a:lnTo>
                <a:lnTo>
                  <a:pt x="909" y="119"/>
                </a:lnTo>
                <a:lnTo>
                  <a:pt x="900" y="123"/>
                </a:lnTo>
                <a:lnTo>
                  <a:pt x="892" y="126"/>
                </a:lnTo>
                <a:lnTo>
                  <a:pt x="881" y="130"/>
                </a:lnTo>
                <a:lnTo>
                  <a:pt x="871" y="134"/>
                </a:lnTo>
                <a:lnTo>
                  <a:pt x="860" y="138"/>
                </a:lnTo>
                <a:lnTo>
                  <a:pt x="846" y="142"/>
                </a:lnTo>
                <a:lnTo>
                  <a:pt x="835" y="146"/>
                </a:lnTo>
                <a:lnTo>
                  <a:pt x="821" y="149"/>
                </a:lnTo>
                <a:lnTo>
                  <a:pt x="806" y="153"/>
                </a:lnTo>
                <a:lnTo>
                  <a:pt x="792" y="157"/>
                </a:lnTo>
                <a:lnTo>
                  <a:pt x="775" y="161"/>
                </a:lnTo>
                <a:lnTo>
                  <a:pt x="760" y="165"/>
                </a:lnTo>
                <a:lnTo>
                  <a:pt x="742" y="169"/>
                </a:lnTo>
                <a:lnTo>
                  <a:pt x="725" y="172"/>
                </a:lnTo>
                <a:lnTo>
                  <a:pt x="708" y="178"/>
                </a:lnTo>
                <a:lnTo>
                  <a:pt x="689" y="182"/>
                </a:lnTo>
                <a:lnTo>
                  <a:pt x="670" y="186"/>
                </a:lnTo>
                <a:lnTo>
                  <a:pt x="648" y="190"/>
                </a:lnTo>
                <a:lnTo>
                  <a:pt x="627" y="195"/>
                </a:lnTo>
                <a:lnTo>
                  <a:pt x="606" y="199"/>
                </a:lnTo>
                <a:lnTo>
                  <a:pt x="585" y="205"/>
                </a:lnTo>
                <a:lnTo>
                  <a:pt x="562" y="211"/>
                </a:lnTo>
                <a:lnTo>
                  <a:pt x="541" y="217"/>
                </a:lnTo>
                <a:lnTo>
                  <a:pt x="520" y="222"/>
                </a:lnTo>
                <a:lnTo>
                  <a:pt x="501" y="226"/>
                </a:lnTo>
                <a:lnTo>
                  <a:pt x="481" y="232"/>
                </a:lnTo>
                <a:lnTo>
                  <a:pt x="462" y="236"/>
                </a:lnTo>
                <a:lnTo>
                  <a:pt x="445" y="240"/>
                </a:lnTo>
                <a:lnTo>
                  <a:pt x="428" y="243"/>
                </a:lnTo>
                <a:lnTo>
                  <a:pt x="410" y="247"/>
                </a:lnTo>
                <a:lnTo>
                  <a:pt x="395" y="251"/>
                </a:lnTo>
                <a:lnTo>
                  <a:pt x="380" y="255"/>
                </a:lnTo>
                <a:lnTo>
                  <a:pt x="364" y="259"/>
                </a:lnTo>
                <a:lnTo>
                  <a:pt x="351" y="261"/>
                </a:lnTo>
                <a:lnTo>
                  <a:pt x="337" y="265"/>
                </a:lnTo>
                <a:lnTo>
                  <a:pt x="326" y="267"/>
                </a:lnTo>
                <a:lnTo>
                  <a:pt x="313" y="268"/>
                </a:lnTo>
                <a:lnTo>
                  <a:pt x="301" y="272"/>
                </a:lnTo>
                <a:lnTo>
                  <a:pt x="291" y="274"/>
                </a:lnTo>
                <a:lnTo>
                  <a:pt x="282" y="276"/>
                </a:lnTo>
                <a:lnTo>
                  <a:pt x="272" y="278"/>
                </a:lnTo>
                <a:lnTo>
                  <a:pt x="265" y="278"/>
                </a:lnTo>
                <a:lnTo>
                  <a:pt x="255" y="280"/>
                </a:lnTo>
                <a:lnTo>
                  <a:pt x="249" y="282"/>
                </a:lnTo>
                <a:lnTo>
                  <a:pt x="242" y="282"/>
                </a:lnTo>
                <a:lnTo>
                  <a:pt x="236" y="284"/>
                </a:lnTo>
                <a:lnTo>
                  <a:pt x="232" y="284"/>
                </a:lnTo>
                <a:lnTo>
                  <a:pt x="226" y="286"/>
                </a:lnTo>
                <a:lnTo>
                  <a:pt x="224" y="286"/>
                </a:lnTo>
                <a:lnTo>
                  <a:pt x="220" y="286"/>
                </a:lnTo>
                <a:lnTo>
                  <a:pt x="218" y="286"/>
                </a:lnTo>
                <a:lnTo>
                  <a:pt x="217" y="286"/>
                </a:lnTo>
                <a:lnTo>
                  <a:pt x="207" y="286"/>
                </a:lnTo>
                <a:lnTo>
                  <a:pt x="195" y="286"/>
                </a:lnTo>
                <a:lnTo>
                  <a:pt x="184" y="286"/>
                </a:lnTo>
                <a:lnTo>
                  <a:pt x="172" y="284"/>
                </a:lnTo>
                <a:lnTo>
                  <a:pt x="159" y="284"/>
                </a:lnTo>
                <a:lnTo>
                  <a:pt x="146" y="282"/>
                </a:lnTo>
                <a:lnTo>
                  <a:pt x="132" y="278"/>
                </a:lnTo>
                <a:lnTo>
                  <a:pt x="119" y="274"/>
                </a:lnTo>
                <a:lnTo>
                  <a:pt x="101" y="272"/>
                </a:lnTo>
                <a:lnTo>
                  <a:pt x="84" y="272"/>
                </a:lnTo>
                <a:lnTo>
                  <a:pt x="69" y="268"/>
                </a:lnTo>
                <a:lnTo>
                  <a:pt x="55" y="267"/>
                </a:lnTo>
                <a:lnTo>
                  <a:pt x="42" y="263"/>
                </a:lnTo>
                <a:lnTo>
                  <a:pt x="30" y="259"/>
                </a:lnTo>
                <a:lnTo>
                  <a:pt x="19" y="253"/>
                </a:lnTo>
                <a:lnTo>
                  <a:pt x="9" y="2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Freeform 32"/>
          <p:cNvSpPr/>
          <p:nvPr/>
        </p:nvSpPr>
        <p:spPr>
          <a:xfrm>
            <a:off x="5452920" y="3819600"/>
            <a:ext cx="543240" cy="890640"/>
          </a:xfrm>
          <a:custGeom>
            <a:avLst/>
            <a:gdLst/>
            <a:ahLst/>
            <a:rect l="l" t="t" r="r" b="b"/>
            <a:pathLst>
              <a:path w="683" h="1123">
                <a:moveTo>
                  <a:pt x="207" y="1119"/>
                </a:moveTo>
                <a:lnTo>
                  <a:pt x="201" y="1121"/>
                </a:lnTo>
                <a:lnTo>
                  <a:pt x="196" y="1123"/>
                </a:lnTo>
                <a:lnTo>
                  <a:pt x="192" y="1121"/>
                </a:lnTo>
                <a:lnTo>
                  <a:pt x="186" y="1119"/>
                </a:lnTo>
                <a:lnTo>
                  <a:pt x="180" y="1117"/>
                </a:lnTo>
                <a:lnTo>
                  <a:pt x="173" y="1113"/>
                </a:lnTo>
                <a:lnTo>
                  <a:pt x="167" y="1108"/>
                </a:lnTo>
                <a:lnTo>
                  <a:pt x="159" y="1102"/>
                </a:lnTo>
                <a:lnTo>
                  <a:pt x="151" y="1094"/>
                </a:lnTo>
                <a:lnTo>
                  <a:pt x="144" y="1085"/>
                </a:lnTo>
                <a:lnTo>
                  <a:pt x="134" y="1075"/>
                </a:lnTo>
                <a:lnTo>
                  <a:pt x="125" y="1065"/>
                </a:lnTo>
                <a:lnTo>
                  <a:pt x="117" y="1052"/>
                </a:lnTo>
                <a:lnTo>
                  <a:pt x="105" y="1038"/>
                </a:lnTo>
                <a:lnTo>
                  <a:pt x="96" y="1025"/>
                </a:lnTo>
                <a:lnTo>
                  <a:pt x="84" y="1010"/>
                </a:lnTo>
                <a:lnTo>
                  <a:pt x="73" y="992"/>
                </a:lnTo>
                <a:lnTo>
                  <a:pt x="63" y="979"/>
                </a:lnTo>
                <a:lnTo>
                  <a:pt x="54" y="964"/>
                </a:lnTo>
                <a:lnTo>
                  <a:pt x="46" y="950"/>
                </a:lnTo>
                <a:lnTo>
                  <a:pt x="38" y="939"/>
                </a:lnTo>
                <a:lnTo>
                  <a:pt x="30" y="925"/>
                </a:lnTo>
                <a:lnTo>
                  <a:pt x="25" y="916"/>
                </a:lnTo>
                <a:lnTo>
                  <a:pt x="19" y="904"/>
                </a:lnTo>
                <a:lnTo>
                  <a:pt x="15" y="895"/>
                </a:lnTo>
                <a:lnTo>
                  <a:pt x="9" y="885"/>
                </a:lnTo>
                <a:lnTo>
                  <a:pt x="7" y="875"/>
                </a:lnTo>
                <a:lnTo>
                  <a:pt x="4" y="868"/>
                </a:lnTo>
                <a:lnTo>
                  <a:pt x="2" y="858"/>
                </a:lnTo>
                <a:lnTo>
                  <a:pt x="0" y="850"/>
                </a:lnTo>
                <a:lnTo>
                  <a:pt x="0" y="845"/>
                </a:lnTo>
                <a:lnTo>
                  <a:pt x="0" y="837"/>
                </a:lnTo>
                <a:lnTo>
                  <a:pt x="0" y="833"/>
                </a:lnTo>
                <a:lnTo>
                  <a:pt x="0" y="827"/>
                </a:lnTo>
                <a:lnTo>
                  <a:pt x="2" y="824"/>
                </a:lnTo>
                <a:lnTo>
                  <a:pt x="4" y="822"/>
                </a:lnTo>
                <a:lnTo>
                  <a:pt x="6" y="818"/>
                </a:lnTo>
                <a:lnTo>
                  <a:pt x="9" y="814"/>
                </a:lnTo>
                <a:lnTo>
                  <a:pt x="15" y="810"/>
                </a:lnTo>
                <a:lnTo>
                  <a:pt x="25" y="804"/>
                </a:lnTo>
                <a:lnTo>
                  <a:pt x="34" y="802"/>
                </a:lnTo>
                <a:lnTo>
                  <a:pt x="46" y="800"/>
                </a:lnTo>
                <a:lnTo>
                  <a:pt x="59" y="800"/>
                </a:lnTo>
                <a:lnTo>
                  <a:pt x="73" y="799"/>
                </a:lnTo>
                <a:lnTo>
                  <a:pt x="86" y="799"/>
                </a:lnTo>
                <a:lnTo>
                  <a:pt x="98" y="795"/>
                </a:lnTo>
                <a:lnTo>
                  <a:pt x="107" y="793"/>
                </a:lnTo>
                <a:lnTo>
                  <a:pt x="117" y="789"/>
                </a:lnTo>
                <a:lnTo>
                  <a:pt x="126" y="785"/>
                </a:lnTo>
                <a:lnTo>
                  <a:pt x="146" y="776"/>
                </a:lnTo>
                <a:lnTo>
                  <a:pt x="146" y="774"/>
                </a:lnTo>
                <a:lnTo>
                  <a:pt x="148" y="772"/>
                </a:lnTo>
                <a:lnTo>
                  <a:pt x="151" y="770"/>
                </a:lnTo>
                <a:lnTo>
                  <a:pt x="153" y="766"/>
                </a:lnTo>
                <a:lnTo>
                  <a:pt x="157" y="760"/>
                </a:lnTo>
                <a:lnTo>
                  <a:pt x="161" y="756"/>
                </a:lnTo>
                <a:lnTo>
                  <a:pt x="165" y="751"/>
                </a:lnTo>
                <a:lnTo>
                  <a:pt x="171" y="743"/>
                </a:lnTo>
                <a:lnTo>
                  <a:pt x="176" y="735"/>
                </a:lnTo>
                <a:lnTo>
                  <a:pt x="182" y="728"/>
                </a:lnTo>
                <a:lnTo>
                  <a:pt x="188" y="720"/>
                </a:lnTo>
                <a:lnTo>
                  <a:pt x="194" y="710"/>
                </a:lnTo>
                <a:lnTo>
                  <a:pt x="201" y="701"/>
                </a:lnTo>
                <a:lnTo>
                  <a:pt x="209" y="689"/>
                </a:lnTo>
                <a:lnTo>
                  <a:pt x="217" y="678"/>
                </a:lnTo>
                <a:lnTo>
                  <a:pt x="226" y="666"/>
                </a:lnTo>
                <a:lnTo>
                  <a:pt x="234" y="653"/>
                </a:lnTo>
                <a:lnTo>
                  <a:pt x="244" y="639"/>
                </a:lnTo>
                <a:lnTo>
                  <a:pt x="253" y="624"/>
                </a:lnTo>
                <a:lnTo>
                  <a:pt x="263" y="609"/>
                </a:lnTo>
                <a:lnTo>
                  <a:pt x="274" y="593"/>
                </a:lnTo>
                <a:lnTo>
                  <a:pt x="284" y="576"/>
                </a:lnTo>
                <a:lnTo>
                  <a:pt x="295" y="559"/>
                </a:lnTo>
                <a:lnTo>
                  <a:pt x="307" y="541"/>
                </a:lnTo>
                <a:lnTo>
                  <a:pt x="320" y="522"/>
                </a:lnTo>
                <a:lnTo>
                  <a:pt x="332" y="503"/>
                </a:lnTo>
                <a:lnTo>
                  <a:pt x="345" y="482"/>
                </a:lnTo>
                <a:lnTo>
                  <a:pt x="357" y="461"/>
                </a:lnTo>
                <a:lnTo>
                  <a:pt x="370" y="440"/>
                </a:lnTo>
                <a:lnTo>
                  <a:pt x="386" y="417"/>
                </a:lnTo>
                <a:lnTo>
                  <a:pt x="399" y="394"/>
                </a:lnTo>
                <a:lnTo>
                  <a:pt x="414" y="371"/>
                </a:lnTo>
                <a:lnTo>
                  <a:pt x="428" y="346"/>
                </a:lnTo>
                <a:lnTo>
                  <a:pt x="441" y="323"/>
                </a:lnTo>
                <a:lnTo>
                  <a:pt x="457" y="300"/>
                </a:lnTo>
                <a:lnTo>
                  <a:pt x="470" y="278"/>
                </a:lnTo>
                <a:lnTo>
                  <a:pt x="483" y="257"/>
                </a:lnTo>
                <a:lnTo>
                  <a:pt x="495" y="238"/>
                </a:lnTo>
                <a:lnTo>
                  <a:pt x="508" y="219"/>
                </a:lnTo>
                <a:lnTo>
                  <a:pt x="520" y="202"/>
                </a:lnTo>
                <a:lnTo>
                  <a:pt x="531" y="182"/>
                </a:lnTo>
                <a:lnTo>
                  <a:pt x="543" y="167"/>
                </a:lnTo>
                <a:lnTo>
                  <a:pt x="553" y="150"/>
                </a:lnTo>
                <a:lnTo>
                  <a:pt x="564" y="136"/>
                </a:lnTo>
                <a:lnTo>
                  <a:pt x="574" y="121"/>
                </a:lnTo>
                <a:lnTo>
                  <a:pt x="583" y="108"/>
                </a:lnTo>
                <a:lnTo>
                  <a:pt x="593" y="96"/>
                </a:lnTo>
                <a:lnTo>
                  <a:pt x="602" y="83"/>
                </a:lnTo>
                <a:lnTo>
                  <a:pt x="610" y="73"/>
                </a:lnTo>
                <a:lnTo>
                  <a:pt x="618" y="61"/>
                </a:lnTo>
                <a:lnTo>
                  <a:pt x="625" y="52"/>
                </a:lnTo>
                <a:lnTo>
                  <a:pt x="633" y="44"/>
                </a:lnTo>
                <a:lnTo>
                  <a:pt x="639" y="37"/>
                </a:lnTo>
                <a:lnTo>
                  <a:pt x="647" y="29"/>
                </a:lnTo>
                <a:lnTo>
                  <a:pt x="652" y="23"/>
                </a:lnTo>
                <a:lnTo>
                  <a:pt x="656" y="17"/>
                </a:lnTo>
                <a:lnTo>
                  <a:pt x="662" y="12"/>
                </a:lnTo>
                <a:lnTo>
                  <a:pt x="666" y="8"/>
                </a:lnTo>
                <a:lnTo>
                  <a:pt x="670" y="4"/>
                </a:lnTo>
                <a:lnTo>
                  <a:pt x="673" y="2"/>
                </a:lnTo>
                <a:lnTo>
                  <a:pt x="675" y="0"/>
                </a:lnTo>
                <a:lnTo>
                  <a:pt x="679" y="0"/>
                </a:lnTo>
                <a:lnTo>
                  <a:pt x="681" y="0"/>
                </a:lnTo>
                <a:lnTo>
                  <a:pt x="683" y="2"/>
                </a:lnTo>
                <a:lnTo>
                  <a:pt x="683" y="6"/>
                </a:lnTo>
                <a:lnTo>
                  <a:pt x="683" y="8"/>
                </a:lnTo>
                <a:lnTo>
                  <a:pt x="683" y="14"/>
                </a:lnTo>
                <a:lnTo>
                  <a:pt x="681" y="19"/>
                </a:lnTo>
                <a:lnTo>
                  <a:pt x="679" y="25"/>
                </a:lnTo>
                <a:lnTo>
                  <a:pt x="677" y="33"/>
                </a:lnTo>
                <a:lnTo>
                  <a:pt x="675" y="42"/>
                </a:lnTo>
                <a:lnTo>
                  <a:pt x="672" y="52"/>
                </a:lnTo>
                <a:lnTo>
                  <a:pt x="668" y="61"/>
                </a:lnTo>
                <a:lnTo>
                  <a:pt x="664" y="75"/>
                </a:lnTo>
                <a:lnTo>
                  <a:pt x="660" y="86"/>
                </a:lnTo>
                <a:lnTo>
                  <a:pt x="654" y="100"/>
                </a:lnTo>
                <a:lnTo>
                  <a:pt x="649" y="115"/>
                </a:lnTo>
                <a:lnTo>
                  <a:pt x="643" y="131"/>
                </a:lnTo>
                <a:lnTo>
                  <a:pt x="637" y="148"/>
                </a:lnTo>
                <a:lnTo>
                  <a:pt x="629" y="165"/>
                </a:lnTo>
                <a:lnTo>
                  <a:pt x="622" y="184"/>
                </a:lnTo>
                <a:lnTo>
                  <a:pt x="614" y="204"/>
                </a:lnTo>
                <a:lnTo>
                  <a:pt x="606" y="225"/>
                </a:lnTo>
                <a:lnTo>
                  <a:pt x="599" y="248"/>
                </a:lnTo>
                <a:lnTo>
                  <a:pt x="589" y="269"/>
                </a:lnTo>
                <a:lnTo>
                  <a:pt x="579" y="294"/>
                </a:lnTo>
                <a:lnTo>
                  <a:pt x="570" y="319"/>
                </a:lnTo>
                <a:lnTo>
                  <a:pt x="558" y="344"/>
                </a:lnTo>
                <a:lnTo>
                  <a:pt x="549" y="371"/>
                </a:lnTo>
                <a:lnTo>
                  <a:pt x="537" y="399"/>
                </a:lnTo>
                <a:lnTo>
                  <a:pt x="526" y="428"/>
                </a:lnTo>
                <a:lnTo>
                  <a:pt x="512" y="459"/>
                </a:lnTo>
                <a:lnTo>
                  <a:pt x="501" y="490"/>
                </a:lnTo>
                <a:lnTo>
                  <a:pt x="487" y="520"/>
                </a:lnTo>
                <a:lnTo>
                  <a:pt x="474" y="555"/>
                </a:lnTo>
                <a:lnTo>
                  <a:pt x="460" y="587"/>
                </a:lnTo>
                <a:lnTo>
                  <a:pt x="445" y="622"/>
                </a:lnTo>
                <a:lnTo>
                  <a:pt x="432" y="653"/>
                </a:lnTo>
                <a:lnTo>
                  <a:pt x="420" y="683"/>
                </a:lnTo>
                <a:lnTo>
                  <a:pt x="407" y="714"/>
                </a:lnTo>
                <a:lnTo>
                  <a:pt x="393" y="743"/>
                </a:lnTo>
                <a:lnTo>
                  <a:pt x="382" y="770"/>
                </a:lnTo>
                <a:lnTo>
                  <a:pt x="370" y="797"/>
                </a:lnTo>
                <a:lnTo>
                  <a:pt x="359" y="822"/>
                </a:lnTo>
                <a:lnTo>
                  <a:pt x="349" y="847"/>
                </a:lnTo>
                <a:lnTo>
                  <a:pt x="338" y="870"/>
                </a:lnTo>
                <a:lnTo>
                  <a:pt x="328" y="893"/>
                </a:lnTo>
                <a:lnTo>
                  <a:pt x="318" y="914"/>
                </a:lnTo>
                <a:lnTo>
                  <a:pt x="309" y="933"/>
                </a:lnTo>
                <a:lnTo>
                  <a:pt x="299" y="952"/>
                </a:lnTo>
                <a:lnTo>
                  <a:pt x="292" y="971"/>
                </a:lnTo>
                <a:lnTo>
                  <a:pt x="284" y="989"/>
                </a:lnTo>
                <a:lnTo>
                  <a:pt x="274" y="1004"/>
                </a:lnTo>
                <a:lnTo>
                  <a:pt x="268" y="1019"/>
                </a:lnTo>
                <a:lnTo>
                  <a:pt x="261" y="1033"/>
                </a:lnTo>
                <a:lnTo>
                  <a:pt x="255" y="1046"/>
                </a:lnTo>
                <a:lnTo>
                  <a:pt x="247" y="1058"/>
                </a:lnTo>
                <a:lnTo>
                  <a:pt x="242" y="1067"/>
                </a:lnTo>
                <a:lnTo>
                  <a:pt x="236" y="1079"/>
                </a:lnTo>
                <a:lnTo>
                  <a:pt x="232" y="1086"/>
                </a:lnTo>
                <a:lnTo>
                  <a:pt x="226" y="1094"/>
                </a:lnTo>
                <a:lnTo>
                  <a:pt x="222" y="1102"/>
                </a:lnTo>
                <a:lnTo>
                  <a:pt x="219" y="1108"/>
                </a:lnTo>
                <a:lnTo>
                  <a:pt x="215" y="1111"/>
                </a:lnTo>
                <a:lnTo>
                  <a:pt x="211" y="1115"/>
                </a:lnTo>
                <a:lnTo>
                  <a:pt x="209" y="1117"/>
                </a:lnTo>
                <a:lnTo>
                  <a:pt x="207" y="11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Freeform 33"/>
          <p:cNvSpPr/>
          <p:nvPr/>
        </p:nvSpPr>
        <p:spPr>
          <a:xfrm>
            <a:off x="5559480" y="3360600"/>
            <a:ext cx="387360" cy="284400"/>
          </a:xfrm>
          <a:custGeom>
            <a:avLst/>
            <a:gdLst/>
            <a:ahLst/>
            <a:rect l="l" t="t" r="r" b="b"/>
            <a:pathLst>
              <a:path w="488" h="357">
                <a:moveTo>
                  <a:pt x="0" y="0"/>
                </a:moveTo>
                <a:lnTo>
                  <a:pt x="12" y="0"/>
                </a:lnTo>
                <a:lnTo>
                  <a:pt x="23" y="2"/>
                </a:lnTo>
                <a:lnTo>
                  <a:pt x="37" y="2"/>
                </a:lnTo>
                <a:lnTo>
                  <a:pt x="50" y="2"/>
                </a:lnTo>
                <a:lnTo>
                  <a:pt x="77" y="6"/>
                </a:lnTo>
                <a:lnTo>
                  <a:pt x="106" y="8"/>
                </a:lnTo>
                <a:lnTo>
                  <a:pt x="136" y="12"/>
                </a:lnTo>
                <a:lnTo>
                  <a:pt x="167" y="16"/>
                </a:lnTo>
                <a:lnTo>
                  <a:pt x="200" y="21"/>
                </a:lnTo>
                <a:lnTo>
                  <a:pt x="230" y="25"/>
                </a:lnTo>
                <a:lnTo>
                  <a:pt x="246" y="31"/>
                </a:lnTo>
                <a:lnTo>
                  <a:pt x="261" y="35"/>
                </a:lnTo>
                <a:lnTo>
                  <a:pt x="277" y="41"/>
                </a:lnTo>
                <a:lnTo>
                  <a:pt x="290" y="46"/>
                </a:lnTo>
                <a:lnTo>
                  <a:pt x="303" y="52"/>
                </a:lnTo>
                <a:lnTo>
                  <a:pt x="317" y="58"/>
                </a:lnTo>
                <a:lnTo>
                  <a:pt x="342" y="69"/>
                </a:lnTo>
                <a:lnTo>
                  <a:pt x="365" y="83"/>
                </a:lnTo>
                <a:lnTo>
                  <a:pt x="386" y="96"/>
                </a:lnTo>
                <a:lnTo>
                  <a:pt x="407" y="110"/>
                </a:lnTo>
                <a:lnTo>
                  <a:pt x="426" y="125"/>
                </a:lnTo>
                <a:lnTo>
                  <a:pt x="440" y="142"/>
                </a:lnTo>
                <a:lnTo>
                  <a:pt x="451" y="162"/>
                </a:lnTo>
                <a:lnTo>
                  <a:pt x="461" y="179"/>
                </a:lnTo>
                <a:lnTo>
                  <a:pt x="470" y="196"/>
                </a:lnTo>
                <a:lnTo>
                  <a:pt x="476" y="213"/>
                </a:lnTo>
                <a:lnTo>
                  <a:pt x="480" y="221"/>
                </a:lnTo>
                <a:lnTo>
                  <a:pt x="482" y="229"/>
                </a:lnTo>
                <a:lnTo>
                  <a:pt x="484" y="236"/>
                </a:lnTo>
                <a:lnTo>
                  <a:pt x="486" y="244"/>
                </a:lnTo>
                <a:lnTo>
                  <a:pt x="486" y="252"/>
                </a:lnTo>
                <a:lnTo>
                  <a:pt x="488" y="259"/>
                </a:lnTo>
                <a:lnTo>
                  <a:pt x="488" y="267"/>
                </a:lnTo>
                <a:lnTo>
                  <a:pt x="488" y="277"/>
                </a:lnTo>
                <a:lnTo>
                  <a:pt x="486" y="284"/>
                </a:lnTo>
                <a:lnTo>
                  <a:pt x="486" y="292"/>
                </a:lnTo>
                <a:lnTo>
                  <a:pt x="486" y="298"/>
                </a:lnTo>
                <a:lnTo>
                  <a:pt x="486" y="306"/>
                </a:lnTo>
                <a:lnTo>
                  <a:pt x="486" y="315"/>
                </a:lnTo>
                <a:lnTo>
                  <a:pt x="484" y="325"/>
                </a:lnTo>
                <a:lnTo>
                  <a:pt x="482" y="334"/>
                </a:lnTo>
                <a:lnTo>
                  <a:pt x="478" y="340"/>
                </a:lnTo>
                <a:lnTo>
                  <a:pt x="474" y="346"/>
                </a:lnTo>
                <a:lnTo>
                  <a:pt x="470" y="350"/>
                </a:lnTo>
                <a:lnTo>
                  <a:pt x="463" y="352"/>
                </a:lnTo>
                <a:lnTo>
                  <a:pt x="455" y="355"/>
                </a:lnTo>
                <a:lnTo>
                  <a:pt x="447" y="355"/>
                </a:lnTo>
                <a:lnTo>
                  <a:pt x="438" y="357"/>
                </a:lnTo>
                <a:lnTo>
                  <a:pt x="426" y="357"/>
                </a:lnTo>
                <a:lnTo>
                  <a:pt x="415" y="357"/>
                </a:lnTo>
                <a:lnTo>
                  <a:pt x="401" y="357"/>
                </a:lnTo>
                <a:lnTo>
                  <a:pt x="394" y="357"/>
                </a:lnTo>
                <a:lnTo>
                  <a:pt x="386" y="355"/>
                </a:lnTo>
                <a:lnTo>
                  <a:pt x="378" y="354"/>
                </a:lnTo>
                <a:lnTo>
                  <a:pt x="369" y="350"/>
                </a:lnTo>
                <a:lnTo>
                  <a:pt x="359" y="346"/>
                </a:lnTo>
                <a:lnTo>
                  <a:pt x="349" y="342"/>
                </a:lnTo>
                <a:lnTo>
                  <a:pt x="338" y="336"/>
                </a:lnTo>
                <a:lnTo>
                  <a:pt x="326" y="330"/>
                </a:lnTo>
                <a:lnTo>
                  <a:pt x="315" y="323"/>
                </a:lnTo>
                <a:lnTo>
                  <a:pt x="301" y="315"/>
                </a:lnTo>
                <a:lnTo>
                  <a:pt x="288" y="306"/>
                </a:lnTo>
                <a:lnTo>
                  <a:pt x="273" y="296"/>
                </a:lnTo>
                <a:lnTo>
                  <a:pt x="257" y="284"/>
                </a:lnTo>
                <a:lnTo>
                  <a:pt x="242" y="273"/>
                </a:lnTo>
                <a:lnTo>
                  <a:pt x="225" y="261"/>
                </a:lnTo>
                <a:lnTo>
                  <a:pt x="207" y="248"/>
                </a:lnTo>
                <a:lnTo>
                  <a:pt x="188" y="233"/>
                </a:lnTo>
                <a:lnTo>
                  <a:pt x="171" y="219"/>
                </a:lnTo>
                <a:lnTo>
                  <a:pt x="154" y="204"/>
                </a:lnTo>
                <a:lnTo>
                  <a:pt x="138" y="188"/>
                </a:lnTo>
                <a:lnTo>
                  <a:pt x="123" y="175"/>
                </a:lnTo>
                <a:lnTo>
                  <a:pt x="108" y="160"/>
                </a:lnTo>
                <a:lnTo>
                  <a:pt x="94" y="144"/>
                </a:lnTo>
                <a:lnTo>
                  <a:pt x="81" y="129"/>
                </a:lnTo>
                <a:lnTo>
                  <a:pt x="67" y="114"/>
                </a:lnTo>
                <a:lnTo>
                  <a:pt x="56" y="96"/>
                </a:lnTo>
                <a:lnTo>
                  <a:pt x="44" y="81"/>
                </a:lnTo>
                <a:lnTo>
                  <a:pt x="33" y="66"/>
                </a:lnTo>
                <a:lnTo>
                  <a:pt x="23" y="48"/>
                </a:lnTo>
                <a:lnTo>
                  <a:pt x="14" y="33"/>
                </a:lnTo>
                <a:lnTo>
                  <a:pt x="6" y="18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任意多边形 8"/>
          <p:cNvSpPr/>
          <p:nvPr/>
        </p:nvSpPr>
        <p:spPr>
          <a:xfrm>
            <a:off x="1706400" y="25686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赫   瘸   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痹   眩   猝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3"/>
          <p:cNvSpPr/>
          <p:nvPr/>
        </p:nvSpPr>
        <p:spPr>
          <a:xfrm>
            <a:off x="1710720" y="2286000"/>
            <a:ext cx="7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6"/>
          <p:cNvSpPr/>
          <p:nvPr/>
        </p:nvSpPr>
        <p:spPr>
          <a:xfrm>
            <a:off x="3116880" y="2309760"/>
            <a:ext cx="10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qu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9"/>
          <p:cNvSpPr/>
          <p:nvPr/>
        </p:nvSpPr>
        <p:spPr>
          <a:xfrm>
            <a:off x="4539960" y="231624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u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5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76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9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  <p:sp>
        <p:nvSpPr>
          <p:cNvPr id="280" name="矩形 3"/>
          <p:cNvSpPr/>
          <p:nvPr/>
        </p:nvSpPr>
        <p:spPr>
          <a:xfrm>
            <a:off x="1814040" y="3692520"/>
            <a:ext cx="6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6"/>
          <p:cNvSpPr/>
          <p:nvPr/>
        </p:nvSpPr>
        <p:spPr>
          <a:xfrm>
            <a:off x="2989440" y="371628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uà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9"/>
          <p:cNvSpPr/>
          <p:nvPr/>
        </p:nvSpPr>
        <p:spPr>
          <a:xfrm>
            <a:off x="4791960" y="3722760"/>
            <a:ext cx="71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"/>
          <p:cNvSpPr/>
          <p:nvPr/>
        </p:nvSpPr>
        <p:spPr>
          <a:xfrm>
            <a:off x="1755720" y="303840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组合 4"/>
          <p:cNvGrpSpPr/>
          <p:nvPr/>
        </p:nvGrpSpPr>
        <p:grpSpPr>
          <a:xfrm>
            <a:off x="2281320" y="2274840"/>
            <a:ext cx="4443480" cy="2013120"/>
            <a:chOff x="2281320" y="2274840"/>
            <a:chExt cx="4443480" cy="2013120"/>
          </a:xfrm>
        </p:grpSpPr>
        <p:sp>
          <p:nvSpPr>
            <p:cNvPr id="285" name="左大括号 2"/>
            <p:cNvSpPr/>
            <p:nvPr/>
          </p:nvSpPr>
          <p:spPr>
            <a:xfrm>
              <a:off x="2281320" y="2600280"/>
              <a:ext cx="347400" cy="1440000"/>
            </a:xfrm>
            <a:custGeom>
              <a:avLst/>
              <a:gdLst>
                <a:gd name="textAreaLeft" fmla="*/ 222120 w 347400"/>
                <a:gd name="textAreaRight" fmla="*/ 347400 w 347400"/>
                <a:gd name="textAreaTop" fmla="*/ 5400 h 1440000"/>
                <a:gd name="textAreaBottom" fmla="*/ 14346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8"/>
                    <a:pt x="10800" y="275"/>
                  </a:cubicBezTo>
                  <a:lnTo>
                    <a:pt x="10800" y="10525"/>
                  </a:lnTo>
                  <a:cubicBezTo>
                    <a:pt x="10800" y="10663"/>
                    <a:pt x="5400" y="10800"/>
                    <a:pt x="0" y="10800"/>
                  </a:cubicBezTo>
                  <a:cubicBezTo>
                    <a:pt x="5400" y="10800"/>
                    <a:pt x="10800" y="10938"/>
                    <a:pt x="10800" y="11075"/>
                  </a:cubicBezTo>
                  <a:lnTo>
                    <a:pt x="10800" y="21325"/>
                  </a:lnTo>
                  <a:cubicBezTo>
                    <a:pt x="10800" y="21463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TextBox 3"/>
            <p:cNvSpPr/>
            <p:nvPr/>
          </p:nvSpPr>
          <p:spPr>
            <a:xfrm>
              <a:off x="2593800" y="2274840"/>
              <a:ext cx="413100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è  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凶恶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wù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（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可恶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ě  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恶心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88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矩形 1"/>
          <p:cNvSpPr/>
          <p:nvPr/>
        </p:nvSpPr>
        <p:spPr>
          <a:xfrm>
            <a:off x="1163520" y="2046240"/>
            <a:ext cx="74566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噬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漫游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灼痛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麻痹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2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93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6" name="矩形 1"/>
          <p:cNvSpPr/>
          <p:nvPr/>
        </p:nvSpPr>
        <p:spPr>
          <a:xfrm>
            <a:off x="1974960" y="2041560"/>
            <a:ext cx="66452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吞，咬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这种感觉就像万蚁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噬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心，十分可怕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本文指在网络世界中随意游玩，漫无目的地游走。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漫游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于网络中，他学习了不少知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文中指在苏珊旧病复发时所感到像火烧一样的疼痛。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他觉得眼睛被这一派红色的火焰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灼痛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身体某部分的感觉或运动功能部分丧失或完全丧失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矩形 1"/>
          <p:cNvSpPr/>
          <p:nvPr/>
        </p:nvSpPr>
        <p:spPr>
          <a:xfrm>
            <a:off x="941400" y="1808280"/>
            <a:ext cx="74563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救援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猝发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心急如焚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灵机一动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8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99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2" name="矩形 1"/>
          <p:cNvSpPr/>
          <p:nvPr/>
        </p:nvSpPr>
        <p:spPr>
          <a:xfrm>
            <a:off x="1752480" y="1798560"/>
            <a:ext cx="710748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救助支援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一个小时以后，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救援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队伍终于来了，他得救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突然发作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几天以后，母亲因心脏病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猝发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而去世。这事发生得太突然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着急得像被火烧着一样，形容非常着急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火车就要开了，可同伴还没到，我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心急如焚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形容突然间想出了办法。灵机，灵巧的心思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他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灵机一动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，想出了一个好办法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1"/>
          <p:cNvSpPr/>
          <p:nvPr/>
        </p:nvSpPr>
        <p:spPr>
          <a:xfrm>
            <a:off x="4081320" y="1792440"/>
            <a:ext cx="120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凝视  注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2"/>
          <p:cNvSpPr/>
          <p:nvPr/>
        </p:nvSpPr>
        <p:spPr>
          <a:xfrm>
            <a:off x="2273400" y="2289240"/>
            <a:ext cx="625788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都指聚精会神地看。都是动词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凝视”是带着深沉或崇敬之感，目光集中在一点较久地看，它的对象一般是具体的、静止的。“注视”是很注意地看，时间可长可短，它的对象可以是静止的，也可以是活动的；可以是具体的，也可以是较抽象的。“凝视”比“注视”程度深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他</a:t>
            </a:r>
            <a:r>
              <a:rPr b="1" lang="zh-CN" sz="2100" spc="-1" strike="noStrike">
                <a:solidFill>
                  <a:srgbClr val="ff33cc"/>
                </a:solidFill>
                <a:latin typeface="宋体"/>
              </a:rPr>
              <a:t>凝视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窗外良久，终于放弃了出门的念头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在全场观众的</a:t>
            </a:r>
            <a:r>
              <a:rPr b="1" lang="zh-CN" sz="2100" spc="-1" strike="noStrike">
                <a:solidFill>
                  <a:srgbClr val="ff33cc"/>
                </a:solidFill>
                <a:latin typeface="宋体"/>
              </a:rPr>
              <a:t>注视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下他完成了高难度的动作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306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组合 4"/>
          <p:cNvGrpSpPr/>
          <p:nvPr/>
        </p:nvGrpSpPr>
        <p:grpSpPr>
          <a:xfrm>
            <a:off x="792000" y="2365200"/>
            <a:ext cx="1670040" cy="414000"/>
            <a:chOff x="792000" y="2365200"/>
            <a:chExt cx="1670040" cy="414000"/>
          </a:xfrm>
        </p:grpSpPr>
        <p:pic>
          <p:nvPicPr>
            <p:cNvPr id="310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792000" y="241956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Box 3"/>
            <p:cNvSpPr/>
            <p:nvPr/>
          </p:nvSpPr>
          <p:spPr>
            <a:xfrm>
              <a:off x="1134720" y="2365200"/>
              <a:ext cx="13273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1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20"/>
          <p:cNvGrpSpPr/>
          <p:nvPr/>
        </p:nvGrpSpPr>
        <p:grpSpPr>
          <a:xfrm>
            <a:off x="792000" y="2932200"/>
            <a:ext cx="1670040" cy="414000"/>
            <a:chOff x="792000" y="2932200"/>
            <a:chExt cx="1670040" cy="414000"/>
          </a:xfrm>
        </p:grpSpPr>
        <p:pic>
          <p:nvPicPr>
            <p:cNvPr id="313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792000" y="2986560"/>
              <a:ext cx="366120" cy="3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Box 22"/>
            <p:cNvSpPr/>
            <p:nvPr/>
          </p:nvSpPr>
          <p:spPr>
            <a:xfrm>
              <a:off x="1134720" y="2932200"/>
              <a:ext cx="13273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1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组合 23"/>
          <p:cNvGrpSpPr/>
          <p:nvPr/>
        </p:nvGrpSpPr>
        <p:grpSpPr>
          <a:xfrm>
            <a:off x="792000" y="5418000"/>
            <a:ext cx="1670040" cy="414000"/>
            <a:chOff x="792000" y="5418000"/>
            <a:chExt cx="1670040" cy="414000"/>
          </a:xfrm>
        </p:grpSpPr>
        <p:pic>
          <p:nvPicPr>
            <p:cNvPr id="316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792000" y="547236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Box 25"/>
            <p:cNvSpPr/>
            <p:nvPr/>
          </p:nvSpPr>
          <p:spPr>
            <a:xfrm>
              <a:off x="1134720" y="5418000"/>
              <a:ext cx="13273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1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矩形 1"/>
          <p:cNvSpPr/>
          <p:nvPr/>
        </p:nvSpPr>
        <p:spPr>
          <a:xfrm>
            <a:off x="887400" y="1424160"/>
            <a:ext cx="74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-1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苏珊求助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芬兰的苏珊因为老毛病发作，在互联网上发出求救信号，被美国的桑恩看到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2-27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救助过程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桑恩、母亲和艾眉携手救助苏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8-29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苏珊获救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赫尔辛基来电：苏珊情况良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17"/>
          <p:cNvSpPr/>
          <p:nvPr/>
        </p:nvSpPr>
        <p:spPr>
          <a:xfrm>
            <a:off x="958680" y="2093760"/>
            <a:ext cx="72043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桑恩十分反感，他讨厌别人拿瘫痪来开玩笑。他准备换一个聊天室，但忽然停住，心想：万一她真是急病发作，那岂不是糟糕？我得帮她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矩形 5"/>
          <p:cNvSpPr/>
          <p:nvPr/>
        </p:nvSpPr>
        <p:spPr>
          <a:xfrm>
            <a:off x="851040" y="1471680"/>
            <a:ext cx="731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找一找本文中桑恩的哪个想法使得苏珊获救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323" name="矩形 11"/>
          <p:cNvSpPr/>
          <p:nvPr/>
        </p:nvSpPr>
        <p:spPr>
          <a:xfrm>
            <a:off x="860400" y="2246400"/>
            <a:ext cx="7755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读课文，说一说本课的主要内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11"/>
          <p:cNvSpPr/>
          <p:nvPr/>
        </p:nvSpPr>
        <p:spPr>
          <a:xfrm>
            <a:off x="1017720" y="2909880"/>
            <a:ext cx="7380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课文描写了美国男孩桑恩靠小小的荧屏，利用神奇的网络挽救了远在大洋彼岸的芬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孩苏珊的生命的故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21" descr="C:\Users\Administrator\AppData\Roaming\Tencent\Users\2636117161\QQ\WinTemp\RichOle\{A3KON`[%I~]6`$D98)T7LU.png"/>
          <p:cNvPicPr/>
          <p:nvPr/>
        </p:nvPicPr>
        <p:blipFill>
          <a:blip r:embed="rId1"/>
          <a:stretch/>
        </p:blipFill>
        <p:spPr>
          <a:xfrm>
            <a:off x="2060640" y="2401920"/>
            <a:ext cx="5281560" cy="305748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22"/>
          <p:cNvGrpSpPr/>
          <p:nvPr/>
        </p:nvGrpSpPr>
        <p:grpSpPr>
          <a:xfrm>
            <a:off x="2019240" y="5640480"/>
            <a:ext cx="5349960" cy="717480"/>
            <a:chOff x="2019240" y="5640480"/>
            <a:chExt cx="5349960" cy="717480"/>
          </a:xfrm>
        </p:grpSpPr>
        <p:pic>
          <p:nvPicPr>
            <p:cNvPr id="62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2019240" y="5640480"/>
              <a:ext cx="187524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3747960" y="5640480"/>
              <a:ext cx="187524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5493960" y="5640480"/>
              <a:ext cx="187524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流程图: 摘录 40"/>
            <p:cNvSpPr/>
            <p:nvPr/>
          </p:nvSpPr>
          <p:spPr>
            <a:xfrm rot="5400000">
              <a:off x="374364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流程图: 摘录 41"/>
            <p:cNvSpPr/>
            <p:nvPr/>
          </p:nvSpPr>
          <p:spPr>
            <a:xfrm rot="5400000">
              <a:off x="549252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组合 13336"/>
          <p:cNvGrpSpPr/>
          <p:nvPr/>
        </p:nvGrpSpPr>
        <p:grpSpPr>
          <a:xfrm>
            <a:off x="3086280" y="3241800"/>
            <a:ext cx="3186000" cy="1150920"/>
            <a:chOff x="3086280" y="3241800"/>
            <a:chExt cx="3186000" cy="1150920"/>
          </a:xfrm>
        </p:grpSpPr>
        <p:sp>
          <p:nvSpPr>
            <p:cNvPr id="68" name="矩形 13324"/>
            <p:cNvSpPr/>
            <p:nvPr/>
          </p:nvSpPr>
          <p:spPr>
            <a:xfrm>
              <a:off x="3307680" y="3241800"/>
              <a:ext cx="2729520" cy="110196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" name="图片 46" descr="枫叶副本"/>
            <p:cNvPicPr/>
            <p:nvPr/>
          </p:nvPicPr>
          <p:blipFill>
            <a:blip r:embed="rId7"/>
            <a:stretch/>
          </p:blipFill>
          <p:spPr>
            <a:xfrm>
              <a:off x="3989160" y="3326760"/>
              <a:ext cx="91116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矩形 47" descr=""/>
            <p:cNvPicPr/>
            <p:nvPr/>
          </p:nvPicPr>
          <p:blipFill>
            <a:blip r:embed="rId8"/>
            <a:stretch/>
          </p:blipFill>
          <p:spPr>
            <a:xfrm>
              <a:off x="3086280" y="3283920"/>
              <a:ext cx="3186000" cy="110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组合 13338"/>
          <p:cNvGrpSpPr/>
          <p:nvPr/>
        </p:nvGrpSpPr>
        <p:grpSpPr>
          <a:xfrm>
            <a:off x="2325600" y="905040"/>
            <a:ext cx="4819680" cy="1180800"/>
            <a:chOff x="2325600" y="905040"/>
            <a:chExt cx="4819680" cy="1180800"/>
          </a:xfrm>
        </p:grpSpPr>
        <p:sp>
          <p:nvSpPr>
            <p:cNvPr id="72" name="Text Box 2"/>
            <p:cNvSpPr/>
            <p:nvPr/>
          </p:nvSpPr>
          <p:spPr>
            <a:xfrm>
              <a:off x="358452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网上呼救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" name="组合 13337"/>
            <p:cNvGrpSpPr/>
            <p:nvPr/>
          </p:nvGrpSpPr>
          <p:grpSpPr>
            <a:xfrm>
              <a:off x="2325600" y="905040"/>
              <a:ext cx="1180800" cy="1180800"/>
              <a:chOff x="2325600" y="905040"/>
              <a:chExt cx="1180800" cy="1180800"/>
            </a:xfrm>
          </p:grpSpPr>
          <p:sp>
            <p:nvSpPr>
              <p:cNvPr id="74" name="AutoShape 11"/>
              <p:cNvSpPr/>
              <p:nvPr/>
            </p:nvSpPr>
            <p:spPr>
              <a:xfrm>
                <a:off x="232560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文本框 13"/>
              <p:cNvSpPr/>
              <p:nvPr/>
            </p:nvSpPr>
            <p:spPr>
              <a:xfrm>
                <a:off x="2390760" y="95796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27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矩形 7167"/>
          <p:cNvSpPr/>
          <p:nvPr/>
        </p:nvSpPr>
        <p:spPr>
          <a:xfrm>
            <a:off x="1020600" y="2300400"/>
            <a:ext cx="805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把下列加点字的不正确的读音用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\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划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灼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uó   zu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骨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uǐ   su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赫赫有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ì    h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麻痹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ì   bì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猝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ú   c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晕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uà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uá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41"/>
          <p:cNvSpPr/>
          <p:nvPr/>
        </p:nvSpPr>
        <p:spPr>
          <a:xfrm>
            <a:off x="1569960" y="3137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矩形 41"/>
          <p:cNvSpPr/>
          <p:nvPr/>
        </p:nvSpPr>
        <p:spPr>
          <a:xfrm>
            <a:off x="1569960" y="3711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41"/>
          <p:cNvSpPr/>
          <p:nvPr/>
        </p:nvSpPr>
        <p:spPr>
          <a:xfrm>
            <a:off x="1569960" y="4265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矩形 20"/>
          <p:cNvSpPr/>
          <p:nvPr/>
        </p:nvSpPr>
        <p:spPr>
          <a:xfrm>
            <a:off x="3050640" y="353232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31" name="矩形 41"/>
          <p:cNvSpPr/>
          <p:nvPr/>
        </p:nvSpPr>
        <p:spPr>
          <a:xfrm>
            <a:off x="5122800" y="312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41"/>
          <p:cNvSpPr/>
          <p:nvPr/>
        </p:nvSpPr>
        <p:spPr>
          <a:xfrm>
            <a:off x="5110200" y="369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矩形 41"/>
          <p:cNvSpPr/>
          <p:nvPr/>
        </p:nvSpPr>
        <p:spPr>
          <a:xfrm>
            <a:off x="5105160" y="4268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20"/>
          <p:cNvSpPr/>
          <p:nvPr/>
        </p:nvSpPr>
        <p:spPr>
          <a:xfrm>
            <a:off x="5730480" y="351936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20"/>
          <p:cNvSpPr/>
          <p:nvPr/>
        </p:nvSpPr>
        <p:spPr>
          <a:xfrm>
            <a:off x="2380680" y="406728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20"/>
          <p:cNvSpPr/>
          <p:nvPr/>
        </p:nvSpPr>
        <p:spPr>
          <a:xfrm>
            <a:off x="6657480" y="406872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20"/>
          <p:cNvSpPr/>
          <p:nvPr/>
        </p:nvSpPr>
        <p:spPr>
          <a:xfrm>
            <a:off x="6276600" y="297648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矩形 20"/>
          <p:cNvSpPr/>
          <p:nvPr/>
        </p:nvSpPr>
        <p:spPr>
          <a:xfrm>
            <a:off x="3193560" y="297504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矩形 3"/>
          <p:cNvSpPr/>
          <p:nvPr/>
        </p:nvSpPr>
        <p:spPr>
          <a:xfrm>
            <a:off x="846000" y="1177920"/>
            <a:ext cx="727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能根据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ān   huàn      zāo   ɡāo      xiào  chuǎn     ɡǔ  su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uán  zhù        nǚ   lánɡ      línɡ  chén      qué   tu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4695840" y="244620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4695840" y="403380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1298520" y="244620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1362240" y="403380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矩形 13"/>
          <p:cNvSpPr/>
          <p:nvPr/>
        </p:nvSpPr>
        <p:spPr>
          <a:xfrm>
            <a:off x="1488240" y="2448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瘫 痪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14"/>
          <p:cNvSpPr/>
          <p:nvPr/>
        </p:nvSpPr>
        <p:spPr>
          <a:xfrm>
            <a:off x="1551600" y="4049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援 助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矩形 25"/>
          <p:cNvSpPr/>
          <p:nvPr/>
        </p:nvSpPr>
        <p:spPr>
          <a:xfrm>
            <a:off x="4883760" y="2495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哮 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26"/>
          <p:cNvSpPr/>
          <p:nvPr/>
        </p:nvSpPr>
        <p:spPr>
          <a:xfrm>
            <a:off x="4879080" y="4046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凌 晨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6372360" y="401796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038400" y="40179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矩形 14"/>
          <p:cNvSpPr/>
          <p:nvPr/>
        </p:nvSpPr>
        <p:spPr>
          <a:xfrm>
            <a:off x="3228120" y="4033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女 郎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矩形 26"/>
          <p:cNvSpPr/>
          <p:nvPr/>
        </p:nvSpPr>
        <p:spPr>
          <a:xfrm>
            <a:off x="6591960" y="4017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瘸 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6324480" y="246204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2990880" y="246204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4" name="矩形 14"/>
          <p:cNvSpPr/>
          <p:nvPr/>
        </p:nvSpPr>
        <p:spPr>
          <a:xfrm>
            <a:off x="3153240" y="247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糟 糕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矩形 26"/>
          <p:cNvSpPr/>
          <p:nvPr/>
        </p:nvSpPr>
        <p:spPr>
          <a:xfrm>
            <a:off x="6522120" y="2489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骨 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矩形 2"/>
          <p:cNvSpPr/>
          <p:nvPr/>
        </p:nvSpPr>
        <p:spPr>
          <a:xfrm>
            <a:off x="576360" y="1689120"/>
            <a:ext cx="81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照样子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急如焚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怒气冲冲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孜孜不倦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矩形 1"/>
          <p:cNvSpPr/>
          <p:nvPr/>
        </p:nvSpPr>
        <p:spPr>
          <a:xfrm>
            <a:off x="3007800" y="232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挥汗如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矩形 3"/>
          <p:cNvSpPr/>
          <p:nvPr/>
        </p:nvSpPr>
        <p:spPr>
          <a:xfrm>
            <a:off x="5092200" y="232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胆小如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矩形 10"/>
          <p:cNvSpPr/>
          <p:nvPr/>
        </p:nvSpPr>
        <p:spPr>
          <a:xfrm>
            <a:off x="7168680" y="2343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心乱如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矩形 11"/>
          <p:cNvSpPr/>
          <p:nvPr/>
        </p:nvSpPr>
        <p:spPr>
          <a:xfrm>
            <a:off x="2993400" y="288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兴致勃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12"/>
          <p:cNvSpPr/>
          <p:nvPr/>
        </p:nvSpPr>
        <p:spPr>
          <a:xfrm>
            <a:off x="5073120" y="2873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气势汹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矩形 13"/>
          <p:cNvSpPr/>
          <p:nvPr/>
        </p:nvSpPr>
        <p:spPr>
          <a:xfrm>
            <a:off x="7183080" y="2886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得意洋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矩形 11"/>
          <p:cNvSpPr/>
          <p:nvPr/>
        </p:nvSpPr>
        <p:spPr>
          <a:xfrm>
            <a:off x="2993400" y="342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津津有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矩形 12"/>
          <p:cNvSpPr/>
          <p:nvPr/>
        </p:nvSpPr>
        <p:spPr>
          <a:xfrm>
            <a:off x="5077800" y="341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翩翩起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矩形 13"/>
          <p:cNvSpPr/>
          <p:nvPr/>
        </p:nvSpPr>
        <p:spPr>
          <a:xfrm>
            <a:off x="7193880" y="3436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井井有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矩形 1"/>
          <p:cNvSpPr/>
          <p:nvPr/>
        </p:nvSpPr>
        <p:spPr>
          <a:xfrm>
            <a:off x="755640" y="162864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写出句中加点词语的近义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图书馆内一片寂静，整个三楼只有她一个人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桑恩凝视着苏珊刚刚发出的信息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桑恩吃惊极了，连忙和母亲商量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1666800" y="2860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安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矩形 6"/>
          <p:cNvSpPr/>
          <p:nvPr/>
        </p:nvSpPr>
        <p:spPr>
          <a:xfrm>
            <a:off x="6249600" y="340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注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7"/>
          <p:cNvSpPr/>
          <p:nvPr/>
        </p:nvSpPr>
        <p:spPr>
          <a:xfrm>
            <a:off x="6265440" y="3963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惊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矩形 41"/>
          <p:cNvSpPr/>
          <p:nvPr/>
        </p:nvSpPr>
        <p:spPr>
          <a:xfrm>
            <a:off x="3207960" y="2462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41"/>
          <p:cNvSpPr/>
          <p:nvPr/>
        </p:nvSpPr>
        <p:spPr>
          <a:xfrm>
            <a:off x="1996920" y="4110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41"/>
          <p:cNvSpPr/>
          <p:nvPr/>
        </p:nvSpPr>
        <p:spPr>
          <a:xfrm>
            <a:off x="1969920" y="3571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矩形 1"/>
          <p:cNvSpPr/>
          <p:nvPr/>
        </p:nvSpPr>
        <p:spPr>
          <a:xfrm>
            <a:off x="826920" y="1166760"/>
            <a:ext cx="756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能按要求改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一她真是急病发作，那岂不是糟糕？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为陈述句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是在开玩笑。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为反问句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的确是一桩真的紧急事故。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缩句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5"/>
          <p:cNvSpPr/>
          <p:nvPr/>
        </p:nvSpPr>
        <p:spPr>
          <a:xfrm>
            <a:off x="3418560" y="23572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万一她真是急病发作，那就糟糕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6"/>
          <p:cNvSpPr/>
          <p:nvPr/>
        </p:nvSpPr>
        <p:spPr>
          <a:xfrm>
            <a:off x="1885680" y="457200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这是事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7"/>
          <p:cNvSpPr/>
          <p:nvPr/>
        </p:nvSpPr>
        <p:spPr>
          <a:xfrm>
            <a:off x="1824120" y="3441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你不是在开玩笑吧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6"/>
          <p:cNvSpPr/>
          <p:nvPr/>
        </p:nvSpPr>
        <p:spPr>
          <a:xfrm>
            <a:off x="866880" y="238140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认识“赫、灼”等生字，会写“瘫、痪”等生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，理清文章层次，把握文章梗概。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瘫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1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82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组合 8"/>
          <p:cNvGrpSpPr/>
          <p:nvPr/>
        </p:nvGrpSpPr>
        <p:grpSpPr>
          <a:xfrm>
            <a:off x="1400040" y="3975120"/>
            <a:ext cx="2840040" cy="1621440"/>
            <a:chOff x="1400040" y="3975120"/>
            <a:chExt cx="2840040" cy="1621440"/>
          </a:xfrm>
        </p:grpSpPr>
        <p:pic>
          <p:nvPicPr>
            <p:cNvPr id="86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矩形 2"/>
            <p:cNvSpPr/>
            <p:nvPr/>
          </p:nvSpPr>
          <p:spPr>
            <a:xfrm>
              <a:off x="1444680" y="458820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疒”撇伸 展； 内 部“ 亻”竖略长，“ ”略外漏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矩形 3"/>
          <p:cNvSpPr/>
          <p:nvPr/>
        </p:nvSpPr>
        <p:spPr>
          <a:xfrm>
            <a:off x="2124000" y="1868400"/>
            <a:ext cx="111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tā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24"/>
          <p:cNvSpPr/>
          <p:nvPr/>
        </p:nvSpPr>
        <p:spPr>
          <a:xfrm>
            <a:off x="7165800" y="3395520"/>
            <a:ext cx="250920" cy="201600"/>
          </a:xfrm>
          <a:custGeom>
            <a:avLst/>
            <a:gdLst/>
            <a:ahLst/>
            <a:rect l="l" t="t" r="r" b="b"/>
            <a:pathLst>
              <a:path w="317" h="255">
                <a:moveTo>
                  <a:pt x="309" y="218"/>
                </a:moveTo>
                <a:lnTo>
                  <a:pt x="303" y="228"/>
                </a:lnTo>
                <a:lnTo>
                  <a:pt x="298" y="236"/>
                </a:lnTo>
                <a:lnTo>
                  <a:pt x="292" y="241"/>
                </a:lnTo>
                <a:lnTo>
                  <a:pt x="284" y="247"/>
                </a:lnTo>
                <a:lnTo>
                  <a:pt x="277" y="251"/>
                </a:lnTo>
                <a:lnTo>
                  <a:pt x="271" y="253"/>
                </a:lnTo>
                <a:lnTo>
                  <a:pt x="265" y="255"/>
                </a:lnTo>
                <a:lnTo>
                  <a:pt x="259" y="255"/>
                </a:lnTo>
                <a:lnTo>
                  <a:pt x="255" y="255"/>
                </a:lnTo>
                <a:lnTo>
                  <a:pt x="250" y="253"/>
                </a:lnTo>
                <a:lnTo>
                  <a:pt x="244" y="251"/>
                </a:lnTo>
                <a:lnTo>
                  <a:pt x="236" y="249"/>
                </a:lnTo>
                <a:lnTo>
                  <a:pt x="229" y="245"/>
                </a:lnTo>
                <a:lnTo>
                  <a:pt x="221" y="240"/>
                </a:lnTo>
                <a:lnTo>
                  <a:pt x="213" y="234"/>
                </a:lnTo>
                <a:lnTo>
                  <a:pt x="204" y="226"/>
                </a:lnTo>
                <a:lnTo>
                  <a:pt x="194" y="218"/>
                </a:lnTo>
                <a:lnTo>
                  <a:pt x="184" y="209"/>
                </a:lnTo>
                <a:lnTo>
                  <a:pt x="173" y="199"/>
                </a:lnTo>
                <a:lnTo>
                  <a:pt x="163" y="188"/>
                </a:lnTo>
                <a:lnTo>
                  <a:pt x="150" y="176"/>
                </a:lnTo>
                <a:lnTo>
                  <a:pt x="138" y="163"/>
                </a:lnTo>
                <a:lnTo>
                  <a:pt x="125" y="147"/>
                </a:lnTo>
                <a:lnTo>
                  <a:pt x="111" y="132"/>
                </a:lnTo>
                <a:lnTo>
                  <a:pt x="96" y="119"/>
                </a:lnTo>
                <a:lnTo>
                  <a:pt x="83" y="107"/>
                </a:lnTo>
                <a:lnTo>
                  <a:pt x="69" y="94"/>
                </a:lnTo>
                <a:lnTo>
                  <a:pt x="58" y="84"/>
                </a:lnTo>
                <a:lnTo>
                  <a:pt x="46" y="73"/>
                </a:lnTo>
                <a:lnTo>
                  <a:pt x="37" y="65"/>
                </a:lnTo>
                <a:lnTo>
                  <a:pt x="27" y="55"/>
                </a:lnTo>
                <a:lnTo>
                  <a:pt x="19" y="48"/>
                </a:lnTo>
                <a:lnTo>
                  <a:pt x="14" y="40"/>
                </a:lnTo>
                <a:lnTo>
                  <a:pt x="8" y="34"/>
                </a:lnTo>
                <a:lnTo>
                  <a:pt x="4" y="28"/>
                </a:lnTo>
                <a:lnTo>
                  <a:pt x="2" y="23"/>
                </a:ln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2" y="9"/>
                </a:lnTo>
                <a:lnTo>
                  <a:pt x="2" y="7"/>
                </a:lnTo>
                <a:lnTo>
                  <a:pt x="4" y="5"/>
                </a:lnTo>
                <a:lnTo>
                  <a:pt x="6" y="3"/>
                </a:lnTo>
                <a:lnTo>
                  <a:pt x="8" y="3"/>
                </a:lnTo>
                <a:lnTo>
                  <a:pt x="14" y="2"/>
                </a:lnTo>
                <a:lnTo>
                  <a:pt x="17" y="2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8" y="2"/>
                </a:lnTo>
                <a:lnTo>
                  <a:pt x="58" y="2"/>
                </a:lnTo>
                <a:lnTo>
                  <a:pt x="69" y="3"/>
                </a:lnTo>
                <a:lnTo>
                  <a:pt x="81" y="3"/>
                </a:lnTo>
                <a:lnTo>
                  <a:pt x="94" y="5"/>
                </a:lnTo>
                <a:lnTo>
                  <a:pt x="110" y="7"/>
                </a:lnTo>
                <a:lnTo>
                  <a:pt x="125" y="9"/>
                </a:lnTo>
                <a:lnTo>
                  <a:pt x="140" y="13"/>
                </a:lnTo>
                <a:lnTo>
                  <a:pt x="156" y="15"/>
                </a:lnTo>
                <a:lnTo>
                  <a:pt x="169" y="19"/>
                </a:lnTo>
                <a:lnTo>
                  <a:pt x="182" y="21"/>
                </a:lnTo>
                <a:lnTo>
                  <a:pt x="196" y="25"/>
                </a:lnTo>
                <a:lnTo>
                  <a:pt x="207" y="28"/>
                </a:lnTo>
                <a:lnTo>
                  <a:pt x="219" y="34"/>
                </a:lnTo>
                <a:lnTo>
                  <a:pt x="229" y="38"/>
                </a:lnTo>
                <a:lnTo>
                  <a:pt x="240" y="44"/>
                </a:lnTo>
                <a:lnTo>
                  <a:pt x="250" y="50"/>
                </a:lnTo>
                <a:lnTo>
                  <a:pt x="257" y="57"/>
                </a:lnTo>
                <a:lnTo>
                  <a:pt x="267" y="63"/>
                </a:lnTo>
                <a:lnTo>
                  <a:pt x="275" y="71"/>
                </a:lnTo>
                <a:lnTo>
                  <a:pt x="282" y="78"/>
                </a:lnTo>
                <a:lnTo>
                  <a:pt x="290" y="86"/>
                </a:lnTo>
                <a:lnTo>
                  <a:pt x="298" y="96"/>
                </a:lnTo>
                <a:lnTo>
                  <a:pt x="301" y="105"/>
                </a:lnTo>
                <a:lnTo>
                  <a:pt x="305" y="113"/>
                </a:lnTo>
                <a:lnTo>
                  <a:pt x="307" y="122"/>
                </a:lnTo>
                <a:lnTo>
                  <a:pt x="311" y="130"/>
                </a:lnTo>
                <a:lnTo>
                  <a:pt x="313" y="138"/>
                </a:lnTo>
                <a:lnTo>
                  <a:pt x="315" y="147"/>
                </a:lnTo>
                <a:lnTo>
                  <a:pt x="317" y="161"/>
                </a:lnTo>
                <a:lnTo>
                  <a:pt x="317" y="176"/>
                </a:lnTo>
                <a:lnTo>
                  <a:pt x="315" y="192"/>
                </a:lnTo>
                <a:lnTo>
                  <a:pt x="313" y="205"/>
                </a:lnTo>
                <a:lnTo>
                  <a:pt x="309" y="21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25"/>
          <p:cNvSpPr/>
          <p:nvPr/>
        </p:nvSpPr>
        <p:spPr>
          <a:xfrm>
            <a:off x="7000920" y="3656160"/>
            <a:ext cx="654120" cy="196560"/>
          </a:xfrm>
          <a:custGeom>
            <a:avLst/>
            <a:gdLst/>
            <a:ahLst/>
            <a:rect l="l" t="t" r="r" b="b"/>
            <a:pathLst>
              <a:path w="823" h="247">
                <a:moveTo>
                  <a:pt x="50" y="223"/>
                </a:moveTo>
                <a:lnTo>
                  <a:pt x="42" y="219"/>
                </a:lnTo>
                <a:lnTo>
                  <a:pt x="36" y="213"/>
                </a:lnTo>
                <a:lnTo>
                  <a:pt x="31" y="209"/>
                </a:lnTo>
                <a:lnTo>
                  <a:pt x="25" y="203"/>
                </a:lnTo>
                <a:lnTo>
                  <a:pt x="21" y="199"/>
                </a:lnTo>
                <a:lnTo>
                  <a:pt x="17" y="194"/>
                </a:lnTo>
                <a:lnTo>
                  <a:pt x="9" y="186"/>
                </a:lnTo>
                <a:lnTo>
                  <a:pt x="6" y="176"/>
                </a:lnTo>
                <a:lnTo>
                  <a:pt x="2" y="167"/>
                </a:lnTo>
                <a:lnTo>
                  <a:pt x="0" y="157"/>
                </a:lnTo>
                <a:lnTo>
                  <a:pt x="0" y="150"/>
                </a:lnTo>
                <a:lnTo>
                  <a:pt x="38" y="138"/>
                </a:lnTo>
                <a:lnTo>
                  <a:pt x="77" y="128"/>
                </a:lnTo>
                <a:lnTo>
                  <a:pt x="113" y="119"/>
                </a:lnTo>
                <a:lnTo>
                  <a:pt x="148" y="109"/>
                </a:lnTo>
                <a:lnTo>
                  <a:pt x="182" y="100"/>
                </a:lnTo>
                <a:lnTo>
                  <a:pt x="217" y="92"/>
                </a:lnTo>
                <a:lnTo>
                  <a:pt x="249" y="84"/>
                </a:lnTo>
                <a:lnTo>
                  <a:pt x="280" y="77"/>
                </a:lnTo>
                <a:lnTo>
                  <a:pt x="311" y="69"/>
                </a:lnTo>
                <a:lnTo>
                  <a:pt x="340" y="61"/>
                </a:lnTo>
                <a:lnTo>
                  <a:pt x="368" y="56"/>
                </a:lnTo>
                <a:lnTo>
                  <a:pt x="397" y="50"/>
                </a:lnTo>
                <a:lnTo>
                  <a:pt x="422" y="44"/>
                </a:lnTo>
                <a:lnTo>
                  <a:pt x="449" y="38"/>
                </a:lnTo>
                <a:lnTo>
                  <a:pt x="472" y="32"/>
                </a:lnTo>
                <a:lnTo>
                  <a:pt x="495" y="29"/>
                </a:lnTo>
                <a:lnTo>
                  <a:pt x="518" y="23"/>
                </a:lnTo>
                <a:lnTo>
                  <a:pt x="539" y="19"/>
                </a:lnTo>
                <a:lnTo>
                  <a:pt x="558" y="15"/>
                </a:lnTo>
                <a:lnTo>
                  <a:pt x="578" y="13"/>
                </a:lnTo>
                <a:lnTo>
                  <a:pt x="597" y="9"/>
                </a:lnTo>
                <a:lnTo>
                  <a:pt x="614" y="8"/>
                </a:lnTo>
                <a:lnTo>
                  <a:pt x="629" y="6"/>
                </a:lnTo>
                <a:lnTo>
                  <a:pt x="645" y="4"/>
                </a:lnTo>
                <a:lnTo>
                  <a:pt x="658" y="2"/>
                </a:lnTo>
                <a:lnTo>
                  <a:pt x="672" y="0"/>
                </a:lnTo>
                <a:lnTo>
                  <a:pt x="683" y="0"/>
                </a:lnTo>
                <a:lnTo>
                  <a:pt x="693" y="0"/>
                </a:lnTo>
                <a:lnTo>
                  <a:pt x="702" y="0"/>
                </a:lnTo>
                <a:lnTo>
                  <a:pt x="712" y="0"/>
                </a:lnTo>
                <a:lnTo>
                  <a:pt x="718" y="0"/>
                </a:lnTo>
                <a:lnTo>
                  <a:pt x="725" y="2"/>
                </a:lnTo>
                <a:lnTo>
                  <a:pt x="737" y="4"/>
                </a:lnTo>
                <a:lnTo>
                  <a:pt x="746" y="6"/>
                </a:lnTo>
                <a:lnTo>
                  <a:pt x="756" y="8"/>
                </a:lnTo>
                <a:lnTo>
                  <a:pt x="766" y="11"/>
                </a:lnTo>
                <a:lnTo>
                  <a:pt x="775" y="13"/>
                </a:lnTo>
                <a:lnTo>
                  <a:pt x="783" y="15"/>
                </a:lnTo>
                <a:lnTo>
                  <a:pt x="791" y="19"/>
                </a:lnTo>
                <a:lnTo>
                  <a:pt x="796" y="21"/>
                </a:lnTo>
                <a:lnTo>
                  <a:pt x="804" y="25"/>
                </a:lnTo>
                <a:lnTo>
                  <a:pt x="808" y="27"/>
                </a:lnTo>
                <a:lnTo>
                  <a:pt x="814" y="31"/>
                </a:lnTo>
                <a:lnTo>
                  <a:pt x="818" y="34"/>
                </a:lnTo>
                <a:lnTo>
                  <a:pt x="819" y="38"/>
                </a:lnTo>
                <a:lnTo>
                  <a:pt x="821" y="42"/>
                </a:lnTo>
                <a:lnTo>
                  <a:pt x="823" y="46"/>
                </a:lnTo>
                <a:lnTo>
                  <a:pt x="823" y="50"/>
                </a:lnTo>
                <a:lnTo>
                  <a:pt x="823" y="57"/>
                </a:lnTo>
                <a:lnTo>
                  <a:pt x="819" y="63"/>
                </a:lnTo>
                <a:lnTo>
                  <a:pt x="818" y="69"/>
                </a:lnTo>
                <a:lnTo>
                  <a:pt x="812" y="77"/>
                </a:lnTo>
                <a:lnTo>
                  <a:pt x="804" y="82"/>
                </a:lnTo>
                <a:lnTo>
                  <a:pt x="796" y="86"/>
                </a:lnTo>
                <a:lnTo>
                  <a:pt x="787" y="92"/>
                </a:lnTo>
                <a:lnTo>
                  <a:pt x="775" y="98"/>
                </a:lnTo>
                <a:lnTo>
                  <a:pt x="762" y="104"/>
                </a:lnTo>
                <a:lnTo>
                  <a:pt x="748" y="107"/>
                </a:lnTo>
                <a:lnTo>
                  <a:pt x="731" y="113"/>
                </a:lnTo>
                <a:lnTo>
                  <a:pt x="714" y="117"/>
                </a:lnTo>
                <a:lnTo>
                  <a:pt x="695" y="123"/>
                </a:lnTo>
                <a:lnTo>
                  <a:pt x="674" y="127"/>
                </a:lnTo>
                <a:lnTo>
                  <a:pt x="651" y="132"/>
                </a:lnTo>
                <a:lnTo>
                  <a:pt x="627" y="136"/>
                </a:lnTo>
                <a:lnTo>
                  <a:pt x="601" y="140"/>
                </a:lnTo>
                <a:lnTo>
                  <a:pt x="578" y="146"/>
                </a:lnTo>
                <a:lnTo>
                  <a:pt x="553" y="150"/>
                </a:lnTo>
                <a:lnTo>
                  <a:pt x="530" y="155"/>
                </a:lnTo>
                <a:lnTo>
                  <a:pt x="507" y="159"/>
                </a:lnTo>
                <a:lnTo>
                  <a:pt x="484" y="165"/>
                </a:lnTo>
                <a:lnTo>
                  <a:pt x="441" y="173"/>
                </a:lnTo>
                <a:lnTo>
                  <a:pt x="399" y="182"/>
                </a:lnTo>
                <a:lnTo>
                  <a:pt x="359" y="192"/>
                </a:lnTo>
                <a:lnTo>
                  <a:pt x="320" y="201"/>
                </a:lnTo>
                <a:lnTo>
                  <a:pt x="282" y="211"/>
                </a:lnTo>
                <a:lnTo>
                  <a:pt x="265" y="215"/>
                </a:lnTo>
                <a:lnTo>
                  <a:pt x="247" y="219"/>
                </a:lnTo>
                <a:lnTo>
                  <a:pt x="232" y="223"/>
                </a:lnTo>
                <a:lnTo>
                  <a:pt x="217" y="226"/>
                </a:lnTo>
                <a:lnTo>
                  <a:pt x="203" y="230"/>
                </a:lnTo>
                <a:lnTo>
                  <a:pt x="192" y="232"/>
                </a:lnTo>
                <a:lnTo>
                  <a:pt x="180" y="236"/>
                </a:lnTo>
                <a:lnTo>
                  <a:pt x="171" y="238"/>
                </a:lnTo>
                <a:lnTo>
                  <a:pt x="161" y="240"/>
                </a:lnTo>
                <a:lnTo>
                  <a:pt x="153" y="242"/>
                </a:lnTo>
                <a:lnTo>
                  <a:pt x="146" y="244"/>
                </a:lnTo>
                <a:lnTo>
                  <a:pt x="138" y="246"/>
                </a:lnTo>
                <a:lnTo>
                  <a:pt x="132" y="246"/>
                </a:lnTo>
                <a:lnTo>
                  <a:pt x="128" y="246"/>
                </a:lnTo>
                <a:lnTo>
                  <a:pt x="125" y="247"/>
                </a:lnTo>
                <a:lnTo>
                  <a:pt x="123" y="247"/>
                </a:lnTo>
                <a:lnTo>
                  <a:pt x="117" y="246"/>
                </a:lnTo>
                <a:lnTo>
                  <a:pt x="111" y="246"/>
                </a:lnTo>
                <a:lnTo>
                  <a:pt x="103" y="242"/>
                </a:lnTo>
                <a:lnTo>
                  <a:pt x="94" y="240"/>
                </a:lnTo>
                <a:lnTo>
                  <a:pt x="84" y="236"/>
                </a:lnTo>
                <a:lnTo>
                  <a:pt x="75" y="232"/>
                </a:lnTo>
                <a:lnTo>
                  <a:pt x="61" y="226"/>
                </a:lnTo>
                <a:lnTo>
                  <a:pt x="50" y="2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26"/>
          <p:cNvSpPr/>
          <p:nvPr/>
        </p:nvSpPr>
        <p:spPr>
          <a:xfrm>
            <a:off x="7058160" y="3967200"/>
            <a:ext cx="519120" cy="149040"/>
          </a:xfrm>
          <a:custGeom>
            <a:avLst/>
            <a:gdLst/>
            <a:ahLst/>
            <a:rect l="l" t="t" r="r" b="b"/>
            <a:pathLst>
              <a:path w="652" h="189">
                <a:moveTo>
                  <a:pt x="0" y="114"/>
                </a:moveTo>
                <a:lnTo>
                  <a:pt x="32" y="106"/>
                </a:lnTo>
                <a:lnTo>
                  <a:pt x="65" y="98"/>
                </a:lnTo>
                <a:lnTo>
                  <a:pt x="96" y="91"/>
                </a:lnTo>
                <a:lnTo>
                  <a:pt x="126" y="83"/>
                </a:lnTo>
                <a:lnTo>
                  <a:pt x="155" y="77"/>
                </a:lnTo>
                <a:lnTo>
                  <a:pt x="184" y="70"/>
                </a:lnTo>
                <a:lnTo>
                  <a:pt x="211" y="64"/>
                </a:lnTo>
                <a:lnTo>
                  <a:pt x="238" y="58"/>
                </a:lnTo>
                <a:lnTo>
                  <a:pt x="263" y="52"/>
                </a:lnTo>
                <a:lnTo>
                  <a:pt x="288" y="46"/>
                </a:lnTo>
                <a:lnTo>
                  <a:pt x="311" y="43"/>
                </a:lnTo>
                <a:lnTo>
                  <a:pt x="334" y="37"/>
                </a:lnTo>
                <a:lnTo>
                  <a:pt x="355" y="33"/>
                </a:lnTo>
                <a:lnTo>
                  <a:pt x="376" y="29"/>
                </a:lnTo>
                <a:lnTo>
                  <a:pt x="397" y="25"/>
                </a:lnTo>
                <a:lnTo>
                  <a:pt x="414" y="22"/>
                </a:lnTo>
                <a:lnTo>
                  <a:pt x="434" y="18"/>
                </a:lnTo>
                <a:lnTo>
                  <a:pt x="451" y="16"/>
                </a:lnTo>
                <a:lnTo>
                  <a:pt x="466" y="12"/>
                </a:lnTo>
                <a:lnTo>
                  <a:pt x="482" y="10"/>
                </a:lnTo>
                <a:lnTo>
                  <a:pt x="495" y="8"/>
                </a:lnTo>
                <a:lnTo>
                  <a:pt x="508" y="6"/>
                </a:lnTo>
                <a:lnTo>
                  <a:pt x="522" y="4"/>
                </a:lnTo>
                <a:lnTo>
                  <a:pt x="533" y="2"/>
                </a:lnTo>
                <a:lnTo>
                  <a:pt x="543" y="2"/>
                </a:lnTo>
                <a:lnTo>
                  <a:pt x="553" y="2"/>
                </a:lnTo>
                <a:lnTo>
                  <a:pt x="562" y="0"/>
                </a:lnTo>
                <a:lnTo>
                  <a:pt x="570" y="0"/>
                </a:lnTo>
                <a:lnTo>
                  <a:pt x="576" y="2"/>
                </a:lnTo>
                <a:lnTo>
                  <a:pt x="581" y="2"/>
                </a:lnTo>
                <a:lnTo>
                  <a:pt x="587" y="2"/>
                </a:lnTo>
                <a:lnTo>
                  <a:pt x="591" y="4"/>
                </a:lnTo>
                <a:lnTo>
                  <a:pt x="604" y="8"/>
                </a:lnTo>
                <a:lnTo>
                  <a:pt x="616" y="14"/>
                </a:lnTo>
                <a:lnTo>
                  <a:pt x="626" y="18"/>
                </a:lnTo>
                <a:lnTo>
                  <a:pt x="635" y="22"/>
                </a:lnTo>
                <a:lnTo>
                  <a:pt x="643" y="27"/>
                </a:lnTo>
                <a:lnTo>
                  <a:pt x="645" y="29"/>
                </a:lnTo>
                <a:lnTo>
                  <a:pt x="647" y="31"/>
                </a:lnTo>
                <a:lnTo>
                  <a:pt x="649" y="33"/>
                </a:lnTo>
                <a:lnTo>
                  <a:pt x="650" y="35"/>
                </a:lnTo>
                <a:lnTo>
                  <a:pt x="652" y="39"/>
                </a:lnTo>
                <a:lnTo>
                  <a:pt x="652" y="41"/>
                </a:lnTo>
                <a:lnTo>
                  <a:pt x="652" y="45"/>
                </a:lnTo>
                <a:lnTo>
                  <a:pt x="650" y="50"/>
                </a:lnTo>
                <a:lnTo>
                  <a:pt x="649" y="54"/>
                </a:lnTo>
                <a:lnTo>
                  <a:pt x="645" y="58"/>
                </a:lnTo>
                <a:lnTo>
                  <a:pt x="641" y="64"/>
                </a:lnTo>
                <a:lnTo>
                  <a:pt x="637" y="68"/>
                </a:lnTo>
                <a:lnTo>
                  <a:pt x="631" y="73"/>
                </a:lnTo>
                <a:lnTo>
                  <a:pt x="624" y="77"/>
                </a:lnTo>
                <a:lnTo>
                  <a:pt x="616" y="81"/>
                </a:lnTo>
                <a:lnTo>
                  <a:pt x="608" y="87"/>
                </a:lnTo>
                <a:lnTo>
                  <a:pt x="599" y="91"/>
                </a:lnTo>
                <a:lnTo>
                  <a:pt x="589" y="96"/>
                </a:lnTo>
                <a:lnTo>
                  <a:pt x="579" y="100"/>
                </a:lnTo>
                <a:lnTo>
                  <a:pt x="568" y="104"/>
                </a:lnTo>
                <a:lnTo>
                  <a:pt x="554" y="110"/>
                </a:lnTo>
                <a:lnTo>
                  <a:pt x="541" y="114"/>
                </a:lnTo>
                <a:lnTo>
                  <a:pt x="512" y="123"/>
                </a:lnTo>
                <a:lnTo>
                  <a:pt x="483" y="131"/>
                </a:lnTo>
                <a:lnTo>
                  <a:pt x="455" y="137"/>
                </a:lnTo>
                <a:lnTo>
                  <a:pt x="422" y="142"/>
                </a:lnTo>
                <a:lnTo>
                  <a:pt x="391" y="148"/>
                </a:lnTo>
                <a:lnTo>
                  <a:pt x="361" y="154"/>
                </a:lnTo>
                <a:lnTo>
                  <a:pt x="295" y="164"/>
                </a:lnTo>
                <a:lnTo>
                  <a:pt x="278" y="166"/>
                </a:lnTo>
                <a:lnTo>
                  <a:pt x="261" y="167"/>
                </a:lnTo>
                <a:lnTo>
                  <a:pt x="244" y="171"/>
                </a:lnTo>
                <a:lnTo>
                  <a:pt x="228" y="173"/>
                </a:lnTo>
                <a:lnTo>
                  <a:pt x="215" y="175"/>
                </a:lnTo>
                <a:lnTo>
                  <a:pt x="199" y="177"/>
                </a:lnTo>
                <a:lnTo>
                  <a:pt x="188" y="179"/>
                </a:lnTo>
                <a:lnTo>
                  <a:pt x="176" y="181"/>
                </a:lnTo>
                <a:lnTo>
                  <a:pt x="165" y="183"/>
                </a:lnTo>
                <a:lnTo>
                  <a:pt x="153" y="183"/>
                </a:lnTo>
                <a:lnTo>
                  <a:pt x="146" y="185"/>
                </a:lnTo>
                <a:lnTo>
                  <a:pt x="136" y="187"/>
                </a:lnTo>
                <a:lnTo>
                  <a:pt x="128" y="187"/>
                </a:lnTo>
                <a:lnTo>
                  <a:pt x="123" y="187"/>
                </a:lnTo>
                <a:lnTo>
                  <a:pt x="115" y="189"/>
                </a:lnTo>
                <a:lnTo>
                  <a:pt x="111" y="189"/>
                </a:lnTo>
                <a:lnTo>
                  <a:pt x="105" y="189"/>
                </a:lnTo>
                <a:lnTo>
                  <a:pt x="102" y="187"/>
                </a:lnTo>
                <a:lnTo>
                  <a:pt x="96" y="185"/>
                </a:lnTo>
                <a:lnTo>
                  <a:pt x="90" y="183"/>
                </a:lnTo>
                <a:lnTo>
                  <a:pt x="84" y="181"/>
                </a:lnTo>
                <a:lnTo>
                  <a:pt x="78" y="177"/>
                </a:lnTo>
                <a:lnTo>
                  <a:pt x="71" y="175"/>
                </a:lnTo>
                <a:lnTo>
                  <a:pt x="65" y="169"/>
                </a:lnTo>
                <a:lnTo>
                  <a:pt x="57" y="166"/>
                </a:lnTo>
                <a:lnTo>
                  <a:pt x="50" y="160"/>
                </a:lnTo>
                <a:lnTo>
                  <a:pt x="42" y="154"/>
                </a:lnTo>
                <a:lnTo>
                  <a:pt x="34" y="146"/>
                </a:lnTo>
                <a:lnTo>
                  <a:pt x="27" y="139"/>
                </a:lnTo>
                <a:lnTo>
                  <a:pt x="17" y="131"/>
                </a:lnTo>
                <a:lnTo>
                  <a:pt x="9" y="123"/>
                </a:lnTo>
                <a:lnTo>
                  <a:pt x="0" y="1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27"/>
          <p:cNvSpPr/>
          <p:nvPr/>
        </p:nvSpPr>
        <p:spPr>
          <a:xfrm>
            <a:off x="7058160" y="4222800"/>
            <a:ext cx="533160" cy="150840"/>
          </a:xfrm>
          <a:custGeom>
            <a:avLst/>
            <a:gdLst/>
            <a:ahLst/>
            <a:rect l="l" t="t" r="r" b="b"/>
            <a:pathLst>
              <a:path w="672" h="190">
                <a:moveTo>
                  <a:pt x="0" y="111"/>
                </a:moveTo>
                <a:lnTo>
                  <a:pt x="34" y="104"/>
                </a:lnTo>
                <a:lnTo>
                  <a:pt x="67" y="98"/>
                </a:lnTo>
                <a:lnTo>
                  <a:pt x="100" y="90"/>
                </a:lnTo>
                <a:lnTo>
                  <a:pt x="130" y="84"/>
                </a:lnTo>
                <a:lnTo>
                  <a:pt x="161" y="79"/>
                </a:lnTo>
                <a:lnTo>
                  <a:pt x="190" y="73"/>
                </a:lnTo>
                <a:lnTo>
                  <a:pt x="217" y="67"/>
                </a:lnTo>
                <a:lnTo>
                  <a:pt x="244" y="61"/>
                </a:lnTo>
                <a:lnTo>
                  <a:pt x="270" y="57"/>
                </a:lnTo>
                <a:lnTo>
                  <a:pt x="295" y="52"/>
                </a:lnTo>
                <a:lnTo>
                  <a:pt x="318" y="48"/>
                </a:lnTo>
                <a:lnTo>
                  <a:pt x="341" y="42"/>
                </a:lnTo>
                <a:lnTo>
                  <a:pt x="364" y="38"/>
                </a:lnTo>
                <a:lnTo>
                  <a:pt x="384" y="34"/>
                </a:lnTo>
                <a:lnTo>
                  <a:pt x="405" y="31"/>
                </a:lnTo>
                <a:lnTo>
                  <a:pt x="422" y="27"/>
                </a:lnTo>
                <a:lnTo>
                  <a:pt x="441" y="25"/>
                </a:lnTo>
                <a:lnTo>
                  <a:pt x="457" y="21"/>
                </a:lnTo>
                <a:lnTo>
                  <a:pt x="472" y="17"/>
                </a:lnTo>
                <a:lnTo>
                  <a:pt x="487" y="15"/>
                </a:lnTo>
                <a:lnTo>
                  <a:pt x="501" y="13"/>
                </a:lnTo>
                <a:lnTo>
                  <a:pt x="512" y="11"/>
                </a:lnTo>
                <a:lnTo>
                  <a:pt x="524" y="9"/>
                </a:lnTo>
                <a:lnTo>
                  <a:pt x="533" y="8"/>
                </a:lnTo>
                <a:lnTo>
                  <a:pt x="543" y="6"/>
                </a:lnTo>
                <a:lnTo>
                  <a:pt x="553" y="4"/>
                </a:lnTo>
                <a:lnTo>
                  <a:pt x="558" y="4"/>
                </a:lnTo>
                <a:lnTo>
                  <a:pt x="564" y="2"/>
                </a:lnTo>
                <a:lnTo>
                  <a:pt x="570" y="2"/>
                </a:lnTo>
                <a:lnTo>
                  <a:pt x="574" y="0"/>
                </a:lnTo>
                <a:lnTo>
                  <a:pt x="576" y="0"/>
                </a:lnTo>
                <a:lnTo>
                  <a:pt x="578" y="0"/>
                </a:lnTo>
                <a:lnTo>
                  <a:pt x="583" y="2"/>
                </a:lnTo>
                <a:lnTo>
                  <a:pt x="587" y="2"/>
                </a:lnTo>
                <a:lnTo>
                  <a:pt x="593" y="6"/>
                </a:lnTo>
                <a:lnTo>
                  <a:pt x="599" y="8"/>
                </a:lnTo>
                <a:lnTo>
                  <a:pt x="606" y="11"/>
                </a:lnTo>
                <a:lnTo>
                  <a:pt x="616" y="15"/>
                </a:lnTo>
                <a:lnTo>
                  <a:pt x="622" y="17"/>
                </a:lnTo>
                <a:lnTo>
                  <a:pt x="627" y="21"/>
                </a:lnTo>
                <a:lnTo>
                  <a:pt x="633" y="23"/>
                </a:lnTo>
                <a:lnTo>
                  <a:pt x="639" y="25"/>
                </a:lnTo>
                <a:lnTo>
                  <a:pt x="647" y="27"/>
                </a:lnTo>
                <a:lnTo>
                  <a:pt x="652" y="31"/>
                </a:lnTo>
                <a:lnTo>
                  <a:pt x="656" y="33"/>
                </a:lnTo>
                <a:lnTo>
                  <a:pt x="660" y="36"/>
                </a:lnTo>
                <a:lnTo>
                  <a:pt x="664" y="40"/>
                </a:lnTo>
                <a:lnTo>
                  <a:pt x="666" y="42"/>
                </a:lnTo>
                <a:lnTo>
                  <a:pt x="670" y="46"/>
                </a:lnTo>
                <a:lnTo>
                  <a:pt x="670" y="50"/>
                </a:lnTo>
                <a:lnTo>
                  <a:pt x="672" y="54"/>
                </a:lnTo>
                <a:lnTo>
                  <a:pt x="672" y="56"/>
                </a:lnTo>
                <a:lnTo>
                  <a:pt x="672" y="59"/>
                </a:lnTo>
                <a:lnTo>
                  <a:pt x="670" y="63"/>
                </a:lnTo>
                <a:lnTo>
                  <a:pt x="668" y="69"/>
                </a:lnTo>
                <a:lnTo>
                  <a:pt x="664" y="75"/>
                </a:lnTo>
                <a:lnTo>
                  <a:pt x="658" y="79"/>
                </a:lnTo>
                <a:lnTo>
                  <a:pt x="652" y="82"/>
                </a:lnTo>
                <a:lnTo>
                  <a:pt x="643" y="88"/>
                </a:lnTo>
                <a:lnTo>
                  <a:pt x="631" y="92"/>
                </a:lnTo>
                <a:lnTo>
                  <a:pt x="620" y="98"/>
                </a:lnTo>
                <a:lnTo>
                  <a:pt x="606" y="102"/>
                </a:lnTo>
                <a:lnTo>
                  <a:pt x="591" y="105"/>
                </a:lnTo>
                <a:lnTo>
                  <a:pt x="574" y="111"/>
                </a:lnTo>
                <a:lnTo>
                  <a:pt x="554" y="115"/>
                </a:lnTo>
                <a:lnTo>
                  <a:pt x="535" y="121"/>
                </a:lnTo>
                <a:lnTo>
                  <a:pt x="512" y="125"/>
                </a:lnTo>
                <a:lnTo>
                  <a:pt x="489" y="129"/>
                </a:lnTo>
                <a:lnTo>
                  <a:pt x="464" y="134"/>
                </a:lnTo>
                <a:lnTo>
                  <a:pt x="437" y="138"/>
                </a:lnTo>
                <a:lnTo>
                  <a:pt x="411" y="144"/>
                </a:lnTo>
                <a:lnTo>
                  <a:pt x="382" y="148"/>
                </a:lnTo>
                <a:lnTo>
                  <a:pt x="353" y="155"/>
                </a:lnTo>
                <a:lnTo>
                  <a:pt x="324" y="161"/>
                </a:lnTo>
                <a:lnTo>
                  <a:pt x="297" y="167"/>
                </a:lnTo>
                <a:lnTo>
                  <a:pt x="272" y="171"/>
                </a:lnTo>
                <a:lnTo>
                  <a:pt x="249" y="175"/>
                </a:lnTo>
                <a:lnTo>
                  <a:pt x="228" y="178"/>
                </a:lnTo>
                <a:lnTo>
                  <a:pt x="207" y="182"/>
                </a:lnTo>
                <a:lnTo>
                  <a:pt x="188" y="184"/>
                </a:lnTo>
                <a:lnTo>
                  <a:pt x="171" y="186"/>
                </a:lnTo>
                <a:lnTo>
                  <a:pt x="153" y="188"/>
                </a:lnTo>
                <a:lnTo>
                  <a:pt x="138" y="190"/>
                </a:lnTo>
                <a:lnTo>
                  <a:pt x="125" y="190"/>
                </a:lnTo>
                <a:lnTo>
                  <a:pt x="113" y="190"/>
                </a:lnTo>
                <a:lnTo>
                  <a:pt x="103" y="188"/>
                </a:lnTo>
                <a:lnTo>
                  <a:pt x="94" y="186"/>
                </a:lnTo>
                <a:lnTo>
                  <a:pt x="86" y="184"/>
                </a:lnTo>
                <a:lnTo>
                  <a:pt x="73" y="180"/>
                </a:lnTo>
                <a:lnTo>
                  <a:pt x="61" y="173"/>
                </a:lnTo>
                <a:lnTo>
                  <a:pt x="50" y="165"/>
                </a:lnTo>
                <a:lnTo>
                  <a:pt x="38" y="157"/>
                </a:lnTo>
                <a:lnTo>
                  <a:pt x="29" y="148"/>
                </a:lnTo>
                <a:lnTo>
                  <a:pt x="19" y="136"/>
                </a:lnTo>
                <a:lnTo>
                  <a:pt x="9" y="125"/>
                </a:lnTo>
                <a:lnTo>
                  <a:pt x="0" y="1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28"/>
          <p:cNvSpPr/>
          <p:nvPr/>
        </p:nvSpPr>
        <p:spPr>
          <a:xfrm>
            <a:off x="6902280" y="4505400"/>
            <a:ext cx="908280" cy="187200"/>
          </a:xfrm>
          <a:custGeom>
            <a:avLst/>
            <a:gdLst/>
            <a:ahLst/>
            <a:rect l="l" t="t" r="r" b="b"/>
            <a:pathLst>
              <a:path w="1144" h="234">
                <a:moveTo>
                  <a:pt x="541" y="73"/>
                </a:moveTo>
                <a:lnTo>
                  <a:pt x="564" y="69"/>
                </a:lnTo>
                <a:lnTo>
                  <a:pt x="587" y="65"/>
                </a:lnTo>
                <a:lnTo>
                  <a:pt x="610" y="59"/>
                </a:lnTo>
                <a:lnTo>
                  <a:pt x="631" y="56"/>
                </a:lnTo>
                <a:lnTo>
                  <a:pt x="653" y="52"/>
                </a:lnTo>
                <a:lnTo>
                  <a:pt x="674" y="48"/>
                </a:lnTo>
                <a:lnTo>
                  <a:pt x="693" y="44"/>
                </a:lnTo>
                <a:lnTo>
                  <a:pt x="712" y="40"/>
                </a:lnTo>
                <a:lnTo>
                  <a:pt x="729" y="38"/>
                </a:lnTo>
                <a:lnTo>
                  <a:pt x="747" y="34"/>
                </a:lnTo>
                <a:lnTo>
                  <a:pt x="764" y="31"/>
                </a:lnTo>
                <a:lnTo>
                  <a:pt x="781" y="29"/>
                </a:lnTo>
                <a:lnTo>
                  <a:pt x="797" y="25"/>
                </a:lnTo>
                <a:lnTo>
                  <a:pt x="810" y="23"/>
                </a:lnTo>
                <a:lnTo>
                  <a:pt x="825" y="21"/>
                </a:lnTo>
                <a:lnTo>
                  <a:pt x="839" y="17"/>
                </a:lnTo>
                <a:lnTo>
                  <a:pt x="852" y="15"/>
                </a:lnTo>
                <a:lnTo>
                  <a:pt x="864" y="13"/>
                </a:lnTo>
                <a:lnTo>
                  <a:pt x="875" y="11"/>
                </a:lnTo>
                <a:lnTo>
                  <a:pt x="887" y="10"/>
                </a:lnTo>
                <a:lnTo>
                  <a:pt x="896" y="8"/>
                </a:lnTo>
                <a:lnTo>
                  <a:pt x="906" y="8"/>
                </a:lnTo>
                <a:lnTo>
                  <a:pt x="916" y="6"/>
                </a:lnTo>
                <a:lnTo>
                  <a:pt x="925" y="4"/>
                </a:lnTo>
                <a:lnTo>
                  <a:pt x="933" y="4"/>
                </a:lnTo>
                <a:lnTo>
                  <a:pt x="939" y="2"/>
                </a:lnTo>
                <a:lnTo>
                  <a:pt x="946" y="2"/>
                </a:lnTo>
                <a:lnTo>
                  <a:pt x="952" y="2"/>
                </a:lnTo>
                <a:lnTo>
                  <a:pt x="958" y="0"/>
                </a:lnTo>
                <a:lnTo>
                  <a:pt x="964" y="0"/>
                </a:lnTo>
                <a:lnTo>
                  <a:pt x="967" y="0"/>
                </a:lnTo>
                <a:lnTo>
                  <a:pt x="971" y="0"/>
                </a:lnTo>
                <a:lnTo>
                  <a:pt x="985" y="0"/>
                </a:lnTo>
                <a:lnTo>
                  <a:pt x="998" y="2"/>
                </a:lnTo>
                <a:lnTo>
                  <a:pt x="1012" y="6"/>
                </a:lnTo>
                <a:lnTo>
                  <a:pt x="1027" y="10"/>
                </a:lnTo>
                <a:lnTo>
                  <a:pt x="1033" y="13"/>
                </a:lnTo>
                <a:lnTo>
                  <a:pt x="1040" y="17"/>
                </a:lnTo>
                <a:lnTo>
                  <a:pt x="1046" y="21"/>
                </a:lnTo>
                <a:lnTo>
                  <a:pt x="1054" y="25"/>
                </a:lnTo>
                <a:lnTo>
                  <a:pt x="1061" y="31"/>
                </a:lnTo>
                <a:lnTo>
                  <a:pt x="1067" y="36"/>
                </a:lnTo>
                <a:lnTo>
                  <a:pt x="1075" y="42"/>
                </a:lnTo>
                <a:lnTo>
                  <a:pt x="1083" y="50"/>
                </a:lnTo>
                <a:lnTo>
                  <a:pt x="1094" y="63"/>
                </a:lnTo>
                <a:lnTo>
                  <a:pt x="1107" y="75"/>
                </a:lnTo>
                <a:lnTo>
                  <a:pt x="1117" y="86"/>
                </a:lnTo>
                <a:lnTo>
                  <a:pt x="1127" y="96"/>
                </a:lnTo>
                <a:lnTo>
                  <a:pt x="1132" y="104"/>
                </a:lnTo>
                <a:lnTo>
                  <a:pt x="1136" y="107"/>
                </a:lnTo>
                <a:lnTo>
                  <a:pt x="1138" y="111"/>
                </a:lnTo>
                <a:lnTo>
                  <a:pt x="1140" y="115"/>
                </a:lnTo>
                <a:lnTo>
                  <a:pt x="1142" y="117"/>
                </a:lnTo>
                <a:lnTo>
                  <a:pt x="1142" y="121"/>
                </a:lnTo>
                <a:lnTo>
                  <a:pt x="1144" y="123"/>
                </a:lnTo>
                <a:lnTo>
                  <a:pt x="1142" y="127"/>
                </a:lnTo>
                <a:lnTo>
                  <a:pt x="1140" y="132"/>
                </a:lnTo>
                <a:lnTo>
                  <a:pt x="1138" y="136"/>
                </a:lnTo>
                <a:lnTo>
                  <a:pt x="1134" y="138"/>
                </a:lnTo>
                <a:lnTo>
                  <a:pt x="1129" y="142"/>
                </a:lnTo>
                <a:lnTo>
                  <a:pt x="1123" y="146"/>
                </a:lnTo>
                <a:lnTo>
                  <a:pt x="1115" y="148"/>
                </a:lnTo>
                <a:lnTo>
                  <a:pt x="1106" y="150"/>
                </a:lnTo>
                <a:lnTo>
                  <a:pt x="1096" y="153"/>
                </a:lnTo>
                <a:lnTo>
                  <a:pt x="1084" y="155"/>
                </a:lnTo>
                <a:lnTo>
                  <a:pt x="1073" y="155"/>
                </a:lnTo>
                <a:lnTo>
                  <a:pt x="1060" y="157"/>
                </a:lnTo>
                <a:lnTo>
                  <a:pt x="1046" y="159"/>
                </a:lnTo>
                <a:lnTo>
                  <a:pt x="1031" y="159"/>
                </a:lnTo>
                <a:lnTo>
                  <a:pt x="1013" y="159"/>
                </a:lnTo>
                <a:lnTo>
                  <a:pt x="996" y="159"/>
                </a:lnTo>
                <a:lnTo>
                  <a:pt x="975" y="159"/>
                </a:lnTo>
                <a:lnTo>
                  <a:pt x="956" y="161"/>
                </a:lnTo>
                <a:lnTo>
                  <a:pt x="933" y="161"/>
                </a:lnTo>
                <a:lnTo>
                  <a:pt x="908" y="161"/>
                </a:lnTo>
                <a:lnTo>
                  <a:pt x="881" y="163"/>
                </a:lnTo>
                <a:lnTo>
                  <a:pt x="854" y="165"/>
                </a:lnTo>
                <a:lnTo>
                  <a:pt x="825" y="167"/>
                </a:lnTo>
                <a:lnTo>
                  <a:pt x="795" y="169"/>
                </a:lnTo>
                <a:lnTo>
                  <a:pt x="762" y="171"/>
                </a:lnTo>
                <a:lnTo>
                  <a:pt x="727" y="175"/>
                </a:lnTo>
                <a:lnTo>
                  <a:pt x="691" y="177"/>
                </a:lnTo>
                <a:lnTo>
                  <a:pt x="655" y="180"/>
                </a:lnTo>
                <a:lnTo>
                  <a:pt x="616" y="184"/>
                </a:lnTo>
                <a:lnTo>
                  <a:pt x="576" y="188"/>
                </a:lnTo>
                <a:lnTo>
                  <a:pt x="534" y="192"/>
                </a:lnTo>
                <a:lnTo>
                  <a:pt x="491" y="198"/>
                </a:lnTo>
                <a:lnTo>
                  <a:pt x="449" y="201"/>
                </a:lnTo>
                <a:lnTo>
                  <a:pt x="407" y="205"/>
                </a:lnTo>
                <a:lnTo>
                  <a:pt x="367" y="209"/>
                </a:lnTo>
                <a:lnTo>
                  <a:pt x="328" y="213"/>
                </a:lnTo>
                <a:lnTo>
                  <a:pt x="292" y="217"/>
                </a:lnTo>
                <a:lnTo>
                  <a:pt x="255" y="219"/>
                </a:lnTo>
                <a:lnTo>
                  <a:pt x="223" y="223"/>
                </a:lnTo>
                <a:lnTo>
                  <a:pt x="190" y="225"/>
                </a:lnTo>
                <a:lnTo>
                  <a:pt x="159" y="226"/>
                </a:lnTo>
                <a:lnTo>
                  <a:pt x="131" y="228"/>
                </a:lnTo>
                <a:lnTo>
                  <a:pt x="106" y="230"/>
                </a:lnTo>
                <a:lnTo>
                  <a:pt x="81" y="230"/>
                </a:lnTo>
                <a:lnTo>
                  <a:pt x="58" y="232"/>
                </a:lnTo>
                <a:lnTo>
                  <a:pt x="46" y="232"/>
                </a:lnTo>
                <a:lnTo>
                  <a:pt x="36" y="232"/>
                </a:lnTo>
                <a:lnTo>
                  <a:pt x="27" y="232"/>
                </a:lnTo>
                <a:lnTo>
                  <a:pt x="17" y="232"/>
                </a:lnTo>
                <a:lnTo>
                  <a:pt x="8" y="234"/>
                </a:lnTo>
                <a:lnTo>
                  <a:pt x="0" y="234"/>
                </a:lnTo>
                <a:lnTo>
                  <a:pt x="0" y="184"/>
                </a:lnTo>
                <a:lnTo>
                  <a:pt x="0" y="134"/>
                </a:lnTo>
                <a:lnTo>
                  <a:pt x="21" y="134"/>
                </a:lnTo>
                <a:lnTo>
                  <a:pt x="44" y="134"/>
                </a:lnTo>
                <a:lnTo>
                  <a:pt x="69" y="132"/>
                </a:lnTo>
                <a:lnTo>
                  <a:pt x="94" y="130"/>
                </a:lnTo>
                <a:lnTo>
                  <a:pt x="123" y="129"/>
                </a:lnTo>
                <a:lnTo>
                  <a:pt x="152" y="125"/>
                </a:lnTo>
                <a:lnTo>
                  <a:pt x="182" y="123"/>
                </a:lnTo>
                <a:lnTo>
                  <a:pt x="215" y="119"/>
                </a:lnTo>
                <a:lnTo>
                  <a:pt x="250" y="113"/>
                </a:lnTo>
                <a:lnTo>
                  <a:pt x="284" y="109"/>
                </a:lnTo>
                <a:lnTo>
                  <a:pt x="322" y="104"/>
                </a:lnTo>
                <a:lnTo>
                  <a:pt x="363" y="100"/>
                </a:lnTo>
                <a:lnTo>
                  <a:pt x="405" y="94"/>
                </a:lnTo>
                <a:lnTo>
                  <a:pt x="426" y="90"/>
                </a:lnTo>
                <a:lnTo>
                  <a:pt x="447" y="86"/>
                </a:lnTo>
                <a:lnTo>
                  <a:pt x="470" y="84"/>
                </a:lnTo>
                <a:lnTo>
                  <a:pt x="493" y="81"/>
                </a:lnTo>
                <a:lnTo>
                  <a:pt x="516" y="77"/>
                </a:lnTo>
                <a:lnTo>
                  <a:pt x="541" y="7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29"/>
          <p:cNvSpPr/>
          <p:nvPr/>
        </p:nvSpPr>
        <p:spPr>
          <a:xfrm>
            <a:off x="7273800" y="3735360"/>
            <a:ext cx="96840" cy="887400"/>
          </a:xfrm>
          <a:custGeom>
            <a:avLst/>
            <a:gdLst/>
            <a:ahLst/>
            <a:rect l="l" t="t" r="r" b="b"/>
            <a:pathLst>
              <a:path w="123" h="1119">
                <a:moveTo>
                  <a:pt x="0" y="0"/>
                </a:moveTo>
                <a:lnTo>
                  <a:pt x="62" y="0"/>
                </a:lnTo>
                <a:lnTo>
                  <a:pt x="123" y="0"/>
                </a:lnTo>
                <a:lnTo>
                  <a:pt x="123" y="75"/>
                </a:lnTo>
                <a:lnTo>
                  <a:pt x="123" y="151"/>
                </a:lnTo>
                <a:lnTo>
                  <a:pt x="123" y="224"/>
                </a:lnTo>
                <a:lnTo>
                  <a:pt x="123" y="299"/>
                </a:lnTo>
                <a:lnTo>
                  <a:pt x="123" y="372"/>
                </a:lnTo>
                <a:lnTo>
                  <a:pt x="123" y="445"/>
                </a:lnTo>
                <a:lnTo>
                  <a:pt x="123" y="516"/>
                </a:lnTo>
                <a:lnTo>
                  <a:pt x="121" y="587"/>
                </a:lnTo>
                <a:lnTo>
                  <a:pt x="121" y="656"/>
                </a:lnTo>
                <a:lnTo>
                  <a:pt x="121" y="725"/>
                </a:lnTo>
                <a:lnTo>
                  <a:pt x="119" y="794"/>
                </a:lnTo>
                <a:lnTo>
                  <a:pt x="117" y="860"/>
                </a:lnTo>
                <a:lnTo>
                  <a:pt x="117" y="927"/>
                </a:lnTo>
                <a:lnTo>
                  <a:pt x="116" y="992"/>
                </a:lnTo>
                <a:lnTo>
                  <a:pt x="114" y="1055"/>
                </a:lnTo>
                <a:lnTo>
                  <a:pt x="112" y="1119"/>
                </a:lnTo>
                <a:lnTo>
                  <a:pt x="56" y="1113"/>
                </a:lnTo>
                <a:lnTo>
                  <a:pt x="0" y="1105"/>
                </a:lnTo>
                <a:lnTo>
                  <a:pt x="0" y="55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30"/>
          <p:cNvSpPr/>
          <p:nvPr/>
        </p:nvSpPr>
        <p:spPr>
          <a:xfrm>
            <a:off x="6826320" y="3676680"/>
            <a:ext cx="135000" cy="1395360"/>
          </a:xfrm>
          <a:custGeom>
            <a:avLst/>
            <a:gdLst/>
            <a:ahLst/>
            <a:rect l="l" t="t" r="r" b="b"/>
            <a:pathLst>
              <a:path w="171" h="1758">
                <a:moveTo>
                  <a:pt x="159" y="650"/>
                </a:moveTo>
                <a:lnTo>
                  <a:pt x="159" y="702"/>
                </a:lnTo>
                <a:lnTo>
                  <a:pt x="159" y="756"/>
                </a:lnTo>
                <a:lnTo>
                  <a:pt x="159" y="806"/>
                </a:lnTo>
                <a:lnTo>
                  <a:pt x="159" y="858"/>
                </a:lnTo>
                <a:lnTo>
                  <a:pt x="159" y="908"/>
                </a:lnTo>
                <a:lnTo>
                  <a:pt x="157" y="958"/>
                </a:lnTo>
                <a:lnTo>
                  <a:pt x="157" y="1006"/>
                </a:lnTo>
                <a:lnTo>
                  <a:pt x="157" y="1055"/>
                </a:lnTo>
                <a:lnTo>
                  <a:pt x="157" y="1102"/>
                </a:lnTo>
                <a:lnTo>
                  <a:pt x="156" y="1149"/>
                </a:lnTo>
                <a:lnTo>
                  <a:pt x="156" y="1196"/>
                </a:lnTo>
                <a:lnTo>
                  <a:pt x="154" y="1240"/>
                </a:lnTo>
                <a:lnTo>
                  <a:pt x="152" y="1284"/>
                </a:lnTo>
                <a:lnTo>
                  <a:pt x="150" y="1328"/>
                </a:lnTo>
                <a:lnTo>
                  <a:pt x="148" y="1370"/>
                </a:lnTo>
                <a:lnTo>
                  <a:pt x="146" y="1412"/>
                </a:lnTo>
                <a:lnTo>
                  <a:pt x="146" y="1434"/>
                </a:lnTo>
                <a:lnTo>
                  <a:pt x="144" y="1455"/>
                </a:lnTo>
                <a:lnTo>
                  <a:pt x="144" y="1476"/>
                </a:lnTo>
                <a:lnTo>
                  <a:pt x="142" y="1495"/>
                </a:lnTo>
                <a:lnTo>
                  <a:pt x="140" y="1512"/>
                </a:lnTo>
                <a:lnTo>
                  <a:pt x="140" y="1531"/>
                </a:lnTo>
                <a:lnTo>
                  <a:pt x="138" y="1549"/>
                </a:lnTo>
                <a:lnTo>
                  <a:pt x="138" y="1564"/>
                </a:lnTo>
                <a:lnTo>
                  <a:pt x="136" y="1581"/>
                </a:lnTo>
                <a:lnTo>
                  <a:pt x="134" y="1597"/>
                </a:lnTo>
                <a:lnTo>
                  <a:pt x="134" y="1610"/>
                </a:lnTo>
                <a:lnTo>
                  <a:pt x="133" y="1624"/>
                </a:lnTo>
                <a:lnTo>
                  <a:pt x="133" y="1637"/>
                </a:lnTo>
                <a:lnTo>
                  <a:pt x="131" y="1650"/>
                </a:lnTo>
                <a:lnTo>
                  <a:pt x="129" y="1662"/>
                </a:lnTo>
                <a:lnTo>
                  <a:pt x="129" y="1672"/>
                </a:lnTo>
                <a:lnTo>
                  <a:pt x="127" y="1683"/>
                </a:lnTo>
                <a:lnTo>
                  <a:pt x="127" y="1693"/>
                </a:lnTo>
                <a:lnTo>
                  <a:pt x="125" y="1702"/>
                </a:lnTo>
                <a:lnTo>
                  <a:pt x="123" y="1710"/>
                </a:lnTo>
                <a:lnTo>
                  <a:pt x="123" y="1718"/>
                </a:lnTo>
                <a:lnTo>
                  <a:pt x="121" y="1723"/>
                </a:lnTo>
                <a:lnTo>
                  <a:pt x="121" y="1731"/>
                </a:lnTo>
                <a:lnTo>
                  <a:pt x="119" y="1737"/>
                </a:lnTo>
                <a:lnTo>
                  <a:pt x="117" y="1741"/>
                </a:lnTo>
                <a:lnTo>
                  <a:pt x="117" y="1745"/>
                </a:lnTo>
                <a:lnTo>
                  <a:pt x="115" y="1748"/>
                </a:lnTo>
                <a:lnTo>
                  <a:pt x="115" y="1752"/>
                </a:lnTo>
                <a:lnTo>
                  <a:pt x="113" y="1754"/>
                </a:lnTo>
                <a:lnTo>
                  <a:pt x="111" y="1756"/>
                </a:lnTo>
                <a:lnTo>
                  <a:pt x="110" y="1758"/>
                </a:lnTo>
                <a:lnTo>
                  <a:pt x="108" y="1754"/>
                </a:lnTo>
                <a:lnTo>
                  <a:pt x="106" y="1750"/>
                </a:lnTo>
                <a:lnTo>
                  <a:pt x="102" y="1748"/>
                </a:lnTo>
                <a:lnTo>
                  <a:pt x="98" y="1743"/>
                </a:lnTo>
                <a:lnTo>
                  <a:pt x="94" y="1739"/>
                </a:lnTo>
                <a:lnTo>
                  <a:pt x="92" y="1733"/>
                </a:lnTo>
                <a:lnTo>
                  <a:pt x="88" y="1727"/>
                </a:lnTo>
                <a:lnTo>
                  <a:pt x="83" y="1720"/>
                </a:lnTo>
                <a:lnTo>
                  <a:pt x="79" y="1714"/>
                </a:lnTo>
                <a:lnTo>
                  <a:pt x="75" y="1706"/>
                </a:lnTo>
                <a:lnTo>
                  <a:pt x="71" y="1697"/>
                </a:lnTo>
                <a:lnTo>
                  <a:pt x="67" y="1687"/>
                </a:lnTo>
                <a:lnTo>
                  <a:pt x="62" y="1679"/>
                </a:lnTo>
                <a:lnTo>
                  <a:pt x="58" y="1668"/>
                </a:lnTo>
                <a:lnTo>
                  <a:pt x="52" y="1658"/>
                </a:lnTo>
                <a:lnTo>
                  <a:pt x="48" y="1647"/>
                </a:lnTo>
                <a:lnTo>
                  <a:pt x="42" y="1635"/>
                </a:lnTo>
                <a:lnTo>
                  <a:pt x="37" y="1624"/>
                </a:lnTo>
                <a:lnTo>
                  <a:pt x="31" y="1612"/>
                </a:lnTo>
                <a:lnTo>
                  <a:pt x="25" y="1602"/>
                </a:lnTo>
                <a:lnTo>
                  <a:pt x="21" y="1593"/>
                </a:lnTo>
                <a:lnTo>
                  <a:pt x="17" y="1583"/>
                </a:lnTo>
                <a:lnTo>
                  <a:pt x="14" y="1574"/>
                </a:lnTo>
                <a:lnTo>
                  <a:pt x="10" y="1566"/>
                </a:lnTo>
                <a:lnTo>
                  <a:pt x="8" y="1558"/>
                </a:lnTo>
                <a:lnTo>
                  <a:pt x="6" y="1551"/>
                </a:lnTo>
                <a:lnTo>
                  <a:pt x="4" y="1545"/>
                </a:lnTo>
                <a:lnTo>
                  <a:pt x="2" y="1539"/>
                </a:lnTo>
                <a:lnTo>
                  <a:pt x="0" y="1533"/>
                </a:lnTo>
                <a:lnTo>
                  <a:pt x="0" y="1530"/>
                </a:lnTo>
                <a:lnTo>
                  <a:pt x="0" y="1526"/>
                </a:lnTo>
                <a:lnTo>
                  <a:pt x="0" y="1524"/>
                </a:lnTo>
                <a:lnTo>
                  <a:pt x="0" y="1520"/>
                </a:lnTo>
                <a:lnTo>
                  <a:pt x="0" y="1516"/>
                </a:lnTo>
                <a:lnTo>
                  <a:pt x="0" y="1512"/>
                </a:lnTo>
                <a:lnTo>
                  <a:pt x="2" y="1507"/>
                </a:lnTo>
                <a:lnTo>
                  <a:pt x="2" y="1501"/>
                </a:lnTo>
                <a:lnTo>
                  <a:pt x="4" y="1493"/>
                </a:lnTo>
                <a:lnTo>
                  <a:pt x="6" y="1485"/>
                </a:lnTo>
                <a:lnTo>
                  <a:pt x="8" y="1478"/>
                </a:lnTo>
                <a:lnTo>
                  <a:pt x="8" y="1468"/>
                </a:lnTo>
                <a:lnTo>
                  <a:pt x="10" y="1457"/>
                </a:lnTo>
                <a:lnTo>
                  <a:pt x="14" y="1445"/>
                </a:lnTo>
                <a:lnTo>
                  <a:pt x="15" y="1434"/>
                </a:lnTo>
                <a:lnTo>
                  <a:pt x="17" y="1420"/>
                </a:lnTo>
                <a:lnTo>
                  <a:pt x="19" y="1407"/>
                </a:lnTo>
                <a:lnTo>
                  <a:pt x="21" y="1391"/>
                </a:lnTo>
                <a:lnTo>
                  <a:pt x="23" y="1376"/>
                </a:lnTo>
                <a:lnTo>
                  <a:pt x="25" y="1368"/>
                </a:lnTo>
                <a:lnTo>
                  <a:pt x="25" y="1361"/>
                </a:lnTo>
                <a:lnTo>
                  <a:pt x="27" y="1353"/>
                </a:lnTo>
                <a:lnTo>
                  <a:pt x="27" y="1343"/>
                </a:lnTo>
                <a:lnTo>
                  <a:pt x="29" y="1334"/>
                </a:lnTo>
                <a:lnTo>
                  <a:pt x="29" y="1324"/>
                </a:lnTo>
                <a:lnTo>
                  <a:pt x="31" y="1313"/>
                </a:lnTo>
                <a:lnTo>
                  <a:pt x="31" y="1301"/>
                </a:lnTo>
                <a:lnTo>
                  <a:pt x="31" y="1290"/>
                </a:lnTo>
                <a:lnTo>
                  <a:pt x="33" y="1278"/>
                </a:lnTo>
                <a:lnTo>
                  <a:pt x="33" y="1265"/>
                </a:lnTo>
                <a:lnTo>
                  <a:pt x="33" y="1251"/>
                </a:lnTo>
                <a:lnTo>
                  <a:pt x="35" y="1238"/>
                </a:lnTo>
                <a:lnTo>
                  <a:pt x="35" y="1222"/>
                </a:lnTo>
                <a:lnTo>
                  <a:pt x="35" y="1207"/>
                </a:lnTo>
                <a:lnTo>
                  <a:pt x="37" y="1192"/>
                </a:lnTo>
                <a:lnTo>
                  <a:pt x="37" y="1174"/>
                </a:lnTo>
                <a:lnTo>
                  <a:pt x="37" y="1157"/>
                </a:lnTo>
                <a:lnTo>
                  <a:pt x="38" y="1140"/>
                </a:lnTo>
                <a:lnTo>
                  <a:pt x="38" y="1123"/>
                </a:lnTo>
                <a:lnTo>
                  <a:pt x="38" y="1103"/>
                </a:lnTo>
                <a:lnTo>
                  <a:pt x="40" y="1084"/>
                </a:lnTo>
                <a:lnTo>
                  <a:pt x="40" y="1065"/>
                </a:lnTo>
                <a:lnTo>
                  <a:pt x="40" y="1044"/>
                </a:lnTo>
                <a:lnTo>
                  <a:pt x="42" y="1023"/>
                </a:lnTo>
                <a:lnTo>
                  <a:pt x="42" y="1002"/>
                </a:lnTo>
                <a:lnTo>
                  <a:pt x="42" y="979"/>
                </a:lnTo>
                <a:lnTo>
                  <a:pt x="44" y="956"/>
                </a:lnTo>
                <a:lnTo>
                  <a:pt x="44" y="933"/>
                </a:lnTo>
                <a:lnTo>
                  <a:pt x="46" y="910"/>
                </a:lnTo>
                <a:lnTo>
                  <a:pt x="46" y="885"/>
                </a:lnTo>
                <a:lnTo>
                  <a:pt x="48" y="860"/>
                </a:lnTo>
                <a:lnTo>
                  <a:pt x="48" y="758"/>
                </a:lnTo>
                <a:lnTo>
                  <a:pt x="48" y="654"/>
                </a:lnTo>
                <a:lnTo>
                  <a:pt x="48" y="549"/>
                </a:lnTo>
                <a:lnTo>
                  <a:pt x="48" y="443"/>
                </a:lnTo>
                <a:lnTo>
                  <a:pt x="48" y="336"/>
                </a:lnTo>
                <a:lnTo>
                  <a:pt x="48" y="280"/>
                </a:lnTo>
                <a:lnTo>
                  <a:pt x="48" y="224"/>
                </a:lnTo>
                <a:lnTo>
                  <a:pt x="48" y="169"/>
                </a:lnTo>
                <a:lnTo>
                  <a:pt x="48" y="113"/>
                </a:lnTo>
                <a:lnTo>
                  <a:pt x="48" y="55"/>
                </a:lnTo>
                <a:lnTo>
                  <a:pt x="48" y="0"/>
                </a:lnTo>
                <a:lnTo>
                  <a:pt x="63" y="19"/>
                </a:lnTo>
                <a:lnTo>
                  <a:pt x="79" y="38"/>
                </a:lnTo>
                <a:lnTo>
                  <a:pt x="90" y="55"/>
                </a:lnTo>
                <a:lnTo>
                  <a:pt x="104" y="73"/>
                </a:lnTo>
                <a:lnTo>
                  <a:pt x="115" y="88"/>
                </a:lnTo>
                <a:lnTo>
                  <a:pt x="125" y="103"/>
                </a:lnTo>
                <a:lnTo>
                  <a:pt x="134" y="117"/>
                </a:lnTo>
                <a:lnTo>
                  <a:pt x="142" y="128"/>
                </a:lnTo>
                <a:lnTo>
                  <a:pt x="150" y="140"/>
                </a:lnTo>
                <a:lnTo>
                  <a:pt x="156" y="149"/>
                </a:lnTo>
                <a:lnTo>
                  <a:pt x="159" y="157"/>
                </a:lnTo>
                <a:lnTo>
                  <a:pt x="163" y="165"/>
                </a:lnTo>
                <a:lnTo>
                  <a:pt x="167" y="171"/>
                </a:lnTo>
                <a:lnTo>
                  <a:pt x="169" y="176"/>
                </a:lnTo>
                <a:lnTo>
                  <a:pt x="171" y="180"/>
                </a:lnTo>
                <a:lnTo>
                  <a:pt x="171" y="184"/>
                </a:lnTo>
                <a:lnTo>
                  <a:pt x="171" y="186"/>
                </a:lnTo>
                <a:lnTo>
                  <a:pt x="171" y="190"/>
                </a:lnTo>
                <a:lnTo>
                  <a:pt x="171" y="194"/>
                </a:lnTo>
                <a:lnTo>
                  <a:pt x="171" y="199"/>
                </a:lnTo>
                <a:lnTo>
                  <a:pt x="171" y="205"/>
                </a:lnTo>
                <a:lnTo>
                  <a:pt x="171" y="211"/>
                </a:lnTo>
                <a:lnTo>
                  <a:pt x="171" y="219"/>
                </a:lnTo>
                <a:lnTo>
                  <a:pt x="171" y="226"/>
                </a:lnTo>
                <a:lnTo>
                  <a:pt x="171" y="236"/>
                </a:lnTo>
                <a:lnTo>
                  <a:pt x="171" y="245"/>
                </a:lnTo>
                <a:lnTo>
                  <a:pt x="171" y="255"/>
                </a:lnTo>
                <a:lnTo>
                  <a:pt x="171" y="267"/>
                </a:lnTo>
                <a:lnTo>
                  <a:pt x="171" y="280"/>
                </a:lnTo>
                <a:lnTo>
                  <a:pt x="171" y="291"/>
                </a:lnTo>
                <a:lnTo>
                  <a:pt x="171" y="305"/>
                </a:lnTo>
                <a:lnTo>
                  <a:pt x="169" y="320"/>
                </a:lnTo>
                <a:lnTo>
                  <a:pt x="169" y="336"/>
                </a:lnTo>
                <a:lnTo>
                  <a:pt x="169" y="351"/>
                </a:lnTo>
                <a:lnTo>
                  <a:pt x="169" y="366"/>
                </a:lnTo>
                <a:lnTo>
                  <a:pt x="169" y="386"/>
                </a:lnTo>
                <a:lnTo>
                  <a:pt x="167" y="403"/>
                </a:lnTo>
                <a:lnTo>
                  <a:pt x="167" y="422"/>
                </a:lnTo>
                <a:lnTo>
                  <a:pt x="167" y="441"/>
                </a:lnTo>
                <a:lnTo>
                  <a:pt x="165" y="462"/>
                </a:lnTo>
                <a:lnTo>
                  <a:pt x="165" y="483"/>
                </a:lnTo>
                <a:lnTo>
                  <a:pt x="165" y="505"/>
                </a:lnTo>
                <a:lnTo>
                  <a:pt x="163" y="528"/>
                </a:lnTo>
                <a:lnTo>
                  <a:pt x="163" y="551"/>
                </a:lnTo>
                <a:lnTo>
                  <a:pt x="161" y="574"/>
                </a:lnTo>
                <a:lnTo>
                  <a:pt x="161" y="599"/>
                </a:lnTo>
                <a:lnTo>
                  <a:pt x="159" y="624"/>
                </a:lnTo>
                <a:lnTo>
                  <a:pt x="159" y="65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31"/>
          <p:cNvSpPr/>
          <p:nvPr/>
        </p:nvSpPr>
        <p:spPr>
          <a:xfrm>
            <a:off x="6637320" y="3297240"/>
            <a:ext cx="460440" cy="771480"/>
          </a:xfrm>
          <a:custGeom>
            <a:avLst/>
            <a:gdLst/>
            <a:ahLst/>
            <a:rect l="l" t="t" r="r" b="b"/>
            <a:pathLst>
              <a:path w="582" h="971">
                <a:moveTo>
                  <a:pt x="4" y="969"/>
                </a:moveTo>
                <a:lnTo>
                  <a:pt x="2" y="965"/>
                </a:lnTo>
                <a:lnTo>
                  <a:pt x="0" y="961"/>
                </a:lnTo>
                <a:lnTo>
                  <a:pt x="0" y="958"/>
                </a:lnTo>
                <a:lnTo>
                  <a:pt x="2" y="952"/>
                </a:lnTo>
                <a:lnTo>
                  <a:pt x="4" y="946"/>
                </a:lnTo>
                <a:lnTo>
                  <a:pt x="6" y="938"/>
                </a:lnTo>
                <a:lnTo>
                  <a:pt x="10" y="929"/>
                </a:lnTo>
                <a:lnTo>
                  <a:pt x="15" y="919"/>
                </a:lnTo>
                <a:lnTo>
                  <a:pt x="21" y="910"/>
                </a:lnTo>
                <a:lnTo>
                  <a:pt x="27" y="896"/>
                </a:lnTo>
                <a:lnTo>
                  <a:pt x="35" y="883"/>
                </a:lnTo>
                <a:lnTo>
                  <a:pt x="44" y="869"/>
                </a:lnTo>
                <a:lnTo>
                  <a:pt x="54" y="852"/>
                </a:lnTo>
                <a:lnTo>
                  <a:pt x="65" y="835"/>
                </a:lnTo>
                <a:lnTo>
                  <a:pt x="77" y="817"/>
                </a:lnTo>
                <a:lnTo>
                  <a:pt x="90" y="796"/>
                </a:lnTo>
                <a:lnTo>
                  <a:pt x="117" y="754"/>
                </a:lnTo>
                <a:lnTo>
                  <a:pt x="142" y="712"/>
                </a:lnTo>
                <a:lnTo>
                  <a:pt x="167" y="670"/>
                </a:lnTo>
                <a:lnTo>
                  <a:pt x="192" y="627"/>
                </a:lnTo>
                <a:lnTo>
                  <a:pt x="217" y="583"/>
                </a:lnTo>
                <a:lnTo>
                  <a:pt x="240" y="537"/>
                </a:lnTo>
                <a:lnTo>
                  <a:pt x="252" y="514"/>
                </a:lnTo>
                <a:lnTo>
                  <a:pt x="263" y="489"/>
                </a:lnTo>
                <a:lnTo>
                  <a:pt x="275" y="464"/>
                </a:lnTo>
                <a:lnTo>
                  <a:pt x="286" y="439"/>
                </a:lnTo>
                <a:lnTo>
                  <a:pt x="296" y="414"/>
                </a:lnTo>
                <a:lnTo>
                  <a:pt x="303" y="391"/>
                </a:lnTo>
                <a:lnTo>
                  <a:pt x="313" y="368"/>
                </a:lnTo>
                <a:lnTo>
                  <a:pt x="321" y="347"/>
                </a:lnTo>
                <a:lnTo>
                  <a:pt x="328" y="326"/>
                </a:lnTo>
                <a:lnTo>
                  <a:pt x="336" y="307"/>
                </a:lnTo>
                <a:lnTo>
                  <a:pt x="342" y="288"/>
                </a:lnTo>
                <a:lnTo>
                  <a:pt x="349" y="270"/>
                </a:lnTo>
                <a:lnTo>
                  <a:pt x="355" y="253"/>
                </a:lnTo>
                <a:lnTo>
                  <a:pt x="361" y="238"/>
                </a:lnTo>
                <a:lnTo>
                  <a:pt x="367" y="222"/>
                </a:lnTo>
                <a:lnTo>
                  <a:pt x="371" y="209"/>
                </a:lnTo>
                <a:lnTo>
                  <a:pt x="374" y="194"/>
                </a:lnTo>
                <a:lnTo>
                  <a:pt x="378" y="182"/>
                </a:lnTo>
                <a:lnTo>
                  <a:pt x="382" y="169"/>
                </a:lnTo>
                <a:lnTo>
                  <a:pt x="384" y="157"/>
                </a:lnTo>
                <a:lnTo>
                  <a:pt x="386" y="146"/>
                </a:lnTo>
                <a:lnTo>
                  <a:pt x="388" y="136"/>
                </a:lnTo>
                <a:lnTo>
                  <a:pt x="390" y="125"/>
                </a:lnTo>
                <a:lnTo>
                  <a:pt x="390" y="115"/>
                </a:lnTo>
                <a:lnTo>
                  <a:pt x="390" y="107"/>
                </a:lnTo>
                <a:lnTo>
                  <a:pt x="390" y="98"/>
                </a:lnTo>
                <a:lnTo>
                  <a:pt x="388" y="90"/>
                </a:lnTo>
                <a:lnTo>
                  <a:pt x="388" y="84"/>
                </a:lnTo>
                <a:lnTo>
                  <a:pt x="386" y="77"/>
                </a:lnTo>
                <a:lnTo>
                  <a:pt x="384" y="71"/>
                </a:lnTo>
                <a:lnTo>
                  <a:pt x="384" y="65"/>
                </a:lnTo>
                <a:lnTo>
                  <a:pt x="382" y="61"/>
                </a:lnTo>
                <a:lnTo>
                  <a:pt x="378" y="55"/>
                </a:lnTo>
                <a:lnTo>
                  <a:pt x="376" y="52"/>
                </a:lnTo>
                <a:lnTo>
                  <a:pt x="374" y="50"/>
                </a:lnTo>
                <a:lnTo>
                  <a:pt x="372" y="46"/>
                </a:lnTo>
                <a:lnTo>
                  <a:pt x="369" y="44"/>
                </a:lnTo>
                <a:lnTo>
                  <a:pt x="365" y="42"/>
                </a:lnTo>
                <a:lnTo>
                  <a:pt x="361" y="40"/>
                </a:lnTo>
                <a:lnTo>
                  <a:pt x="359" y="36"/>
                </a:lnTo>
                <a:lnTo>
                  <a:pt x="357" y="34"/>
                </a:lnTo>
                <a:lnTo>
                  <a:pt x="355" y="32"/>
                </a:lnTo>
                <a:lnTo>
                  <a:pt x="355" y="30"/>
                </a:lnTo>
                <a:lnTo>
                  <a:pt x="353" y="29"/>
                </a:lnTo>
                <a:lnTo>
                  <a:pt x="355" y="25"/>
                </a:lnTo>
                <a:lnTo>
                  <a:pt x="355" y="23"/>
                </a:lnTo>
                <a:lnTo>
                  <a:pt x="357" y="21"/>
                </a:lnTo>
                <a:lnTo>
                  <a:pt x="359" y="19"/>
                </a:lnTo>
                <a:lnTo>
                  <a:pt x="361" y="17"/>
                </a:lnTo>
                <a:lnTo>
                  <a:pt x="365" y="13"/>
                </a:lnTo>
                <a:lnTo>
                  <a:pt x="369" y="11"/>
                </a:lnTo>
                <a:lnTo>
                  <a:pt x="372" y="9"/>
                </a:lnTo>
                <a:lnTo>
                  <a:pt x="374" y="7"/>
                </a:lnTo>
                <a:lnTo>
                  <a:pt x="378" y="6"/>
                </a:lnTo>
                <a:lnTo>
                  <a:pt x="384" y="4"/>
                </a:lnTo>
                <a:lnTo>
                  <a:pt x="388" y="2"/>
                </a:lnTo>
                <a:lnTo>
                  <a:pt x="394" y="2"/>
                </a:lnTo>
                <a:lnTo>
                  <a:pt x="401" y="0"/>
                </a:lnTo>
                <a:lnTo>
                  <a:pt x="407" y="0"/>
                </a:lnTo>
                <a:lnTo>
                  <a:pt x="415" y="0"/>
                </a:lnTo>
                <a:lnTo>
                  <a:pt x="424" y="0"/>
                </a:lnTo>
                <a:lnTo>
                  <a:pt x="432" y="0"/>
                </a:lnTo>
                <a:lnTo>
                  <a:pt x="442" y="2"/>
                </a:lnTo>
                <a:lnTo>
                  <a:pt x="451" y="2"/>
                </a:lnTo>
                <a:lnTo>
                  <a:pt x="472" y="6"/>
                </a:lnTo>
                <a:lnTo>
                  <a:pt x="495" y="9"/>
                </a:lnTo>
                <a:lnTo>
                  <a:pt x="507" y="13"/>
                </a:lnTo>
                <a:lnTo>
                  <a:pt x="516" y="19"/>
                </a:lnTo>
                <a:lnTo>
                  <a:pt x="526" y="23"/>
                </a:lnTo>
                <a:lnTo>
                  <a:pt x="536" y="29"/>
                </a:lnTo>
                <a:lnTo>
                  <a:pt x="543" y="32"/>
                </a:lnTo>
                <a:lnTo>
                  <a:pt x="549" y="38"/>
                </a:lnTo>
                <a:lnTo>
                  <a:pt x="557" y="44"/>
                </a:lnTo>
                <a:lnTo>
                  <a:pt x="561" y="48"/>
                </a:lnTo>
                <a:lnTo>
                  <a:pt x="566" y="54"/>
                </a:lnTo>
                <a:lnTo>
                  <a:pt x="570" y="59"/>
                </a:lnTo>
                <a:lnTo>
                  <a:pt x="574" y="65"/>
                </a:lnTo>
                <a:lnTo>
                  <a:pt x="576" y="71"/>
                </a:lnTo>
                <a:lnTo>
                  <a:pt x="578" y="77"/>
                </a:lnTo>
                <a:lnTo>
                  <a:pt x="580" y="82"/>
                </a:lnTo>
                <a:lnTo>
                  <a:pt x="582" y="88"/>
                </a:lnTo>
                <a:lnTo>
                  <a:pt x="582" y="96"/>
                </a:lnTo>
                <a:lnTo>
                  <a:pt x="580" y="103"/>
                </a:lnTo>
                <a:lnTo>
                  <a:pt x="580" y="113"/>
                </a:lnTo>
                <a:lnTo>
                  <a:pt x="576" y="123"/>
                </a:lnTo>
                <a:lnTo>
                  <a:pt x="572" y="134"/>
                </a:lnTo>
                <a:lnTo>
                  <a:pt x="566" y="150"/>
                </a:lnTo>
                <a:lnTo>
                  <a:pt x="561" y="163"/>
                </a:lnTo>
                <a:lnTo>
                  <a:pt x="553" y="180"/>
                </a:lnTo>
                <a:lnTo>
                  <a:pt x="545" y="197"/>
                </a:lnTo>
                <a:lnTo>
                  <a:pt x="536" y="219"/>
                </a:lnTo>
                <a:lnTo>
                  <a:pt x="526" y="240"/>
                </a:lnTo>
                <a:lnTo>
                  <a:pt x="514" y="263"/>
                </a:lnTo>
                <a:lnTo>
                  <a:pt x="503" y="288"/>
                </a:lnTo>
                <a:lnTo>
                  <a:pt x="490" y="313"/>
                </a:lnTo>
                <a:lnTo>
                  <a:pt x="476" y="341"/>
                </a:lnTo>
                <a:lnTo>
                  <a:pt x="463" y="372"/>
                </a:lnTo>
                <a:lnTo>
                  <a:pt x="447" y="403"/>
                </a:lnTo>
                <a:lnTo>
                  <a:pt x="430" y="437"/>
                </a:lnTo>
                <a:lnTo>
                  <a:pt x="415" y="470"/>
                </a:lnTo>
                <a:lnTo>
                  <a:pt x="397" y="503"/>
                </a:lnTo>
                <a:lnTo>
                  <a:pt x="380" y="531"/>
                </a:lnTo>
                <a:lnTo>
                  <a:pt x="363" y="562"/>
                </a:lnTo>
                <a:lnTo>
                  <a:pt x="346" y="591"/>
                </a:lnTo>
                <a:lnTo>
                  <a:pt x="328" y="618"/>
                </a:lnTo>
                <a:lnTo>
                  <a:pt x="311" y="645"/>
                </a:lnTo>
                <a:lnTo>
                  <a:pt x="294" y="670"/>
                </a:lnTo>
                <a:lnTo>
                  <a:pt x="276" y="695"/>
                </a:lnTo>
                <a:lnTo>
                  <a:pt x="259" y="718"/>
                </a:lnTo>
                <a:lnTo>
                  <a:pt x="242" y="739"/>
                </a:lnTo>
                <a:lnTo>
                  <a:pt x="225" y="762"/>
                </a:lnTo>
                <a:lnTo>
                  <a:pt x="207" y="783"/>
                </a:lnTo>
                <a:lnTo>
                  <a:pt x="192" y="802"/>
                </a:lnTo>
                <a:lnTo>
                  <a:pt x="177" y="821"/>
                </a:lnTo>
                <a:lnTo>
                  <a:pt x="159" y="841"/>
                </a:lnTo>
                <a:lnTo>
                  <a:pt x="144" y="860"/>
                </a:lnTo>
                <a:lnTo>
                  <a:pt x="131" y="877"/>
                </a:lnTo>
                <a:lnTo>
                  <a:pt x="117" y="892"/>
                </a:lnTo>
                <a:lnTo>
                  <a:pt x="104" y="908"/>
                </a:lnTo>
                <a:lnTo>
                  <a:pt x="90" y="919"/>
                </a:lnTo>
                <a:lnTo>
                  <a:pt x="79" y="931"/>
                </a:lnTo>
                <a:lnTo>
                  <a:pt x="67" y="942"/>
                </a:lnTo>
                <a:lnTo>
                  <a:pt x="56" y="950"/>
                </a:lnTo>
                <a:lnTo>
                  <a:pt x="46" y="958"/>
                </a:lnTo>
                <a:lnTo>
                  <a:pt x="37" y="963"/>
                </a:lnTo>
                <a:lnTo>
                  <a:pt x="29" y="967"/>
                </a:lnTo>
                <a:lnTo>
                  <a:pt x="21" y="969"/>
                </a:lnTo>
                <a:lnTo>
                  <a:pt x="14" y="971"/>
                </a:lnTo>
                <a:lnTo>
                  <a:pt x="8" y="971"/>
                </a:lnTo>
                <a:lnTo>
                  <a:pt x="4" y="9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32"/>
          <p:cNvSpPr/>
          <p:nvPr/>
        </p:nvSpPr>
        <p:spPr>
          <a:xfrm>
            <a:off x="6276960" y="3917880"/>
            <a:ext cx="450720" cy="704880"/>
          </a:xfrm>
          <a:custGeom>
            <a:avLst/>
            <a:gdLst/>
            <a:ahLst/>
            <a:rect l="l" t="t" r="r" b="b"/>
            <a:pathLst>
              <a:path w="568" h="889">
                <a:moveTo>
                  <a:pt x="432" y="470"/>
                </a:moveTo>
                <a:lnTo>
                  <a:pt x="447" y="491"/>
                </a:lnTo>
                <a:lnTo>
                  <a:pt x="461" y="511"/>
                </a:lnTo>
                <a:lnTo>
                  <a:pt x="474" y="530"/>
                </a:lnTo>
                <a:lnTo>
                  <a:pt x="488" y="549"/>
                </a:lnTo>
                <a:lnTo>
                  <a:pt x="499" y="568"/>
                </a:lnTo>
                <a:lnTo>
                  <a:pt x="509" y="585"/>
                </a:lnTo>
                <a:lnTo>
                  <a:pt x="518" y="605"/>
                </a:lnTo>
                <a:lnTo>
                  <a:pt x="528" y="622"/>
                </a:lnTo>
                <a:lnTo>
                  <a:pt x="536" y="639"/>
                </a:lnTo>
                <a:lnTo>
                  <a:pt x="541" y="655"/>
                </a:lnTo>
                <a:lnTo>
                  <a:pt x="547" y="672"/>
                </a:lnTo>
                <a:lnTo>
                  <a:pt x="553" y="689"/>
                </a:lnTo>
                <a:lnTo>
                  <a:pt x="557" y="704"/>
                </a:lnTo>
                <a:lnTo>
                  <a:pt x="563" y="720"/>
                </a:lnTo>
                <a:lnTo>
                  <a:pt x="564" y="737"/>
                </a:lnTo>
                <a:lnTo>
                  <a:pt x="568" y="752"/>
                </a:lnTo>
                <a:lnTo>
                  <a:pt x="566" y="768"/>
                </a:lnTo>
                <a:lnTo>
                  <a:pt x="566" y="783"/>
                </a:lnTo>
                <a:lnTo>
                  <a:pt x="566" y="797"/>
                </a:lnTo>
                <a:lnTo>
                  <a:pt x="564" y="808"/>
                </a:lnTo>
                <a:lnTo>
                  <a:pt x="564" y="820"/>
                </a:lnTo>
                <a:lnTo>
                  <a:pt x="563" y="831"/>
                </a:lnTo>
                <a:lnTo>
                  <a:pt x="561" y="841"/>
                </a:lnTo>
                <a:lnTo>
                  <a:pt x="559" y="848"/>
                </a:lnTo>
                <a:lnTo>
                  <a:pt x="559" y="856"/>
                </a:lnTo>
                <a:lnTo>
                  <a:pt x="557" y="862"/>
                </a:lnTo>
                <a:lnTo>
                  <a:pt x="553" y="870"/>
                </a:lnTo>
                <a:lnTo>
                  <a:pt x="551" y="873"/>
                </a:lnTo>
                <a:lnTo>
                  <a:pt x="549" y="879"/>
                </a:lnTo>
                <a:lnTo>
                  <a:pt x="547" y="883"/>
                </a:lnTo>
                <a:lnTo>
                  <a:pt x="545" y="885"/>
                </a:lnTo>
                <a:lnTo>
                  <a:pt x="543" y="889"/>
                </a:lnTo>
                <a:lnTo>
                  <a:pt x="539" y="889"/>
                </a:lnTo>
                <a:lnTo>
                  <a:pt x="538" y="889"/>
                </a:lnTo>
                <a:lnTo>
                  <a:pt x="534" y="887"/>
                </a:lnTo>
                <a:lnTo>
                  <a:pt x="530" y="885"/>
                </a:lnTo>
                <a:lnTo>
                  <a:pt x="526" y="883"/>
                </a:lnTo>
                <a:lnTo>
                  <a:pt x="520" y="879"/>
                </a:lnTo>
                <a:lnTo>
                  <a:pt x="516" y="873"/>
                </a:lnTo>
                <a:lnTo>
                  <a:pt x="511" y="868"/>
                </a:lnTo>
                <a:lnTo>
                  <a:pt x="505" y="862"/>
                </a:lnTo>
                <a:lnTo>
                  <a:pt x="497" y="854"/>
                </a:lnTo>
                <a:lnTo>
                  <a:pt x="491" y="845"/>
                </a:lnTo>
                <a:lnTo>
                  <a:pt x="484" y="835"/>
                </a:lnTo>
                <a:lnTo>
                  <a:pt x="476" y="825"/>
                </a:lnTo>
                <a:lnTo>
                  <a:pt x="467" y="814"/>
                </a:lnTo>
                <a:lnTo>
                  <a:pt x="459" y="802"/>
                </a:lnTo>
                <a:lnTo>
                  <a:pt x="449" y="789"/>
                </a:lnTo>
                <a:lnTo>
                  <a:pt x="440" y="775"/>
                </a:lnTo>
                <a:lnTo>
                  <a:pt x="430" y="760"/>
                </a:lnTo>
                <a:lnTo>
                  <a:pt x="420" y="745"/>
                </a:lnTo>
                <a:lnTo>
                  <a:pt x="409" y="727"/>
                </a:lnTo>
                <a:lnTo>
                  <a:pt x="397" y="710"/>
                </a:lnTo>
                <a:lnTo>
                  <a:pt x="386" y="691"/>
                </a:lnTo>
                <a:lnTo>
                  <a:pt x="374" y="672"/>
                </a:lnTo>
                <a:lnTo>
                  <a:pt x="361" y="653"/>
                </a:lnTo>
                <a:lnTo>
                  <a:pt x="349" y="632"/>
                </a:lnTo>
                <a:lnTo>
                  <a:pt x="336" y="608"/>
                </a:lnTo>
                <a:lnTo>
                  <a:pt x="323" y="585"/>
                </a:lnTo>
                <a:lnTo>
                  <a:pt x="307" y="562"/>
                </a:lnTo>
                <a:lnTo>
                  <a:pt x="294" y="537"/>
                </a:lnTo>
                <a:lnTo>
                  <a:pt x="278" y="513"/>
                </a:lnTo>
                <a:lnTo>
                  <a:pt x="263" y="486"/>
                </a:lnTo>
                <a:lnTo>
                  <a:pt x="248" y="459"/>
                </a:lnTo>
                <a:lnTo>
                  <a:pt x="232" y="432"/>
                </a:lnTo>
                <a:lnTo>
                  <a:pt x="217" y="407"/>
                </a:lnTo>
                <a:lnTo>
                  <a:pt x="202" y="382"/>
                </a:lnTo>
                <a:lnTo>
                  <a:pt x="188" y="357"/>
                </a:lnTo>
                <a:lnTo>
                  <a:pt x="175" y="334"/>
                </a:lnTo>
                <a:lnTo>
                  <a:pt x="161" y="311"/>
                </a:lnTo>
                <a:lnTo>
                  <a:pt x="148" y="290"/>
                </a:lnTo>
                <a:lnTo>
                  <a:pt x="136" y="269"/>
                </a:lnTo>
                <a:lnTo>
                  <a:pt x="125" y="248"/>
                </a:lnTo>
                <a:lnTo>
                  <a:pt x="113" y="228"/>
                </a:lnTo>
                <a:lnTo>
                  <a:pt x="102" y="211"/>
                </a:lnTo>
                <a:lnTo>
                  <a:pt x="92" y="192"/>
                </a:lnTo>
                <a:lnTo>
                  <a:pt x="83" y="175"/>
                </a:lnTo>
                <a:lnTo>
                  <a:pt x="73" y="159"/>
                </a:lnTo>
                <a:lnTo>
                  <a:pt x="65" y="144"/>
                </a:lnTo>
                <a:lnTo>
                  <a:pt x="56" y="129"/>
                </a:lnTo>
                <a:lnTo>
                  <a:pt x="48" y="115"/>
                </a:lnTo>
                <a:lnTo>
                  <a:pt x="42" y="102"/>
                </a:lnTo>
                <a:lnTo>
                  <a:pt x="35" y="88"/>
                </a:lnTo>
                <a:lnTo>
                  <a:pt x="29" y="77"/>
                </a:lnTo>
                <a:lnTo>
                  <a:pt x="23" y="67"/>
                </a:lnTo>
                <a:lnTo>
                  <a:pt x="19" y="58"/>
                </a:lnTo>
                <a:lnTo>
                  <a:pt x="15" y="48"/>
                </a:lnTo>
                <a:lnTo>
                  <a:pt x="12" y="38"/>
                </a:lnTo>
                <a:lnTo>
                  <a:pt x="8" y="33"/>
                </a:lnTo>
                <a:lnTo>
                  <a:pt x="6" y="25"/>
                </a:lnTo>
                <a:lnTo>
                  <a:pt x="4" y="19"/>
                </a:lnTo>
                <a:lnTo>
                  <a:pt x="2" y="15"/>
                </a:lnTo>
                <a:lnTo>
                  <a:pt x="0" y="10"/>
                </a:lnTo>
                <a:lnTo>
                  <a:pt x="0" y="8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0"/>
                </a:lnTo>
                <a:lnTo>
                  <a:pt x="8" y="2"/>
                </a:lnTo>
                <a:lnTo>
                  <a:pt x="12" y="4"/>
                </a:lnTo>
                <a:lnTo>
                  <a:pt x="17" y="6"/>
                </a:lnTo>
                <a:lnTo>
                  <a:pt x="23" y="12"/>
                </a:lnTo>
                <a:lnTo>
                  <a:pt x="31" y="17"/>
                </a:lnTo>
                <a:lnTo>
                  <a:pt x="40" y="25"/>
                </a:lnTo>
                <a:lnTo>
                  <a:pt x="50" y="33"/>
                </a:lnTo>
                <a:lnTo>
                  <a:pt x="63" y="42"/>
                </a:lnTo>
                <a:lnTo>
                  <a:pt x="75" y="56"/>
                </a:lnTo>
                <a:lnTo>
                  <a:pt x="90" y="69"/>
                </a:lnTo>
                <a:lnTo>
                  <a:pt x="106" y="83"/>
                </a:lnTo>
                <a:lnTo>
                  <a:pt x="123" y="100"/>
                </a:lnTo>
                <a:lnTo>
                  <a:pt x="142" y="119"/>
                </a:lnTo>
                <a:lnTo>
                  <a:pt x="161" y="138"/>
                </a:lnTo>
                <a:lnTo>
                  <a:pt x="182" y="159"/>
                </a:lnTo>
                <a:lnTo>
                  <a:pt x="202" y="180"/>
                </a:lnTo>
                <a:lnTo>
                  <a:pt x="221" y="202"/>
                </a:lnTo>
                <a:lnTo>
                  <a:pt x="240" y="221"/>
                </a:lnTo>
                <a:lnTo>
                  <a:pt x="277" y="263"/>
                </a:lnTo>
                <a:lnTo>
                  <a:pt x="311" y="305"/>
                </a:lnTo>
                <a:lnTo>
                  <a:pt x="344" y="346"/>
                </a:lnTo>
                <a:lnTo>
                  <a:pt x="374" y="388"/>
                </a:lnTo>
                <a:lnTo>
                  <a:pt x="403" y="428"/>
                </a:lnTo>
                <a:lnTo>
                  <a:pt x="432" y="47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33"/>
          <p:cNvSpPr/>
          <p:nvPr/>
        </p:nvSpPr>
        <p:spPr>
          <a:xfrm>
            <a:off x="6062760" y="3579840"/>
            <a:ext cx="639720" cy="1162080"/>
          </a:xfrm>
          <a:custGeom>
            <a:avLst/>
            <a:gdLst/>
            <a:ahLst/>
            <a:rect l="l" t="t" r="r" b="b"/>
            <a:pathLst>
              <a:path w="807" h="1464">
                <a:moveTo>
                  <a:pt x="519" y="910"/>
                </a:moveTo>
                <a:lnTo>
                  <a:pt x="505" y="939"/>
                </a:lnTo>
                <a:lnTo>
                  <a:pt x="490" y="967"/>
                </a:lnTo>
                <a:lnTo>
                  <a:pt x="475" y="996"/>
                </a:lnTo>
                <a:lnTo>
                  <a:pt x="459" y="1025"/>
                </a:lnTo>
                <a:lnTo>
                  <a:pt x="442" y="1052"/>
                </a:lnTo>
                <a:lnTo>
                  <a:pt x="425" y="1079"/>
                </a:lnTo>
                <a:lnTo>
                  <a:pt x="407" y="1104"/>
                </a:lnTo>
                <a:lnTo>
                  <a:pt x="390" y="1130"/>
                </a:lnTo>
                <a:lnTo>
                  <a:pt x="371" y="1155"/>
                </a:lnTo>
                <a:lnTo>
                  <a:pt x="352" y="1178"/>
                </a:lnTo>
                <a:lnTo>
                  <a:pt x="331" y="1203"/>
                </a:lnTo>
                <a:lnTo>
                  <a:pt x="311" y="1226"/>
                </a:lnTo>
                <a:lnTo>
                  <a:pt x="290" y="1249"/>
                </a:lnTo>
                <a:lnTo>
                  <a:pt x="269" y="1271"/>
                </a:lnTo>
                <a:lnTo>
                  <a:pt x="246" y="1294"/>
                </a:lnTo>
                <a:lnTo>
                  <a:pt x="223" y="1315"/>
                </a:lnTo>
                <a:lnTo>
                  <a:pt x="200" y="1334"/>
                </a:lnTo>
                <a:lnTo>
                  <a:pt x="175" y="1353"/>
                </a:lnTo>
                <a:lnTo>
                  <a:pt x="154" y="1370"/>
                </a:lnTo>
                <a:lnTo>
                  <a:pt x="135" y="1386"/>
                </a:lnTo>
                <a:lnTo>
                  <a:pt x="116" y="1401"/>
                </a:lnTo>
                <a:lnTo>
                  <a:pt x="98" y="1413"/>
                </a:lnTo>
                <a:lnTo>
                  <a:pt x="81" y="1424"/>
                </a:lnTo>
                <a:lnTo>
                  <a:pt x="68" y="1434"/>
                </a:lnTo>
                <a:lnTo>
                  <a:pt x="54" y="1443"/>
                </a:lnTo>
                <a:lnTo>
                  <a:pt x="43" y="1451"/>
                </a:lnTo>
                <a:lnTo>
                  <a:pt x="31" y="1455"/>
                </a:lnTo>
                <a:lnTo>
                  <a:pt x="24" y="1461"/>
                </a:lnTo>
                <a:lnTo>
                  <a:pt x="16" y="1463"/>
                </a:lnTo>
                <a:lnTo>
                  <a:pt x="10" y="1464"/>
                </a:lnTo>
                <a:lnTo>
                  <a:pt x="6" y="1464"/>
                </a:lnTo>
                <a:lnTo>
                  <a:pt x="2" y="1463"/>
                </a:lnTo>
                <a:lnTo>
                  <a:pt x="0" y="1459"/>
                </a:lnTo>
                <a:lnTo>
                  <a:pt x="0" y="1455"/>
                </a:lnTo>
                <a:lnTo>
                  <a:pt x="0" y="1449"/>
                </a:lnTo>
                <a:lnTo>
                  <a:pt x="2" y="1443"/>
                </a:lnTo>
                <a:lnTo>
                  <a:pt x="6" y="1436"/>
                </a:lnTo>
                <a:lnTo>
                  <a:pt x="10" y="1428"/>
                </a:lnTo>
                <a:lnTo>
                  <a:pt x="16" y="1418"/>
                </a:lnTo>
                <a:lnTo>
                  <a:pt x="24" y="1407"/>
                </a:lnTo>
                <a:lnTo>
                  <a:pt x="33" y="1395"/>
                </a:lnTo>
                <a:lnTo>
                  <a:pt x="43" y="1382"/>
                </a:lnTo>
                <a:lnTo>
                  <a:pt x="54" y="1367"/>
                </a:lnTo>
                <a:lnTo>
                  <a:pt x="68" y="1351"/>
                </a:lnTo>
                <a:lnTo>
                  <a:pt x="83" y="1334"/>
                </a:lnTo>
                <a:lnTo>
                  <a:pt x="100" y="1317"/>
                </a:lnTo>
                <a:lnTo>
                  <a:pt x="118" y="1297"/>
                </a:lnTo>
                <a:lnTo>
                  <a:pt x="137" y="1278"/>
                </a:lnTo>
                <a:lnTo>
                  <a:pt x="158" y="1255"/>
                </a:lnTo>
                <a:lnTo>
                  <a:pt x="177" y="1234"/>
                </a:lnTo>
                <a:lnTo>
                  <a:pt x="196" y="1211"/>
                </a:lnTo>
                <a:lnTo>
                  <a:pt x="215" y="1188"/>
                </a:lnTo>
                <a:lnTo>
                  <a:pt x="235" y="1163"/>
                </a:lnTo>
                <a:lnTo>
                  <a:pt x="252" y="1138"/>
                </a:lnTo>
                <a:lnTo>
                  <a:pt x="271" y="1111"/>
                </a:lnTo>
                <a:lnTo>
                  <a:pt x="288" y="1084"/>
                </a:lnTo>
                <a:lnTo>
                  <a:pt x="306" y="1058"/>
                </a:lnTo>
                <a:lnTo>
                  <a:pt x="323" y="1031"/>
                </a:lnTo>
                <a:lnTo>
                  <a:pt x="338" y="1002"/>
                </a:lnTo>
                <a:lnTo>
                  <a:pt x="356" y="971"/>
                </a:lnTo>
                <a:lnTo>
                  <a:pt x="373" y="942"/>
                </a:lnTo>
                <a:lnTo>
                  <a:pt x="388" y="912"/>
                </a:lnTo>
                <a:lnTo>
                  <a:pt x="404" y="879"/>
                </a:lnTo>
                <a:lnTo>
                  <a:pt x="421" y="848"/>
                </a:lnTo>
                <a:lnTo>
                  <a:pt x="434" y="818"/>
                </a:lnTo>
                <a:lnTo>
                  <a:pt x="446" y="787"/>
                </a:lnTo>
                <a:lnTo>
                  <a:pt x="459" y="758"/>
                </a:lnTo>
                <a:lnTo>
                  <a:pt x="471" y="727"/>
                </a:lnTo>
                <a:lnTo>
                  <a:pt x="482" y="699"/>
                </a:lnTo>
                <a:lnTo>
                  <a:pt x="492" y="668"/>
                </a:lnTo>
                <a:lnTo>
                  <a:pt x="503" y="639"/>
                </a:lnTo>
                <a:lnTo>
                  <a:pt x="513" y="610"/>
                </a:lnTo>
                <a:lnTo>
                  <a:pt x="521" y="581"/>
                </a:lnTo>
                <a:lnTo>
                  <a:pt x="530" y="553"/>
                </a:lnTo>
                <a:lnTo>
                  <a:pt x="538" y="526"/>
                </a:lnTo>
                <a:lnTo>
                  <a:pt x="546" y="499"/>
                </a:lnTo>
                <a:lnTo>
                  <a:pt x="551" y="470"/>
                </a:lnTo>
                <a:lnTo>
                  <a:pt x="557" y="445"/>
                </a:lnTo>
                <a:lnTo>
                  <a:pt x="563" y="418"/>
                </a:lnTo>
                <a:lnTo>
                  <a:pt x="569" y="393"/>
                </a:lnTo>
                <a:lnTo>
                  <a:pt x="571" y="368"/>
                </a:lnTo>
                <a:lnTo>
                  <a:pt x="572" y="345"/>
                </a:lnTo>
                <a:lnTo>
                  <a:pt x="574" y="322"/>
                </a:lnTo>
                <a:lnTo>
                  <a:pt x="576" y="303"/>
                </a:lnTo>
                <a:lnTo>
                  <a:pt x="578" y="284"/>
                </a:lnTo>
                <a:lnTo>
                  <a:pt x="580" y="267"/>
                </a:lnTo>
                <a:lnTo>
                  <a:pt x="582" y="249"/>
                </a:lnTo>
                <a:lnTo>
                  <a:pt x="582" y="236"/>
                </a:lnTo>
                <a:lnTo>
                  <a:pt x="584" y="223"/>
                </a:lnTo>
                <a:lnTo>
                  <a:pt x="584" y="211"/>
                </a:lnTo>
                <a:lnTo>
                  <a:pt x="586" y="200"/>
                </a:lnTo>
                <a:lnTo>
                  <a:pt x="586" y="192"/>
                </a:lnTo>
                <a:lnTo>
                  <a:pt x="584" y="184"/>
                </a:lnTo>
                <a:lnTo>
                  <a:pt x="584" y="178"/>
                </a:lnTo>
                <a:lnTo>
                  <a:pt x="582" y="175"/>
                </a:lnTo>
                <a:lnTo>
                  <a:pt x="580" y="171"/>
                </a:lnTo>
                <a:lnTo>
                  <a:pt x="578" y="169"/>
                </a:lnTo>
                <a:lnTo>
                  <a:pt x="574" y="167"/>
                </a:lnTo>
                <a:lnTo>
                  <a:pt x="569" y="167"/>
                </a:lnTo>
                <a:lnTo>
                  <a:pt x="565" y="165"/>
                </a:lnTo>
                <a:lnTo>
                  <a:pt x="559" y="165"/>
                </a:lnTo>
                <a:lnTo>
                  <a:pt x="551" y="167"/>
                </a:lnTo>
                <a:lnTo>
                  <a:pt x="544" y="167"/>
                </a:lnTo>
                <a:lnTo>
                  <a:pt x="536" y="167"/>
                </a:lnTo>
                <a:lnTo>
                  <a:pt x="526" y="169"/>
                </a:lnTo>
                <a:lnTo>
                  <a:pt x="517" y="171"/>
                </a:lnTo>
                <a:lnTo>
                  <a:pt x="507" y="173"/>
                </a:lnTo>
                <a:lnTo>
                  <a:pt x="496" y="175"/>
                </a:lnTo>
                <a:lnTo>
                  <a:pt x="484" y="176"/>
                </a:lnTo>
                <a:lnTo>
                  <a:pt x="471" y="178"/>
                </a:lnTo>
                <a:lnTo>
                  <a:pt x="459" y="180"/>
                </a:lnTo>
                <a:lnTo>
                  <a:pt x="446" y="184"/>
                </a:lnTo>
                <a:lnTo>
                  <a:pt x="430" y="188"/>
                </a:lnTo>
                <a:lnTo>
                  <a:pt x="417" y="190"/>
                </a:lnTo>
                <a:lnTo>
                  <a:pt x="405" y="192"/>
                </a:lnTo>
                <a:lnTo>
                  <a:pt x="392" y="194"/>
                </a:lnTo>
                <a:lnTo>
                  <a:pt x="379" y="192"/>
                </a:lnTo>
                <a:lnTo>
                  <a:pt x="367" y="192"/>
                </a:lnTo>
                <a:lnTo>
                  <a:pt x="356" y="188"/>
                </a:lnTo>
                <a:lnTo>
                  <a:pt x="344" y="184"/>
                </a:lnTo>
                <a:lnTo>
                  <a:pt x="333" y="180"/>
                </a:lnTo>
                <a:lnTo>
                  <a:pt x="321" y="175"/>
                </a:lnTo>
                <a:lnTo>
                  <a:pt x="310" y="169"/>
                </a:lnTo>
                <a:lnTo>
                  <a:pt x="300" y="161"/>
                </a:lnTo>
                <a:lnTo>
                  <a:pt x="288" y="153"/>
                </a:lnTo>
                <a:lnTo>
                  <a:pt x="279" y="144"/>
                </a:lnTo>
                <a:lnTo>
                  <a:pt x="269" y="132"/>
                </a:lnTo>
                <a:lnTo>
                  <a:pt x="262" y="123"/>
                </a:lnTo>
                <a:lnTo>
                  <a:pt x="292" y="115"/>
                </a:lnTo>
                <a:lnTo>
                  <a:pt x="321" y="109"/>
                </a:lnTo>
                <a:lnTo>
                  <a:pt x="350" y="102"/>
                </a:lnTo>
                <a:lnTo>
                  <a:pt x="375" y="96"/>
                </a:lnTo>
                <a:lnTo>
                  <a:pt x="400" y="90"/>
                </a:lnTo>
                <a:lnTo>
                  <a:pt x="423" y="84"/>
                </a:lnTo>
                <a:lnTo>
                  <a:pt x="444" y="79"/>
                </a:lnTo>
                <a:lnTo>
                  <a:pt x="461" y="75"/>
                </a:lnTo>
                <a:lnTo>
                  <a:pt x="478" y="69"/>
                </a:lnTo>
                <a:lnTo>
                  <a:pt x="494" y="63"/>
                </a:lnTo>
                <a:lnTo>
                  <a:pt x="501" y="61"/>
                </a:lnTo>
                <a:lnTo>
                  <a:pt x="507" y="59"/>
                </a:lnTo>
                <a:lnTo>
                  <a:pt x="513" y="57"/>
                </a:lnTo>
                <a:lnTo>
                  <a:pt x="519" y="54"/>
                </a:lnTo>
                <a:lnTo>
                  <a:pt x="523" y="52"/>
                </a:lnTo>
                <a:lnTo>
                  <a:pt x="528" y="50"/>
                </a:lnTo>
                <a:lnTo>
                  <a:pt x="532" y="48"/>
                </a:lnTo>
                <a:lnTo>
                  <a:pt x="534" y="46"/>
                </a:lnTo>
                <a:lnTo>
                  <a:pt x="538" y="42"/>
                </a:lnTo>
                <a:lnTo>
                  <a:pt x="540" y="40"/>
                </a:lnTo>
                <a:lnTo>
                  <a:pt x="542" y="38"/>
                </a:lnTo>
                <a:lnTo>
                  <a:pt x="544" y="36"/>
                </a:lnTo>
                <a:lnTo>
                  <a:pt x="548" y="27"/>
                </a:lnTo>
                <a:lnTo>
                  <a:pt x="553" y="19"/>
                </a:lnTo>
                <a:lnTo>
                  <a:pt x="557" y="13"/>
                </a:lnTo>
                <a:lnTo>
                  <a:pt x="563" y="8"/>
                </a:lnTo>
                <a:lnTo>
                  <a:pt x="569" y="4"/>
                </a:lnTo>
                <a:lnTo>
                  <a:pt x="576" y="2"/>
                </a:lnTo>
                <a:lnTo>
                  <a:pt x="584" y="0"/>
                </a:lnTo>
                <a:lnTo>
                  <a:pt x="592" y="0"/>
                </a:lnTo>
                <a:lnTo>
                  <a:pt x="601" y="0"/>
                </a:lnTo>
                <a:lnTo>
                  <a:pt x="613" y="2"/>
                </a:lnTo>
                <a:lnTo>
                  <a:pt x="626" y="4"/>
                </a:lnTo>
                <a:lnTo>
                  <a:pt x="640" y="8"/>
                </a:lnTo>
                <a:lnTo>
                  <a:pt x="657" y="13"/>
                </a:lnTo>
                <a:lnTo>
                  <a:pt x="665" y="15"/>
                </a:lnTo>
                <a:lnTo>
                  <a:pt x="674" y="19"/>
                </a:lnTo>
                <a:lnTo>
                  <a:pt x="684" y="23"/>
                </a:lnTo>
                <a:lnTo>
                  <a:pt x="693" y="27"/>
                </a:lnTo>
                <a:lnTo>
                  <a:pt x="705" y="31"/>
                </a:lnTo>
                <a:lnTo>
                  <a:pt x="716" y="36"/>
                </a:lnTo>
                <a:lnTo>
                  <a:pt x="724" y="42"/>
                </a:lnTo>
                <a:lnTo>
                  <a:pt x="732" y="50"/>
                </a:lnTo>
                <a:lnTo>
                  <a:pt x="739" y="56"/>
                </a:lnTo>
                <a:lnTo>
                  <a:pt x="747" y="61"/>
                </a:lnTo>
                <a:lnTo>
                  <a:pt x="755" y="67"/>
                </a:lnTo>
                <a:lnTo>
                  <a:pt x="761" y="73"/>
                </a:lnTo>
                <a:lnTo>
                  <a:pt x="772" y="82"/>
                </a:lnTo>
                <a:lnTo>
                  <a:pt x="782" y="90"/>
                </a:lnTo>
                <a:lnTo>
                  <a:pt x="789" y="98"/>
                </a:lnTo>
                <a:lnTo>
                  <a:pt x="797" y="104"/>
                </a:lnTo>
                <a:lnTo>
                  <a:pt x="801" y="109"/>
                </a:lnTo>
                <a:lnTo>
                  <a:pt x="803" y="111"/>
                </a:lnTo>
                <a:lnTo>
                  <a:pt x="805" y="115"/>
                </a:lnTo>
                <a:lnTo>
                  <a:pt x="807" y="117"/>
                </a:lnTo>
                <a:lnTo>
                  <a:pt x="807" y="121"/>
                </a:lnTo>
                <a:lnTo>
                  <a:pt x="807" y="128"/>
                </a:lnTo>
                <a:lnTo>
                  <a:pt x="805" y="136"/>
                </a:lnTo>
                <a:lnTo>
                  <a:pt x="801" y="144"/>
                </a:lnTo>
                <a:lnTo>
                  <a:pt x="797" y="153"/>
                </a:lnTo>
                <a:lnTo>
                  <a:pt x="793" y="161"/>
                </a:lnTo>
                <a:lnTo>
                  <a:pt x="789" y="171"/>
                </a:lnTo>
                <a:lnTo>
                  <a:pt x="784" y="176"/>
                </a:lnTo>
                <a:lnTo>
                  <a:pt x="780" y="182"/>
                </a:lnTo>
                <a:lnTo>
                  <a:pt x="776" y="192"/>
                </a:lnTo>
                <a:lnTo>
                  <a:pt x="770" y="201"/>
                </a:lnTo>
                <a:lnTo>
                  <a:pt x="766" y="213"/>
                </a:lnTo>
                <a:lnTo>
                  <a:pt x="761" y="224"/>
                </a:lnTo>
                <a:lnTo>
                  <a:pt x="755" y="240"/>
                </a:lnTo>
                <a:lnTo>
                  <a:pt x="751" y="255"/>
                </a:lnTo>
                <a:lnTo>
                  <a:pt x="745" y="272"/>
                </a:lnTo>
                <a:lnTo>
                  <a:pt x="739" y="292"/>
                </a:lnTo>
                <a:lnTo>
                  <a:pt x="734" y="313"/>
                </a:lnTo>
                <a:lnTo>
                  <a:pt x="728" y="336"/>
                </a:lnTo>
                <a:lnTo>
                  <a:pt x="722" y="359"/>
                </a:lnTo>
                <a:lnTo>
                  <a:pt x="716" y="386"/>
                </a:lnTo>
                <a:lnTo>
                  <a:pt x="709" y="413"/>
                </a:lnTo>
                <a:lnTo>
                  <a:pt x="703" y="441"/>
                </a:lnTo>
                <a:lnTo>
                  <a:pt x="695" y="472"/>
                </a:lnTo>
                <a:lnTo>
                  <a:pt x="688" y="501"/>
                </a:lnTo>
                <a:lnTo>
                  <a:pt x="680" y="530"/>
                </a:lnTo>
                <a:lnTo>
                  <a:pt x="670" y="558"/>
                </a:lnTo>
                <a:lnTo>
                  <a:pt x="661" y="589"/>
                </a:lnTo>
                <a:lnTo>
                  <a:pt x="651" y="618"/>
                </a:lnTo>
                <a:lnTo>
                  <a:pt x="640" y="647"/>
                </a:lnTo>
                <a:lnTo>
                  <a:pt x="628" y="676"/>
                </a:lnTo>
                <a:lnTo>
                  <a:pt x="617" y="704"/>
                </a:lnTo>
                <a:lnTo>
                  <a:pt x="605" y="733"/>
                </a:lnTo>
                <a:lnTo>
                  <a:pt x="592" y="762"/>
                </a:lnTo>
                <a:lnTo>
                  <a:pt x="578" y="791"/>
                </a:lnTo>
                <a:lnTo>
                  <a:pt x="565" y="819"/>
                </a:lnTo>
                <a:lnTo>
                  <a:pt x="549" y="848"/>
                </a:lnTo>
                <a:lnTo>
                  <a:pt x="534" y="879"/>
                </a:lnTo>
                <a:lnTo>
                  <a:pt x="519" y="9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34"/>
          <p:cNvSpPr/>
          <p:nvPr/>
        </p:nvSpPr>
        <p:spPr>
          <a:xfrm>
            <a:off x="5533920" y="3909960"/>
            <a:ext cx="608040" cy="420840"/>
          </a:xfrm>
          <a:custGeom>
            <a:avLst/>
            <a:gdLst/>
            <a:ahLst/>
            <a:rect l="l" t="t" r="r" b="b"/>
            <a:pathLst>
              <a:path w="766" h="530">
                <a:moveTo>
                  <a:pt x="766" y="75"/>
                </a:moveTo>
                <a:lnTo>
                  <a:pt x="726" y="104"/>
                </a:lnTo>
                <a:lnTo>
                  <a:pt x="688" y="133"/>
                </a:lnTo>
                <a:lnTo>
                  <a:pt x="651" y="162"/>
                </a:lnTo>
                <a:lnTo>
                  <a:pt x="615" y="189"/>
                </a:lnTo>
                <a:lnTo>
                  <a:pt x="582" y="213"/>
                </a:lnTo>
                <a:lnTo>
                  <a:pt x="549" y="238"/>
                </a:lnTo>
                <a:lnTo>
                  <a:pt x="519" y="261"/>
                </a:lnTo>
                <a:lnTo>
                  <a:pt x="490" y="284"/>
                </a:lnTo>
                <a:lnTo>
                  <a:pt x="461" y="306"/>
                </a:lnTo>
                <a:lnTo>
                  <a:pt x="436" y="325"/>
                </a:lnTo>
                <a:lnTo>
                  <a:pt x="411" y="344"/>
                </a:lnTo>
                <a:lnTo>
                  <a:pt x="388" y="361"/>
                </a:lnTo>
                <a:lnTo>
                  <a:pt x="367" y="379"/>
                </a:lnTo>
                <a:lnTo>
                  <a:pt x="348" y="392"/>
                </a:lnTo>
                <a:lnTo>
                  <a:pt x="329" y="407"/>
                </a:lnTo>
                <a:lnTo>
                  <a:pt x="311" y="419"/>
                </a:lnTo>
                <a:lnTo>
                  <a:pt x="296" y="432"/>
                </a:lnTo>
                <a:lnTo>
                  <a:pt x="281" y="446"/>
                </a:lnTo>
                <a:lnTo>
                  <a:pt x="267" y="457"/>
                </a:lnTo>
                <a:lnTo>
                  <a:pt x="252" y="467"/>
                </a:lnTo>
                <a:lnTo>
                  <a:pt x="238" y="478"/>
                </a:lnTo>
                <a:lnTo>
                  <a:pt x="227" y="486"/>
                </a:lnTo>
                <a:lnTo>
                  <a:pt x="213" y="496"/>
                </a:lnTo>
                <a:lnTo>
                  <a:pt x="202" y="501"/>
                </a:lnTo>
                <a:lnTo>
                  <a:pt x="192" y="509"/>
                </a:lnTo>
                <a:lnTo>
                  <a:pt x="183" y="515"/>
                </a:lnTo>
                <a:lnTo>
                  <a:pt x="173" y="519"/>
                </a:lnTo>
                <a:lnTo>
                  <a:pt x="166" y="523"/>
                </a:lnTo>
                <a:lnTo>
                  <a:pt x="158" y="526"/>
                </a:lnTo>
                <a:lnTo>
                  <a:pt x="150" y="528"/>
                </a:lnTo>
                <a:lnTo>
                  <a:pt x="144" y="528"/>
                </a:lnTo>
                <a:lnTo>
                  <a:pt x="141" y="530"/>
                </a:lnTo>
                <a:lnTo>
                  <a:pt x="133" y="528"/>
                </a:lnTo>
                <a:lnTo>
                  <a:pt x="127" y="528"/>
                </a:lnTo>
                <a:lnTo>
                  <a:pt x="119" y="526"/>
                </a:lnTo>
                <a:lnTo>
                  <a:pt x="114" y="523"/>
                </a:lnTo>
                <a:lnTo>
                  <a:pt x="108" y="519"/>
                </a:lnTo>
                <a:lnTo>
                  <a:pt x="102" y="515"/>
                </a:lnTo>
                <a:lnTo>
                  <a:pt x="96" y="509"/>
                </a:lnTo>
                <a:lnTo>
                  <a:pt x="91" y="503"/>
                </a:lnTo>
                <a:lnTo>
                  <a:pt x="85" y="498"/>
                </a:lnTo>
                <a:lnTo>
                  <a:pt x="79" y="490"/>
                </a:lnTo>
                <a:lnTo>
                  <a:pt x="73" y="482"/>
                </a:lnTo>
                <a:lnTo>
                  <a:pt x="68" y="473"/>
                </a:lnTo>
                <a:lnTo>
                  <a:pt x="60" y="463"/>
                </a:lnTo>
                <a:lnTo>
                  <a:pt x="54" y="453"/>
                </a:lnTo>
                <a:lnTo>
                  <a:pt x="48" y="442"/>
                </a:lnTo>
                <a:lnTo>
                  <a:pt x="41" y="432"/>
                </a:lnTo>
                <a:lnTo>
                  <a:pt x="35" y="421"/>
                </a:lnTo>
                <a:lnTo>
                  <a:pt x="29" y="409"/>
                </a:lnTo>
                <a:lnTo>
                  <a:pt x="23" y="398"/>
                </a:lnTo>
                <a:lnTo>
                  <a:pt x="18" y="388"/>
                </a:lnTo>
                <a:lnTo>
                  <a:pt x="14" y="379"/>
                </a:lnTo>
                <a:lnTo>
                  <a:pt x="10" y="369"/>
                </a:lnTo>
                <a:lnTo>
                  <a:pt x="8" y="359"/>
                </a:lnTo>
                <a:lnTo>
                  <a:pt x="4" y="352"/>
                </a:lnTo>
                <a:lnTo>
                  <a:pt x="2" y="344"/>
                </a:lnTo>
                <a:lnTo>
                  <a:pt x="0" y="336"/>
                </a:lnTo>
                <a:lnTo>
                  <a:pt x="0" y="331"/>
                </a:lnTo>
                <a:lnTo>
                  <a:pt x="0" y="325"/>
                </a:lnTo>
                <a:lnTo>
                  <a:pt x="0" y="319"/>
                </a:lnTo>
                <a:lnTo>
                  <a:pt x="0" y="315"/>
                </a:lnTo>
                <a:lnTo>
                  <a:pt x="2" y="311"/>
                </a:lnTo>
                <a:lnTo>
                  <a:pt x="4" y="308"/>
                </a:lnTo>
                <a:lnTo>
                  <a:pt x="10" y="304"/>
                </a:lnTo>
                <a:lnTo>
                  <a:pt x="16" y="300"/>
                </a:lnTo>
                <a:lnTo>
                  <a:pt x="23" y="296"/>
                </a:lnTo>
                <a:lnTo>
                  <a:pt x="31" y="292"/>
                </a:lnTo>
                <a:lnTo>
                  <a:pt x="43" y="290"/>
                </a:lnTo>
                <a:lnTo>
                  <a:pt x="52" y="290"/>
                </a:lnTo>
                <a:lnTo>
                  <a:pt x="58" y="292"/>
                </a:lnTo>
                <a:lnTo>
                  <a:pt x="66" y="292"/>
                </a:lnTo>
                <a:lnTo>
                  <a:pt x="71" y="294"/>
                </a:lnTo>
                <a:lnTo>
                  <a:pt x="79" y="296"/>
                </a:lnTo>
                <a:lnTo>
                  <a:pt x="91" y="300"/>
                </a:lnTo>
                <a:lnTo>
                  <a:pt x="104" y="304"/>
                </a:lnTo>
                <a:lnTo>
                  <a:pt x="116" y="306"/>
                </a:lnTo>
                <a:lnTo>
                  <a:pt x="127" y="306"/>
                </a:lnTo>
                <a:lnTo>
                  <a:pt x="139" y="306"/>
                </a:lnTo>
                <a:lnTo>
                  <a:pt x="150" y="304"/>
                </a:lnTo>
                <a:lnTo>
                  <a:pt x="164" y="300"/>
                </a:lnTo>
                <a:lnTo>
                  <a:pt x="177" y="296"/>
                </a:lnTo>
                <a:lnTo>
                  <a:pt x="179" y="294"/>
                </a:lnTo>
                <a:lnTo>
                  <a:pt x="183" y="292"/>
                </a:lnTo>
                <a:lnTo>
                  <a:pt x="189" y="290"/>
                </a:lnTo>
                <a:lnTo>
                  <a:pt x="194" y="288"/>
                </a:lnTo>
                <a:lnTo>
                  <a:pt x="200" y="284"/>
                </a:lnTo>
                <a:lnTo>
                  <a:pt x="208" y="281"/>
                </a:lnTo>
                <a:lnTo>
                  <a:pt x="217" y="275"/>
                </a:lnTo>
                <a:lnTo>
                  <a:pt x="227" y="271"/>
                </a:lnTo>
                <a:lnTo>
                  <a:pt x="238" y="265"/>
                </a:lnTo>
                <a:lnTo>
                  <a:pt x="250" y="260"/>
                </a:lnTo>
                <a:lnTo>
                  <a:pt x="263" y="254"/>
                </a:lnTo>
                <a:lnTo>
                  <a:pt x="277" y="246"/>
                </a:lnTo>
                <a:lnTo>
                  <a:pt x="292" y="238"/>
                </a:lnTo>
                <a:lnTo>
                  <a:pt x="308" y="231"/>
                </a:lnTo>
                <a:lnTo>
                  <a:pt x="325" y="223"/>
                </a:lnTo>
                <a:lnTo>
                  <a:pt x="342" y="213"/>
                </a:lnTo>
                <a:lnTo>
                  <a:pt x="361" y="204"/>
                </a:lnTo>
                <a:lnTo>
                  <a:pt x="382" y="194"/>
                </a:lnTo>
                <a:lnTo>
                  <a:pt x="404" y="185"/>
                </a:lnTo>
                <a:lnTo>
                  <a:pt x="425" y="173"/>
                </a:lnTo>
                <a:lnTo>
                  <a:pt x="448" y="162"/>
                </a:lnTo>
                <a:lnTo>
                  <a:pt x="473" y="150"/>
                </a:lnTo>
                <a:lnTo>
                  <a:pt x="498" y="137"/>
                </a:lnTo>
                <a:lnTo>
                  <a:pt x="523" y="125"/>
                </a:lnTo>
                <a:lnTo>
                  <a:pt x="549" y="110"/>
                </a:lnTo>
                <a:lnTo>
                  <a:pt x="578" y="96"/>
                </a:lnTo>
                <a:lnTo>
                  <a:pt x="607" y="81"/>
                </a:lnTo>
                <a:lnTo>
                  <a:pt x="638" y="68"/>
                </a:lnTo>
                <a:lnTo>
                  <a:pt x="668" y="50"/>
                </a:lnTo>
                <a:lnTo>
                  <a:pt x="699" y="35"/>
                </a:lnTo>
                <a:lnTo>
                  <a:pt x="734" y="18"/>
                </a:lnTo>
                <a:lnTo>
                  <a:pt x="766" y="0"/>
                </a:lnTo>
                <a:lnTo>
                  <a:pt x="766" y="37"/>
                </a:lnTo>
                <a:lnTo>
                  <a:pt x="766" y="7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35"/>
          <p:cNvSpPr/>
          <p:nvPr/>
        </p:nvSpPr>
        <p:spPr>
          <a:xfrm>
            <a:off x="5622840" y="3214800"/>
            <a:ext cx="627120" cy="1780920"/>
          </a:xfrm>
          <a:custGeom>
            <a:avLst/>
            <a:gdLst/>
            <a:ahLst/>
            <a:rect l="l" t="t" r="r" b="b"/>
            <a:pathLst>
              <a:path w="789" h="2246">
                <a:moveTo>
                  <a:pt x="420" y="1812"/>
                </a:moveTo>
                <a:lnTo>
                  <a:pt x="403" y="1835"/>
                </a:lnTo>
                <a:lnTo>
                  <a:pt x="387" y="1858"/>
                </a:lnTo>
                <a:lnTo>
                  <a:pt x="370" y="1879"/>
                </a:lnTo>
                <a:lnTo>
                  <a:pt x="355" y="1900"/>
                </a:lnTo>
                <a:lnTo>
                  <a:pt x="322" y="1941"/>
                </a:lnTo>
                <a:lnTo>
                  <a:pt x="290" y="1981"/>
                </a:lnTo>
                <a:lnTo>
                  <a:pt x="257" y="2019"/>
                </a:lnTo>
                <a:lnTo>
                  <a:pt x="224" y="2058"/>
                </a:lnTo>
                <a:lnTo>
                  <a:pt x="161" y="2133"/>
                </a:lnTo>
                <a:lnTo>
                  <a:pt x="146" y="2148"/>
                </a:lnTo>
                <a:lnTo>
                  <a:pt x="130" y="2162"/>
                </a:lnTo>
                <a:lnTo>
                  <a:pt x="115" y="2175"/>
                </a:lnTo>
                <a:lnTo>
                  <a:pt x="101" y="2188"/>
                </a:lnTo>
                <a:lnTo>
                  <a:pt x="88" y="2198"/>
                </a:lnTo>
                <a:lnTo>
                  <a:pt x="76" y="2208"/>
                </a:lnTo>
                <a:lnTo>
                  <a:pt x="65" y="2217"/>
                </a:lnTo>
                <a:lnTo>
                  <a:pt x="53" y="2225"/>
                </a:lnTo>
                <a:lnTo>
                  <a:pt x="44" y="2231"/>
                </a:lnTo>
                <a:lnTo>
                  <a:pt x="34" y="2236"/>
                </a:lnTo>
                <a:lnTo>
                  <a:pt x="27" y="2240"/>
                </a:lnTo>
                <a:lnTo>
                  <a:pt x="19" y="2242"/>
                </a:lnTo>
                <a:lnTo>
                  <a:pt x="13" y="2244"/>
                </a:lnTo>
                <a:lnTo>
                  <a:pt x="7" y="2246"/>
                </a:lnTo>
                <a:lnTo>
                  <a:pt x="4" y="2244"/>
                </a:lnTo>
                <a:lnTo>
                  <a:pt x="2" y="2242"/>
                </a:lnTo>
                <a:lnTo>
                  <a:pt x="0" y="2240"/>
                </a:lnTo>
                <a:lnTo>
                  <a:pt x="0" y="2234"/>
                </a:lnTo>
                <a:lnTo>
                  <a:pt x="2" y="2229"/>
                </a:lnTo>
                <a:lnTo>
                  <a:pt x="4" y="2219"/>
                </a:lnTo>
                <a:lnTo>
                  <a:pt x="7" y="2210"/>
                </a:lnTo>
                <a:lnTo>
                  <a:pt x="13" y="2198"/>
                </a:lnTo>
                <a:lnTo>
                  <a:pt x="21" y="2185"/>
                </a:lnTo>
                <a:lnTo>
                  <a:pt x="28" y="2171"/>
                </a:lnTo>
                <a:lnTo>
                  <a:pt x="40" y="2154"/>
                </a:lnTo>
                <a:lnTo>
                  <a:pt x="50" y="2137"/>
                </a:lnTo>
                <a:lnTo>
                  <a:pt x="63" y="2117"/>
                </a:lnTo>
                <a:lnTo>
                  <a:pt x="78" y="2096"/>
                </a:lnTo>
                <a:lnTo>
                  <a:pt x="94" y="2073"/>
                </a:lnTo>
                <a:lnTo>
                  <a:pt x="111" y="2050"/>
                </a:lnTo>
                <a:lnTo>
                  <a:pt x="128" y="2023"/>
                </a:lnTo>
                <a:lnTo>
                  <a:pt x="149" y="1996"/>
                </a:lnTo>
                <a:lnTo>
                  <a:pt x="169" y="1972"/>
                </a:lnTo>
                <a:lnTo>
                  <a:pt x="188" y="1945"/>
                </a:lnTo>
                <a:lnTo>
                  <a:pt x="207" y="1916"/>
                </a:lnTo>
                <a:lnTo>
                  <a:pt x="226" y="1889"/>
                </a:lnTo>
                <a:lnTo>
                  <a:pt x="245" y="1860"/>
                </a:lnTo>
                <a:lnTo>
                  <a:pt x="263" y="1829"/>
                </a:lnTo>
                <a:lnTo>
                  <a:pt x="280" y="1799"/>
                </a:lnTo>
                <a:lnTo>
                  <a:pt x="297" y="1768"/>
                </a:lnTo>
                <a:lnTo>
                  <a:pt x="314" y="1737"/>
                </a:lnTo>
                <a:lnTo>
                  <a:pt x="330" y="1707"/>
                </a:lnTo>
                <a:lnTo>
                  <a:pt x="347" y="1674"/>
                </a:lnTo>
                <a:lnTo>
                  <a:pt x="362" y="1641"/>
                </a:lnTo>
                <a:lnTo>
                  <a:pt x="391" y="1574"/>
                </a:lnTo>
                <a:lnTo>
                  <a:pt x="420" y="1505"/>
                </a:lnTo>
                <a:lnTo>
                  <a:pt x="432" y="1471"/>
                </a:lnTo>
                <a:lnTo>
                  <a:pt x="445" y="1434"/>
                </a:lnTo>
                <a:lnTo>
                  <a:pt x="458" y="1400"/>
                </a:lnTo>
                <a:lnTo>
                  <a:pt x="470" y="1363"/>
                </a:lnTo>
                <a:lnTo>
                  <a:pt x="491" y="1292"/>
                </a:lnTo>
                <a:lnTo>
                  <a:pt x="512" y="1217"/>
                </a:lnTo>
                <a:lnTo>
                  <a:pt x="531" y="1142"/>
                </a:lnTo>
                <a:lnTo>
                  <a:pt x="541" y="1102"/>
                </a:lnTo>
                <a:lnTo>
                  <a:pt x="549" y="1064"/>
                </a:lnTo>
                <a:lnTo>
                  <a:pt x="556" y="1025"/>
                </a:lnTo>
                <a:lnTo>
                  <a:pt x="564" y="985"/>
                </a:lnTo>
                <a:lnTo>
                  <a:pt x="572" y="943"/>
                </a:lnTo>
                <a:lnTo>
                  <a:pt x="579" y="902"/>
                </a:lnTo>
                <a:lnTo>
                  <a:pt x="585" y="864"/>
                </a:lnTo>
                <a:lnTo>
                  <a:pt x="591" y="826"/>
                </a:lnTo>
                <a:lnTo>
                  <a:pt x="597" y="789"/>
                </a:lnTo>
                <a:lnTo>
                  <a:pt x="602" y="753"/>
                </a:lnTo>
                <a:lnTo>
                  <a:pt x="606" y="718"/>
                </a:lnTo>
                <a:lnTo>
                  <a:pt x="610" y="684"/>
                </a:lnTo>
                <a:lnTo>
                  <a:pt x="614" y="649"/>
                </a:lnTo>
                <a:lnTo>
                  <a:pt x="618" y="616"/>
                </a:lnTo>
                <a:lnTo>
                  <a:pt x="620" y="586"/>
                </a:lnTo>
                <a:lnTo>
                  <a:pt x="622" y="553"/>
                </a:lnTo>
                <a:lnTo>
                  <a:pt x="623" y="524"/>
                </a:lnTo>
                <a:lnTo>
                  <a:pt x="625" y="494"/>
                </a:lnTo>
                <a:lnTo>
                  <a:pt x="627" y="467"/>
                </a:lnTo>
                <a:lnTo>
                  <a:pt x="627" y="438"/>
                </a:lnTo>
                <a:lnTo>
                  <a:pt x="627" y="411"/>
                </a:lnTo>
                <a:lnTo>
                  <a:pt x="627" y="386"/>
                </a:lnTo>
                <a:lnTo>
                  <a:pt x="627" y="363"/>
                </a:lnTo>
                <a:lnTo>
                  <a:pt x="627" y="342"/>
                </a:lnTo>
                <a:lnTo>
                  <a:pt x="627" y="319"/>
                </a:lnTo>
                <a:lnTo>
                  <a:pt x="625" y="300"/>
                </a:lnTo>
                <a:lnTo>
                  <a:pt x="625" y="279"/>
                </a:lnTo>
                <a:lnTo>
                  <a:pt x="623" y="259"/>
                </a:lnTo>
                <a:lnTo>
                  <a:pt x="622" y="240"/>
                </a:lnTo>
                <a:lnTo>
                  <a:pt x="620" y="221"/>
                </a:lnTo>
                <a:lnTo>
                  <a:pt x="618" y="204"/>
                </a:lnTo>
                <a:lnTo>
                  <a:pt x="616" y="188"/>
                </a:lnTo>
                <a:lnTo>
                  <a:pt x="614" y="171"/>
                </a:lnTo>
                <a:lnTo>
                  <a:pt x="612" y="156"/>
                </a:lnTo>
                <a:lnTo>
                  <a:pt x="610" y="142"/>
                </a:lnTo>
                <a:lnTo>
                  <a:pt x="608" y="129"/>
                </a:lnTo>
                <a:lnTo>
                  <a:pt x="606" y="115"/>
                </a:lnTo>
                <a:lnTo>
                  <a:pt x="604" y="104"/>
                </a:lnTo>
                <a:lnTo>
                  <a:pt x="599" y="92"/>
                </a:lnTo>
                <a:lnTo>
                  <a:pt x="595" y="83"/>
                </a:lnTo>
                <a:lnTo>
                  <a:pt x="593" y="73"/>
                </a:lnTo>
                <a:lnTo>
                  <a:pt x="589" y="64"/>
                </a:lnTo>
                <a:lnTo>
                  <a:pt x="587" y="56"/>
                </a:lnTo>
                <a:lnTo>
                  <a:pt x="585" y="48"/>
                </a:lnTo>
                <a:lnTo>
                  <a:pt x="585" y="42"/>
                </a:lnTo>
                <a:lnTo>
                  <a:pt x="583" y="35"/>
                </a:lnTo>
                <a:lnTo>
                  <a:pt x="583" y="31"/>
                </a:lnTo>
                <a:lnTo>
                  <a:pt x="583" y="25"/>
                </a:lnTo>
                <a:lnTo>
                  <a:pt x="583" y="21"/>
                </a:lnTo>
                <a:lnTo>
                  <a:pt x="585" y="17"/>
                </a:lnTo>
                <a:lnTo>
                  <a:pt x="587" y="10"/>
                </a:lnTo>
                <a:lnTo>
                  <a:pt x="591" y="6"/>
                </a:lnTo>
                <a:lnTo>
                  <a:pt x="595" y="2"/>
                </a:lnTo>
                <a:lnTo>
                  <a:pt x="599" y="2"/>
                </a:lnTo>
                <a:lnTo>
                  <a:pt x="602" y="0"/>
                </a:lnTo>
                <a:lnTo>
                  <a:pt x="610" y="0"/>
                </a:lnTo>
                <a:lnTo>
                  <a:pt x="618" y="0"/>
                </a:lnTo>
                <a:lnTo>
                  <a:pt x="625" y="0"/>
                </a:lnTo>
                <a:lnTo>
                  <a:pt x="637" y="2"/>
                </a:lnTo>
                <a:lnTo>
                  <a:pt x="648" y="4"/>
                </a:lnTo>
                <a:lnTo>
                  <a:pt x="660" y="6"/>
                </a:lnTo>
                <a:lnTo>
                  <a:pt x="675" y="8"/>
                </a:lnTo>
                <a:lnTo>
                  <a:pt x="691" y="10"/>
                </a:lnTo>
                <a:lnTo>
                  <a:pt x="706" y="14"/>
                </a:lnTo>
                <a:lnTo>
                  <a:pt x="725" y="17"/>
                </a:lnTo>
                <a:lnTo>
                  <a:pt x="744" y="21"/>
                </a:lnTo>
                <a:lnTo>
                  <a:pt x="766" y="25"/>
                </a:lnTo>
                <a:lnTo>
                  <a:pt x="789" y="29"/>
                </a:lnTo>
                <a:lnTo>
                  <a:pt x="789" y="71"/>
                </a:lnTo>
                <a:lnTo>
                  <a:pt x="787" y="115"/>
                </a:lnTo>
                <a:lnTo>
                  <a:pt x="787" y="160"/>
                </a:lnTo>
                <a:lnTo>
                  <a:pt x="787" y="206"/>
                </a:lnTo>
                <a:lnTo>
                  <a:pt x="785" y="252"/>
                </a:lnTo>
                <a:lnTo>
                  <a:pt x="783" y="300"/>
                </a:lnTo>
                <a:lnTo>
                  <a:pt x="779" y="348"/>
                </a:lnTo>
                <a:lnTo>
                  <a:pt x="775" y="399"/>
                </a:lnTo>
                <a:lnTo>
                  <a:pt x="771" y="455"/>
                </a:lnTo>
                <a:lnTo>
                  <a:pt x="767" y="511"/>
                </a:lnTo>
                <a:lnTo>
                  <a:pt x="762" y="570"/>
                </a:lnTo>
                <a:lnTo>
                  <a:pt x="758" y="630"/>
                </a:lnTo>
                <a:lnTo>
                  <a:pt x="752" y="689"/>
                </a:lnTo>
                <a:lnTo>
                  <a:pt x="748" y="751"/>
                </a:lnTo>
                <a:lnTo>
                  <a:pt x="742" y="814"/>
                </a:lnTo>
                <a:lnTo>
                  <a:pt x="739" y="877"/>
                </a:lnTo>
                <a:lnTo>
                  <a:pt x="729" y="943"/>
                </a:lnTo>
                <a:lnTo>
                  <a:pt x="718" y="1006"/>
                </a:lnTo>
                <a:lnTo>
                  <a:pt x="706" y="1071"/>
                </a:lnTo>
                <a:lnTo>
                  <a:pt x="693" y="1135"/>
                </a:lnTo>
                <a:lnTo>
                  <a:pt x="677" y="1198"/>
                </a:lnTo>
                <a:lnTo>
                  <a:pt x="662" y="1259"/>
                </a:lnTo>
                <a:lnTo>
                  <a:pt x="645" y="1321"/>
                </a:lnTo>
                <a:lnTo>
                  <a:pt x="627" y="1382"/>
                </a:lnTo>
                <a:lnTo>
                  <a:pt x="604" y="1442"/>
                </a:lnTo>
                <a:lnTo>
                  <a:pt x="581" y="1499"/>
                </a:lnTo>
                <a:lnTo>
                  <a:pt x="558" y="1555"/>
                </a:lnTo>
                <a:lnTo>
                  <a:pt x="533" y="1611"/>
                </a:lnTo>
                <a:lnTo>
                  <a:pt x="506" y="1664"/>
                </a:lnTo>
                <a:lnTo>
                  <a:pt x="480" y="1716"/>
                </a:lnTo>
                <a:lnTo>
                  <a:pt x="464" y="1741"/>
                </a:lnTo>
                <a:lnTo>
                  <a:pt x="451" y="1764"/>
                </a:lnTo>
                <a:lnTo>
                  <a:pt x="435" y="1789"/>
                </a:lnTo>
                <a:lnTo>
                  <a:pt x="420" y="18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36"/>
          <p:cNvSpPr/>
          <p:nvPr/>
        </p:nvSpPr>
        <p:spPr>
          <a:xfrm>
            <a:off x="5689440" y="3451320"/>
            <a:ext cx="246240" cy="342720"/>
          </a:xfrm>
          <a:custGeom>
            <a:avLst/>
            <a:gdLst/>
            <a:ahLst/>
            <a:rect l="l" t="t" r="r" b="b"/>
            <a:pathLst>
              <a:path w="311" h="432">
                <a:moveTo>
                  <a:pt x="104" y="284"/>
                </a:moveTo>
                <a:lnTo>
                  <a:pt x="92" y="263"/>
                </a:lnTo>
                <a:lnTo>
                  <a:pt x="83" y="242"/>
                </a:lnTo>
                <a:lnTo>
                  <a:pt x="73" y="222"/>
                </a:lnTo>
                <a:lnTo>
                  <a:pt x="64" y="205"/>
                </a:lnTo>
                <a:lnTo>
                  <a:pt x="56" y="186"/>
                </a:lnTo>
                <a:lnTo>
                  <a:pt x="48" y="170"/>
                </a:lnTo>
                <a:lnTo>
                  <a:pt x="42" y="153"/>
                </a:lnTo>
                <a:lnTo>
                  <a:pt x="37" y="138"/>
                </a:lnTo>
                <a:lnTo>
                  <a:pt x="31" y="124"/>
                </a:lnTo>
                <a:lnTo>
                  <a:pt x="25" y="109"/>
                </a:lnTo>
                <a:lnTo>
                  <a:pt x="21" y="98"/>
                </a:lnTo>
                <a:lnTo>
                  <a:pt x="17" y="86"/>
                </a:lnTo>
                <a:lnTo>
                  <a:pt x="14" y="75"/>
                </a:lnTo>
                <a:lnTo>
                  <a:pt x="10" y="65"/>
                </a:lnTo>
                <a:lnTo>
                  <a:pt x="8" y="57"/>
                </a:lnTo>
                <a:lnTo>
                  <a:pt x="6" y="50"/>
                </a:lnTo>
                <a:lnTo>
                  <a:pt x="2" y="42"/>
                </a:lnTo>
                <a:lnTo>
                  <a:pt x="2" y="36"/>
                </a:lnTo>
                <a:lnTo>
                  <a:pt x="0" y="30"/>
                </a:lnTo>
                <a:lnTo>
                  <a:pt x="0" y="27"/>
                </a:lnTo>
                <a:lnTo>
                  <a:pt x="0" y="21"/>
                </a:lnTo>
                <a:lnTo>
                  <a:pt x="0" y="17"/>
                </a:lnTo>
                <a:lnTo>
                  <a:pt x="4" y="11"/>
                </a:lnTo>
                <a:lnTo>
                  <a:pt x="8" y="5"/>
                </a:lnTo>
                <a:lnTo>
                  <a:pt x="14" y="3"/>
                </a:lnTo>
                <a:lnTo>
                  <a:pt x="21" y="2"/>
                </a:lnTo>
                <a:lnTo>
                  <a:pt x="29" y="0"/>
                </a:lnTo>
                <a:lnTo>
                  <a:pt x="33" y="0"/>
                </a:lnTo>
                <a:lnTo>
                  <a:pt x="35" y="0"/>
                </a:lnTo>
                <a:lnTo>
                  <a:pt x="39" y="0"/>
                </a:lnTo>
                <a:lnTo>
                  <a:pt x="42" y="0"/>
                </a:lnTo>
                <a:lnTo>
                  <a:pt x="48" y="0"/>
                </a:lnTo>
                <a:lnTo>
                  <a:pt x="54" y="2"/>
                </a:lnTo>
                <a:lnTo>
                  <a:pt x="65" y="2"/>
                </a:lnTo>
                <a:lnTo>
                  <a:pt x="79" y="3"/>
                </a:lnTo>
                <a:lnTo>
                  <a:pt x="94" y="5"/>
                </a:lnTo>
                <a:lnTo>
                  <a:pt x="110" y="7"/>
                </a:lnTo>
                <a:lnTo>
                  <a:pt x="129" y="13"/>
                </a:lnTo>
                <a:lnTo>
                  <a:pt x="135" y="15"/>
                </a:lnTo>
                <a:lnTo>
                  <a:pt x="142" y="19"/>
                </a:lnTo>
                <a:lnTo>
                  <a:pt x="150" y="23"/>
                </a:lnTo>
                <a:lnTo>
                  <a:pt x="158" y="28"/>
                </a:lnTo>
                <a:lnTo>
                  <a:pt x="165" y="34"/>
                </a:lnTo>
                <a:lnTo>
                  <a:pt x="175" y="40"/>
                </a:lnTo>
                <a:lnTo>
                  <a:pt x="183" y="48"/>
                </a:lnTo>
                <a:lnTo>
                  <a:pt x="192" y="55"/>
                </a:lnTo>
                <a:lnTo>
                  <a:pt x="200" y="63"/>
                </a:lnTo>
                <a:lnTo>
                  <a:pt x="209" y="73"/>
                </a:lnTo>
                <a:lnTo>
                  <a:pt x="217" y="82"/>
                </a:lnTo>
                <a:lnTo>
                  <a:pt x="227" y="92"/>
                </a:lnTo>
                <a:lnTo>
                  <a:pt x="246" y="113"/>
                </a:lnTo>
                <a:lnTo>
                  <a:pt x="263" y="136"/>
                </a:lnTo>
                <a:lnTo>
                  <a:pt x="273" y="149"/>
                </a:lnTo>
                <a:lnTo>
                  <a:pt x="280" y="163"/>
                </a:lnTo>
                <a:lnTo>
                  <a:pt x="286" y="176"/>
                </a:lnTo>
                <a:lnTo>
                  <a:pt x="292" y="188"/>
                </a:lnTo>
                <a:lnTo>
                  <a:pt x="298" y="201"/>
                </a:lnTo>
                <a:lnTo>
                  <a:pt x="303" y="215"/>
                </a:lnTo>
                <a:lnTo>
                  <a:pt x="305" y="226"/>
                </a:lnTo>
                <a:lnTo>
                  <a:pt x="309" y="238"/>
                </a:lnTo>
                <a:lnTo>
                  <a:pt x="311" y="251"/>
                </a:lnTo>
                <a:lnTo>
                  <a:pt x="311" y="263"/>
                </a:lnTo>
                <a:lnTo>
                  <a:pt x="311" y="274"/>
                </a:lnTo>
                <a:lnTo>
                  <a:pt x="311" y="286"/>
                </a:lnTo>
                <a:lnTo>
                  <a:pt x="309" y="297"/>
                </a:lnTo>
                <a:lnTo>
                  <a:pt x="307" y="309"/>
                </a:lnTo>
                <a:lnTo>
                  <a:pt x="303" y="320"/>
                </a:lnTo>
                <a:lnTo>
                  <a:pt x="300" y="332"/>
                </a:lnTo>
                <a:lnTo>
                  <a:pt x="296" y="343"/>
                </a:lnTo>
                <a:lnTo>
                  <a:pt x="290" y="353"/>
                </a:lnTo>
                <a:lnTo>
                  <a:pt x="286" y="364"/>
                </a:lnTo>
                <a:lnTo>
                  <a:pt x="282" y="374"/>
                </a:lnTo>
                <a:lnTo>
                  <a:pt x="277" y="382"/>
                </a:lnTo>
                <a:lnTo>
                  <a:pt x="273" y="389"/>
                </a:lnTo>
                <a:lnTo>
                  <a:pt x="269" y="397"/>
                </a:lnTo>
                <a:lnTo>
                  <a:pt x="265" y="405"/>
                </a:lnTo>
                <a:lnTo>
                  <a:pt x="261" y="410"/>
                </a:lnTo>
                <a:lnTo>
                  <a:pt x="257" y="416"/>
                </a:lnTo>
                <a:lnTo>
                  <a:pt x="254" y="420"/>
                </a:lnTo>
                <a:lnTo>
                  <a:pt x="250" y="424"/>
                </a:lnTo>
                <a:lnTo>
                  <a:pt x="246" y="426"/>
                </a:lnTo>
                <a:lnTo>
                  <a:pt x="244" y="428"/>
                </a:lnTo>
                <a:lnTo>
                  <a:pt x="242" y="430"/>
                </a:lnTo>
                <a:lnTo>
                  <a:pt x="238" y="430"/>
                </a:lnTo>
                <a:lnTo>
                  <a:pt x="234" y="432"/>
                </a:lnTo>
                <a:lnTo>
                  <a:pt x="229" y="432"/>
                </a:lnTo>
                <a:lnTo>
                  <a:pt x="223" y="432"/>
                </a:lnTo>
                <a:lnTo>
                  <a:pt x="215" y="428"/>
                </a:lnTo>
                <a:lnTo>
                  <a:pt x="209" y="424"/>
                </a:lnTo>
                <a:lnTo>
                  <a:pt x="202" y="418"/>
                </a:lnTo>
                <a:lnTo>
                  <a:pt x="192" y="410"/>
                </a:lnTo>
                <a:lnTo>
                  <a:pt x="184" y="403"/>
                </a:lnTo>
                <a:lnTo>
                  <a:pt x="175" y="393"/>
                </a:lnTo>
                <a:lnTo>
                  <a:pt x="167" y="382"/>
                </a:lnTo>
                <a:lnTo>
                  <a:pt x="158" y="368"/>
                </a:lnTo>
                <a:lnTo>
                  <a:pt x="146" y="355"/>
                </a:lnTo>
                <a:lnTo>
                  <a:pt x="136" y="339"/>
                </a:lnTo>
                <a:lnTo>
                  <a:pt x="125" y="322"/>
                </a:lnTo>
                <a:lnTo>
                  <a:pt x="115" y="303"/>
                </a:lnTo>
                <a:lnTo>
                  <a:pt x="104" y="2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37"/>
          <p:cNvSpPr/>
          <p:nvPr/>
        </p:nvSpPr>
        <p:spPr>
          <a:xfrm>
            <a:off x="6200640" y="3081240"/>
            <a:ext cx="1219320" cy="235080"/>
          </a:xfrm>
          <a:custGeom>
            <a:avLst/>
            <a:gdLst/>
            <a:ahLst/>
            <a:rect l="l" t="t" r="r" b="b"/>
            <a:pathLst>
              <a:path w="1536" h="296">
                <a:moveTo>
                  <a:pt x="1463" y="25"/>
                </a:moveTo>
                <a:lnTo>
                  <a:pt x="1470" y="27"/>
                </a:lnTo>
                <a:lnTo>
                  <a:pt x="1480" y="29"/>
                </a:lnTo>
                <a:lnTo>
                  <a:pt x="1488" y="31"/>
                </a:lnTo>
                <a:lnTo>
                  <a:pt x="1495" y="33"/>
                </a:lnTo>
                <a:lnTo>
                  <a:pt x="1501" y="37"/>
                </a:lnTo>
                <a:lnTo>
                  <a:pt x="1507" y="39"/>
                </a:lnTo>
                <a:lnTo>
                  <a:pt x="1513" y="41"/>
                </a:lnTo>
                <a:lnTo>
                  <a:pt x="1518" y="42"/>
                </a:lnTo>
                <a:lnTo>
                  <a:pt x="1522" y="44"/>
                </a:lnTo>
                <a:lnTo>
                  <a:pt x="1526" y="48"/>
                </a:lnTo>
                <a:lnTo>
                  <a:pt x="1528" y="50"/>
                </a:lnTo>
                <a:lnTo>
                  <a:pt x="1532" y="52"/>
                </a:lnTo>
                <a:lnTo>
                  <a:pt x="1534" y="54"/>
                </a:lnTo>
                <a:lnTo>
                  <a:pt x="1536" y="56"/>
                </a:lnTo>
                <a:lnTo>
                  <a:pt x="1536" y="60"/>
                </a:lnTo>
                <a:lnTo>
                  <a:pt x="1536" y="62"/>
                </a:lnTo>
                <a:lnTo>
                  <a:pt x="1536" y="65"/>
                </a:lnTo>
                <a:lnTo>
                  <a:pt x="1534" y="71"/>
                </a:lnTo>
                <a:lnTo>
                  <a:pt x="1532" y="75"/>
                </a:lnTo>
                <a:lnTo>
                  <a:pt x="1530" y="79"/>
                </a:lnTo>
                <a:lnTo>
                  <a:pt x="1526" y="85"/>
                </a:lnTo>
                <a:lnTo>
                  <a:pt x="1520" y="89"/>
                </a:lnTo>
                <a:lnTo>
                  <a:pt x="1515" y="92"/>
                </a:lnTo>
                <a:lnTo>
                  <a:pt x="1509" y="96"/>
                </a:lnTo>
                <a:lnTo>
                  <a:pt x="1501" y="100"/>
                </a:lnTo>
                <a:lnTo>
                  <a:pt x="1493" y="104"/>
                </a:lnTo>
                <a:lnTo>
                  <a:pt x="1484" y="108"/>
                </a:lnTo>
                <a:lnTo>
                  <a:pt x="1474" y="112"/>
                </a:lnTo>
                <a:lnTo>
                  <a:pt x="1463" y="113"/>
                </a:lnTo>
                <a:lnTo>
                  <a:pt x="1451" y="117"/>
                </a:lnTo>
                <a:lnTo>
                  <a:pt x="1440" y="119"/>
                </a:lnTo>
                <a:lnTo>
                  <a:pt x="1426" y="123"/>
                </a:lnTo>
                <a:lnTo>
                  <a:pt x="1397" y="131"/>
                </a:lnTo>
                <a:lnTo>
                  <a:pt x="1369" y="138"/>
                </a:lnTo>
                <a:lnTo>
                  <a:pt x="1338" y="146"/>
                </a:lnTo>
                <a:lnTo>
                  <a:pt x="1307" y="152"/>
                </a:lnTo>
                <a:lnTo>
                  <a:pt x="1277" y="158"/>
                </a:lnTo>
                <a:lnTo>
                  <a:pt x="1244" y="163"/>
                </a:lnTo>
                <a:lnTo>
                  <a:pt x="1181" y="173"/>
                </a:lnTo>
                <a:lnTo>
                  <a:pt x="1171" y="173"/>
                </a:lnTo>
                <a:lnTo>
                  <a:pt x="1161" y="175"/>
                </a:lnTo>
                <a:lnTo>
                  <a:pt x="1152" y="177"/>
                </a:lnTo>
                <a:lnTo>
                  <a:pt x="1142" y="177"/>
                </a:lnTo>
                <a:lnTo>
                  <a:pt x="1131" y="179"/>
                </a:lnTo>
                <a:lnTo>
                  <a:pt x="1119" y="181"/>
                </a:lnTo>
                <a:lnTo>
                  <a:pt x="1108" y="183"/>
                </a:lnTo>
                <a:lnTo>
                  <a:pt x="1094" y="183"/>
                </a:lnTo>
                <a:lnTo>
                  <a:pt x="1081" y="184"/>
                </a:lnTo>
                <a:lnTo>
                  <a:pt x="1067" y="186"/>
                </a:lnTo>
                <a:lnTo>
                  <a:pt x="1052" y="188"/>
                </a:lnTo>
                <a:lnTo>
                  <a:pt x="1037" y="190"/>
                </a:lnTo>
                <a:lnTo>
                  <a:pt x="1021" y="192"/>
                </a:lnTo>
                <a:lnTo>
                  <a:pt x="1004" y="194"/>
                </a:lnTo>
                <a:lnTo>
                  <a:pt x="987" y="198"/>
                </a:lnTo>
                <a:lnTo>
                  <a:pt x="969" y="200"/>
                </a:lnTo>
                <a:lnTo>
                  <a:pt x="950" y="202"/>
                </a:lnTo>
                <a:lnTo>
                  <a:pt x="931" y="204"/>
                </a:lnTo>
                <a:lnTo>
                  <a:pt x="912" y="206"/>
                </a:lnTo>
                <a:lnTo>
                  <a:pt x="891" y="209"/>
                </a:lnTo>
                <a:lnTo>
                  <a:pt x="872" y="211"/>
                </a:lnTo>
                <a:lnTo>
                  <a:pt x="849" y="215"/>
                </a:lnTo>
                <a:lnTo>
                  <a:pt x="827" y="217"/>
                </a:lnTo>
                <a:lnTo>
                  <a:pt x="804" y="219"/>
                </a:lnTo>
                <a:lnTo>
                  <a:pt x="781" y="223"/>
                </a:lnTo>
                <a:lnTo>
                  <a:pt x="756" y="227"/>
                </a:lnTo>
                <a:lnTo>
                  <a:pt x="733" y="229"/>
                </a:lnTo>
                <a:lnTo>
                  <a:pt x="708" y="232"/>
                </a:lnTo>
                <a:lnTo>
                  <a:pt x="682" y="234"/>
                </a:lnTo>
                <a:lnTo>
                  <a:pt x="657" y="238"/>
                </a:lnTo>
                <a:lnTo>
                  <a:pt x="630" y="242"/>
                </a:lnTo>
                <a:lnTo>
                  <a:pt x="603" y="246"/>
                </a:lnTo>
                <a:lnTo>
                  <a:pt x="574" y="250"/>
                </a:lnTo>
                <a:lnTo>
                  <a:pt x="547" y="252"/>
                </a:lnTo>
                <a:lnTo>
                  <a:pt x="522" y="256"/>
                </a:lnTo>
                <a:lnTo>
                  <a:pt x="495" y="259"/>
                </a:lnTo>
                <a:lnTo>
                  <a:pt x="470" y="261"/>
                </a:lnTo>
                <a:lnTo>
                  <a:pt x="445" y="263"/>
                </a:lnTo>
                <a:lnTo>
                  <a:pt x="422" y="267"/>
                </a:lnTo>
                <a:lnTo>
                  <a:pt x="399" y="269"/>
                </a:lnTo>
                <a:lnTo>
                  <a:pt x="376" y="271"/>
                </a:lnTo>
                <a:lnTo>
                  <a:pt x="353" y="273"/>
                </a:lnTo>
                <a:lnTo>
                  <a:pt x="332" y="277"/>
                </a:lnTo>
                <a:lnTo>
                  <a:pt x="311" y="279"/>
                </a:lnTo>
                <a:lnTo>
                  <a:pt x="290" y="280"/>
                </a:lnTo>
                <a:lnTo>
                  <a:pt x="271" y="280"/>
                </a:lnTo>
                <a:lnTo>
                  <a:pt x="250" y="282"/>
                </a:lnTo>
                <a:lnTo>
                  <a:pt x="232" y="284"/>
                </a:lnTo>
                <a:lnTo>
                  <a:pt x="213" y="286"/>
                </a:lnTo>
                <a:lnTo>
                  <a:pt x="196" y="286"/>
                </a:lnTo>
                <a:lnTo>
                  <a:pt x="177" y="288"/>
                </a:lnTo>
                <a:lnTo>
                  <a:pt x="161" y="290"/>
                </a:lnTo>
                <a:lnTo>
                  <a:pt x="144" y="290"/>
                </a:lnTo>
                <a:lnTo>
                  <a:pt x="129" y="292"/>
                </a:lnTo>
                <a:lnTo>
                  <a:pt x="113" y="292"/>
                </a:lnTo>
                <a:lnTo>
                  <a:pt x="98" y="292"/>
                </a:lnTo>
                <a:lnTo>
                  <a:pt x="85" y="294"/>
                </a:lnTo>
                <a:lnTo>
                  <a:pt x="71" y="294"/>
                </a:lnTo>
                <a:lnTo>
                  <a:pt x="58" y="294"/>
                </a:lnTo>
                <a:lnTo>
                  <a:pt x="44" y="294"/>
                </a:lnTo>
                <a:lnTo>
                  <a:pt x="33" y="294"/>
                </a:lnTo>
                <a:lnTo>
                  <a:pt x="21" y="294"/>
                </a:lnTo>
                <a:lnTo>
                  <a:pt x="10" y="296"/>
                </a:lnTo>
                <a:lnTo>
                  <a:pt x="0" y="296"/>
                </a:lnTo>
                <a:lnTo>
                  <a:pt x="0" y="246"/>
                </a:lnTo>
                <a:lnTo>
                  <a:pt x="0" y="196"/>
                </a:lnTo>
                <a:lnTo>
                  <a:pt x="19" y="196"/>
                </a:lnTo>
                <a:lnTo>
                  <a:pt x="40" y="196"/>
                </a:lnTo>
                <a:lnTo>
                  <a:pt x="60" y="196"/>
                </a:lnTo>
                <a:lnTo>
                  <a:pt x="79" y="194"/>
                </a:lnTo>
                <a:lnTo>
                  <a:pt x="115" y="192"/>
                </a:lnTo>
                <a:lnTo>
                  <a:pt x="150" y="188"/>
                </a:lnTo>
                <a:lnTo>
                  <a:pt x="184" y="184"/>
                </a:lnTo>
                <a:lnTo>
                  <a:pt x="217" y="181"/>
                </a:lnTo>
                <a:lnTo>
                  <a:pt x="250" y="177"/>
                </a:lnTo>
                <a:lnTo>
                  <a:pt x="282" y="173"/>
                </a:lnTo>
                <a:lnTo>
                  <a:pt x="290" y="171"/>
                </a:lnTo>
                <a:lnTo>
                  <a:pt x="298" y="169"/>
                </a:lnTo>
                <a:lnTo>
                  <a:pt x="305" y="169"/>
                </a:lnTo>
                <a:lnTo>
                  <a:pt x="315" y="167"/>
                </a:lnTo>
                <a:lnTo>
                  <a:pt x="325" y="165"/>
                </a:lnTo>
                <a:lnTo>
                  <a:pt x="334" y="163"/>
                </a:lnTo>
                <a:lnTo>
                  <a:pt x="344" y="161"/>
                </a:lnTo>
                <a:lnTo>
                  <a:pt x="355" y="160"/>
                </a:lnTo>
                <a:lnTo>
                  <a:pt x="367" y="158"/>
                </a:lnTo>
                <a:lnTo>
                  <a:pt x="380" y="156"/>
                </a:lnTo>
                <a:lnTo>
                  <a:pt x="394" y="154"/>
                </a:lnTo>
                <a:lnTo>
                  <a:pt x="405" y="152"/>
                </a:lnTo>
                <a:lnTo>
                  <a:pt x="420" y="150"/>
                </a:lnTo>
                <a:lnTo>
                  <a:pt x="434" y="146"/>
                </a:lnTo>
                <a:lnTo>
                  <a:pt x="449" y="144"/>
                </a:lnTo>
                <a:lnTo>
                  <a:pt x="465" y="142"/>
                </a:lnTo>
                <a:lnTo>
                  <a:pt x="482" y="138"/>
                </a:lnTo>
                <a:lnTo>
                  <a:pt x="497" y="136"/>
                </a:lnTo>
                <a:lnTo>
                  <a:pt x="515" y="133"/>
                </a:lnTo>
                <a:lnTo>
                  <a:pt x="534" y="129"/>
                </a:lnTo>
                <a:lnTo>
                  <a:pt x="551" y="125"/>
                </a:lnTo>
                <a:lnTo>
                  <a:pt x="570" y="121"/>
                </a:lnTo>
                <a:lnTo>
                  <a:pt x="589" y="117"/>
                </a:lnTo>
                <a:lnTo>
                  <a:pt x="609" y="113"/>
                </a:lnTo>
                <a:lnTo>
                  <a:pt x="630" y="110"/>
                </a:lnTo>
                <a:lnTo>
                  <a:pt x="651" y="106"/>
                </a:lnTo>
                <a:lnTo>
                  <a:pt x="672" y="100"/>
                </a:lnTo>
                <a:lnTo>
                  <a:pt x="693" y="96"/>
                </a:lnTo>
                <a:lnTo>
                  <a:pt x="716" y="90"/>
                </a:lnTo>
                <a:lnTo>
                  <a:pt x="739" y="85"/>
                </a:lnTo>
                <a:lnTo>
                  <a:pt x="762" y="79"/>
                </a:lnTo>
                <a:lnTo>
                  <a:pt x="787" y="73"/>
                </a:lnTo>
                <a:lnTo>
                  <a:pt x="810" y="69"/>
                </a:lnTo>
                <a:lnTo>
                  <a:pt x="833" y="65"/>
                </a:lnTo>
                <a:lnTo>
                  <a:pt x="856" y="60"/>
                </a:lnTo>
                <a:lnTo>
                  <a:pt x="879" y="56"/>
                </a:lnTo>
                <a:lnTo>
                  <a:pt x="900" y="52"/>
                </a:lnTo>
                <a:lnTo>
                  <a:pt x="921" y="48"/>
                </a:lnTo>
                <a:lnTo>
                  <a:pt x="943" y="44"/>
                </a:lnTo>
                <a:lnTo>
                  <a:pt x="964" y="41"/>
                </a:lnTo>
                <a:lnTo>
                  <a:pt x="983" y="37"/>
                </a:lnTo>
                <a:lnTo>
                  <a:pt x="1002" y="35"/>
                </a:lnTo>
                <a:lnTo>
                  <a:pt x="1021" y="31"/>
                </a:lnTo>
                <a:lnTo>
                  <a:pt x="1040" y="29"/>
                </a:lnTo>
                <a:lnTo>
                  <a:pt x="1058" y="25"/>
                </a:lnTo>
                <a:lnTo>
                  <a:pt x="1075" y="23"/>
                </a:lnTo>
                <a:lnTo>
                  <a:pt x="1090" y="19"/>
                </a:lnTo>
                <a:lnTo>
                  <a:pt x="1108" y="17"/>
                </a:lnTo>
                <a:lnTo>
                  <a:pt x="1123" y="16"/>
                </a:lnTo>
                <a:lnTo>
                  <a:pt x="1138" y="14"/>
                </a:lnTo>
                <a:lnTo>
                  <a:pt x="1152" y="12"/>
                </a:lnTo>
                <a:lnTo>
                  <a:pt x="1167" y="10"/>
                </a:lnTo>
                <a:lnTo>
                  <a:pt x="1181" y="8"/>
                </a:lnTo>
                <a:lnTo>
                  <a:pt x="1192" y="6"/>
                </a:lnTo>
                <a:lnTo>
                  <a:pt x="1206" y="6"/>
                </a:lnTo>
                <a:lnTo>
                  <a:pt x="1217" y="4"/>
                </a:lnTo>
                <a:lnTo>
                  <a:pt x="1229" y="4"/>
                </a:lnTo>
                <a:lnTo>
                  <a:pt x="1238" y="2"/>
                </a:lnTo>
                <a:lnTo>
                  <a:pt x="1248" y="2"/>
                </a:lnTo>
                <a:lnTo>
                  <a:pt x="1257" y="0"/>
                </a:lnTo>
                <a:lnTo>
                  <a:pt x="1267" y="0"/>
                </a:lnTo>
                <a:lnTo>
                  <a:pt x="1275" y="0"/>
                </a:lnTo>
                <a:lnTo>
                  <a:pt x="1282" y="0"/>
                </a:lnTo>
                <a:lnTo>
                  <a:pt x="1290" y="0"/>
                </a:lnTo>
                <a:lnTo>
                  <a:pt x="1317" y="0"/>
                </a:lnTo>
                <a:lnTo>
                  <a:pt x="1344" y="2"/>
                </a:lnTo>
                <a:lnTo>
                  <a:pt x="1367" y="4"/>
                </a:lnTo>
                <a:lnTo>
                  <a:pt x="1390" y="8"/>
                </a:lnTo>
                <a:lnTo>
                  <a:pt x="1411" y="12"/>
                </a:lnTo>
                <a:lnTo>
                  <a:pt x="1421" y="14"/>
                </a:lnTo>
                <a:lnTo>
                  <a:pt x="1430" y="16"/>
                </a:lnTo>
                <a:lnTo>
                  <a:pt x="1440" y="17"/>
                </a:lnTo>
                <a:lnTo>
                  <a:pt x="1447" y="19"/>
                </a:lnTo>
                <a:lnTo>
                  <a:pt x="1455" y="21"/>
                </a:lnTo>
                <a:lnTo>
                  <a:pt x="1463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38"/>
          <p:cNvSpPr/>
          <p:nvPr/>
        </p:nvSpPr>
        <p:spPr>
          <a:xfrm>
            <a:off x="6659640" y="2789280"/>
            <a:ext cx="314280" cy="263520"/>
          </a:xfrm>
          <a:custGeom>
            <a:avLst/>
            <a:gdLst/>
            <a:ahLst/>
            <a:rect l="l" t="t" r="r" b="b"/>
            <a:pathLst>
              <a:path w="395" h="332">
                <a:moveTo>
                  <a:pt x="0" y="25"/>
                </a:moveTo>
                <a:lnTo>
                  <a:pt x="4" y="19"/>
                </a:lnTo>
                <a:lnTo>
                  <a:pt x="11" y="15"/>
                </a:lnTo>
                <a:lnTo>
                  <a:pt x="19" y="11"/>
                </a:lnTo>
                <a:lnTo>
                  <a:pt x="29" y="7"/>
                </a:lnTo>
                <a:lnTo>
                  <a:pt x="40" y="4"/>
                </a:lnTo>
                <a:lnTo>
                  <a:pt x="46" y="2"/>
                </a:lnTo>
                <a:lnTo>
                  <a:pt x="54" y="2"/>
                </a:lnTo>
                <a:lnTo>
                  <a:pt x="59" y="0"/>
                </a:lnTo>
                <a:lnTo>
                  <a:pt x="67" y="0"/>
                </a:lnTo>
                <a:lnTo>
                  <a:pt x="77" y="0"/>
                </a:lnTo>
                <a:lnTo>
                  <a:pt x="86" y="0"/>
                </a:lnTo>
                <a:lnTo>
                  <a:pt x="100" y="0"/>
                </a:lnTo>
                <a:lnTo>
                  <a:pt x="115" y="0"/>
                </a:lnTo>
                <a:lnTo>
                  <a:pt x="130" y="0"/>
                </a:lnTo>
                <a:lnTo>
                  <a:pt x="148" y="0"/>
                </a:lnTo>
                <a:lnTo>
                  <a:pt x="163" y="2"/>
                </a:lnTo>
                <a:lnTo>
                  <a:pt x="178" y="4"/>
                </a:lnTo>
                <a:lnTo>
                  <a:pt x="194" y="7"/>
                </a:lnTo>
                <a:lnTo>
                  <a:pt x="209" y="11"/>
                </a:lnTo>
                <a:lnTo>
                  <a:pt x="215" y="13"/>
                </a:lnTo>
                <a:lnTo>
                  <a:pt x="223" y="17"/>
                </a:lnTo>
                <a:lnTo>
                  <a:pt x="230" y="23"/>
                </a:lnTo>
                <a:lnTo>
                  <a:pt x="238" y="27"/>
                </a:lnTo>
                <a:lnTo>
                  <a:pt x="246" y="32"/>
                </a:lnTo>
                <a:lnTo>
                  <a:pt x="255" y="40"/>
                </a:lnTo>
                <a:lnTo>
                  <a:pt x="263" y="46"/>
                </a:lnTo>
                <a:lnTo>
                  <a:pt x="272" y="53"/>
                </a:lnTo>
                <a:lnTo>
                  <a:pt x="280" y="63"/>
                </a:lnTo>
                <a:lnTo>
                  <a:pt x="290" y="71"/>
                </a:lnTo>
                <a:lnTo>
                  <a:pt x="297" y="80"/>
                </a:lnTo>
                <a:lnTo>
                  <a:pt x="307" y="90"/>
                </a:lnTo>
                <a:lnTo>
                  <a:pt x="326" y="111"/>
                </a:lnTo>
                <a:lnTo>
                  <a:pt x="343" y="134"/>
                </a:lnTo>
                <a:lnTo>
                  <a:pt x="357" y="157"/>
                </a:lnTo>
                <a:lnTo>
                  <a:pt x="368" y="178"/>
                </a:lnTo>
                <a:lnTo>
                  <a:pt x="374" y="188"/>
                </a:lnTo>
                <a:lnTo>
                  <a:pt x="378" y="197"/>
                </a:lnTo>
                <a:lnTo>
                  <a:pt x="382" y="209"/>
                </a:lnTo>
                <a:lnTo>
                  <a:pt x="386" y="217"/>
                </a:lnTo>
                <a:lnTo>
                  <a:pt x="390" y="226"/>
                </a:lnTo>
                <a:lnTo>
                  <a:pt x="391" y="236"/>
                </a:lnTo>
                <a:lnTo>
                  <a:pt x="393" y="243"/>
                </a:lnTo>
                <a:lnTo>
                  <a:pt x="395" y="251"/>
                </a:lnTo>
                <a:lnTo>
                  <a:pt x="395" y="261"/>
                </a:lnTo>
                <a:lnTo>
                  <a:pt x="395" y="268"/>
                </a:lnTo>
                <a:lnTo>
                  <a:pt x="393" y="274"/>
                </a:lnTo>
                <a:lnTo>
                  <a:pt x="393" y="282"/>
                </a:lnTo>
                <a:lnTo>
                  <a:pt x="390" y="288"/>
                </a:lnTo>
                <a:lnTo>
                  <a:pt x="388" y="295"/>
                </a:lnTo>
                <a:lnTo>
                  <a:pt x="384" y="301"/>
                </a:lnTo>
                <a:lnTo>
                  <a:pt x="382" y="305"/>
                </a:lnTo>
                <a:lnTo>
                  <a:pt x="378" y="309"/>
                </a:lnTo>
                <a:lnTo>
                  <a:pt x="374" y="314"/>
                </a:lnTo>
                <a:lnTo>
                  <a:pt x="365" y="320"/>
                </a:lnTo>
                <a:lnTo>
                  <a:pt x="355" y="326"/>
                </a:lnTo>
                <a:lnTo>
                  <a:pt x="343" y="328"/>
                </a:lnTo>
                <a:lnTo>
                  <a:pt x="332" y="330"/>
                </a:lnTo>
                <a:lnTo>
                  <a:pt x="319" y="332"/>
                </a:lnTo>
                <a:lnTo>
                  <a:pt x="305" y="330"/>
                </a:lnTo>
                <a:lnTo>
                  <a:pt x="294" y="328"/>
                </a:lnTo>
                <a:lnTo>
                  <a:pt x="282" y="326"/>
                </a:lnTo>
                <a:lnTo>
                  <a:pt x="271" y="322"/>
                </a:lnTo>
                <a:lnTo>
                  <a:pt x="259" y="316"/>
                </a:lnTo>
                <a:lnTo>
                  <a:pt x="246" y="311"/>
                </a:lnTo>
                <a:lnTo>
                  <a:pt x="234" y="303"/>
                </a:lnTo>
                <a:lnTo>
                  <a:pt x="221" y="293"/>
                </a:lnTo>
                <a:lnTo>
                  <a:pt x="213" y="290"/>
                </a:lnTo>
                <a:lnTo>
                  <a:pt x="207" y="284"/>
                </a:lnTo>
                <a:lnTo>
                  <a:pt x="200" y="278"/>
                </a:lnTo>
                <a:lnTo>
                  <a:pt x="192" y="270"/>
                </a:lnTo>
                <a:lnTo>
                  <a:pt x="184" y="265"/>
                </a:lnTo>
                <a:lnTo>
                  <a:pt x="178" y="255"/>
                </a:lnTo>
                <a:lnTo>
                  <a:pt x="171" y="247"/>
                </a:lnTo>
                <a:lnTo>
                  <a:pt x="161" y="240"/>
                </a:lnTo>
                <a:lnTo>
                  <a:pt x="153" y="230"/>
                </a:lnTo>
                <a:lnTo>
                  <a:pt x="146" y="218"/>
                </a:lnTo>
                <a:lnTo>
                  <a:pt x="136" y="209"/>
                </a:lnTo>
                <a:lnTo>
                  <a:pt x="127" y="197"/>
                </a:lnTo>
                <a:lnTo>
                  <a:pt x="117" y="186"/>
                </a:lnTo>
                <a:lnTo>
                  <a:pt x="107" y="172"/>
                </a:lnTo>
                <a:lnTo>
                  <a:pt x="96" y="161"/>
                </a:lnTo>
                <a:lnTo>
                  <a:pt x="86" y="147"/>
                </a:lnTo>
                <a:lnTo>
                  <a:pt x="75" y="136"/>
                </a:lnTo>
                <a:lnTo>
                  <a:pt x="63" y="124"/>
                </a:lnTo>
                <a:lnTo>
                  <a:pt x="56" y="113"/>
                </a:lnTo>
                <a:lnTo>
                  <a:pt x="46" y="103"/>
                </a:lnTo>
                <a:lnTo>
                  <a:pt x="38" y="94"/>
                </a:lnTo>
                <a:lnTo>
                  <a:pt x="31" y="84"/>
                </a:lnTo>
                <a:lnTo>
                  <a:pt x="25" y="75"/>
                </a:lnTo>
                <a:lnTo>
                  <a:pt x="19" y="67"/>
                </a:lnTo>
                <a:lnTo>
                  <a:pt x="15" y="59"/>
                </a:lnTo>
                <a:lnTo>
                  <a:pt x="9" y="52"/>
                </a:lnTo>
                <a:lnTo>
                  <a:pt x="8" y="46"/>
                </a:lnTo>
                <a:lnTo>
                  <a:pt x="4" y="40"/>
                </a:lnTo>
                <a:lnTo>
                  <a:pt x="2" y="34"/>
                </a:lnTo>
                <a:lnTo>
                  <a:pt x="0" y="30"/>
                </a:lnTo>
                <a:lnTo>
                  <a:pt x="0" y="27"/>
                </a:lnTo>
                <a:lnTo>
                  <a:pt x="0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图片 29" descr="C:\Users\Administrator\AppData\Roaming\Tencent\Users\549836325\QQ\WinTemp\RichOle\932E_7_7~5U75V834J7`[J5.pn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3935520" y="5211720"/>
            <a:ext cx="199800" cy="2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痪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7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08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09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113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内部“奂”底横不宜过长，撇、捺伸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矩形 3"/>
          <p:cNvSpPr/>
          <p:nvPr/>
        </p:nvSpPr>
        <p:spPr>
          <a:xfrm>
            <a:off x="1951200" y="1868400"/>
            <a:ext cx="146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24"/>
          <p:cNvSpPr/>
          <p:nvPr/>
        </p:nvSpPr>
        <p:spPr>
          <a:xfrm>
            <a:off x="6765840" y="4262400"/>
            <a:ext cx="932040" cy="712800"/>
          </a:xfrm>
          <a:custGeom>
            <a:avLst/>
            <a:gdLst/>
            <a:ahLst/>
            <a:rect l="l" t="t" r="r" b="b"/>
            <a:pathLst>
              <a:path w="1173" h="896">
                <a:moveTo>
                  <a:pt x="64" y="0"/>
                </a:moveTo>
                <a:lnTo>
                  <a:pt x="94" y="34"/>
                </a:lnTo>
                <a:lnTo>
                  <a:pt x="123" y="69"/>
                </a:lnTo>
                <a:lnTo>
                  <a:pt x="154" y="102"/>
                </a:lnTo>
                <a:lnTo>
                  <a:pt x="183" y="134"/>
                </a:lnTo>
                <a:lnTo>
                  <a:pt x="211" y="165"/>
                </a:lnTo>
                <a:lnTo>
                  <a:pt x="240" y="196"/>
                </a:lnTo>
                <a:lnTo>
                  <a:pt x="269" y="226"/>
                </a:lnTo>
                <a:lnTo>
                  <a:pt x="296" y="255"/>
                </a:lnTo>
                <a:lnTo>
                  <a:pt x="325" y="282"/>
                </a:lnTo>
                <a:lnTo>
                  <a:pt x="352" y="309"/>
                </a:lnTo>
                <a:lnTo>
                  <a:pt x="378" y="336"/>
                </a:lnTo>
                <a:lnTo>
                  <a:pt x="405" y="361"/>
                </a:lnTo>
                <a:lnTo>
                  <a:pt x="432" y="386"/>
                </a:lnTo>
                <a:lnTo>
                  <a:pt x="457" y="409"/>
                </a:lnTo>
                <a:lnTo>
                  <a:pt x="482" y="430"/>
                </a:lnTo>
                <a:lnTo>
                  <a:pt x="509" y="453"/>
                </a:lnTo>
                <a:lnTo>
                  <a:pt x="534" y="474"/>
                </a:lnTo>
                <a:lnTo>
                  <a:pt x="559" y="493"/>
                </a:lnTo>
                <a:lnTo>
                  <a:pt x="582" y="512"/>
                </a:lnTo>
                <a:lnTo>
                  <a:pt x="607" y="530"/>
                </a:lnTo>
                <a:lnTo>
                  <a:pt x="630" y="547"/>
                </a:lnTo>
                <a:lnTo>
                  <a:pt x="655" y="564"/>
                </a:lnTo>
                <a:lnTo>
                  <a:pt x="678" y="580"/>
                </a:lnTo>
                <a:lnTo>
                  <a:pt x="701" y="595"/>
                </a:lnTo>
                <a:lnTo>
                  <a:pt x="722" y="608"/>
                </a:lnTo>
                <a:lnTo>
                  <a:pt x="745" y="622"/>
                </a:lnTo>
                <a:lnTo>
                  <a:pt x="766" y="633"/>
                </a:lnTo>
                <a:lnTo>
                  <a:pt x="787" y="645"/>
                </a:lnTo>
                <a:lnTo>
                  <a:pt x="808" y="656"/>
                </a:lnTo>
                <a:lnTo>
                  <a:pt x="829" y="666"/>
                </a:lnTo>
                <a:lnTo>
                  <a:pt x="851" y="674"/>
                </a:lnTo>
                <a:lnTo>
                  <a:pt x="872" y="683"/>
                </a:lnTo>
                <a:lnTo>
                  <a:pt x="889" y="691"/>
                </a:lnTo>
                <a:lnTo>
                  <a:pt x="908" y="701"/>
                </a:lnTo>
                <a:lnTo>
                  <a:pt x="925" y="708"/>
                </a:lnTo>
                <a:lnTo>
                  <a:pt x="941" y="716"/>
                </a:lnTo>
                <a:lnTo>
                  <a:pt x="958" y="724"/>
                </a:lnTo>
                <a:lnTo>
                  <a:pt x="973" y="731"/>
                </a:lnTo>
                <a:lnTo>
                  <a:pt x="989" y="739"/>
                </a:lnTo>
                <a:lnTo>
                  <a:pt x="1002" y="745"/>
                </a:lnTo>
                <a:lnTo>
                  <a:pt x="1018" y="752"/>
                </a:lnTo>
                <a:lnTo>
                  <a:pt x="1031" y="758"/>
                </a:lnTo>
                <a:lnTo>
                  <a:pt x="1043" y="766"/>
                </a:lnTo>
                <a:lnTo>
                  <a:pt x="1054" y="772"/>
                </a:lnTo>
                <a:lnTo>
                  <a:pt x="1066" y="777"/>
                </a:lnTo>
                <a:lnTo>
                  <a:pt x="1077" y="783"/>
                </a:lnTo>
                <a:lnTo>
                  <a:pt x="1089" y="789"/>
                </a:lnTo>
                <a:lnTo>
                  <a:pt x="1098" y="793"/>
                </a:lnTo>
                <a:lnTo>
                  <a:pt x="1106" y="798"/>
                </a:lnTo>
                <a:lnTo>
                  <a:pt x="1115" y="802"/>
                </a:lnTo>
                <a:lnTo>
                  <a:pt x="1123" y="806"/>
                </a:lnTo>
                <a:lnTo>
                  <a:pt x="1131" y="812"/>
                </a:lnTo>
                <a:lnTo>
                  <a:pt x="1138" y="816"/>
                </a:lnTo>
                <a:lnTo>
                  <a:pt x="1144" y="820"/>
                </a:lnTo>
                <a:lnTo>
                  <a:pt x="1150" y="821"/>
                </a:lnTo>
                <a:lnTo>
                  <a:pt x="1154" y="825"/>
                </a:lnTo>
                <a:lnTo>
                  <a:pt x="1160" y="829"/>
                </a:lnTo>
                <a:lnTo>
                  <a:pt x="1163" y="831"/>
                </a:lnTo>
                <a:lnTo>
                  <a:pt x="1165" y="833"/>
                </a:lnTo>
                <a:lnTo>
                  <a:pt x="1169" y="835"/>
                </a:lnTo>
                <a:lnTo>
                  <a:pt x="1171" y="839"/>
                </a:lnTo>
                <a:lnTo>
                  <a:pt x="1173" y="839"/>
                </a:lnTo>
                <a:lnTo>
                  <a:pt x="1173" y="841"/>
                </a:lnTo>
                <a:lnTo>
                  <a:pt x="1173" y="843"/>
                </a:lnTo>
                <a:lnTo>
                  <a:pt x="1171" y="844"/>
                </a:lnTo>
                <a:lnTo>
                  <a:pt x="1167" y="848"/>
                </a:lnTo>
                <a:lnTo>
                  <a:pt x="1162" y="850"/>
                </a:lnTo>
                <a:lnTo>
                  <a:pt x="1154" y="852"/>
                </a:lnTo>
                <a:lnTo>
                  <a:pt x="1146" y="856"/>
                </a:lnTo>
                <a:lnTo>
                  <a:pt x="1137" y="858"/>
                </a:lnTo>
                <a:lnTo>
                  <a:pt x="1127" y="860"/>
                </a:lnTo>
                <a:lnTo>
                  <a:pt x="1115" y="864"/>
                </a:lnTo>
                <a:lnTo>
                  <a:pt x="1102" y="866"/>
                </a:lnTo>
                <a:lnTo>
                  <a:pt x="1089" y="868"/>
                </a:lnTo>
                <a:lnTo>
                  <a:pt x="1071" y="871"/>
                </a:lnTo>
                <a:lnTo>
                  <a:pt x="1054" y="873"/>
                </a:lnTo>
                <a:lnTo>
                  <a:pt x="1037" y="875"/>
                </a:lnTo>
                <a:lnTo>
                  <a:pt x="1016" y="877"/>
                </a:lnTo>
                <a:lnTo>
                  <a:pt x="995" y="881"/>
                </a:lnTo>
                <a:lnTo>
                  <a:pt x="972" y="883"/>
                </a:lnTo>
                <a:lnTo>
                  <a:pt x="947" y="885"/>
                </a:lnTo>
                <a:lnTo>
                  <a:pt x="922" y="887"/>
                </a:lnTo>
                <a:lnTo>
                  <a:pt x="899" y="889"/>
                </a:lnTo>
                <a:lnTo>
                  <a:pt x="877" y="891"/>
                </a:lnTo>
                <a:lnTo>
                  <a:pt x="856" y="892"/>
                </a:lnTo>
                <a:lnTo>
                  <a:pt x="835" y="892"/>
                </a:lnTo>
                <a:lnTo>
                  <a:pt x="818" y="894"/>
                </a:lnTo>
                <a:lnTo>
                  <a:pt x="801" y="894"/>
                </a:lnTo>
                <a:lnTo>
                  <a:pt x="783" y="894"/>
                </a:lnTo>
                <a:lnTo>
                  <a:pt x="768" y="896"/>
                </a:lnTo>
                <a:lnTo>
                  <a:pt x="753" y="896"/>
                </a:lnTo>
                <a:lnTo>
                  <a:pt x="739" y="896"/>
                </a:lnTo>
                <a:lnTo>
                  <a:pt x="726" y="896"/>
                </a:lnTo>
                <a:lnTo>
                  <a:pt x="714" y="896"/>
                </a:lnTo>
                <a:lnTo>
                  <a:pt x="705" y="896"/>
                </a:lnTo>
                <a:lnTo>
                  <a:pt x="695" y="896"/>
                </a:lnTo>
                <a:lnTo>
                  <a:pt x="682" y="896"/>
                </a:lnTo>
                <a:lnTo>
                  <a:pt x="670" y="892"/>
                </a:lnTo>
                <a:lnTo>
                  <a:pt x="657" y="889"/>
                </a:lnTo>
                <a:lnTo>
                  <a:pt x="643" y="883"/>
                </a:lnTo>
                <a:lnTo>
                  <a:pt x="630" y="877"/>
                </a:lnTo>
                <a:lnTo>
                  <a:pt x="616" y="868"/>
                </a:lnTo>
                <a:lnTo>
                  <a:pt x="601" y="858"/>
                </a:lnTo>
                <a:lnTo>
                  <a:pt x="586" y="844"/>
                </a:lnTo>
                <a:lnTo>
                  <a:pt x="570" y="831"/>
                </a:lnTo>
                <a:lnTo>
                  <a:pt x="555" y="816"/>
                </a:lnTo>
                <a:lnTo>
                  <a:pt x="538" y="798"/>
                </a:lnTo>
                <a:lnTo>
                  <a:pt x="520" y="779"/>
                </a:lnTo>
                <a:lnTo>
                  <a:pt x="501" y="756"/>
                </a:lnTo>
                <a:lnTo>
                  <a:pt x="482" y="733"/>
                </a:lnTo>
                <a:lnTo>
                  <a:pt x="463" y="710"/>
                </a:lnTo>
                <a:lnTo>
                  <a:pt x="451" y="697"/>
                </a:lnTo>
                <a:lnTo>
                  <a:pt x="442" y="683"/>
                </a:lnTo>
                <a:lnTo>
                  <a:pt x="421" y="654"/>
                </a:lnTo>
                <a:lnTo>
                  <a:pt x="398" y="624"/>
                </a:lnTo>
                <a:lnTo>
                  <a:pt x="375" y="593"/>
                </a:lnTo>
                <a:lnTo>
                  <a:pt x="352" y="558"/>
                </a:lnTo>
                <a:lnTo>
                  <a:pt x="327" y="524"/>
                </a:lnTo>
                <a:lnTo>
                  <a:pt x="302" y="489"/>
                </a:lnTo>
                <a:lnTo>
                  <a:pt x="277" y="451"/>
                </a:lnTo>
                <a:lnTo>
                  <a:pt x="250" y="413"/>
                </a:lnTo>
                <a:lnTo>
                  <a:pt x="221" y="370"/>
                </a:lnTo>
                <a:lnTo>
                  <a:pt x="192" y="328"/>
                </a:lnTo>
                <a:lnTo>
                  <a:pt x="163" y="284"/>
                </a:lnTo>
                <a:lnTo>
                  <a:pt x="133" y="240"/>
                </a:lnTo>
                <a:lnTo>
                  <a:pt x="100" y="192"/>
                </a:lnTo>
                <a:lnTo>
                  <a:pt x="67" y="144"/>
                </a:lnTo>
                <a:lnTo>
                  <a:pt x="35" y="92"/>
                </a:lnTo>
                <a:lnTo>
                  <a:pt x="0" y="40"/>
                </a:lnTo>
                <a:lnTo>
                  <a:pt x="31" y="21"/>
                </a:lnTo>
                <a:lnTo>
                  <a:pt x="64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25"/>
          <p:cNvSpPr/>
          <p:nvPr/>
        </p:nvSpPr>
        <p:spPr>
          <a:xfrm>
            <a:off x="6083280" y="3859200"/>
            <a:ext cx="792360" cy="1095480"/>
          </a:xfrm>
          <a:custGeom>
            <a:avLst/>
            <a:gdLst/>
            <a:ahLst/>
            <a:rect l="l" t="t" r="r" b="b"/>
            <a:pathLst>
              <a:path w="998" h="1380">
                <a:moveTo>
                  <a:pt x="317" y="1258"/>
                </a:moveTo>
                <a:lnTo>
                  <a:pt x="300" y="1267"/>
                </a:lnTo>
                <a:lnTo>
                  <a:pt x="281" y="1275"/>
                </a:lnTo>
                <a:lnTo>
                  <a:pt x="263" y="1282"/>
                </a:lnTo>
                <a:lnTo>
                  <a:pt x="246" y="1292"/>
                </a:lnTo>
                <a:lnTo>
                  <a:pt x="231" y="1298"/>
                </a:lnTo>
                <a:lnTo>
                  <a:pt x="215" y="1305"/>
                </a:lnTo>
                <a:lnTo>
                  <a:pt x="200" y="1313"/>
                </a:lnTo>
                <a:lnTo>
                  <a:pt x="185" y="1319"/>
                </a:lnTo>
                <a:lnTo>
                  <a:pt x="171" y="1325"/>
                </a:lnTo>
                <a:lnTo>
                  <a:pt x="158" y="1330"/>
                </a:lnTo>
                <a:lnTo>
                  <a:pt x="144" y="1336"/>
                </a:lnTo>
                <a:lnTo>
                  <a:pt x="133" y="1342"/>
                </a:lnTo>
                <a:lnTo>
                  <a:pt x="121" y="1346"/>
                </a:lnTo>
                <a:lnTo>
                  <a:pt x="110" y="1352"/>
                </a:lnTo>
                <a:lnTo>
                  <a:pt x="100" y="1355"/>
                </a:lnTo>
                <a:lnTo>
                  <a:pt x="89" y="1359"/>
                </a:lnTo>
                <a:lnTo>
                  <a:pt x="79" y="1363"/>
                </a:lnTo>
                <a:lnTo>
                  <a:pt x="71" y="1365"/>
                </a:lnTo>
                <a:lnTo>
                  <a:pt x="62" y="1369"/>
                </a:lnTo>
                <a:lnTo>
                  <a:pt x="54" y="1371"/>
                </a:lnTo>
                <a:lnTo>
                  <a:pt x="46" y="1375"/>
                </a:lnTo>
                <a:lnTo>
                  <a:pt x="41" y="1377"/>
                </a:lnTo>
                <a:lnTo>
                  <a:pt x="35" y="1377"/>
                </a:lnTo>
                <a:lnTo>
                  <a:pt x="29" y="1378"/>
                </a:lnTo>
                <a:lnTo>
                  <a:pt x="23" y="1380"/>
                </a:lnTo>
                <a:lnTo>
                  <a:pt x="20" y="1380"/>
                </a:lnTo>
                <a:lnTo>
                  <a:pt x="14" y="1380"/>
                </a:lnTo>
                <a:lnTo>
                  <a:pt x="12" y="1380"/>
                </a:lnTo>
                <a:lnTo>
                  <a:pt x="8" y="1380"/>
                </a:lnTo>
                <a:lnTo>
                  <a:pt x="6" y="1380"/>
                </a:lnTo>
                <a:lnTo>
                  <a:pt x="4" y="1380"/>
                </a:lnTo>
                <a:lnTo>
                  <a:pt x="2" y="1378"/>
                </a:lnTo>
                <a:lnTo>
                  <a:pt x="2" y="1377"/>
                </a:lnTo>
                <a:lnTo>
                  <a:pt x="0" y="1375"/>
                </a:lnTo>
                <a:lnTo>
                  <a:pt x="2" y="1373"/>
                </a:lnTo>
                <a:lnTo>
                  <a:pt x="2" y="1371"/>
                </a:lnTo>
                <a:lnTo>
                  <a:pt x="4" y="1369"/>
                </a:lnTo>
                <a:lnTo>
                  <a:pt x="8" y="1365"/>
                </a:lnTo>
                <a:lnTo>
                  <a:pt x="10" y="1361"/>
                </a:lnTo>
                <a:lnTo>
                  <a:pt x="14" y="1359"/>
                </a:lnTo>
                <a:lnTo>
                  <a:pt x="18" y="1355"/>
                </a:lnTo>
                <a:lnTo>
                  <a:pt x="23" y="1350"/>
                </a:lnTo>
                <a:lnTo>
                  <a:pt x="29" y="1346"/>
                </a:lnTo>
                <a:lnTo>
                  <a:pt x="35" y="1340"/>
                </a:lnTo>
                <a:lnTo>
                  <a:pt x="43" y="1336"/>
                </a:lnTo>
                <a:lnTo>
                  <a:pt x="50" y="1330"/>
                </a:lnTo>
                <a:lnTo>
                  <a:pt x="58" y="1323"/>
                </a:lnTo>
                <a:lnTo>
                  <a:pt x="66" y="1317"/>
                </a:lnTo>
                <a:lnTo>
                  <a:pt x="75" y="1311"/>
                </a:lnTo>
                <a:lnTo>
                  <a:pt x="85" y="1304"/>
                </a:lnTo>
                <a:lnTo>
                  <a:pt x="94" y="1296"/>
                </a:lnTo>
                <a:lnTo>
                  <a:pt x="106" y="1288"/>
                </a:lnTo>
                <a:lnTo>
                  <a:pt x="117" y="1281"/>
                </a:lnTo>
                <a:lnTo>
                  <a:pt x="129" y="1271"/>
                </a:lnTo>
                <a:lnTo>
                  <a:pt x="142" y="1263"/>
                </a:lnTo>
                <a:lnTo>
                  <a:pt x="156" y="1254"/>
                </a:lnTo>
                <a:lnTo>
                  <a:pt x="169" y="1244"/>
                </a:lnTo>
                <a:lnTo>
                  <a:pt x="183" y="1233"/>
                </a:lnTo>
                <a:lnTo>
                  <a:pt x="198" y="1223"/>
                </a:lnTo>
                <a:lnTo>
                  <a:pt x="213" y="1211"/>
                </a:lnTo>
                <a:lnTo>
                  <a:pt x="229" y="1200"/>
                </a:lnTo>
                <a:lnTo>
                  <a:pt x="246" y="1188"/>
                </a:lnTo>
                <a:lnTo>
                  <a:pt x="261" y="1177"/>
                </a:lnTo>
                <a:lnTo>
                  <a:pt x="281" y="1165"/>
                </a:lnTo>
                <a:lnTo>
                  <a:pt x="315" y="1140"/>
                </a:lnTo>
                <a:lnTo>
                  <a:pt x="348" y="1117"/>
                </a:lnTo>
                <a:lnTo>
                  <a:pt x="380" y="1092"/>
                </a:lnTo>
                <a:lnTo>
                  <a:pt x="411" y="1066"/>
                </a:lnTo>
                <a:lnTo>
                  <a:pt x="442" y="1039"/>
                </a:lnTo>
                <a:lnTo>
                  <a:pt x="471" y="1012"/>
                </a:lnTo>
                <a:lnTo>
                  <a:pt x="499" y="983"/>
                </a:lnTo>
                <a:lnTo>
                  <a:pt x="526" y="954"/>
                </a:lnTo>
                <a:lnTo>
                  <a:pt x="551" y="924"/>
                </a:lnTo>
                <a:lnTo>
                  <a:pt x="576" y="891"/>
                </a:lnTo>
                <a:lnTo>
                  <a:pt x="599" y="860"/>
                </a:lnTo>
                <a:lnTo>
                  <a:pt x="620" y="826"/>
                </a:lnTo>
                <a:lnTo>
                  <a:pt x="641" y="791"/>
                </a:lnTo>
                <a:lnTo>
                  <a:pt x="661" y="757"/>
                </a:lnTo>
                <a:lnTo>
                  <a:pt x="680" y="720"/>
                </a:lnTo>
                <a:lnTo>
                  <a:pt x="697" y="684"/>
                </a:lnTo>
                <a:lnTo>
                  <a:pt x="712" y="645"/>
                </a:lnTo>
                <a:lnTo>
                  <a:pt x="726" y="607"/>
                </a:lnTo>
                <a:lnTo>
                  <a:pt x="739" y="566"/>
                </a:lnTo>
                <a:lnTo>
                  <a:pt x="753" y="528"/>
                </a:lnTo>
                <a:lnTo>
                  <a:pt x="764" y="486"/>
                </a:lnTo>
                <a:lnTo>
                  <a:pt x="776" y="446"/>
                </a:lnTo>
                <a:lnTo>
                  <a:pt x="785" y="403"/>
                </a:lnTo>
                <a:lnTo>
                  <a:pt x="793" y="361"/>
                </a:lnTo>
                <a:lnTo>
                  <a:pt x="801" y="319"/>
                </a:lnTo>
                <a:lnTo>
                  <a:pt x="808" y="275"/>
                </a:lnTo>
                <a:lnTo>
                  <a:pt x="814" y="231"/>
                </a:lnTo>
                <a:lnTo>
                  <a:pt x="820" y="186"/>
                </a:lnTo>
                <a:lnTo>
                  <a:pt x="826" y="140"/>
                </a:lnTo>
                <a:lnTo>
                  <a:pt x="830" y="94"/>
                </a:lnTo>
                <a:lnTo>
                  <a:pt x="831" y="48"/>
                </a:lnTo>
                <a:lnTo>
                  <a:pt x="835" y="0"/>
                </a:lnTo>
                <a:lnTo>
                  <a:pt x="998" y="0"/>
                </a:lnTo>
                <a:lnTo>
                  <a:pt x="995" y="37"/>
                </a:lnTo>
                <a:lnTo>
                  <a:pt x="991" y="73"/>
                </a:lnTo>
                <a:lnTo>
                  <a:pt x="987" y="108"/>
                </a:lnTo>
                <a:lnTo>
                  <a:pt x="983" y="140"/>
                </a:lnTo>
                <a:lnTo>
                  <a:pt x="979" y="175"/>
                </a:lnTo>
                <a:lnTo>
                  <a:pt x="974" y="208"/>
                </a:lnTo>
                <a:lnTo>
                  <a:pt x="970" y="240"/>
                </a:lnTo>
                <a:lnTo>
                  <a:pt x="964" y="271"/>
                </a:lnTo>
                <a:lnTo>
                  <a:pt x="958" y="304"/>
                </a:lnTo>
                <a:lnTo>
                  <a:pt x="952" y="332"/>
                </a:lnTo>
                <a:lnTo>
                  <a:pt x="947" y="363"/>
                </a:lnTo>
                <a:lnTo>
                  <a:pt x="941" y="392"/>
                </a:lnTo>
                <a:lnTo>
                  <a:pt x="935" y="421"/>
                </a:lnTo>
                <a:lnTo>
                  <a:pt x="929" y="447"/>
                </a:lnTo>
                <a:lnTo>
                  <a:pt x="922" y="476"/>
                </a:lnTo>
                <a:lnTo>
                  <a:pt x="916" y="501"/>
                </a:lnTo>
                <a:lnTo>
                  <a:pt x="908" y="528"/>
                </a:lnTo>
                <a:lnTo>
                  <a:pt x="901" y="553"/>
                </a:lnTo>
                <a:lnTo>
                  <a:pt x="893" y="578"/>
                </a:lnTo>
                <a:lnTo>
                  <a:pt x="887" y="603"/>
                </a:lnTo>
                <a:lnTo>
                  <a:pt x="879" y="626"/>
                </a:lnTo>
                <a:lnTo>
                  <a:pt x="870" y="649"/>
                </a:lnTo>
                <a:lnTo>
                  <a:pt x="862" y="670"/>
                </a:lnTo>
                <a:lnTo>
                  <a:pt x="855" y="693"/>
                </a:lnTo>
                <a:lnTo>
                  <a:pt x="847" y="714"/>
                </a:lnTo>
                <a:lnTo>
                  <a:pt x="837" y="733"/>
                </a:lnTo>
                <a:lnTo>
                  <a:pt x="830" y="755"/>
                </a:lnTo>
                <a:lnTo>
                  <a:pt x="820" y="774"/>
                </a:lnTo>
                <a:lnTo>
                  <a:pt x="812" y="791"/>
                </a:lnTo>
                <a:lnTo>
                  <a:pt x="803" y="810"/>
                </a:lnTo>
                <a:lnTo>
                  <a:pt x="793" y="828"/>
                </a:lnTo>
                <a:lnTo>
                  <a:pt x="785" y="843"/>
                </a:lnTo>
                <a:lnTo>
                  <a:pt x="762" y="876"/>
                </a:lnTo>
                <a:lnTo>
                  <a:pt x="741" y="908"/>
                </a:lnTo>
                <a:lnTo>
                  <a:pt x="716" y="939"/>
                </a:lnTo>
                <a:lnTo>
                  <a:pt x="693" y="970"/>
                </a:lnTo>
                <a:lnTo>
                  <a:pt x="666" y="998"/>
                </a:lnTo>
                <a:lnTo>
                  <a:pt x="641" y="1027"/>
                </a:lnTo>
                <a:lnTo>
                  <a:pt x="613" y="1054"/>
                </a:lnTo>
                <a:lnTo>
                  <a:pt x="584" y="1081"/>
                </a:lnTo>
                <a:lnTo>
                  <a:pt x="555" y="1106"/>
                </a:lnTo>
                <a:lnTo>
                  <a:pt x="524" y="1131"/>
                </a:lnTo>
                <a:lnTo>
                  <a:pt x="492" y="1156"/>
                </a:lnTo>
                <a:lnTo>
                  <a:pt x="459" y="1177"/>
                </a:lnTo>
                <a:lnTo>
                  <a:pt x="426" y="1200"/>
                </a:lnTo>
                <a:lnTo>
                  <a:pt x="390" y="1221"/>
                </a:lnTo>
                <a:lnTo>
                  <a:pt x="355" y="1240"/>
                </a:lnTo>
                <a:lnTo>
                  <a:pt x="317" y="12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26"/>
          <p:cNvSpPr/>
          <p:nvPr/>
        </p:nvSpPr>
        <p:spPr>
          <a:xfrm>
            <a:off x="6095880" y="4148280"/>
            <a:ext cx="1501920" cy="285480"/>
          </a:xfrm>
          <a:custGeom>
            <a:avLst/>
            <a:gdLst/>
            <a:ahLst/>
            <a:rect l="l" t="t" r="r" b="b"/>
            <a:pathLst>
              <a:path w="1892" h="361">
                <a:moveTo>
                  <a:pt x="1159" y="79"/>
                </a:moveTo>
                <a:lnTo>
                  <a:pt x="1190" y="75"/>
                </a:lnTo>
                <a:lnTo>
                  <a:pt x="1219" y="69"/>
                </a:lnTo>
                <a:lnTo>
                  <a:pt x="1247" y="65"/>
                </a:lnTo>
                <a:lnTo>
                  <a:pt x="1276" y="60"/>
                </a:lnTo>
                <a:lnTo>
                  <a:pt x="1303" y="56"/>
                </a:lnTo>
                <a:lnTo>
                  <a:pt x="1328" y="52"/>
                </a:lnTo>
                <a:lnTo>
                  <a:pt x="1353" y="48"/>
                </a:lnTo>
                <a:lnTo>
                  <a:pt x="1378" y="44"/>
                </a:lnTo>
                <a:lnTo>
                  <a:pt x="1401" y="40"/>
                </a:lnTo>
                <a:lnTo>
                  <a:pt x="1424" y="36"/>
                </a:lnTo>
                <a:lnTo>
                  <a:pt x="1445" y="33"/>
                </a:lnTo>
                <a:lnTo>
                  <a:pt x="1466" y="31"/>
                </a:lnTo>
                <a:lnTo>
                  <a:pt x="1485" y="27"/>
                </a:lnTo>
                <a:lnTo>
                  <a:pt x="1505" y="23"/>
                </a:lnTo>
                <a:lnTo>
                  <a:pt x="1522" y="21"/>
                </a:lnTo>
                <a:lnTo>
                  <a:pt x="1539" y="19"/>
                </a:lnTo>
                <a:lnTo>
                  <a:pt x="1556" y="15"/>
                </a:lnTo>
                <a:lnTo>
                  <a:pt x="1572" y="13"/>
                </a:lnTo>
                <a:lnTo>
                  <a:pt x="1587" y="12"/>
                </a:lnTo>
                <a:lnTo>
                  <a:pt x="1601" y="10"/>
                </a:lnTo>
                <a:lnTo>
                  <a:pt x="1614" y="8"/>
                </a:lnTo>
                <a:lnTo>
                  <a:pt x="1625" y="6"/>
                </a:lnTo>
                <a:lnTo>
                  <a:pt x="1637" y="6"/>
                </a:lnTo>
                <a:lnTo>
                  <a:pt x="1649" y="4"/>
                </a:lnTo>
                <a:lnTo>
                  <a:pt x="1658" y="2"/>
                </a:lnTo>
                <a:lnTo>
                  <a:pt x="1666" y="2"/>
                </a:lnTo>
                <a:lnTo>
                  <a:pt x="1673" y="0"/>
                </a:lnTo>
                <a:lnTo>
                  <a:pt x="1681" y="0"/>
                </a:lnTo>
                <a:lnTo>
                  <a:pt x="1689" y="0"/>
                </a:lnTo>
                <a:lnTo>
                  <a:pt x="1693" y="0"/>
                </a:lnTo>
                <a:lnTo>
                  <a:pt x="1698" y="0"/>
                </a:lnTo>
                <a:lnTo>
                  <a:pt x="1702" y="0"/>
                </a:lnTo>
                <a:lnTo>
                  <a:pt x="1712" y="0"/>
                </a:lnTo>
                <a:lnTo>
                  <a:pt x="1723" y="2"/>
                </a:lnTo>
                <a:lnTo>
                  <a:pt x="1737" y="6"/>
                </a:lnTo>
                <a:lnTo>
                  <a:pt x="1750" y="12"/>
                </a:lnTo>
                <a:lnTo>
                  <a:pt x="1756" y="13"/>
                </a:lnTo>
                <a:lnTo>
                  <a:pt x="1764" y="17"/>
                </a:lnTo>
                <a:lnTo>
                  <a:pt x="1771" y="23"/>
                </a:lnTo>
                <a:lnTo>
                  <a:pt x="1781" y="27"/>
                </a:lnTo>
                <a:lnTo>
                  <a:pt x="1789" y="33"/>
                </a:lnTo>
                <a:lnTo>
                  <a:pt x="1798" y="38"/>
                </a:lnTo>
                <a:lnTo>
                  <a:pt x="1806" y="44"/>
                </a:lnTo>
                <a:lnTo>
                  <a:pt x="1816" y="52"/>
                </a:lnTo>
                <a:lnTo>
                  <a:pt x="1825" y="60"/>
                </a:lnTo>
                <a:lnTo>
                  <a:pt x="1833" y="67"/>
                </a:lnTo>
                <a:lnTo>
                  <a:pt x="1840" y="73"/>
                </a:lnTo>
                <a:lnTo>
                  <a:pt x="1848" y="81"/>
                </a:lnTo>
                <a:lnTo>
                  <a:pt x="1856" y="86"/>
                </a:lnTo>
                <a:lnTo>
                  <a:pt x="1862" y="92"/>
                </a:lnTo>
                <a:lnTo>
                  <a:pt x="1867" y="98"/>
                </a:lnTo>
                <a:lnTo>
                  <a:pt x="1873" y="104"/>
                </a:lnTo>
                <a:lnTo>
                  <a:pt x="1877" y="108"/>
                </a:lnTo>
                <a:lnTo>
                  <a:pt x="1881" y="111"/>
                </a:lnTo>
                <a:lnTo>
                  <a:pt x="1885" y="117"/>
                </a:lnTo>
                <a:lnTo>
                  <a:pt x="1887" y="121"/>
                </a:lnTo>
                <a:lnTo>
                  <a:pt x="1888" y="123"/>
                </a:lnTo>
                <a:lnTo>
                  <a:pt x="1890" y="127"/>
                </a:lnTo>
                <a:lnTo>
                  <a:pt x="1890" y="131"/>
                </a:lnTo>
                <a:lnTo>
                  <a:pt x="1892" y="132"/>
                </a:lnTo>
                <a:lnTo>
                  <a:pt x="1890" y="138"/>
                </a:lnTo>
                <a:lnTo>
                  <a:pt x="1888" y="142"/>
                </a:lnTo>
                <a:lnTo>
                  <a:pt x="1883" y="146"/>
                </a:lnTo>
                <a:lnTo>
                  <a:pt x="1877" y="150"/>
                </a:lnTo>
                <a:lnTo>
                  <a:pt x="1869" y="154"/>
                </a:lnTo>
                <a:lnTo>
                  <a:pt x="1860" y="157"/>
                </a:lnTo>
                <a:lnTo>
                  <a:pt x="1846" y="159"/>
                </a:lnTo>
                <a:lnTo>
                  <a:pt x="1833" y="163"/>
                </a:lnTo>
                <a:lnTo>
                  <a:pt x="1825" y="163"/>
                </a:lnTo>
                <a:lnTo>
                  <a:pt x="1817" y="165"/>
                </a:lnTo>
                <a:lnTo>
                  <a:pt x="1808" y="167"/>
                </a:lnTo>
                <a:lnTo>
                  <a:pt x="1800" y="167"/>
                </a:lnTo>
                <a:lnTo>
                  <a:pt x="1791" y="169"/>
                </a:lnTo>
                <a:lnTo>
                  <a:pt x="1779" y="169"/>
                </a:lnTo>
                <a:lnTo>
                  <a:pt x="1769" y="169"/>
                </a:lnTo>
                <a:lnTo>
                  <a:pt x="1758" y="171"/>
                </a:lnTo>
                <a:lnTo>
                  <a:pt x="1746" y="171"/>
                </a:lnTo>
                <a:lnTo>
                  <a:pt x="1735" y="171"/>
                </a:lnTo>
                <a:lnTo>
                  <a:pt x="1721" y="173"/>
                </a:lnTo>
                <a:lnTo>
                  <a:pt x="1710" y="173"/>
                </a:lnTo>
                <a:lnTo>
                  <a:pt x="1697" y="173"/>
                </a:lnTo>
                <a:lnTo>
                  <a:pt x="1681" y="173"/>
                </a:lnTo>
                <a:lnTo>
                  <a:pt x="1668" y="173"/>
                </a:lnTo>
                <a:lnTo>
                  <a:pt x="1652" y="173"/>
                </a:lnTo>
                <a:lnTo>
                  <a:pt x="1591" y="173"/>
                </a:lnTo>
                <a:lnTo>
                  <a:pt x="1531" y="173"/>
                </a:lnTo>
                <a:lnTo>
                  <a:pt x="1472" y="173"/>
                </a:lnTo>
                <a:lnTo>
                  <a:pt x="1414" y="175"/>
                </a:lnTo>
                <a:lnTo>
                  <a:pt x="1359" y="177"/>
                </a:lnTo>
                <a:lnTo>
                  <a:pt x="1303" y="179"/>
                </a:lnTo>
                <a:lnTo>
                  <a:pt x="1249" y="182"/>
                </a:lnTo>
                <a:lnTo>
                  <a:pt x="1197" y="186"/>
                </a:lnTo>
                <a:lnTo>
                  <a:pt x="1169" y="188"/>
                </a:lnTo>
                <a:lnTo>
                  <a:pt x="1138" y="192"/>
                </a:lnTo>
                <a:lnTo>
                  <a:pt x="1107" y="196"/>
                </a:lnTo>
                <a:lnTo>
                  <a:pt x="1075" y="202"/>
                </a:lnTo>
                <a:lnTo>
                  <a:pt x="1040" y="205"/>
                </a:lnTo>
                <a:lnTo>
                  <a:pt x="1006" y="211"/>
                </a:lnTo>
                <a:lnTo>
                  <a:pt x="969" y="217"/>
                </a:lnTo>
                <a:lnTo>
                  <a:pt x="933" y="223"/>
                </a:lnTo>
                <a:lnTo>
                  <a:pt x="894" y="228"/>
                </a:lnTo>
                <a:lnTo>
                  <a:pt x="854" y="236"/>
                </a:lnTo>
                <a:lnTo>
                  <a:pt x="814" y="242"/>
                </a:lnTo>
                <a:lnTo>
                  <a:pt x="771" y="250"/>
                </a:lnTo>
                <a:lnTo>
                  <a:pt x="729" y="257"/>
                </a:lnTo>
                <a:lnTo>
                  <a:pt x="685" y="265"/>
                </a:lnTo>
                <a:lnTo>
                  <a:pt x="639" y="273"/>
                </a:lnTo>
                <a:lnTo>
                  <a:pt x="593" y="280"/>
                </a:lnTo>
                <a:lnTo>
                  <a:pt x="568" y="284"/>
                </a:lnTo>
                <a:lnTo>
                  <a:pt x="543" y="290"/>
                </a:lnTo>
                <a:lnTo>
                  <a:pt x="520" y="294"/>
                </a:lnTo>
                <a:lnTo>
                  <a:pt x="499" y="299"/>
                </a:lnTo>
                <a:lnTo>
                  <a:pt x="478" y="303"/>
                </a:lnTo>
                <a:lnTo>
                  <a:pt x="457" y="307"/>
                </a:lnTo>
                <a:lnTo>
                  <a:pt x="435" y="311"/>
                </a:lnTo>
                <a:lnTo>
                  <a:pt x="416" y="315"/>
                </a:lnTo>
                <a:lnTo>
                  <a:pt x="397" y="319"/>
                </a:lnTo>
                <a:lnTo>
                  <a:pt x="380" y="322"/>
                </a:lnTo>
                <a:lnTo>
                  <a:pt x="363" y="326"/>
                </a:lnTo>
                <a:lnTo>
                  <a:pt x="345" y="330"/>
                </a:lnTo>
                <a:lnTo>
                  <a:pt x="330" y="332"/>
                </a:lnTo>
                <a:lnTo>
                  <a:pt x="315" y="336"/>
                </a:lnTo>
                <a:lnTo>
                  <a:pt x="299" y="338"/>
                </a:lnTo>
                <a:lnTo>
                  <a:pt x="286" y="340"/>
                </a:lnTo>
                <a:lnTo>
                  <a:pt x="272" y="344"/>
                </a:lnTo>
                <a:lnTo>
                  <a:pt x="261" y="346"/>
                </a:lnTo>
                <a:lnTo>
                  <a:pt x="247" y="347"/>
                </a:lnTo>
                <a:lnTo>
                  <a:pt x="238" y="349"/>
                </a:lnTo>
                <a:lnTo>
                  <a:pt x="226" y="351"/>
                </a:lnTo>
                <a:lnTo>
                  <a:pt x="217" y="353"/>
                </a:lnTo>
                <a:lnTo>
                  <a:pt x="207" y="353"/>
                </a:lnTo>
                <a:lnTo>
                  <a:pt x="197" y="355"/>
                </a:lnTo>
                <a:lnTo>
                  <a:pt x="190" y="357"/>
                </a:lnTo>
                <a:lnTo>
                  <a:pt x="182" y="357"/>
                </a:lnTo>
                <a:lnTo>
                  <a:pt x="176" y="359"/>
                </a:lnTo>
                <a:lnTo>
                  <a:pt x="169" y="359"/>
                </a:lnTo>
                <a:lnTo>
                  <a:pt x="163" y="359"/>
                </a:lnTo>
                <a:lnTo>
                  <a:pt x="159" y="359"/>
                </a:lnTo>
                <a:lnTo>
                  <a:pt x="155" y="359"/>
                </a:lnTo>
                <a:lnTo>
                  <a:pt x="151" y="361"/>
                </a:lnTo>
                <a:lnTo>
                  <a:pt x="136" y="359"/>
                </a:lnTo>
                <a:lnTo>
                  <a:pt x="125" y="357"/>
                </a:lnTo>
                <a:lnTo>
                  <a:pt x="111" y="355"/>
                </a:lnTo>
                <a:lnTo>
                  <a:pt x="100" y="349"/>
                </a:lnTo>
                <a:lnTo>
                  <a:pt x="88" y="344"/>
                </a:lnTo>
                <a:lnTo>
                  <a:pt x="77" y="338"/>
                </a:lnTo>
                <a:lnTo>
                  <a:pt x="63" y="330"/>
                </a:lnTo>
                <a:lnTo>
                  <a:pt x="50" y="321"/>
                </a:lnTo>
                <a:lnTo>
                  <a:pt x="42" y="315"/>
                </a:lnTo>
                <a:lnTo>
                  <a:pt x="36" y="309"/>
                </a:lnTo>
                <a:lnTo>
                  <a:pt x="30" y="305"/>
                </a:lnTo>
                <a:lnTo>
                  <a:pt x="25" y="299"/>
                </a:lnTo>
                <a:lnTo>
                  <a:pt x="21" y="296"/>
                </a:lnTo>
                <a:lnTo>
                  <a:pt x="17" y="290"/>
                </a:lnTo>
                <a:lnTo>
                  <a:pt x="9" y="282"/>
                </a:lnTo>
                <a:lnTo>
                  <a:pt x="5" y="273"/>
                </a:lnTo>
                <a:lnTo>
                  <a:pt x="2" y="265"/>
                </a:lnTo>
                <a:lnTo>
                  <a:pt x="0" y="259"/>
                </a:lnTo>
                <a:lnTo>
                  <a:pt x="0" y="253"/>
                </a:lnTo>
                <a:lnTo>
                  <a:pt x="82" y="240"/>
                </a:lnTo>
                <a:lnTo>
                  <a:pt x="167" y="228"/>
                </a:lnTo>
                <a:lnTo>
                  <a:pt x="247" y="217"/>
                </a:lnTo>
                <a:lnTo>
                  <a:pt x="328" y="205"/>
                </a:lnTo>
                <a:lnTo>
                  <a:pt x="405" y="194"/>
                </a:lnTo>
                <a:lnTo>
                  <a:pt x="482" y="182"/>
                </a:lnTo>
                <a:lnTo>
                  <a:pt x="558" y="171"/>
                </a:lnTo>
                <a:lnTo>
                  <a:pt x="631" y="161"/>
                </a:lnTo>
                <a:lnTo>
                  <a:pt x="702" y="150"/>
                </a:lnTo>
                <a:lnTo>
                  <a:pt x="773" y="140"/>
                </a:lnTo>
                <a:lnTo>
                  <a:pt x="842" y="131"/>
                </a:lnTo>
                <a:lnTo>
                  <a:pt x="910" y="119"/>
                </a:lnTo>
                <a:lnTo>
                  <a:pt x="975" y="109"/>
                </a:lnTo>
                <a:lnTo>
                  <a:pt x="1038" y="100"/>
                </a:lnTo>
                <a:lnTo>
                  <a:pt x="1100" y="90"/>
                </a:lnTo>
                <a:lnTo>
                  <a:pt x="1159" y="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27"/>
          <p:cNvSpPr/>
          <p:nvPr/>
        </p:nvSpPr>
        <p:spPr>
          <a:xfrm>
            <a:off x="6396120" y="3732120"/>
            <a:ext cx="961920" cy="520920"/>
          </a:xfrm>
          <a:custGeom>
            <a:avLst/>
            <a:gdLst/>
            <a:ahLst/>
            <a:rect l="l" t="t" r="r" b="b"/>
            <a:pathLst>
              <a:path w="1211" h="654">
                <a:moveTo>
                  <a:pt x="1109" y="67"/>
                </a:moveTo>
                <a:lnTo>
                  <a:pt x="1121" y="73"/>
                </a:lnTo>
                <a:lnTo>
                  <a:pt x="1132" y="81"/>
                </a:lnTo>
                <a:lnTo>
                  <a:pt x="1142" y="88"/>
                </a:lnTo>
                <a:lnTo>
                  <a:pt x="1152" y="96"/>
                </a:lnTo>
                <a:lnTo>
                  <a:pt x="1161" y="104"/>
                </a:lnTo>
                <a:lnTo>
                  <a:pt x="1169" y="109"/>
                </a:lnTo>
                <a:lnTo>
                  <a:pt x="1176" y="117"/>
                </a:lnTo>
                <a:lnTo>
                  <a:pt x="1184" y="123"/>
                </a:lnTo>
                <a:lnTo>
                  <a:pt x="1190" y="129"/>
                </a:lnTo>
                <a:lnTo>
                  <a:pt x="1196" y="134"/>
                </a:lnTo>
                <a:lnTo>
                  <a:pt x="1200" y="140"/>
                </a:lnTo>
                <a:lnTo>
                  <a:pt x="1203" y="146"/>
                </a:lnTo>
                <a:lnTo>
                  <a:pt x="1207" y="150"/>
                </a:lnTo>
                <a:lnTo>
                  <a:pt x="1209" y="153"/>
                </a:lnTo>
                <a:lnTo>
                  <a:pt x="1211" y="157"/>
                </a:lnTo>
                <a:lnTo>
                  <a:pt x="1211" y="159"/>
                </a:lnTo>
                <a:lnTo>
                  <a:pt x="1209" y="171"/>
                </a:lnTo>
                <a:lnTo>
                  <a:pt x="1209" y="180"/>
                </a:lnTo>
                <a:lnTo>
                  <a:pt x="1205" y="190"/>
                </a:lnTo>
                <a:lnTo>
                  <a:pt x="1201" y="200"/>
                </a:lnTo>
                <a:lnTo>
                  <a:pt x="1196" y="209"/>
                </a:lnTo>
                <a:lnTo>
                  <a:pt x="1190" y="221"/>
                </a:lnTo>
                <a:lnTo>
                  <a:pt x="1182" y="230"/>
                </a:lnTo>
                <a:lnTo>
                  <a:pt x="1173" y="240"/>
                </a:lnTo>
                <a:lnTo>
                  <a:pt x="1169" y="244"/>
                </a:lnTo>
                <a:lnTo>
                  <a:pt x="1165" y="246"/>
                </a:lnTo>
                <a:lnTo>
                  <a:pt x="1161" y="249"/>
                </a:lnTo>
                <a:lnTo>
                  <a:pt x="1157" y="255"/>
                </a:lnTo>
                <a:lnTo>
                  <a:pt x="1153" y="261"/>
                </a:lnTo>
                <a:lnTo>
                  <a:pt x="1150" y="267"/>
                </a:lnTo>
                <a:lnTo>
                  <a:pt x="1144" y="272"/>
                </a:lnTo>
                <a:lnTo>
                  <a:pt x="1140" y="280"/>
                </a:lnTo>
                <a:lnTo>
                  <a:pt x="1134" y="288"/>
                </a:lnTo>
                <a:lnTo>
                  <a:pt x="1130" y="297"/>
                </a:lnTo>
                <a:lnTo>
                  <a:pt x="1125" y="305"/>
                </a:lnTo>
                <a:lnTo>
                  <a:pt x="1119" y="315"/>
                </a:lnTo>
                <a:lnTo>
                  <a:pt x="1113" y="326"/>
                </a:lnTo>
                <a:lnTo>
                  <a:pt x="1107" y="336"/>
                </a:lnTo>
                <a:lnTo>
                  <a:pt x="1102" y="347"/>
                </a:lnTo>
                <a:lnTo>
                  <a:pt x="1096" y="361"/>
                </a:lnTo>
                <a:lnTo>
                  <a:pt x="1090" y="374"/>
                </a:lnTo>
                <a:lnTo>
                  <a:pt x="1084" y="388"/>
                </a:lnTo>
                <a:lnTo>
                  <a:pt x="1079" y="401"/>
                </a:lnTo>
                <a:lnTo>
                  <a:pt x="1071" y="416"/>
                </a:lnTo>
                <a:lnTo>
                  <a:pt x="1065" y="432"/>
                </a:lnTo>
                <a:lnTo>
                  <a:pt x="1057" y="447"/>
                </a:lnTo>
                <a:lnTo>
                  <a:pt x="1052" y="464"/>
                </a:lnTo>
                <a:lnTo>
                  <a:pt x="1044" y="482"/>
                </a:lnTo>
                <a:lnTo>
                  <a:pt x="1038" y="499"/>
                </a:lnTo>
                <a:lnTo>
                  <a:pt x="1031" y="516"/>
                </a:lnTo>
                <a:lnTo>
                  <a:pt x="1023" y="535"/>
                </a:lnTo>
                <a:lnTo>
                  <a:pt x="1015" y="557"/>
                </a:lnTo>
                <a:lnTo>
                  <a:pt x="1008" y="576"/>
                </a:lnTo>
                <a:lnTo>
                  <a:pt x="1000" y="597"/>
                </a:lnTo>
                <a:lnTo>
                  <a:pt x="992" y="620"/>
                </a:lnTo>
                <a:lnTo>
                  <a:pt x="985" y="641"/>
                </a:lnTo>
                <a:lnTo>
                  <a:pt x="933" y="649"/>
                </a:lnTo>
                <a:lnTo>
                  <a:pt x="883" y="654"/>
                </a:lnTo>
                <a:lnTo>
                  <a:pt x="887" y="633"/>
                </a:lnTo>
                <a:lnTo>
                  <a:pt x="889" y="612"/>
                </a:lnTo>
                <a:lnTo>
                  <a:pt x="892" y="593"/>
                </a:lnTo>
                <a:lnTo>
                  <a:pt x="896" y="574"/>
                </a:lnTo>
                <a:lnTo>
                  <a:pt x="898" y="555"/>
                </a:lnTo>
                <a:lnTo>
                  <a:pt x="902" y="535"/>
                </a:lnTo>
                <a:lnTo>
                  <a:pt x="906" y="516"/>
                </a:lnTo>
                <a:lnTo>
                  <a:pt x="908" y="499"/>
                </a:lnTo>
                <a:lnTo>
                  <a:pt x="912" y="482"/>
                </a:lnTo>
                <a:lnTo>
                  <a:pt x="914" y="466"/>
                </a:lnTo>
                <a:lnTo>
                  <a:pt x="915" y="449"/>
                </a:lnTo>
                <a:lnTo>
                  <a:pt x="919" y="434"/>
                </a:lnTo>
                <a:lnTo>
                  <a:pt x="921" y="418"/>
                </a:lnTo>
                <a:lnTo>
                  <a:pt x="923" y="405"/>
                </a:lnTo>
                <a:lnTo>
                  <a:pt x="925" y="390"/>
                </a:lnTo>
                <a:lnTo>
                  <a:pt x="929" y="376"/>
                </a:lnTo>
                <a:lnTo>
                  <a:pt x="931" y="365"/>
                </a:lnTo>
                <a:lnTo>
                  <a:pt x="933" y="351"/>
                </a:lnTo>
                <a:lnTo>
                  <a:pt x="935" y="340"/>
                </a:lnTo>
                <a:lnTo>
                  <a:pt x="935" y="328"/>
                </a:lnTo>
                <a:lnTo>
                  <a:pt x="937" y="319"/>
                </a:lnTo>
                <a:lnTo>
                  <a:pt x="938" y="309"/>
                </a:lnTo>
                <a:lnTo>
                  <a:pt x="940" y="299"/>
                </a:lnTo>
                <a:lnTo>
                  <a:pt x="940" y="290"/>
                </a:lnTo>
                <a:lnTo>
                  <a:pt x="942" y="282"/>
                </a:lnTo>
                <a:lnTo>
                  <a:pt x="942" y="274"/>
                </a:lnTo>
                <a:lnTo>
                  <a:pt x="944" y="267"/>
                </a:lnTo>
                <a:lnTo>
                  <a:pt x="944" y="259"/>
                </a:lnTo>
                <a:lnTo>
                  <a:pt x="944" y="253"/>
                </a:lnTo>
                <a:lnTo>
                  <a:pt x="946" y="249"/>
                </a:lnTo>
                <a:lnTo>
                  <a:pt x="946" y="244"/>
                </a:lnTo>
                <a:lnTo>
                  <a:pt x="946" y="240"/>
                </a:lnTo>
                <a:lnTo>
                  <a:pt x="946" y="226"/>
                </a:lnTo>
                <a:lnTo>
                  <a:pt x="946" y="213"/>
                </a:lnTo>
                <a:lnTo>
                  <a:pt x="944" y="201"/>
                </a:lnTo>
                <a:lnTo>
                  <a:pt x="944" y="190"/>
                </a:lnTo>
                <a:lnTo>
                  <a:pt x="942" y="180"/>
                </a:lnTo>
                <a:lnTo>
                  <a:pt x="940" y="173"/>
                </a:lnTo>
                <a:lnTo>
                  <a:pt x="937" y="165"/>
                </a:lnTo>
                <a:lnTo>
                  <a:pt x="933" y="159"/>
                </a:lnTo>
                <a:lnTo>
                  <a:pt x="931" y="157"/>
                </a:lnTo>
                <a:lnTo>
                  <a:pt x="927" y="155"/>
                </a:lnTo>
                <a:lnTo>
                  <a:pt x="923" y="155"/>
                </a:lnTo>
                <a:lnTo>
                  <a:pt x="917" y="153"/>
                </a:lnTo>
                <a:lnTo>
                  <a:pt x="910" y="153"/>
                </a:lnTo>
                <a:lnTo>
                  <a:pt x="904" y="155"/>
                </a:lnTo>
                <a:lnTo>
                  <a:pt x="894" y="155"/>
                </a:lnTo>
                <a:lnTo>
                  <a:pt x="887" y="157"/>
                </a:lnTo>
                <a:lnTo>
                  <a:pt x="875" y="157"/>
                </a:lnTo>
                <a:lnTo>
                  <a:pt x="866" y="159"/>
                </a:lnTo>
                <a:lnTo>
                  <a:pt x="854" y="161"/>
                </a:lnTo>
                <a:lnTo>
                  <a:pt x="841" y="163"/>
                </a:lnTo>
                <a:lnTo>
                  <a:pt x="827" y="165"/>
                </a:lnTo>
                <a:lnTo>
                  <a:pt x="814" y="169"/>
                </a:lnTo>
                <a:lnTo>
                  <a:pt x="798" y="171"/>
                </a:lnTo>
                <a:lnTo>
                  <a:pt x="781" y="173"/>
                </a:lnTo>
                <a:lnTo>
                  <a:pt x="773" y="175"/>
                </a:lnTo>
                <a:lnTo>
                  <a:pt x="764" y="177"/>
                </a:lnTo>
                <a:lnTo>
                  <a:pt x="752" y="178"/>
                </a:lnTo>
                <a:lnTo>
                  <a:pt x="741" y="180"/>
                </a:lnTo>
                <a:lnTo>
                  <a:pt x="727" y="182"/>
                </a:lnTo>
                <a:lnTo>
                  <a:pt x="714" y="184"/>
                </a:lnTo>
                <a:lnTo>
                  <a:pt x="700" y="186"/>
                </a:lnTo>
                <a:lnTo>
                  <a:pt x="685" y="188"/>
                </a:lnTo>
                <a:lnTo>
                  <a:pt x="668" y="190"/>
                </a:lnTo>
                <a:lnTo>
                  <a:pt x="651" y="194"/>
                </a:lnTo>
                <a:lnTo>
                  <a:pt x="633" y="196"/>
                </a:lnTo>
                <a:lnTo>
                  <a:pt x="612" y="198"/>
                </a:lnTo>
                <a:lnTo>
                  <a:pt x="593" y="201"/>
                </a:lnTo>
                <a:lnTo>
                  <a:pt x="572" y="205"/>
                </a:lnTo>
                <a:lnTo>
                  <a:pt x="549" y="207"/>
                </a:lnTo>
                <a:lnTo>
                  <a:pt x="526" y="211"/>
                </a:lnTo>
                <a:lnTo>
                  <a:pt x="503" y="215"/>
                </a:lnTo>
                <a:lnTo>
                  <a:pt x="478" y="219"/>
                </a:lnTo>
                <a:lnTo>
                  <a:pt x="451" y="223"/>
                </a:lnTo>
                <a:lnTo>
                  <a:pt x="424" y="226"/>
                </a:lnTo>
                <a:lnTo>
                  <a:pt x="395" y="230"/>
                </a:lnTo>
                <a:lnTo>
                  <a:pt x="366" y="234"/>
                </a:lnTo>
                <a:lnTo>
                  <a:pt x="338" y="238"/>
                </a:lnTo>
                <a:lnTo>
                  <a:pt x="307" y="242"/>
                </a:lnTo>
                <a:lnTo>
                  <a:pt x="274" y="248"/>
                </a:lnTo>
                <a:lnTo>
                  <a:pt x="242" y="251"/>
                </a:lnTo>
                <a:lnTo>
                  <a:pt x="207" y="255"/>
                </a:lnTo>
                <a:lnTo>
                  <a:pt x="173" y="261"/>
                </a:lnTo>
                <a:lnTo>
                  <a:pt x="138" y="265"/>
                </a:lnTo>
                <a:lnTo>
                  <a:pt x="102" y="271"/>
                </a:lnTo>
                <a:lnTo>
                  <a:pt x="63" y="274"/>
                </a:lnTo>
                <a:lnTo>
                  <a:pt x="25" y="280"/>
                </a:lnTo>
                <a:lnTo>
                  <a:pt x="11" y="226"/>
                </a:lnTo>
                <a:lnTo>
                  <a:pt x="0" y="173"/>
                </a:lnTo>
                <a:lnTo>
                  <a:pt x="67" y="167"/>
                </a:lnTo>
                <a:lnTo>
                  <a:pt x="134" y="161"/>
                </a:lnTo>
                <a:lnTo>
                  <a:pt x="203" y="153"/>
                </a:lnTo>
                <a:lnTo>
                  <a:pt x="274" y="144"/>
                </a:lnTo>
                <a:lnTo>
                  <a:pt x="345" y="132"/>
                </a:lnTo>
                <a:lnTo>
                  <a:pt x="418" y="121"/>
                </a:lnTo>
                <a:lnTo>
                  <a:pt x="491" y="107"/>
                </a:lnTo>
                <a:lnTo>
                  <a:pt x="568" y="94"/>
                </a:lnTo>
                <a:lnTo>
                  <a:pt x="603" y="86"/>
                </a:lnTo>
                <a:lnTo>
                  <a:pt x="635" y="79"/>
                </a:lnTo>
                <a:lnTo>
                  <a:pt x="666" y="71"/>
                </a:lnTo>
                <a:lnTo>
                  <a:pt x="695" y="65"/>
                </a:lnTo>
                <a:lnTo>
                  <a:pt x="722" y="59"/>
                </a:lnTo>
                <a:lnTo>
                  <a:pt x="748" y="54"/>
                </a:lnTo>
                <a:lnTo>
                  <a:pt x="771" y="48"/>
                </a:lnTo>
                <a:lnTo>
                  <a:pt x="795" y="42"/>
                </a:lnTo>
                <a:lnTo>
                  <a:pt x="814" y="38"/>
                </a:lnTo>
                <a:lnTo>
                  <a:pt x="833" y="33"/>
                </a:lnTo>
                <a:lnTo>
                  <a:pt x="850" y="29"/>
                </a:lnTo>
                <a:lnTo>
                  <a:pt x="866" y="25"/>
                </a:lnTo>
                <a:lnTo>
                  <a:pt x="879" y="21"/>
                </a:lnTo>
                <a:lnTo>
                  <a:pt x="890" y="19"/>
                </a:lnTo>
                <a:lnTo>
                  <a:pt x="900" y="15"/>
                </a:lnTo>
                <a:lnTo>
                  <a:pt x="908" y="13"/>
                </a:lnTo>
                <a:lnTo>
                  <a:pt x="917" y="8"/>
                </a:lnTo>
                <a:lnTo>
                  <a:pt x="927" y="6"/>
                </a:lnTo>
                <a:lnTo>
                  <a:pt x="937" y="2"/>
                </a:lnTo>
                <a:lnTo>
                  <a:pt x="946" y="2"/>
                </a:lnTo>
                <a:lnTo>
                  <a:pt x="956" y="0"/>
                </a:lnTo>
                <a:lnTo>
                  <a:pt x="965" y="0"/>
                </a:lnTo>
                <a:lnTo>
                  <a:pt x="985" y="0"/>
                </a:lnTo>
                <a:lnTo>
                  <a:pt x="986" y="0"/>
                </a:lnTo>
                <a:lnTo>
                  <a:pt x="990" y="0"/>
                </a:lnTo>
                <a:lnTo>
                  <a:pt x="994" y="2"/>
                </a:lnTo>
                <a:lnTo>
                  <a:pt x="1000" y="4"/>
                </a:lnTo>
                <a:lnTo>
                  <a:pt x="1006" y="8"/>
                </a:lnTo>
                <a:lnTo>
                  <a:pt x="1013" y="10"/>
                </a:lnTo>
                <a:lnTo>
                  <a:pt x="1019" y="13"/>
                </a:lnTo>
                <a:lnTo>
                  <a:pt x="1029" y="17"/>
                </a:lnTo>
                <a:lnTo>
                  <a:pt x="1036" y="23"/>
                </a:lnTo>
                <a:lnTo>
                  <a:pt x="1046" y="27"/>
                </a:lnTo>
                <a:lnTo>
                  <a:pt x="1056" y="33"/>
                </a:lnTo>
                <a:lnTo>
                  <a:pt x="1065" y="38"/>
                </a:lnTo>
                <a:lnTo>
                  <a:pt x="1086" y="52"/>
                </a:lnTo>
                <a:lnTo>
                  <a:pt x="1109" y="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28"/>
          <p:cNvSpPr/>
          <p:nvPr/>
        </p:nvSpPr>
        <p:spPr>
          <a:xfrm>
            <a:off x="6329520" y="3852720"/>
            <a:ext cx="176040" cy="495360"/>
          </a:xfrm>
          <a:custGeom>
            <a:avLst/>
            <a:gdLst/>
            <a:ahLst/>
            <a:rect l="l" t="t" r="r" b="b"/>
            <a:pathLst>
              <a:path w="223" h="623">
                <a:moveTo>
                  <a:pt x="8" y="101"/>
                </a:moveTo>
                <a:lnTo>
                  <a:pt x="4" y="86"/>
                </a:lnTo>
                <a:lnTo>
                  <a:pt x="2" y="74"/>
                </a:lnTo>
                <a:lnTo>
                  <a:pt x="0" y="61"/>
                </a:lnTo>
                <a:lnTo>
                  <a:pt x="0" y="49"/>
                </a:lnTo>
                <a:lnTo>
                  <a:pt x="2" y="38"/>
                </a:lnTo>
                <a:lnTo>
                  <a:pt x="4" y="34"/>
                </a:lnTo>
                <a:lnTo>
                  <a:pt x="8" y="28"/>
                </a:lnTo>
                <a:lnTo>
                  <a:pt x="10" y="23"/>
                </a:lnTo>
                <a:lnTo>
                  <a:pt x="14" y="19"/>
                </a:lnTo>
                <a:lnTo>
                  <a:pt x="18" y="13"/>
                </a:lnTo>
                <a:lnTo>
                  <a:pt x="22" y="7"/>
                </a:lnTo>
                <a:lnTo>
                  <a:pt x="25" y="5"/>
                </a:lnTo>
                <a:lnTo>
                  <a:pt x="29" y="3"/>
                </a:lnTo>
                <a:lnTo>
                  <a:pt x="33" y="1"/>
                </a:lnTo>
                <a:lnTo>
                  <a:pt x="41" y="1"/>
                </a:lnTo>
                <a:lnTo>
                  <a:pt x="46" y="0"/>
                </a:lnTo>
                <a:lnTo>
                  <a:pt x="56" y="0"/>
                </a:lnTo>
                <a:lnTo>
                  <a:pt x="66" y="0"/>
                </a:lnTo>
                <a:lnTo>
                  <a:pt x="75" y="1"/>
                </a:lnTo>
                <a:lnTo>
                  <a:pt x="87" y="1"/>
                </a:lnTo>
                <a:lnTo>
                  <a:pt x="98" y="5"/>
                </a:lnTo>
                <a:lnTo>
                  <a:pt x="112" y="7"/>
                </a:lnTo>
                <a:lnTo>
                  <a:pt x="125" y="11"/>
                </a:lnTo>
                <a:lnTo>
                  <a:pt x="139" y="15"/>
                </a:lnTo>
                <a:lnTo>
                  <a:pt x="154" y="21"/>
                </a:lnTo>
                <a:lnTo>
                  <a:pt x="169" y="28"/>
                </a:lnTo>
                <a:lnTo>
                  <a:pt x="185" y="34"/>
                </a:lnTo>
                <a:lnTo>
                  <a:pt x="187" y="67"/>
                </a:lnTo>
                <a:lnTo>
                  <a:pt x="190" y="97"/>
                </a:lnTo>
                <a:lnTo>
                  <a:pt x="192" y="128"/>
                </a:lnTo>
                <a:lnTo>
                  <a:pt x="194" y="159"/>
                </a:lnTo>
                <a:lnTo>
                  <a:pt x="196" y="188"/>
                </a:lnTo>
                <a:lnTo>
                  <a:pt x="198" y="215"/>
                </a:lnTo>
                <a:lnTo>
                  <a:pt x="200" y="241"/>
                </a:lnTo>
                <a:lnTo>
                  <a:pt x="202" y="268"/>
                </a:lnTo>
                <a:lnTo>
                  <a:pt x="204" y="293"/>
                </a:lnTo>
                <a:lnTo>
                  <a:pt x="206" y="316"/>
                </a:lnTo>
                <a:lnTo>
                  <a:pt x="206" y="341"/>
                </a:lnTo>
                <a:lnTo>
                  <a:pt x="208" y="362"/>
                </a:lnTo>
                <a:lnTo>
                  <a:pt x="210" y="385"/>
                </a:lnTo>
                <a:lnTo>
                  <a:pt x="212" y="406"/>
                </a:lnTo>
                <a:lnTo>
                  <a:pt x="212" y="426"/>
                </a:lnTo>
                <a:lnTo>
                  <a:pt x="213" y="445"/>
                </a:lnTo>
                <a:lnTo>
                  <a:pt x="215" y="462"/>
                </a:lnTo>
                <a:lnTo>
                  <a:pt x="215" y="479"/>
                </a:lnTo>
                <a:lnTo>
                  <a:pt x="217" y="495"/>
                </a:lnTo>
                <a:lnTo>
                  <a:pt x="217" y="510"/>
                </a:lnTo>
                <a:lnTo>
                  <a:pt x="219" y="526"/>
                </a:lnTo>
                <a:lnTo>
                  <a:pt x="219" y="539"/>
                </a:lnTo>
                <a:lnTo>
                  <a:pt x="219" y="552"/>
                </a:lnTo>
                <a:lnTo>
                  <a:pt x="221" y="564"/>
                </a:lnTo>
                <a:lnTo>
                  <a:pt x="221" y="573"/>
                </a:lnTo>
                <a:lnTo>
                  <a:pt x="221" y="583"/>
                </a:lnTo>
                <a:lnTo>
                  <a:pt x="223" y="593"/>
                </a:lnTo>
                <a:lnTo>
                  <a:pt x="223" y="600"/>
                </a:lnTo>
                <a:lnTo>
                  <a:pt x="223" y="608"/>
                </a:lnTo>
                <a:lnTo>
                  <a:pt x="223" y="614"/>
                </a:lnTo>
                <a:lnTo>
                  <a:pt x="223" y="620"/>
                </a:lnTo>
                <a:lnTo>
                  <a:pt x="223" y="623"/>
                </a:lnTo>
                <a:lnTo>
                  <a:pt x="165" y="623"/>
                </a:lnTo>
                <a:lnTo>
                  <a:pt x="110" y="623"/>
                </a:lnTo>
                <a:lnTo>
                  <a:pt x="108" y="591"/>
                </a:lnTo>
                <a:lnTo>
                  <a:pt x="106" y="560"/>
                </a:lnTo>
                <a:lnTo>
                  <a:pt x="102" y="531"/>
                </a:lnTo>
                <a:lnTo>
                  <a:pt x="100" y="502"/>
                </a:lnTo>
                <a:lnTo>
                  <a:pt x="98" y="476"/>
                </a:lnTo>
                <a:lnTo>
                  <a:pt x="96" y="451"/>
                </a:lnTo>
                <a:lnTo>
                  <a:pt x="93" y="426"/>
                </a:lnTo>
                <a:lnTo>
                  <a:pt x="91" y="403"/>
                </a:lnTo>
                <a:lnTo>
                  <a:pt x="89" y="380"/>
                </a:lnTo>
                <a:lnTo>
                  <a:pt x="87" y="360"/>
                </a:lnTo>
                <a:lnTo>
                  <a:pt x="83" y="341"/>
                </a:lnTo>
                <a:lnTo>
                  <a:pt x="81" y="322"/>
                </a:lnTo>
                <a:lnTo>
                  <a:pt x="79" y="305"/>
                </a:lnTo>
                <a:lnTo>
                  <a:pt x="77" y="289"/>
                </a:lnTo>
                <a:lnTo>
                  <a:pt x="73" y="276"/>
                </a:lnTo>
                <a:lnTo>
                  <a:pt x="71" y="263"/>
                </a:lnTo>
                <a:lnTo>
                  <a:pt x="68" y="238"/>
                </a:lnTo>
                <a:lnTo>
                  <a:pt x="60" y="215"/>
                </a:lnTo>
                <a:lnTo>
                  <a:pt x="52" y="192"/>
                </a:lnTo>
                <a:lnTo>
                  <a:pt x="45" y="172"/>
                </a:lnTo>
                <a:lnTo>
                  <a:pt x="37" y="153"/>
                </a:lnTo>
                <a:lnTo>
                  <a:pt x="27" y="134"/>
                </a:lnTo>
                <a:lnTo>
                  <a:pt x="18" y="117"/>
                </a:lnTo>
                <a:lnTo>
                  <a:pt x="8" y="1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29"/>
          <p:cNvSpPr/>
          <p:nvPr/>
        </p:nvSpPr>
        <p:spPr>
          <a:xfrm>
            <a:off x="6595920" y="3414600"/>
            <a:ext cx="571680" cy="424080"/>
          </a:xfrm>
          <a:custGeom>
            <a:avLst/>
            <a:gdLst/>
            <a:ahLst/>
            <a:rect l="l" t="t" r="r" b="b"/>
            <a:pathLst>
              <a:path w="720" h="533">
                <a:moveTo>
                  <a:pt x="304" y="533"/>
                </a:moveTo>
                <a:lnTo>
                  <a:pt x="259" y="533"/>
                </a:lnTo>
                <a:lnTo>
                  <a:pt x="215" y="533"/>
                </a:lnTo>
                <a:lnTo>
                  <a:pt x="229" y="512"/>
                </a:lnTo>
                <a:lnTo>
                  <a:pt x="240" y="489"/>
                </a:lnTo>
                <a:lnTo>
                  <a:pt x="252" y="470"/>
                </a:lnTo>
                <a:lnTo>
                  <a:pt x="263" y="449"/>
                </a:lnTo>
                <a:lnTo>
                  <a:pt x="273" y="430"/>
                </a:lnTo>
                <a:lnTo>
                  <a:pt x="284" y="411"/>
                </a:lnTo>
                <a:lnTo>
                  <a:pt x="294" y="393"/>
                </a:lnTo>
                <a:lnTo>
                  <a:pt x="302" y="376"/>
                </a:lnTo>
                <a:lnTo>
                  <a:pt x="311" y="359"/>
                </a:lnTo>
                <a:lnTo>
                  <a:pt x="319" y="343"/>
                </a:lnTo>
                <a:lnTo>
                  <a:pt x="327" y="328"/>
                </a:lnTo>
                <a:lnTo>
                  <a:pt x="334" y="313"/>
                </a:lnTo>
                <a:lnTo>
                  <a:pt x="342" y="299"/>
                </a:lnTo>
                <a:lnTo>
                  <a:pt x="348" y="286"/>
                </a:lnTo>
                <a:lnTo>
                  <a:pt x="353" y="272"/>
                </a:lnTo>
                <a:lnTo>
                  <a:pt x="359" y="261"/>
                </a:lnTo>
                <a:lnTo>
                  <a:pt x="365" y="249"/>
                </a:lnTo>
                <a:lnTo>
                  <a:pt x="369" y="240"/>
                </a:lnTo>
                <a:lnTo>
                  <a:pt x="375" y="230"/>
                </a:lnTo>
                <a:lnTo>
                  <a:pt x="378" y="221"/>
                </a:lnTo>
                <a:lnTo>
                  <a:pt x="380" y="211"/>
                </a:lnTo>
                <a:lnTo>
                  <a:pt x="384" y="203"/>
                </a:lnTo>
                <a:lnTo>
                  <a:pt x="386" y="196"/>
                </a:lnTo>
                <a:lnTo>
                  <a:pt x="388" y="190"/>
                </a:lnTo>
                <a:lnTo>
                  <a:pt x="390" y="184"/>
                </a:lnTo>
                <a:lnTo>
                  <a:pt x="392" y="178"/>
                </a:lnTo>
                <a:lnTo>
                  <a:pt x="394" y="174"/>
                </a:lnTo>
                <a:lnTo>
                  <a:pt x="394" y="169"/>
                </a:lnTo>
                <a:lnTo>
                  <a:pt x="394" y="167"/>
                </a:lnTo>
                <a:lnTo>
                  <a:pt x="394" y="163"/>
                </a:lnTo>
                <a:lnTo>
                  <a:pt x="394" y="161"/>
                </a:lnTo>
                <a:lnTo>
                  <a:pt x="392" y="159"/>
                </a:lnTo>
                <a:lnTo>
                  <a:pt x="390" y="159"/>
                </a:lnTo>
                <a:lnTo>
                  <a:pt x="386" y="157"/>
                </a:lnTo>
                <a:lnTo>
                  <a:pt x="382" y="157"/>
                </a:lnTo>
                <a:lnTo>
                  <a:pt x="378" y="155"/>
                </a:lnTo>
                <a:lnTo>
                  <a:pt x="373" y="155"/>
                </a:lnTo>
                <a:lnTo>
                  <a:pt x="367" y="155"/>
                </a:lnTo>
                <a:lnTo>
                  <a:pt x="361" y="155"/>
                </a:lnTo>
                <a:lnTo>
                  <a:pt x="353" y="155"/>
                </a:lnTo>
                <a:lnTo>
                  <a:pt x="346" y="155"/>
                </a:lnTo>
                <a:lnTo>
                  <a:pt x="338" y="155"/>
                </a:lnTo>
                <a:lnTo>
                  <a:pt x="330" y="155"/>
                </a:lnTo>
                <a:lnTo>
                  <a:pt x="321" y="155"/>
                </a:lnTo>
                <a:lnTo>
                  <a:pt x="311" y="157"/>
                </a:lnTo>
                <a:lnTo>
                  <a:pt x="300" y="157"/>
                </a:lnTo>
                <a:lnTo>
                  <a:pt x="288" y="157"/>
                </a:lnTo>
                <a:lnTo>
                  <a:pt x="277" y="159"/>
                </a:lnTo>
                <a:lnTo>
                  <a:pt x="265" y="161"/>
                </a:lnTo>
                <a:lnTo>
                  <a:pt x="252" y="163"/>
                </a:lnTo>
                <a:lnTo>
                  <a:pt x="238" y="163"/>
                </a:lnTo>
                <a:lnTo>
                  <a:pt x="223" y="165"/>
                </a:lnTo>
                <a:lnTo>
                  <a:pt x="208" y="167"/>
                </a:lnTo>
                <a:lnTo>
                  <a:pt x="192" y="169"/>
                </a:lnTo>
                <a:lnTo>
                  <a:pt x="177" y="173"/>
                </a:lnTo>
                <a:lnTo>
                  <a:pt x="160" y="174"/>
                </a:lnTo>
                <a:lnTo>
                  <a:pt x="142" y="176"/>
                </a:lnTo>
                <a:lnTo>
                  <a:pt x="123" y="180"/>
                </a:lnTo>
                <a:lnTo>
                  <a:pt x="104" y="182"/>
                </a:lnTo>
                <a:lnTo>
                  <a:pt x="85" y="186"/>
                </a:lnTo>
                <a:lnTo>
                  <a:pt x="66" y="190"/>
                </a:lnTo>
                <a:lnTo>
                  <a:pt x="44" y="192"/>
                </a:lnTo>
                <a:lnTo>
                  <a:pt x="23" y="196"/>
                </a:lnTo>
                <a:lnTo>
                  <a:pt x="0" y="199"/>
                </a:lnTo>
                <a:lnTo>
                  <a:pt x="8" y="153"/>
                </a:lnTo>
                <a:lnTo>
                  <a:pt x="14" y="105"/>
                </a:lnTo>
                <a:lnTo>
                  <a:pt x="52" y="103"/>
                </a:lnTo>
                <a:lnTo>
                  <a:pt x="91" y="100"/>
                </a:lnTo>
                <a:lnTo>
                  <a:pt x="125" y="98"/>
                </a:lnTo>
                <a:lnTo>
                  <a:pt x="142" y="96"/>
                </a:lnTo>
                <a:lnTo>
                  <a:pt x="160" y="94"/>
                </a:lnTo>
                <a:lnTo>
                  <a:pt x="175" y="92"/>
                </a:lnTo>
                <a:lnTo>
                  <a:pt x="192" y="90"/>
                </a:lnTo>
                <a:lnTo>
                  <a:pt x="208" y="88"/>
                </a:lnTo>
                <a:lnTo>
                  <a:pt x="221" y="86"/>
                </a:lnTo>
                <a:lnTo>
                  <a:pt x="236" y="84"/>
                </a:lnTo>
                <a:lnTo>
                  <a:pt x="250" y="82"/>
                </a:lnTo>
                <a:lnTo>
                  <a:pt x="263" y="80"/>
                </a:lnTo>
                <a:lnTo>
                  <a:pt x="275" y="78"/>
                </a:lnTo>
                <a:lnTo>
                  <a:pt x="288" y="75"/>
                </a:lnTo>
                <a:lnTo>
                  <a:pt x="300" y="73"/>
                </a:lnTo>
                <a:lnTo>
                  <a:pt x="309" y="71"/>
                </a:lnTo>
                <a:lnTo>
                  <a:pt x="321" y="69"/>
                </a:lnTo>
                <a:lnTo>
                  <a:pt x="330" y="67"/>
                </a:lnTo>
                <a:lnTo>
                  <a:pt x="340" y="63"/>
                </a:lnTo>
                <a:lnTo>
                  <a:pt x="350" y="61"/>
                </a:lnTo>
                <a:lnTo>
                  <a:pt x="357" y="59"/>
                </a:lnTo>
                <a:lnTo>
                  <a:pt x="365" y="57"/>
                </a:lnTo>
                <a:lnTo>
                  <a:pt x="373" y="54"/>
                </a:lnTo>
                <a:lnTo>
                  <a:pt x="380" y="52"/>
                </a:lnTo>
                <a:lnTo>
                  <a:pt x="386" y="50"/>
                </a:lnTo>
                <a:lnTo>
                  <a:pt x="392" y="48"/>
                </a:lnTo>
                <a:lnTo>
                  <a:pt x="396" y="44"/>
                </a:lnTo>
                <a:lnTo>
                  <a:pt x="401" y="42"/>
                </a:lnTo>
                <a:lnTo>
                  <a:pt x="405" y="40"/>
                </a:lnTo>
                <a:lnTo>
                  <a:pt x="419" y="30"/>
                </a:lnTo>
                <a:lnTo>
                  <a:pt x="430" y="21"/>
                </a:lnTo>
                <a:lnTo>
                  <a:pt x="442" y="15"/>
                </a:lnTo>
                <a:lnTo>
                  <a:pt x="453" y="9"/>
                </a:lnTo>
                <a:lnTo>
                  <a:pt x="463" y="4"/>
                </a:lnTo>
                <a:lnTo>
                  <a:pt x="474" y="2"/>
                </a:lnTo>
                <a:lnTo>
                  <a:pt x="484" y="0"/>
                </a:lnTo>
                <a:lnTo>
                  <a:pt x="494" y="0"/>
                </a:lnTo>
                <a:lnTo>
                  <a:pt x="496" y="0"/>
                </a:lnTo>
                <a:lnTo>
                  <a:pt x="499" y="0"/>
                </a:lnTo>
                <a:lnTo>
                  <a:pt x="503" y="0"/>
                </a:lnTo>
                <a:lnTo>
                  <a:pt x="509" y="2"/>
                </a:lnTo>
                <a:lnTo>
                  <a:pt x="515" y="4"/>
                </a:lnTo>
                <a:lnTo>
                  <a:pt x="522" y="6"/>
                </a:lnTo>
                <a:lnTo>
                  <a:pt x="528" y="7"/>
                </a:lnTo>
                <a:lnTo>
                  <a:pt x="538" y="11"/>
                </a:lnTo>
                <a:lnTo>
                  <a:pt x="545" y="13"/>
                </a:lnTo>
                <a:lnTo>
                  <a:pt x="555" y="17"/>
                </a:lnTo>
                <a:lnTo>
                  <a:pt x="565" y="23"/>
                </a:lnTo>
                <a:lnTo>
                  <a:pt x="574" y="27"/>
                </a:lnTo>
                <a:lnTo>
                  <a:pt x="586" y="32"/>
                </a:lnTo>
                <a:lnTo>
                  <a:pt x="595" y="38"/>
                </a:lnTo>
                <a:lnTo>
                  <a:pt x="607" y="46"/>
                </a:lnTo>
                <a:lnTo>
                  <a:pt x="618" y="54"/>
                </a:lnTo>
                <a:lnTo>
                  <a:pt x="630" y="59"/>
                </a:lnTo>
                <a:lnTo>
                  <a:pt x="641" y="67"/>
                </a:lnTo>
                <a:lnTo>
                  <a:pt x="651" y="75"/>
                </a:lnTo>
                <a:lnTo>
                  <a:pt x="661" y="80"/>
                </a:lnTo>
                <a:lnTo>
                  <a:pt x="670" y="86"/>
                </a:lnTo>
                <a:lnTo>
                  <a:pt x="678" y="92"/>
                </a:lnTo>
                <a:lnTo>
                  <a:pt x="686" y="98"/>
                </a:lnTo>
                <a:lnTo>
                  <a:pt x="693" y="103"/>
                </a:lnTo>
                <a:lnTo>
                  <a:pt x="699" y="107"/>
                </a:lnTo>
                <a:lnTo>
                  <a:pt x="705" y="113"/>
                </a:lnTo>
                <a:lnTo>
                  <a:pt x="709" y="117"/>
                </a:lnTo>
                <a:lnTo>
                  <a:pt x="712" y="121"/>
                </a:lnTo>
                <a:lnTo>
                  <a:pt x="716" y="125"/>
                </a:lnTo>
                <a:lnTo>
                  <a:pt x="718" y="126"/>
                </a:lnTo>
                <a:lnTo>
                  <a:pt x="720" y="130"/>
                </a:lnTo>
                <a:lnTo>
                  <a:pt x="720" y="132"/>
                </a:lnTo>
                <a:lnTo>
                  <a:pt x="720" y="136"/>
                </a:lnTo>
                <a:lnTo>
                  <a:pt x="718" y="138"/>
                </a:lnTo>
                <a:lnTo>
                  <a:pt x="718" y="142"/>
                </a:lnTo>
                <a:lnTo>
                  <a:pt x="716" y="146"/>
                </a:lnTo>
                <a:lnTo>
                  <a:pt x="712" y="148"/>
                </a:lnTo>
                <a:lnTo>
                  <a:pt x="709" y="151"/>
                </a:lnTo>
                <a:lnTo>
                  <a:pt x="705" y="155"/>
                </a:lnTo>
                <a:lnTo>
                  <a:pt x="701" y="159"/>
                </a:lnTo>
                <a:lnTo>
                  <a:pt x="695" y="163"/>
                </a:lnTo>
                <a:lnTo>
                  <a:pt x="691" y="167"/>
                </a:lnTo>
                <a:lnTo>
                  <a:pt x="684" y="171"/>
                </a:lnTo>
                <a:lnTo>
                  <a:pt x="678" y="174"/>
                </a:lnTo>
                <a:lnTo>
                  <a:pt x="670" y="178"/>
                </a:lnTo>
                <a:lnTo>
                  <a:pt x="663" y="180"/>
                </a:lnTo>
                <a:lnTo>
                  <a:pt x="653" y="184"/>
                </a:lnTo>
                <a:lnTo>
                  <a:pt x="645" y="186"/>
                </a:lnTo>
                <a:lnTo>
                  <a:pt x="639" y="188"/>
                </a:lnTo>
                <a:lnTo>
                  <a:pt x="634" y="190"/>
                </a:lnTo>
                <a:lnTo>
                  <a:pt x="628" y="194"/>
                </a:lnTo>
                <a:lnTo>
                  <a:pt x="622" y="196"/>
                </a:lnTo>
                <a:lnTo>
                  <a:pt x="616" y="201"/>
                </a:lnTo>
                <a:lnTo>
                  <a:pt x="609" y="205"/>
                </a:lnTo>
                <a:lnTo>
                  <a:pt x="601" y="211"/>
                </a:lnTo>
                <a:lnTo>
                  <a:pt x="595" y="217"/>
                </a:lnTo>
                <a:lnTo>
                  <a:pt x="586" y="222"/>
                </a:lnTo>
                <a:lnTo>
                  <a:pt x="578" y="230"/>
                </a:lnTo>
                <a:lnTo>
                  <a:pt x="570" y="238"/>
                </a:lnTo>
                <a:lnTo>
                  <a:pt x="561" y="245"/>
                </a:lnTo>
                <a:lnTo>
                  <a:pt x="551" y="255"/>
                </a:lnTo>
                <a:lnTo>
                  <a:pt x="542" y="265"/>
                </a:lnTo>
                <a:lnTo>
                  <a:pt x="532" y="274"/>
                </a:lnTo>
                <a:lnTo>
                  <a:pt x="520" y="284"/>
                </a:lnTo>
                <a:lnTo>
                  <a:pt x="509" y="295"/>
                </a:lnTo>
                <a:lnTo>
                  <a:pt x="499" y="307"/>
                </a:lnTo>
                <a:lnTo>
                  <a:pt x="486" y="320"/>
                </a:lnTo>
                <a:lnTo>
                  <a:pt x="474" y="334"/>
                </a:lnTo>
                <a:lnTo>
                  <a:pt x="463" y="347"/>
                </a:lnTo>
                <a:lnTo>
                  <a:pt x="449" y="361"/>
                </a:lnTo>
                <a:lnTo>
                  <a:pt x="436" y="376"/>
                </a:lnTo>
                <a:lnTo>
                  <a:pt x="423" y="391"/>
                </a:lnTo>
                <a:lnTo>
                  <a:pt x="409" y="407"/>
                </a:lnTo>
                <a:lnTo>
                  <a:pt x="396" y="422"/>
                </a:lnTo>
                <a:lnTo>
                  <a:pt x="380" y="439"/>
                </a:lnTo>
                <a:lnTo>
                  <a:pt x="367" y="459"/>
                </a:lnTo>
                <a:lnTo>
                  <a:pt x="352" y="476"/>
                </a:lnTo>
                <a:lnTo>
                  <a:pt x="336" y="495"/>
                </a:lnTo>
                <a:lnTo>
                  <a:pt x="319" y="514"/>
                </a:lnTo>
                <a:lnTo>
                  <a:pt x="304" y="5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30"/>
          <p:cNvSpPr/>
          <p:nvPr/>
        </p:nvSpPr>
        <p:spPr>
          <a:xfrm>
            <a:off x="6404040" y="3249720"/>
            <a:ext cx="403200" cy="506160"/>
          </a:xfrm>
          <a:custGeom>
            <a:avLst/>
            <a:gdLst/>
            <a:ahLst/>
            <a:rect l="l" t="t" r="r" b="b"/>
            <a:pathLst>
              <a:path w="509" h="638">
                <a:moveTo>
                  <a:pt x="382" y="313"/>
                </a:moveTo>
                <a:lnTo>
                  <a:pt x="350" y="348"/>
                </a:lnTo>
                <a:lnTo>
                  <a:pt x="317" y="382"/>
                </a:lnTo>
                <a:lnTo>
                  <a:pt x="286" y="413"/>
                </a:lnTo>
                <a:lnTo>
                  <a:pt x="258" y="444"/>
                </a:lnTo>
                <a:lnTo>
                  <a:pt x="227" y="475"/>
                </a:lnTo>
                <a:lnTo>
                  <a:pt x="198" y="501"/>
                </a:lnTo>
                <a:lnTo>
                  <a:pt x="169" y="528"/>
                </a:lnTo>
                <a:lnTo>
                  <a:pt x="142" y="555"/>
                </a:lnTo>
                <a:lnTo>
                  <a:pt x="125" y="567"/>
                </a:lnTo>
                <a:lnTo>
                  <a:pt x="112" y="578"/>
                </a:lnTo>
                <a:lnTo>
                  <a:pt x="98" y="588"/>
                </a:lnTo>
                <a:lnTo>
                  <a:pt x="85" y="597"/>
                </a:lnTo>
                <a:lnTo>
                  <a:pt x="73" y="605"/>
                </a:lnTo>
                <a:lnTo>
                  <a:pt x="62" y="613"/>
                </a:lnTo>
                <a:lnTo>
                  <a:pt x="52" y="620"/>
                </a:lnTo>
                <a:lnTo>
                  <a:pt x="45" y="624"/>
                </a:lnTo>
                <a:lnTo>
                  <a:pt x="37" y="630"/>
                </a:lnTo>
                <a:lnTo>
                  <a:pt x="29" y="634"/>
                </a:lnTo>
                <a:lnTo>
                  <a:pt x="23" y="636"/>
                </a:lnTo>
                <a:lnTo>
                  <a:pt x="18" y="638"/>
                </a:lnTo>
                <a:lnTo>
                  <a:pt x="12" y="638"/>
                </a:lnTo>
                <a:lnTo>
                  <a:pt x="8" y="638"/>
                </a:lnTo>
                <a:lnTo>
                  <a:pt x="6" y="638"/>
                </a:lnTo>
                <a:lnTo>
                  <a:pt x="2" y="636"/>
                </a:lnTo>
                <a:lnTo>
                  <a:pt x="0" y="632"/>
                </a:lnTo>
                <a:lnTo>
                  <a:pt x="0" y="628"/>
                </a:lnTo>
                <a:lnTo>
                  <a:pt x="2" y="622"/>
                </a:lnTo>
                <a:lnTo>
                  <a:pt x="4" y="615"/>
                </a:lnTo>
                <a:lnTo>
                  <a:pt x="10" y="607"/>
                </a:lnTo>
                <a:lnTo>
                  <a:pt x="14" y="597"/>
                </a:lnTo>
                <a:lnTo>
                  <a:pt x="22" y="588"/>
                </a:lnTo>
                <a:lnTo>
                  <a:pt x="29" y="574"/>
                </a:lnTo>
                <a:lnTo>
                  <a:pt x="37" y="563"/>
                </a:lnTo>
                <a:lnTo>
                  <a:pt x="48" y="548"/>
                </a:lnTo>
                <a:lnTo>
                  <a:pt x="58" y="532"/>
                </a:lnTo>
                <a:lnTo>
                  <a:pt x="71" y="515"/>
                </a:lnTo>
                <a:lnTo>
                  <a:pt x="85" y="498"/>
                </a:lnTo>
                <a:lnTo>
                  <a:pt x="98" y="476"/>
                </a:lnTo>
                <a:lnTo>
                  <a:pt x="114" y="457"/>
                </a:lnTo>
                <a:lnTo>
                  <a:pt x="129" y="434"/>
                </a:lnTo>
                <a:lnTo>
                  <a:pt x="144" y="415"/>
                </a:lnTo>
                <a:lnTo>
                  <a:pt x="160" y="396"/>
                </a:lnTo>
                <a:lnTo>
                  <a:pt x="175" y="377"/>
                </a:lnTo>
                <a:lnTo>
                  <a:pt x="189" y="359"/>
                </a:lnTo>
                <a:lnTo>
                  <a:pt x="200" y="340"/>
                </a:lnTo>
                <a:lnTo>
                  <a:pt x="214" y="325"/>
                </a:lnTo>
                <a:lnTo>
                  <a:pt x="223" y="308"/>
                </a:lnTo>
                <a:lnTo>
                  <a:pt x="235" y="292"/>
                </a:lnTo>
                <a:lnTo>
                  <a:pt x="244" y="277"/>
                </a:lnTo>
                <a:lnTo>
                  <a:pt x="254" y="262"/>
                </a:lnTo>
                <a:lnTo>
                  <a:pt x="262" y="248"/>
                </a:lnTo>
                <a:lnTo>
                  <a:pt x="269" y="233"/>
                </a:lnTo>
                <a:lnTo>
                  <a:pt x="277" y="219"/>
                </a:lnTo>
                <a:lnTo>
                  <a:pt x="283" y="206"/>
                </a:lnTo>
                <a:lnTo>
                  <a:pt x="288" y="192"/>
                </a:lnTo>
                <a:lnTo>
                  <a:pt x="294" y="181"/>
                </a:lnTo>
                <a:lnTo>
                  <a:pt x="298" y="162"/>
                </a:lnTo>
                <a:lnTo>
                  <a:pt x="300" y="143"/>
                </a:lnTo>
                <a:lnTo>
                  <a:pt x="302" y="125"/>
                </a:lnTo>
                <a:lnTo>
                  <a:pt x="302" y="110"/>
                </a:lnTo>
                <a:lnTo>
                  <a:pt x="302" y="96"/>
                </a:lnTo>
                <a:lnTo>
                  <a:pt x="300" y="83"/>
                </a:lnTo>
                <a:lnTo>
                  <a:pt x="298" y="71"/>
                </a:lnTo>
                <a:lnTo>
                  <a:pt x="294" y="60"/>
                </a:lnTo>
                <a:lnTo>
                  <a:pt x="288" y="54"/>
                </a:lnTo>
                <a:lnTo>
                  <a:pt x="286" y="48"/>
                </a:lnTo>
                <a:lnTo>
                  <a:pt x="285" y="41"/>
                </a:lnTo>
                <a:lnTo>
                  <a:pt x="285" y="33"/>
                </a:lnTo>
                <a:lnTo>
                  <a:pt x="285" y="25"/>
                </a:lnTo>
                <a:lnTo>
                  <a:pt x="286" y="18"/>
                </a:lnTo>
                <a:lnTo>
                  <a:pt x="288" y="12"/>
                </a:lnTo>
                <a:lnTo>
                  <a:pt x="294" y="6"/>
                </a:lnTo>
                <a:lnTo>
                  <a:pt x="296" y="4"/>
                </a:lnTo>
                <a:lnTo>
                  <a:pt x="300" y="2"/>
                </a:lnTo>
                <a:lnTo>
                  <a:pt x="304" y="0"/>
                </a:lnTo>
                <a:lnTo>
                  <a:pt x="308" y="0"/>
                </a:lnTo>
                <a:lnTo>
                  <a:pt x="313" y="0"/>
                </a:lnTo>
                <a:lnTo>
                  <a:pt x="317" y="2"/>
                </a:lnTo>
                <a:lnTo>
                  <a:pt x="325" y="2"/>
                </a:lnTo>
                <a:lnTo>
                  <a:pt x="331" y="4"/>
                </a:lnTo>
                <a:lnTo>
                  <a:pt x="338" y="6"/>
                </a:lnTo>
                <a:lnTo>
                  <a:pt x="346" y="8"/>
                </a:lnTo>
                <a:lnTo>
                  <a:pt x="356" y="12"/>
                </a:lnTo>
                <a:lnTo>
                  <a:pt x="365" y="16"/>
                </a:lnTo>
                <a:lnTo>
                  <a:pt x="375" y="20"/>
                </a:lnTo>
                <a:lnTo>
                  <a:pt x="384" y="23"/>
                </a:lnTo>
                <a:lnTo>
                  <a:pt x="396" y="27"/>
                </a:lnTo>
                <a:lnTo>
                  <a:pt x="407" y="33"/>
                </a:lnTo>
                <a:lnTo>
                  <a:pt x="419" y="39"/>
                </a:lnTo>
                <a:lnTo>
                  <a:pt x="428" y="43"/>
                </a:lnTo>
                <a:lnTo>
                  <a:pt x="438" y="48"/>
                </a:lnTo>
                <a:lnTo>
                  <a:pt x="448" y="54"/>
                </a:lnTo>
                <a:lnTo>
                  <a:pt x="455" y="58"/>
                </a:lnTo>
                <a:lnTo>
                  <a:pt x="463" y="64"/>
                </a:lnTo>
                <a:lnTo>
                  <a:pt x="471" y="68"/>
                </a:lnTo>
                <a:lnTo>
                  <a:pt x="476" y="73"/>
                </a:lnTo>
                <a:lnTo>
                  <a:pt x="482" y="79"/>
                </a:lnTo>
                <a:lnTo>
                  <a:pt x="486" y="83"/>
                </a:lnTo>
                <a:lnTo>
                  <a:pt x="492" y="89"/>
                </a:lnTo>
                <a:lnTo>
                  <a:pt x="496" y="93"/>
                </a:lnTo>
                <a:lnTo>
                  <a:pt x="501" y="104"/>
                </a:lnTo>
                <a:lnTo>
                  <a:pt x="507" y="114"/>
                </a:lnTo>
                <a:lnTo>
                  <a:pt x="509" y="121"/>
                </a:lnTo>
                <a:lnTo>
                  <a:pt x="509" y="129"/>
                </a:lnTo>
                <a:lnTo>
                  <a:pt x="509" y="139"/>
                </a:lnTo>
                <a:lnTo>
                  <a:pt x="505" y="148"/>
                </a:lnTo>
                <a:lnTo>
                  <a:pt x="501" y="158"/>
                </a:lnTo>
                <a:lnTo>
                  <a:pt x="496" y="169"/>
                </a:lnTo>
                <a:lnTo>
                  <a:pt x="490" y="181"/>
                </a:lnTo>
                <a:lnTo>
                  <a:pt x="482" y="192"/>
                </a:lnTo>
                <a:lnTo>
                  <a:pt x="473" y="206"/>
                </a:lnTo>
                <a:lnTo>
                  <a:pt x="463" y="219"/>
                </a:lnTo>
                <a:lnTo>
                  <a:pt x="452" y="233"/>
                </a:lnTo>
                <a:lnTo>
                  <a:pt x="440" y="248"/>
                </a:lnTo>
                <a:lnTo>
                  <a:pt x="427" y="263"/>
                </a:lnTo>
                <a:lnTo>
                  <a:pt x="413" y="281"/>
                </a:lnTo>
                <a:lnTo>
                  <a:pt x="398" y="296"/>
                </a:lnTo>
                <a:lnTo>
                  <a:pt x="382" y="3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31"/>
          <p:cNvSpPr/>
          <p:nvPr/>
        </p:nvSpPr>
        <p:spPr>
          <a:xfrm>
            <a:off x="5421240" y="3944880"/>
            <a:ext cx="684360" cy="468360"/>
          </a:xfrm>
          <a:custGeom>
            <a:avLst/>
            <a:gdLst/>
            <a:ahLst/>
            <a:rect l="l" t="t" r="r" b="b"/>
            <a:pathLst>
              <a:path w="862" h="589">
                <a:moveTo>
                  <a:pt x="181" y="361"/>
                </a:moveTo>
                <a:lnTo>
                  <a:pt x="185" y="359"/>
                </a:lnTo>
                <a:lnTo>
                  <a:pt x="189" y="357"/>
                </a:lnTo>
                <a:lnTo>
                  <a:pt x="194" y="355"/>
                </a:lnTo>
                <a:lnTo>
                  <a:pt x="200" y="351"/>
                </a:lnTo>
                <a:lnTo>
                  <a:pt x="208" y="347"/>
                </a:lnTo>
                <a:lnTo>
                  <a:pt x="217" y="343"/>
                </a:lnTo>
                <a:lnTo>
                  <a:pt x="227" y="338"/>
                </a:lnTo>
                <a:lnTo>
                  <a:pt x="238" y="332"/>
                </a:lnTo>
                <a:lnTo>
                  <a:pt x="250" y="324"/>
                </a:lnTo>
                <a:lnTo>
                  <a:pt x="265" y="318"/>
                </a:lnTo>
                <a:lnTo>
                  <a:pt x="279" y="311"/>
                </a:lnTo>
                <a:lnTo>
                  <a:pt x="296" y="301"/>
                </a:lnTo>
                <a:lnTo>
                  <a:pt x="313" y="293"/>
                </a:lnTo>
                <a:lnTo>
                  <a:pt x="331" y="284"/>
                </a:lnTo>
                <a:lnTo>
                  <a:pt x="350" y="272"/>
                </a:lnTo>
                <a:lnTo>
                  <a:pt x="371" y="263"/>
                </a:lnTo>
                <a:lnTo>
                  <a:pt x="394" y="251"/>
                </a:lnTo>
                <a:lnTo>
                  <a:pt x="417" y="238"/>
                </a:lnTo>
                <a:lnTo>
                  <a:pt x="440" y="226"/>
                </a:lnTo>
                <a:lnTo>
                  <a:pt x="467" y="213"/>
                </a:lnTo>
                <a:lnTo>
                  <a:pt x="492" y="197"/>
                </a:lnTo>
                <a:lnTo>
                  <a:pt x="521" y="184"/>
                </a:lnTo>
                <a:lnTo>
                  <a:pt x="549" y="167"/>
                </a:lnTo>
                <a:lnTo>
                  <a:pt x="580" y="151"/>
                </a:lnTo>
                <a:lnTo>
                  <a:pt x="611" y="134"/>
                </a:lnTo>
                <a:lnTo>
                  <a:pt x="643" y="117"/>
                </a:lnTo>
                <a:lnTo>
                  <a:pt x="678" y="100"/>
                </a:lnTo>
                <a:lnTo>
                  <a:pt x="713" y="80"/>
                </a:lnTo>
                <a:lnTo>
                  <a:pt x="747" y="61"/>
                </a:lnTo>
                <a:lnTo>
                  <a:pt x="785" y="42"/>
                </a:lnTo>
                <a:lnTo>
                  <a:pt x="824" y="21"/>
                </a:lnTo>
                <a:lnTo>
                  <a:pt x="862" y="0"/>
                </a:lnTo>
                <a:lnTo>
                  <a:pt x="856" y="40"/>
                </a:lnTo>
                <a:lnTo>
                  <a:pt x="851" y="80"/>
                </a:lnTo>
                <a:lnTo>
                  <a:pt x="807" y="121"/>
                </a:lnTo>
                <a:lnTo>
                  <a:pt x="762" y="161"/>
                </a:lnTo>
                <a:lnTo>
                  <a:pt x="716" y="201"/>
                </a:lnTo>
                <a:lnTo>
                  <a:pt x="668" y="242"/>
                </a:lnTo>
                <a:lnTo>
                  <a:pt x="618" y="284"/>
                </a:lnTo>
                <a:lnTo>
                  <a:pt x="567" y="326"/>
                </a:lnTo>
                <a:lnTo>
                  <a:pt x="542" y="347"/>
                </a:lnTo>
                <a:lnTo>
                  <a:pt x="515" y="370"/>
                </a:lnTo>
                <a:lnTo>
                  <a:pt x="486" y="391"/>
                </a:lnTo>
                <a:lnTo>
                  <a:pt x="459" y="414"/>
                </a:lnTo>
                <a:lnTo>
                  <a:pt x="430" y="437"/>
                </a:lnTo>
                <a:lnTo>
                  <a:pt x="405" y="457"/>
                </a:lnTo>
                <a:lnTo>
                  <a:pt x="380" y="476"/>
                </a:lnTo>
                <a:lnTo>
                  <a:pt x="357" y="493"/>
                </a:lnTo>
                <a:lnTo>
                  <a:pt x="336" y="508"/>
                </a:lnTo>
                <a:lnTo>
                  <a:pt x="315" y="524"/>
                </a:lnTo>
                <a:lnTo>
                  <a:pt x="296" y="535"/>
                </a:lnTo>
                <a:lnTo>
                  <a:pt x="279" y="547"/>
                </a:lnTo>
                <a:lnTo>
                  <a:pt x="261" y="556"/>
                </a:lnTo>
                <a:lnTo>
                  <a:pt x="246" y="566"/>
                </a:lnTo>
                <a:lnTo>
                  <a:pt x="233" y="574"/>
                </a:lnTo>
                <a:lnTo>
                  <a:pt x="219" y="579"/>
                </a:lnTo>
                <a:lnTo>
                  <a:pt x="208" y="583"/>
                </a:lnTo>
                <a:lnTo>
                  <a:pt x="198" y="585"/>
                </a:lnTo>
                <a:lnTo>
                  <a:pt x="189" y="587"/>
                </a:lnTo>
                <a:lnTo>
                  <a:pt x="181" y="589"/>
                </a:lnTo>
                <a:lnTo>
                  <a:pt x="173" y="589"/>
                </a:lnTo>
                <a:lnTo>
                  <a:pt x="167" y="587"/>
                </a:lnTo>
                <a:lnTo>
                  <a:pt x="160" y="585"/>
                </a:lnTo>
                <a:lnTo>
                  <a:pt x="150" y="583"/>
                </a:lnTo>
                <a:lnTo>
                  <a:pt x="142" y="581"/>
                </a:lnTo>
                <a:lnTo>
                  <a:pt x="135" y="577"/>
                </a:lnTo>
                <a:lnTo>
                  <a:pt x="127" y="574"/>
                </a:lnTo>
                <a:lnTo>
                  <a:pt x="118" y="568"/>
                </a:lnTo>
                <a:lnTo>
                  <a:pt x="110" y="564"/>
                </a:lnTo>
                <a:lnTo>
                  <a:pt x="102" y="556"/>
                </a:lnTo>
                <a:lnTo>
                  <a:pt x="93" y="551"/>
                </a:lnTo>
                <a:lnTo>
                  <a:pt x="85" y="543"/>
                </a:lnTo>
                <a:lnTo>
                  <a:pt x="77" y="535"/>
                </a:lnTo>
                <a:lnTo>
                  <a:pt x="70" y="528"/>
                </a:lnTo>
                <a:lnTo>
                  <a:pt x="62" y="518"/>
                </a:lnTo>
                <a:lnTo>
                  <a:pt x="56" y="508"/>
                </a:lnTo>
                <a:lnTo>
                  <a:pt x="47" y="501"/>
                </a:lnTo>
                <a:lnTo>
                  <a:pt x="39" y="493"/>
                </a:lnTo>
                <a:lnTo>
                  <a:pt x="31" y="485"/>
                </a:lnTo>
                <a:lnTo>
                  <a:pt x="25" y="478"/>
                </a:lnTo>
                <a:lnTo>
                  <a:pt x="20" y="470"/>
                </a:lnTo>
                <a:lnTo>
                  <a:pt x="14" y="462"/>
                </a:lnTo>
                <a:lnTo>
                  <a:pt x="10" y="455"/>
                </a:lnTo>
                <a:lnTo>
                  <a:pt x="6" y="447"/>
                </a:lnTo>
                <a:lnTo>
                  <a:pt x="4" y="439"/>
                </a:lnTo>
                <a:lnTo>
                  <a:pt x="2" y="434"/>
                </a:lnTo>
                <a:lnTo>
                  <a:pt x="0" y="426"/>
                </a:lnTo>
                <a:lnTo>
                  <a:pt x="0" y="418"/>
                </a:lnTo>
                <a:lnTo>
                  <a:pt x="0" y="411"/>
                </a:lnTo>
                <a:lnTo>
                  <a:pt x="0" y="403"/>
                </a:lnTo>
                <a:lnTo>
                  <a:pt x="2" y="395"/>
                </a:lnTo>
                <a:lnTo>
                  <a:pt x="4" y="387"/>
                </a:lnTo>
                <a:lnTo>
                  <a:pt x="10" y="378"/>
                </a:lnTo>
                <a:lnTo>
                  <a:pt x="16" y="370"/>
                </a:lnTo>
                <a:lnTo>
                  <a:pt x="23" y="364"/>
                </a:lnTo>
                <a:lnTo>
                  <a:pt x="33" y="359"/>
                </a:lnTo>
                <a:lnTo>
                  <a:pt x="39" y="357"/>
                </a:lnTo>
                <a:lnTo>
                  <a:pt x="43" y="357"/>
                </a:lnTo>
                <a:lnTo>
                  <a:pt x="48" y="355"/>
                </a:lnTo>
                <a:lnTo>
                  <a:pt x="54" y="355"/>
                </a:lnTo>
                <a:lnTo>
                  <a:pt x="60" y="357"/>
                </a:lnTo>
                <a:lnTo>
                  <a:pt x="68" y="357"/>
                </a:lnTo>
                <a:lnTo>
                  <a:pt x="73" y="359"/>
                </a:lnTo>
                <a:lnTo>
                  <a:pt x="81" y="361"/>
                </a:lnTo>
                <a:lnTo>
                  <a:pt x="94" y="366"/>
                </a:lnTo>
                <a:lnTo>
                  <a:pt x="108" y="368"/>
                </a:lnTo>
                <a:lnTo>
                  <a:pt x="121" y="370"/>
                </a:lnTo>
                <a:lnTo>
                  <a:pt x="135" y="372"/>
                </a:lnTo>
                <a:lnTo>
                  <a:pt x="148" y="370"/>
                </a:lnTo>
                <a:lnTo>
                  <a:pt x="160" y="368"/>
                </a:lnTo>
                <a:lnTo>
                  <a:pt x="171" y="366"/>
                </a:lnTo>
                <a:lnTo>
                  <a:pt x="181" y="3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32"/>
          <p:cNvSpPr/>
          <p:nvPr/>
        </p:nvSpPr>
        <p:spPr>
          <a:xfrm>
            <a:off x="5614920" y="3425760"/>
            <a:ext cx="239760" cy="349200"/>
          </a:xfrm>
          <a:custGeom>
            <a:avLst/>
            <a:gdLst/>
            <a:ahLst/>
            <a:rect l="l" t="t" r="r" b="b"/>
            <a:pathLst>
              <a:path w="303" h="442">
                <a:moveTo>
                  <a:pt x="102" y="27"/>
                </a:moveTo>
                <a:lnTo>
                  <a:pt x="110" y="29"/>
                </a:lnTo>
                <a:lnTo>
                  <a:pt x="115" y="33"/>
                </a:lnTo>
                <a:lnTo>
                  <a:pt x="123" y="37"/>
                </a:lnTo>
                <a:lnTo>
                  <a:pt x="133" y="41"/>
                </a:lnTo>
                <a:lnTo>
                  <a:pt x="148" y="50"/>
                </a:lnTo>
                <a:lnTo>
                  <a:pt x="165" y="64"/>
                </a:lnTo>
                <a:lnTo>
                  <a:pt x="184" y="75"/>
                </a:lnTo>
                <a:lnTo>
                  <a:pt x="202" y="90"/>
                </a:lnTo>
                <a:lnTo>
                  <a:pt x="221" y="104"/>
                </a:lnTo>
                <a:lnTo>
                  <a:pt x="240" y="119"/>
                </a:lnTo>
                <a:lnTo>
                  <a:pt x="254" y="135"/>
                </a:lnTo>
                <a:lnTo>
                  <a:pt x="265" y="152"/>
                </a:lnTo>
                <a:lnTo>
                  <a:pt x="277" y="169"/>
                </a:lnTo>
                <a:lnTo>
                  <a:pt x="286" y="186"/>
                </a:lnTo>
                <a:lnTo>
                  <a:pt x="294" y="204"/>
                </a:lnTo>
                <a:lnTo>
                  <a:pt x="296" y="213"/>
                </a:lnTo>
                <a:lnTo>
                  <a:pt x="298" y="221"/>
                </a:lnTo>
                <a:lnTo>
                  <a:pt x="300" y="231"/>
                </a:lnTo>
                <a:lnTo>
                  <a:pt x="302" y="238"/>
                </a:lnTo>
                <a:lnTo>
                  <a:pt x="303" y="246"/>
                </a:lnTo>
                <a:lnTo>
                  <a:pt x="303" y="254"/>
                </a:lnTo>
                <a:lnTo>
                  <a:pt x="303" y="273"/>
                </a:lnTo>
                <a:lnTo>
                  <a:pt x="303" y="292"/>
                </a:lnTo>
                <a:lnTo>
                  <a:pt x="302" y="309"/>
                </a:lnTo>
                <a:lnTo>
                  <a:pt x="302" y="325"/>
                </a:lnTo>
                <a:lnTo>
                  <a:pt x="300" y="342"/>
                </a:lnTo>
                <a:lnTo>
                  <a:pt x="298" y="357"/>
                </a:lnTo>
                <a:lnTo>
                  <a:pt x="294" y="373"/>
                </a:lnTo>
                <a:lnTo>
                  <a:pt x="290" y="388"/>
                </a:lnTo>
                <a:lnTo>
                  <a:pt x="288" y="396"/>
                </a:lnTo>
                <a:lnTo>
                  <a:pt x="286" y="401"/>
                </a:lnTo>
                <a:lnTo>
                  <a:pt x="282" y="407"/>
                </a:lnTo>
                <a:lnTo>
                  <a:pt x="279" y="413"/>
                </a:lnTo>
                <a:lnTo>
                  <a:pt x="275" y="417"/>
                </a:lnTo>
                <a:lnTo>
                  <a:pt x="271" y="422"/>
                </a:lnTo>
                <a:lnTo>
                  <a:pt x="267" y="426"/>
                </a:lnTo>
                <a:lnTo>
                  <a:pt x="261" y="428"/>
                </a:lnTo>
                <a:lnTo>
                  <a:pt x="252" y="434"/>
                </a:lnTo>
                <a:lnTo>
                  <a:pt x="240" y="438"/>
                </a:lnTo>
                <a:lnTo>
                  <a:pt x="229" y="440"/>
                </a:lnTo>
                <a:lnTo>
                  <a:pt x="215" y="442"/>
                </a:lnTo>
                <a:lnTo>
                  <a:pt x="207" y="440"/>
                </a:lnTo>
                <a:lnTo>
                  <a:pt x="200" y="438"/>
                </a:lnTo>
                <a:lnTo>
                  <a:pt x="194" y="436"/>
                </a:lnTo>
                <a:lnTo>
                  <a:pt x="186" y="430"/>
                </a:lnTo>
                <a:lnTo>
                  <a:pt x="179" y="424"/>
                </a:lnTo>
                <a:lnTo>
                  <a:pt x="171" y="419"/>
                </a:lnTo>
                <a:lnTo>
                  <a:pt x="163" y="411"/>
                </a:lnTo>
                <a:lnTo>
                  <a:pt x="156" y="401"/>
                </a:lnTo>
                <a:lnTo>
                  <a:pt x="148" y="390"/>
                </a:lnTo>
                <a:lnTo>
                  <a:pt x="140" y="378"/>
                </a:lnTo>
                <a:lnTo>
                  <a:pt x="133" y="365"/>
                </a:lnTo>
                <a:lnTo>
                  <a:pt x="123" y="351"/>
                </a:lnTo>
                <a:lnTo>
                  <a:pt x="115" y="334"/>
                </a:lnTo>
                <a:lnTo>
                  <a:pt x="108" y="319"/>
                </a:lnTo>
                <a:lnTo>
                  <a:pt x="98" y="300"/>
                </a:lnTo>
                <a:lnTo>
                  <a:pt x="88" y="280"/>
                </a:lnTo>
                <a:lnTo>
                  <a:pt x="77" y="261"/>
                </a:lnTo>
                <a:lnTo>
                  <a:pt x="67" y="242"/>
                </a:lnTo>
                <a:lnTo>
                  <a:pt x="58" y="225"/>
                </a:lnTo>
                <a:lnTo>
                  <a:pt x="48" y="208"/>
                </a:lnTo>
                <a:lnTo>
                  <a:pt x="41" y="190"/>
                </a:lnTo>
                <a:lnTo>
                  <a:pt x="33" y="175"/>
                </a:lnTo>
                <a:lnTo>
                  <a:pt x="27" y="161"/>
                </a:lnTo>
                <a:lnTo>
                  <a:pt x="21" y="148"/>
                </a:lnTo>
                <a:lnTo>
                  <a:pt x="16" y="135"/>
                </a:lnTo>
                <a:lnTo>
                  <a:pt x="12" y="123"/>
                </a:lnTo>
                <a:lnTo>
                  <a:pt x="8" y="112"/>
                </a:lnTo>
                <a:lnTo>
                  <a:pt x="6" y="102"/>
                </a:lnTo>
                <a:lnTo>
                  <a:pt x="4" y="92"/>
                </a:lnTo>
                <a:lnTo>
                  <a:pt x="2" y="83"/>
                </a:lnTo>
                <a:lnTo>
                  <a:pt x="0" y="75"/>
                </a:lnTo>
                <a:lnTo>
                  <a:pt x="0" y="67"/>
                </a:lnTo>
                <a:lnTo>
                  <a:pt x="0" y="60"/>
                </a:lnTo>
                <a:lnTo>
                  <a:pt x="0" y="52"/>
                </a:lnTo>
                <a:lnTo>
                  <a:pt x="2" y="46"/>
                </a:lnTo>
                <a:lnTo>
                  <a:pt x="2" y="41"/>
                </a:lnTo>
                <a:lnTo>
                  <a:pt x="4" y="31"/>
                </a:lnTo>
                <a:lnTo>
                  <a:pt x="8" y="23"/>
                </a:lnTo>
                <a:lnTo>
                  <a:pt x="12" y="16"/>
                </a:lnTo>
                <a:lnTo>
                  <a:pt x="16" y="10"/>
                </a:lnTo>
                <a:lnTo>
                  <a:pt x="21" y="4"/>
                </a:lnTo>
                <a:lnTo>
                  <a:pt x="25" y="0"/>
                </a:lnTo>
                <a:lnTo>
                  <a:pt x="31" y="0"/>
                </a:lnTo>
                <a:lnTo>
                  <a:pt x="37" y="2"/>
                </a:lnTo>
                <a:lnTo>
                  <a:pt x="44" y="4"/>
                </a:lnTo>
                <a:lnTo>
                  <a:pt x="54" y="8"/>
                </a:lnTo>
                <a:lnTo>
                  <a:pt x="64" y="12"/>
                </a:lnTo>
                <a:lnTo>
                  <a:pt x="75" y="16"/>
                </a:lnTo>
                <a:lnTo>
                  <a:pt x="88" y="21"/>
                </a:lnTo>
                <a:lnTo>
                  <a:pt x="102" y="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33"/>
          <p:cNvSpPr/>
          <p:nvPr/>
        </p:nvSpPr>
        <p:spPr>
          <a:xfrm>
            <a:off x="5533920" y="3159000"/>
            <a:ext cx="654120" cy="1849680"/>
          </a:xfrm>
          <a:custGeom>
            <a:avLst/>
            <a:gdLst/>
            <a:ahLst/>
            <a:rect l="l" t="t" r="r" b="b"/>
            <a:pathLst>
              <a:path w="826" h="2331">
                <a:moveTo>
                  <a:pt x="166" y="2062"/>
                </a:moveTo>
                <a:lnTo>
                  <a:pt x="190" y="2027"/>
                </a:lnTo>
                <a:lnTo>
                  <a:pt x="215" y="1995"/>
                </a:lnTo>
                <a:lnTo>
                  <a:pt x="238" y="1962"/>
                </a:lnTo>
                <a:lnTo>
                  <a:pt x="262" y="1929"/>
                </a:lnTo>
                <a:lnTo>
                  <a:pt x="285" y="1897"/>
                </a:lnTo>
                <a:lnTo>
                  <a:pt x="306" y="1864"/>
                </a:lnTo>
                <a:lnTo>
                  <a:pt x="327" y="1831"/>
                </a:lnTo>
                <a:lnTo>
                  <a:pt x="346" y="1799"/>
                </a:lnTo>
                <a:lnTo>
                  <a:pt x="365" y="1764"/>
                </a:lnTo>
                <a:lnTo>
                  <a:pt x="384" y="1732"/>
                </a:lnTo>
                <a:lnTo>
                  <a:pt x="402" y="1697"/>
                </a:lnTo>
                <a:lnTo>
                  <a:pt x="419" y="1664"/>
                </a:lnTo>
                <a:lnTo>
                  <a:pt x="436" y="1630"/>
                </a:lnTo>
                <a:lnTo>
                  <a:pt x="452" y="1595"/>
                </a:lnTo>
                <a:lnTo>
                  <a:pt x="467" y="1561"/>
                </a:lnTo>
                <a:lnTo>
                  <a:pt x="480" y="1526"/>
                </a:lnTo>
                <a:lnTo>
                  <a:pt x="492" y="1494"/>
                </a:lnTo>
                <a:lnTo>
                  <a:pt x="503" y="1461"/>
                </a:lnTo>
                <a:lnTo>
                  <a:pt x="515" y="1430"/>
                </a:lnTo>
                <a:lnTo>
                  <a:pt x="524" y="1400"/>
                </a:lnTo>
                <a:lnTo>
                  <a:pt x="536" y="1371"/>
                </a:lnTo>
                <a:lnTo>
                  <a:pt x="546" y="1342"/>
                </a:lnTo>
                <a:lnTo>
                  <a:pt x="555" y="1313"/>
                </a:lnTo>
                <a:lnTo>
                  <a:pt x="565" y="1284"/>
                </a:lnTo>
                <a:lnTo>
                  <a:pt x="572" y="1258"/>
                </a:lnTo>
                <a:lnTo>
                  <a:pt x="582" y="1231"/>
                </a:lnTo>
                <a:lnTo>
                  <a:pt x="590" y="1206"/>
                </a:lnTo>
                <a:lnTo>
                  <a:pt x="595" y="1179"/>
                </a:lnTo>
                <a:lnTo>
                  <a:pt x="603" y="1156"/>
                </a:lnTo>
                <a:lnTo>
                  <a:pt x="609" y="1131"/>
                </a:lnTo>
                <a:lnTo>
                  <a:pt x="615" y="1108"/>
                </a:lnTo>
                <a:lnTo>
                  <a:pt x="620" y="1085"/>
                </a:lnTo>
                <a:lnTo>
                  <a:pt x="622" y="1064"/>
                </a:lnTo>
                <a:lnTo>
                  <a:pt x="624" y="1043"/>
                </a:lnTo>
                <a:lnTo>
                  <a:pt x="626" y="1018"/>
                </a:lnTo>
                <a:lnTo>
                  <a:pt x="628" y="995"/>
                </a:lnTo>
                <a:lnTo>
                  <a:pt x="632" y="968"/>
                </a:lnTo>
                <a:lnTo>
                  <a:pt x="634" y="941"/>
                </a:lnTo>
                <a:lnTo>
                  <a:pt x="636" y="912"/>
                </a:lnTo>
                <a:lnTo>
                  <a:pt x="638" y="881"/>
                </a:lnTo>
                <a:lnTo>
                  <a:pt x="642" y="851"/>
                </a:lnTo>
                <a:lnTo>
                  <a:pt x="643" y="818"/>
                </a:lnTo>
                <a:lnTo>
                  <a:pt x="645" y="783"/>
                </a:lnTo>
                <a:lnTo>
                  <a:pt x="647" y="747"/>
                </a:lnTo>
                <a:lnTo>
                  <a:pt x="651" y="710"/>
                </a:lnTo>
                <a:lnTo>
                  <a:pt x="653" y="672"/>
                </a:lnTo>
                <a:lnTo>
                  <a:pt x="655" y="632"/>
                </a:lnTo>
                <a:lnTo>
                  <a:pt x="657" y="590"/>
                </a:lnTo>
                <a:lnTo>
                  <a:pt x="659" y="568"/>
                </a:lnTo>
                <a:lnTo>
                  <a:pt x="659" y="547"/>
                </a:lnTo>
                <a:lnTo>
                  <a:pt x="661" y="528"/>
                </a:lnTo>
                <a:lnTo>
                  <a:pt x="661" y="509"/>
                </a:lnTo>
                <a:lnTo>
                  <a:pt x="661" y="490"/>
                </a:lnTo>
                <a:lnTo>
                  <a:pt x="663" y="471"/>
                </a:lnTo>
                <a:lnTo>
                  <a:pt x="663" y="453"/>
                </a:lnTo>
                <a:lnTo>
                  <a:pt x="663" y="436"/>
                </a:lnTo>
                <a:lnTo>
                  <a:pt x="663" y="419"/>
                </a:lnTo>
                <a:lnTo>
                  <a:pt x="663" y="403"/>
                </a:lnTo>
                <a:lnTo>
                  <a:pt x="663" y="388"/>
                </a:lnTo>
                <a:lnTo>
                  <a:pt x="663" y="373"/>
                </a:lnTo>
                <a:lnTo>
                  <a:pt x="663" y="357"/>
                </a:lnTo>
                <a:lnTo>
                  <a:pt x="661" y="344"/>
                </a:lnTo>
                <a:lnTo>
                  <a:pt x="661" y="330"/>
                </a:lnTo>
                <a:lnTo>
                  <a:pt x="661" y="317"/>
                </a:lnTo>
                <a:lnTo>
                  <a:pt x="661" y="304"/>
                </a:lnTo>
                <a:lnTo>
                  <a:pt x="659" y="292"/>
                </a:lnTo>
                <a:lnTo>
                  <a:pt x="659" y="281"/>
                </a:lnTo>
                <a:lnTo>
                  <a:pt x="657" y="269"/>
                </a:lnTo>
                <a:lnTo>
                  <a:pt x="657" y="259"/>
                </a:lnTo>
                <a:lnTo>
                  <a:pt x="655" y="250"/>
                </a:lnTo>
                <a:lnTo>
                  <a:pt x="655" y="240"/>
                </a:lnTo>
                <a:lnTo>
                  <a:pt x="653" y="231"/>
                </a:lnTo>
                <a:lnTo>
                  <a:pt x="653" y="221"/>
                </a:lnTo>
                <a:lnTo>
                  <a:pt x="651" y="213"/>
                </a:lnTo>
                <a:lnTo>
                  <a:pt x="651" y="206"/>
                </a:lnTo>
                <a:lnTo>
                  <a:pt x="649" y="198"/>
                </a:lnTo>
                <a:lnTo>
                  <a:pt x="649" y="192"/>
                </a:lnTo>
                <a:lnTo>
                  <a:pt x="647" y="186"/>
                </a:lnTo>
                <a:lnTo>
                  <a:pt x="645" y="175"/>
                </a:lnTo>
                <a:lnTo>
                  <a:pt x="636" y="156"/>
                </a:lnTo>
                <a:lnTo>
                  <a:pt x="628" y="137"/>
                </a:lnTo>
                <a:lnTo>
                  <a:pt x="622" y="119"/>
                </a:lnTo>
                <a:lnTo>
                  <a:pt x="619" y="104"/>
                </a:lnTo>
                <a:lnTo>
                  <a:pt x="615" y="87"/>
                </a:lnTo>
                <a:lnTo>
                  <a:pt x="615" y="79"/>
                </a:lnTo>
                <a:lnTo>
                  <a:pt x="615" y="71"/>
                </a:lnTo>
                <a:lnTo>
                  <a:pt x="615" y="64"/>
                </a:lnTo>
                <a:lnTo>
                  <a:pt x="617" y="56"/>
                </a:lnTo>
                <a:lnTo>
                  <a:pt x="617" y="48"/>
                </a:lnTo>
                <a:lnTo>
                  <a:pt x="620" y="41"/>
                </a:lnTo>
                <a:lnTo>
                  <a:pt x="620" y="31"/>
                </a:lnTo>
                <a:lnTo>
                  <a:pt x="622" y="23"/>
                </a:lnTo>
                <a:lnTo>
                  <a:pt x="626" y="16"/>
                </a:lnTo>
                <a:lnTo>
                  <a:pt x="630" y="12"/>
                </a:lnTo>
                <a:lnTo>
                  <a:pt x="638" y="6"/>
                </a:lnTo>
                <a:lnTo>
                  <a:pt x="642" y="4"/>
                </a:lnTo>
                <a:lnTo>
                  <a:pt x="645" y="4"/>
                </a:lnTo>
                <a:lnTo>
                  <a:pt x="651" y="2"/>
                </a:lnTo>
                <a:lnTo>
                  <a:pt x="657" y="2"/>
                </a:lnTo>
                <a:lnTo>
                  <a:pt x="663" y="0"/>
                </a:lnTo>
                <a:lnTo>
                  <a:pt x="670" y="0"/>
                </a:lnTo>
                <a:lnTo>
                  <a:pt x="684" y="2"/>
                </a:lnTo>
                <a:lnTo>
                  <a:pt x="701" y="4"/>
                </a:lnTo>
                <a:lnTo>
                  <a:pt x="718" y="6"/>
                </a:lnTo>
                <a:lnTo>
                  <a:pt x="736" y="10"/>
                </a:lnTo>
                <a:lnTo>
                  <a:pt x="757" y="16"/>
                </a:lnTo>
                <a:lnTo>
                  <a:pt x="776" y="23"/>
                </a:lnTo>
                <a:lnTo>
                  <a:pt x="799" y="31"/>
                </a:lnTo>
                <a:lnTo>
                  <a:pt x="822" y="41"/>
                </a:lnTo>
                <a:lnTo>
                  <a:pt x="824" y="94"/>
                </a:lnTo>
                <a:lnTo>
                  <a:pt x="826" y="146"/>
                </a:lnTo>
                <a:lnTo>
                  <a:pt x="826" y="198"/>
                </a:lnTo>
                <a:lnTo>
                  <a:pt x="826" y="252"/>
                </a:lnTo>
                <a:lnTo>
                  <a:pt x="826" y="355"/>
                </a:lnTo>
                <a:lnTo>
                  <a:pt x="824" y="459"/>
                </a:lnTo>
                <a:lnTo>
                  <a:pt x="822" y="561"/>
                </a:lnTo>
                <a:lnTo>
                  <a:pt x="818" y="663"/>
                </a:lnTo>
                <a:lnTo>
                  <a:pt x="816" y="710"/>
                </a:lnTo>
                <a:lnTo>
                  <a:pt x="814" y="760"/>
                </a:lnTo>
                <a:lnTo>
                  <a:pt x="810" y="808"/>
                </a:lnTo>
                <a:lnTo>
                  <a:pt x="809" y="856"/>
                </a:lnTo>
                <a:lnTo>
                  <a:pt x="805" y="906"/>
                </a:lnTo>
                <a:lnTo>
                  <a:pt x="797" y="956"/>
                </a:lnTo>
                <a:lnTo>
                  <a:pt x="791" y="1004"/>
                </a:lnTo>
                <a:lnTo>
                  <a:pt x="784" y="1052"/>
                </a:lnTo>
                <a:lnTo>
                  <a:pt x="774" y="1100"/>
                </a:lnTo>
                <a:lnTo>
                  <a:pt x="764" y="1148"/>
                </a:lnTo>
                <a:lnTo>
                  <a:pt x="753" y="1194"/>
                </a:lnTo>
                <a:lnTo>
                  <a:pt x="741" y="1240"/>
                </a:lnTo>
                <a:lnTo>
                  <a:pt x="730" y="1284"/>
                </a:lnTo>
                <a:lnTo>
                  <a:pt x="716" y="1330"/>
                </a:lnTo>
                <a:lnTo>
                  <a:pt x="703" y="1375"/>
                </a:lnTo>
                <a:lnTo>
                  <a:pt x="688" y="1419"/>
                </a:lnTo>
                <a:lnTo>
                  <a:pt x="672" y="1463"/>
                </a:lnTo>
                <a:lnTo>
                  <a:pt x="655" y="1507"/>
                </a:lnTo>
                <a:lnTo>
                  <a:pt x="638" y="1549"/>
                </a:lnTo>
                <a:lnTo>
                  <a:pt x="620" y="1593"/>
                </a:lnTo>
                <a:lnTo>
                  <a:pt x="597" y="1634"/>
                </a:lnTo>
                <a:lnTo>
                  <a:pt x="576" y="1676"/>
                </a:lnTo>
                <a:lnTo>
                  <a:pt x="555" y="1714"/>
                </a:lnTo>
                <a:lnTo>
                  <a:pt x="532" y="1755"/>
                </a:lnTo>
                <a:lnTo>
                  <a:pt x="509" y="1791"/>
                </a:lnTo>
                <a:lnTo>
                  <a:pt x="486" y="1828"/>
                </a:lnTo>
                <a:lnTo>
                  <a:pt x="463" y="1862"/>
                </a:lnTo>
                <a:lnTo>
                  <a:pt x="440" y="1897"/>
                </a:lnTo>
                <a:lnTo>
                  <a:pt x="415" y="1929"/>
                </a:lnTo>
                <a:lnTo>
                  <a:pt x="392" y="1962"/>
                </a:lnTo>
                <a:lnTo>
                  <a:pt x="367" y="1995"/>
                </a:lnTo>
                <a:lnTo>
                  <a:pt x="342" y="2025"/>
                </a:lnTo>
                <a:lnTo>
                  <a:pt x="317" y="2054"/>
                </a:lnTo>
                <a:lnTo>
                  <a:pt x="292" y="2085"/>
                </a:lnTo>
                <a:lnTo>
                  <a:pt x="267" y="2114"/>
                </a:lnTo>
                <a:lnTo>
                  <a:pt x="240" y="2141"/>
                </a:lnTo>
                <a:lnTo>
                  <a:pt x="229" y="2154"/>
                </a:lnTo>
                <a:lnTo>
                  <a:pt x="215" y="2167"/>
                </a:lnTo>
                <a:lnTo>
                  <a:pt x="204" y="2181"/>
                </a:lnTo>
                <a:lnTo>
                  <a:pt x="192" y="2192"/>
                </a:lnTo>
                <a:lnTo>
                  <a:pt x="181" y="2204"/>
                </a:lnTo>
                <a:lnTo>
                  <a:pt x="169" y="2215"/>
                </a:lnTo>
                <a:lnTo>
                  <a:pt x="158" y="2225"/>
                </a:lnTo>
                <a:lnTo>
                  <a:pt x="148" y="2235"/>
                </a:lnTo>
                <a:lnTo>
                  <a:pt x="137" y="2244"/>
                </a:lnTo>
                <a:lnTo>
                  <a:pt x="127" y="2254"/>
                </a:lnTo>
                <a:lnTo>
                  <a:pt x="118" y="2261"/>
                </a:lnTo>
                <a:lnTo>
                  <a:pt x="108" y="2269"/>
                </a:lnTo>
                <a:lnTo>
                  <a:pt x="98" y="2277"/>
                </a:lnTo>
                <a:lnTo>
                  <a:pt x="91" y="2283"/>
                </a:lnTo>
                <a:lnTo>
                  <a:pt x="83" y="2290"/>
                </a:lnTo>
                <a:lnTo>
                  <a:pt x="75" y="2296"/>
                </a:lnTo>
                <a:lnTo>
                  <a:pt x="60" y="2306"/>
                </a:lnTo>
                <a:lnTo>
                  <a:pt x="47" y="2315"/>
                </a:lnTo>
                <a:lnTo>
                  <a:pt x="35" y="2321"/>
                </a:lnTo>
                <a:lnTo>
                  <a:pt x="25" y="2327"/>
                </a:lnTo>
                <a:lnTo>
                  <a:pt x="16" y="2329"/>
                </a:lnTo>
                <a:lnTo>
                  <a:pt x="10" y="2331"/>
                </a:lnTo>
                <a:lnTo>
                  <a:pt x="4" y="2331"/>
                </a:lnTo>
                <a:lnTo>
                  <a:pt x="2" y="2329"/>
                </a:lnTo>
                <a:lnTo>
                  <a:pt x="0" y="2325"/>
                </a:lnTo>
                <a:lnTo>
                  <a:pt x="0" y="2319"/>
                </a:lnTo>
                <a:lnTo>
                  <a:pt x="0" y="2313"/>
                </a:lnTo>
                <a:lnTo>
                  <a:pt x="4" y="2304"/>
                </a:lnTo>
                <a:lnTo>
                  <a:pt x="8" y="2292"/>
                </a:lnTo>
                <a:lnTo>
                  <a:pt x="16" y="2281"/>
                </a:lnTo>
                <a:lnTo>
                  <a:pt x="24" y="2265"/>
                </a:lnTo>
                <a:lnTo>
                  <a:pt x="31" y="2250"/>
                </a:lnTo>
                <a:lnTo>
                  <a:pt x="43" y="2233"/>
                </a:lnTo>
                <a:lnTo>
                  <a:pt x="56" y="2213"/>
                </a:lnTo>
                <a:lnTo>
                  <a:pt x="70" y="2192"/>
                </a:lnTo>
                <a:lnTo>
                  <a:pt x="85" y="2169"/>
                </a:lnTo>
                <a:lnTo>
                  <a:pt x="102" y="2144"/>
                </a:lnTo>
                <a:lnTo>
                  <a:pt x="121" y="2117"/>
                </a:lnTo>
                <a:lnTo>
                  <a:pt x="143" y="2091"/>
                </a:lnTo>
                <a:lnTo>
                  <a:pt x="166" y="206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34"/>
          <p:cNvSpPr/>
          <p:nvPr/>
        </p:nvSpPr>
        <p:spPr>
          <a:xfrm>
            <a:off x="6124680" y="3011400"/>
            <a:ext cx="1230120" cy="265320"/>
          </a:xfrm>
          <a:custGeom>
            <a:avLst/>
            <a:gdLst/>
            <a:ahLst/>
            <a:rect l="l" t="t" r="r" b="b"/>
            <a:pathLst>
              <a:path w="1549" h="334">
                <a:moveTo>
                  <a:pt x="0" y="334"/>
                </a:moveTo>
                <a:lnTo>
                  <a:pt x="0" y="275"/>
                </a:lnTo>
                <a:lnTo>
                  <a:pt x="0" y="213"/>
                </a:lnTo>
                <a:lnTo>
                  <a:pt x="37" y="211"/>
                </a:lnTo>
                <a:lnTo>
                  <a:pt x="75" y="207"/>
                </a:lnTo>
                <a:lnTo>
                  <a:pt x="113" y="204"/>
                </a:lnTo>
                <a:lnTo>
                  <a:pt x="154" y="200"/>
                </a:lnTo>
                <a:lnTo>
                  <a:pt x="196" y="194"/>
                </a:lnTo>
                <a:lnTo>
                  <a:pt x="240" y="188"/>
                </a:lnTo>
                <a:lnTo>
                  <a:pt x="286" y="181"/>
                </a:lnTo>
                <a:lnTo>
                  <a:pt x="332" y="175"/>
                </a:lnTo>
                <a:lnTo>
                  <a:pt x="380" y="167"/>
                </a:lnTo>
                <a:lnTo>
                  <a:pt x="430" y="157"/>
                </a:lnTo>
                <a:lnTo>
                  <a:pt x="480" y="148"/>
                </a:lnTo>
                <a:lnTo>
                  <a:pt x="534" y="138"/>
                </a:lnTo>
                <a:lnTo>
                  <a:pt x="588" y="129"/>
                </a:lnTo>
                <a:lnTo>
                  <a:pt x="643" y="117"/>
                </a:lnTo>
                <a:lnTo>
                  <a:pt x="699" y="106"/>
                </a:lnTo>
                <a:lnTo>
                  <a:pt x="758" y="94"/>
                </a:lnTo>
                <a:lnTo>
                  <a:pt x="785" y="86"/>
                </a:lnTo>
                <a:lnTo>
                  <a:pt x="814" y="81"/>
                </a:lnTo>
                <a:lnTo>
                  <a:pt x="841" y="75"/>
                </a:lnTo>
                <a:lnTo>
                  <a:pt x="866" y="69"/>
                </a:lnTo>
                <a:lnTo>
                  <a:pt x="891" y="63"/>
                </a:lnTo>
                <a:lnTo>
                  <a:pt x="916" y="60"/>
                </a:lnTo>
                <a:lnTo>
                  <a:pt x="941" y="54"/>
                </a:lnTo>
                <a:lnTo>
                  <a:pt x="964" y="50"/>
                </a:lnTo>
                <a:lnTo>
                  <a:pt x="987" y="46"/>
                </a:lnTo>
                <a:lnTo>
                  <a:pt x="1008" y="40"/>
                </a:lnTo>
                <a:lnTo>
                  <a:pt x="1031" y="37"/>
                </a:lnTo>
                <a:lnTo>
                  <a:pt x="1050" y="33"/>
                </a:lnTo>
                <a:lnTo>
                  <a:pt x="1071" y="31"/>
                </a:lnTo>
                <a:lnTo>
                  <a:pt x="1090" y="27"/>
                </a:lnTo>
                <a:lnTo>
                  <a:pt x="1110" y="23"/>
                </a:lnTo>
                <a:lnTo>
                  <a:pt x="1129" y="21"/>
                </a:lnTo>
                <a:lnTo>
                  <a:pt x="1146" y="17"/>
                </a:lnTo>
                <a:lnTo>
                  <a:pt x="1163" y="15"/>
                </a:lnTo>
                <a:lnTo>
                  <a:pt x="1179" y="14"/>
                </a:lnTo>
                <a:lnTo>
                  <a:pt x="1196" y="12"/>
                </a:lnTo>
                <a:lnTo>
                  <a:pt x="1211" y="10"/>
                </a:lnTo>
                <a:lnTo>
                  <a:pt x="1225" y="8"/>
                </a:lnTo>
                <a:lnTo>
                  <a:pt x="1240" y="6"/>
                </a:lnTo>
                <a:lnTo>
                  <a:pt x="1254" y="4"/>
                </a:lnTo>
                <a:lnTo>
                  <a:pt x="1265" y="4"/>
                </a:lnTo>
                <a:lnTo>
                  <a:pt x="1279" y="2"/>
                </a:lnTo>
                <a:lnTo>
                  <a:pt x="1290" y="2"/>
                </a:lnTo>
                <a:lnTo>
                  <a:pt x="1300" y="0"/>
                </a:lnTo>
                <a:lnTo>
                  <a:pt x="1311" y="0"/>
                </a:lnTo>
                <a:lnTo>
                  <a:pt x="1321" y="0"/>
                </a:lnTo>
                <a:lnTo>
                  <a:pt x="1330" y="0"/>
                </a:lnTo>
                <a:lnTo>
                  <a:pt x="1338" y="0"/>
                </a:lnTo>
                <a:lnTo>
                  <a:pt x="1367" y="0"/>
                </a:lnTo>
                <a:lnTo>
                  <a:pt x="1392" y="2"/>
                </a:lnTo>
                <a:lnTo>
                  <a:pt x="1417" y="4"/>
                </a:lnTo>
                <a:lnTo>
                  <a:pt x="1440" y="8"/>
                </a:lnTo>
                <a:lnTo>
                  <a:pt x="1463" y="12"/>
                </a:lnTo>
                <a:lnTo>
                  <a:pt x="1472" y="14"/>
                </a:lnTo>
                <a:lnTo>
                  <a:pt x="1482" y="17"/>
                </a:lnTo>
                <a:lnTo>
                  <a:pt x="1492" y="19"/>
                </a:lnTo>
                <a:lnTo>
                  <a:pt x="1499" y="21"/>
                </a:lnTo>
                <a:lnTo>
                  <a:pt x="1507" y="23"/>
                </a:lnTo>
                <a:lnTo>
                  <a:pt x="1515" y="27"/>
                </a:lnTo>
                <a:lnTo>
                  <a:pt x="1522" y="31"/>
                </a:lnTo>
                <a:lnTo>
                  <a:pt x="1528" y="37"/>
                </a:lnTo>
                <a:lnTo>
                  <a:pt x="1534" y="42"/>
                </a:lnTo>
                <a:lnTo>
                  <a:pt x="1538" y="46"/>
                </a:lnTo>
                <a:lnTo>
                  <a:pt x="1542" y="52"/>
                </a:lnTo>
                <a:lnTo>
                  <a:pt x="1545" y="56"/>
                </a:lnTo>
                <a:lnTo>
                  <a:pt x="1547" y="62"/>
                </a:lnTo>
                <a:lnTo>
                  <a:pt x="1549" y="67"/>
                </a:lnTo>
                <a:lnTo>
                  <a:pt x="1549" y="71"/>
                </a:lnTo>
                <a:lnTo>
                  <a:pt x="1549" y="77"/>
                </a:lnTo>
                <a:lnTo>
                  <a:pt x="1549" y="81"/>
                </a:lnTo>
                <a:lnTo>
                  <a:pt x="1547" y="86"/>
                </a:lnTo>
                <a:lnTo>
                  <a:pt x="1543" y="92"/>
                </a:lnTo>
                <a:lnTo>
                  <a:pt x="1540" y="96"/>
                </a:lnTo>
                <a:lnTo>
                  <a:pt x="1534" y="102"/>
                </a:lnTo>
                <a:lnTo>
                  <a:pt x="1528" y="108"/>
                </a:lnTo>
                <a:lnTo>
                  <a:pt x="1520" y="111"/>
                </a:lnTo>
                <a:lnTo>
                  <a:pt x="1511" y="117"/>
                </a:lnTo>
                <a:lnTo>
                  <a:pt x="1501" y="121"/>
                </a:lnTo>
                <a:lnTo>
                  <a:pt x="1492" y="127"/>
                </a:lnTo>
                <a:lnTo>
                  <a:pt x="1480" y="131"/>
                </a:lnTo>
                <a:lnTo>
                  <a:pt x="1467" y="136"/>
                </a:lnTo>
                <a:lnTo>
                  <a:pt x="1453" y="140"/>
                </a:lnTo>
                <a:lnTo>
                  <a:pt x="1440" y="146"/>
                </a:lnTo>
                <a:lnTo>
                  <a:pt x="1422" y="150"/>
                </a:lnTo>
                <a:lnTo>
                  <a:pt x="1405" y="154"/>
                </a:lnTo>
                <a:lnTo>
                  <a:pt x="1388" y="157"/>
                </a:lnTo>
                <a:lnTo>
                  <a:pt x="1369" y="161"/>
                </a:lnTo>
                <a:lnTo>
                  <a:pt x="1348" y="165"/>
                </a:lnTo>
                <a:lnTo>
                  <a:pt x="1325" y="167"/>
                </a:lnTo>
                <a:lnTo>
                  <a:pt x="1300" y="171"/>
                </a:lnTo>
                <a:lnTo>
                  <a:pt x="1275" y="173"/>
                </a:lnTo>
                <a:lnTo>
                  <a:pt x="1261" y="177"/>
                </a:lnTo>
                <a:lnTo>
                  <a:pt x="1246" y="179"/>
                </a:lnTo>
                <a:lnTo>
                  <a:pt x="1229" y="182"/>
                </a:lnTo>
                <a:lnTo>
                  <a:pt x="1209" y="184"/>
                </a:lnTo>
                <a:lnTo>
                  <a:pt x="1188" y="188"/>
                </a:lnTo>
                <a:lnTo>
                  <a:pt x="1167" y="192"/>
                </a:lnTo>
                <a:lnTo>
                  <a:pt x="1142" y="194"/>
                </a:lnTo>
                <a:lnTo>
                  <a:pt x="1117" y="198"/>
                </a:lnTo>
                <a:lnTo>
                  <a:pt x="1090" y="202"/>
                </a:lnTo>
                <a:lnTo>
                  <a:pt x="1060" y="205"/>
                </a:lnTo>
                <a:lnTo>
                  <a:pt x="1029" y="211"/>
                </a:lnTo>
                <a:lnTo>
                  <a:pt x="996" y="215"/>
                </a:lnTo>
                <a:lnTo>
                  <a:pt x="964" y="219"/>
                </a:lnTo>
                <a:lnTo>
                  <a:pt x="927" y="223"/>
                </a:lnTo>
                <a:lnTo>
                  <a:pt x="891" y="229"/>
                </a:lnTo>
                <a:lnTo>
                  <a:pt x="851" y="232"/>
                </a:lnTo>
                <a:lnTo>
                  <a:pt x="810" y="238"/>
                </a:lnTo>
                <a:lnTo>
                  <a:pt x="768" y="244"/>
                </a:lnTo>
                <a:lnTo>
                  <a:pt x="724" y="250"/>
                </a:lnTo>
                <a:lnTo>
                  <a:pt x="678" y="253"/>
                </a:lnTo>
                <a:lnTo>
                  <a:pt x="630" y="259"/>
                </a:lnTo>
                <a:lnTo>
                  <a:pt x="582" y="267"/>
                </a:lnTo>
                <a:lnTo>
                  <a:pt x="530" y="273"/>
                </a:lnTo>
                <a:lnTo>
                  <a:pt x="478" y="278"/>
                </a:lnTo>
                <a:lnTo>
                  <a:pt x="424" y="284"/>
                </a:lnTo>
                <a:lnTo>
                  <a:pt x="369" y="292"/>
                </a:lnTo>
                <a:lnTo>
                  <a:pt x="311" y="298"/>
                </a:lnTo>
                <a:lnTo>
                  <a:pt x="252" y="305"/>
                </a:lnTo>
                <a:lnTo>
                  <a:pt x="192" y="311"/>
                </a:lnTo>
                <a:lnTo>
                  <a:pt x="131" y="319"/>
                </a:lnTo>
                <a:lnTo>
                  <a:pt x="65" y="326"/>
                </a:lnTo>
                <a:lnTo>
                  <a:pt x="0" y="3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35"/>
          <p:cNvSpPr/>
          <p:nvPr/>
        </p:nvSpPr>
        <p:spPr>
          <a:xfrm>
            <a:off x="6526080" y="2735280"/>
            <a:ext cx="320760" cy="254160"/>
          </a:xfrm>
          <a:custGeom>
            <a:avLst/>
            <a:gdLst/>
            <a:ahLst/>
            <a:rect l="l" t="t" r="r" b="b"/>
            <a:pathLst>
              <a:path w="405" h="320">
                <a:moveTo>
                  <a:pt x="0" y="27"/>
                </a:moveTo>
                <a:lnTo>
                  <a:pt x="0" y="23"/>
                </a:lnTo>
                <a:lnTo>
                  <a:pt x="2" y="21"/>
                </a:lnTo>
                <a:lnTo>
                  <a:pt x="4" y="19"/>
                </a:lnTo>
                <a:lnTo>
                  <a:pt x="6" y="15"/>
                </a:lnTo>
                <a:lnTo>
                  <a:pt x="8" y="13"/>
                </a:lnTo>
                <a:lnTo>
                  <a:pt x="12" y="11"/>
                </a:lnTo>
                <a:lnTo>
                  <a:pt x="15" y="9"/>
                </a:lnTo>
                <a:lnTo>
                  <a:pt x="21" y="7"/>
                </a:lnTo>
                <a:lnTo>
                  <a:pt x="27" y="5"/>
                </a:lnTo>
                <a:lnTo>
                  <a:pt x="33" y="4"/>
                </a:lnTo>
                <a:lnTo>
                  <a:pt x="40" y="2"/>
                </a:lnTo>
                <a:lnTo>
                  <a:pt x="48" y="2"/>
                </a:lnTo>
                <a:lnTo>
                  <a:pt x="58" y="0"/>
                </a:lnTo>
                <a:lnTo>
                  <a:pt x="67" y="0"/>
                </a:lnTo>
                <a:lnTo>
                  <a:pt x="77" y="0"/>
                </a:lnTo>
                <a:lnTo>
                  <a:pt x="88" y="0"/>
                </a:lnTo>
                <a:lnTo>
                  <a:pt x="127" y="0"/>
                </a:lnTo>
                <a:lnTo>
                  <a:pt x="146" y="0"/>
                </a:lnTo>
                <a:lnTo>
                  <a:pt x="165" y="0"/>
                </a:lnTo>
                <a:lnTo>
                  <a:pt x="186" y="2"/>
                </a:lnTo>
                <a:lnTo>
                  <a:pt x="207" y="4"/>
                </a:lnTo>
                <a:lnTo>
                  <a:pt x="230" y="7"/>
                </a:lnTo>
                <a:lnTo>
                  <a:pt x="253" y="13"/>
                </a:lnTo>
                <a:lnTo>
                  <a:pt x="265" y="15"/>
                </a:lnTo>
                <a:lnTo>
                  <a:pt x="274" y="19"/>
                </a:lnTo>
                <a:lnTo>
                  <a:pt x="286" y="21"/>
                </a:lnTo>
                <a:lnTo>
                  <a:pt x="296" y="25"/>
                </a:lnTo>
                <a:lnTo>
                  <a:pt x="305" y="28"/>
                </a:lnTo>
                <a:lnTo>
                  <a:pt x="313" y="32"/>
                </a:lnTo>
                <a:lnTo>
                  <a:pt x="330" y="40"/>
                </a:lnTo>
                <a:lnTo>
                  <a:pt x="346" y="46"/>
                </a:lnTo>
                <a:lnTo>
                  <a:pt x="357" y="53"/>
                </a:lnTo>
                <a:lnTo>
                  <a:pt x="369" y="61"/>
                </a:lnTo>
                <a:lnTo>
                  <a:pt x="380" y="67"/>
                </a:lnTo>
                <a:lnTo>
                  <a:pt x="382" y="71"/>
                </a:lnTo>
                <a:lnTo>
                  <a:pt x="384" y="76"/>
                </a:lnTo>
                <a:lnTo>
                  <a:pt x="386" y="84"/>
                </a:lnTo>
                <a:lnTo>
                  <a:pt x="388" y="90"/>
                </a:lnTo>
                <a:lnTo>
                  <a:pt x="390" y="98"/>
                </a:lnTo>
                <a:lnTo>
                  <a:pt x="392" y="107"/>
                </a:lnTo>
                <a:lnTo>
                  <a:pt x="393" y="115"/>
                </a:lnTo>
                <a:lnTo>
                  <a:pt x="395" y="124"/>
                </a:lnTo>
                <a:lnTo>
                  <a:pt x="399" y="144"/>
                </a:lnTo>
                <a:lnTo>
                  <a:pt x="401" y="165"/>
                </a:lnTo>
                <a:lnTo>
                  <a:pt x="403" y="188"/>
                </a:lnTo>
                <a:lnTo>
                  <a:pt x="405" y="213"/>
                </a:lnTo>
                <a:lnTo>
                  <a:pt x="403" y="224"/>
                </a:lnTo>
                <a:lnTo>
                  <a:pt x="403" y="236"/>
                </a:lnTo>
                <a:lnTo>
                  <a:pt x="403" y="247"/>
                </a:lnTo>
                <a:lnTo>
                  <a:pt x="401" y="257"/>
                </a:lnTo>
                <a:lnTo>
                  <a:pt x="399" y="266"/>
                </a:lnTo>
                <a:lnTo>
                  <a:pt x="397" y="276"/>
                </a:lnTo>
                <a:lnTo>
                  <a:pt x="395" y="284"/>
                </a:lnTo>
                <a:lnTo>
                  <a:pt x="393" y="291"/>
                </a:lnTo>
                <a:lnTo>
                  <a:pt x="390" y="297"/>
                </a:lnTo>
                <a:lnTo>
                  <a:pt x="386" y="303"/>
                </a:lnTo>
                <a:lnTo>
                  <a:pt x="382" y="309"/>
                </a:lnTo>
                <a:lnTo>
                  <a:pt x="378" y="313"/>
                </a:lnTo>
                <a:lnTo>
                  <a:pt x="372" y="316"/>
                </a:lnTo>
                <a:lnTo>
                  <a:pt x="367" y="318"/>
                </a:lnTo>
                <a:lnTo>
                  <a:pt x="361" y="320"/>
                </a:lnTo>
                <a:lnTo>
                  <a:pt x="353" y="320"/>
                </a:lnTo>
                <a:lnTo>
                  <a:pt x="347" y="320"/>
                </a:lnTo>
                <a:lnTo>
                  <a:pt x="340" y="318"/>
                </a:lnTo>
                <a:lnTo>
                  <a:pt x="332" y="316"/>
                </a:lnTo>
                <a:lnTo>
                  <a:pt x="324" y="314"/>
                </a:lnTo>
                <a:lnTo>
                  <a:pt x="317" y="313"/>
                </a:lnTo>
                <a:lnTo>
                  <a:pt x="309" y="309"/>
                </a:lnTo>
                <a:lnTo>
                  <a:pt x="301" y="305"/>
                </a:lnTo>
                <a:lnTo>
                  <a:pt x="294" y="299"/>
                </a:lnTo>
                <a:lnTo>
                  <a:pt x="286" y="295"/>
                </a:lnTo>
                <a:lnTo>
                  <a:pt x="276" y="290"/>
                </a:lnTo>
                <a:lnTo>
                  <a:pt x="267" y="282"/>
                </a:lnTo>
                <a:lnTo>
                  <a:pt x="257" y="274"/>
                </a:lnTo>
                <a:lnTo>
                  <a:pt x="248" y="266"/>
                </a:lnTo>
                <a:lnTo>
                  <a:pt x="238" y="259"/>
                </a:lnTo>
                <a:lnTo>
                  <a:pt x="227" y="249"/>
                </a:lnTo>
                <a:lnTo>
                  <a:pt x="215" y="240"/>
                </a:lnTo>
                <a:lnTo>
                  <a:pt x="192" y="224"/>
                </a:lnTo>
                <a:lnTo>
                  <a:pt x="171" y="207"/>
                </a:lnTo>
                <a:lnTo>
                  <a:pt x="150" y="190"/>
                </a:lnTo>
                <a:lnTo>
                  <a:pt x="131" y="172"/>
                </a:lnTo>
                <a:lnTo>
                  <a:pt x="111" y="155"/>
                </a:lnTo>
                <a:lnTo>
                  <a:pt x="94" y="138"/>
                </a:lnTo>
                <a:lnTo>
                  <a:pt x="79" y="121"/>
                </a:lnTo>
                <a:lnTo>
                  <a:pt x="63" y="105"/>
                </a:lnTo>
                <a:lnTo>
                  <a:pt x="50" y="92"/>
                </a:lnTo>
                <a:lnTo>
                  <a:pt x="38" y="78"/>
                </a:lnTo>
                <a:lnTo>
                  <a:pt x="27" y="67"/>
                </a:lnTo>
                <a:lnTo>
                  <a:pt x="17" y="55"/>
                </a:lnTo>
                <a:lnTo>
                  <a:pt x="10" y="46"/>
                </a:lnTo>
                <a:lnTo>
                  <a:pt x="8" y="42"/>
                </a:lnTo>
                <a:lnTo>
                  <a:pt x="6" y="38"/>
                </a:lnTo>
                <a:lnTo>
                  <a:pt x="4" y="34"/>
                </a:lnTo>
                <a:lnTo>
                  <a:pt x="2" y="30"/>
                </a:lnTo>
                <a:lnTo>
                  <a:pt x="0" y="28"/>
                </a:lnTo>
                <a:lnTo>
                  <a:pt x="0" y="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糕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1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32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3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组合 8"/>
          <p:cNvGrpSpPr/>
          <p:nvPr/>
        </p:nvGrpSpPr>
        <p:grpSpPr>
          <a:xfrm>
            <a:off x="1390680" y="3975120"/>
            <a:ext cx="2863800" cy="1572120"/>
            <a:chOff x="1390680" y="3975120"/>
            <a:chExt cx="2863800" cy="1572120"/>
          </a:xfrm>
        </p:grpSpPr>
        <p:pic>
          <p:nvPicPr>
            <p:cNvPr id="136" name="图示 4" descr=""/>
            <p:cNvPicPr/>
            <p:nvPr/>
          </p:nvPicPr>
          <p:blipFill>
            <a:blip r:embed="rId3"/>
            <a:stretch/>
          </p:blipFill>
          <p:spPr>
            <a:xfrm>
              <a:off x="1390680" y="3975120"/>
              <a:ext cx="2863800" cy="15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矩形 2"/>
            <p:cNvSpPr/>
            <p:nvPr/>
          </p:nvSpPr>
          <p:spPr>
            <a:xfrm>
              <a:off x="1435680" y="4588200"/>
              <a:ext cx="279576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“羔”下面四个点要相互照应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矩形 3"/>
          <p:cNvSpPr/>
          <p:nvPr/>
        </p:nvSpPr>
        <p:spPr>
          <a:xfrm>
            <a:off x="2060640" y="1868400"/>
            <a:ext cx="111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ɡā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24"/>
          <p:cNvSpPr/>
          <p:nvPr/>
        </p:nvSpPr>
        <p:spPr>
          <a:xfrm>
            <a:off x="6994440" y="4486320"/>
            <a:ext cx="238320" cy="255600"/>
          </a:xfrm>
          <a:custGeom>
            <a:avLst/>
            <a:gdLst/>
            <a:ahLst/>
            <a:rect l="l" t="t" r="r" b="b"/>
            <a:pathLst>
              <a:path w="299" h="323">
                <a:moveTo>
                  <a:pt x="4" y="19"/>
                </a:moveTo>
                <a:lnTo>
                  <a:pt x="8" y="14"/>
                </a:lnTo>
                <a:lnTo>
                  <a:pt x="13" y="10"/>
                </a:lnTo>
                <a:lnTo>
                  <a:pt x="21" y="6"/>
                </a:lnTo>
                <a:lnTo>
                  <a:pt x="31" y="2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1" y="0"/>
                </a:lnTo>
                <a:lnTo>
                  <a:pt x="69" y="2"/>
                </a:lnTo>
                <a:lnTo>
                  <a:pt x="77" y="4"/>
                </a:lnTo>
                <a:lnTo>
                  <a:pt x="86" y="6"/>
                </a:lnTo>
                <a:lnTo>
                  <a:pt x="92" y="8"/>
                </a:lnTo>
                <a:lnTo>
                  <a:pt x="100" y="12"/>
                </a:lnTo>
                <a:lnTo>
                  <a:pt x="108" y="16"/>
                </a:lnTo>
                <a:lnTo>
                  <a:pt x="115" y="21"/>
                </a:lnTo>
                <a:lnTo>
                  <a:pt x="131" y="31"/>
                </a:lnTo>
                <a:lnTo>
                  <a:pt x="148" y="43"/>
                </a:lnTo>
                <a:lnTo>
                  <a:pt x="167" y="56"/>
                </a:lnTo>
                <a:lnTo>
                  <a:pt x="186" y="69"/>
                </a:lnTo>
                <a:lnTo>
                  <a:pt x="207" y="83"/>
                </a:lnTo>
                <a:lnTo>
                  <a:pt x="228" y="98"/>
                </a:lnTo>
                <a:lnTo>
                  <a:pt x="238" y="106"/>
                </a:lnTo>
                <a:lnTo>
                  <a:pt x="246" y="114"/>
                </a:lnTo>
                <a:lnTo>
                  <a:pt x="253" y="123"/>
                </a:lnTo>
                <a:lnTo>
                  <a:pt x="259" y="131"/>
                </a:lnTo>
                <a:lnTo>
                  <a:pt x="267" y="140"/>
                </a:lnTo>
                <a:lnTo>
                  <a:pt x="273" y="148"/>
                </a:lnTo>
                <a:lnTo>
                  <a:pt x="276" y="158"/>
                </a:lnTo>
                <a:lnTo>
                  <a:pt x="282" y="167"/>
                </a:lnTo>
                <a:lnTo>
                  <a:pt x="286" y="179"/>
                </a:lnTo>
                <a:lnTo>
                  <a:pt x="290" y="188"/>
                </a:lnTo>
                <a:lnTo>
                  <a:pt x="294" y="200"/>
                </a:lnTo>
                <a:lnTo>
                  <a:pt x="296" y="210"/>
                </a:lnTo>
                <a:lnTo>
                  <a:pt x="298" y="221"/>
                </a:lnTo>
                <a:lnTo>
                  <a:pt x="299" y="233"/>
                </a:lnTo>
                <a:lnTo>
                  <a:pt x="299" y="244"/>
                </a:lnTo>
                <a:lnTo>
                  <a:pt x="299" y="258"/>
                </a:lnTo>
                <a:lnTo>
                  <a:pt x="299" y="269"/>
                </a:lnTo>
                <a:lnTo>
                  <a:pt x="299" y="279"/>
                </a:lnTo>
                <a:lnTo>
                  <a:pt x="298" y="288"/>
                </a:lnTo>
                <a:lnTo>
                  <a:pt x="296" y="296"/>
                </a:lnTo>
                <a:lnTo>
                  <a:pt x="294" y="304"/>
                </a:lnTo>
                <a:lnTo>
                  <a:pt x="290" y="309"/>
                </a:lnTo>
                <a:lnTo>
                  <a:pt x="286" y="315"/>
                </a:lnTo>
                <a:lnTo>
                  <a:pt x="282" y="319"/>
                </a:lnTo>
                <a:lnTo>
                  <a:pt x="276" y="321"/>
                </a:lnTo>
                <a:lnTo>
                  <a:pt x="273" y="323"/>
                </a:lnTo>
                <a:lnTo>
                  <a:pt x="267" y="323"/>
                </a:lnTo>
                <a:lnTo>
                  <a:pt x="259" y="323"/>
                </a:lnTo>
                <a:lnTo>
                  <a:pt x="253" y="321"/>
                </a:lnTo>
                <a:lnTo>
                  <a:pt x="246" y="317"/>
                </a:lnTo>
                <a:lnTo>
                  <a:pt x="238" y="315"/>
                </a:lnTo>
                <a:lnTo>
                  <a:pt x="228" y="309"/>
                </a:lnTo>
                <a:lnTo>
                  <a:pt x="219" y="304"/>
                </a:lnTo>
                <a:lnTo>
                  <a:pt x="207" y="298"/>
                </a:lnTo>
                <a:lnTo>
                  <a:pt x="196" y="292"/>
                </a:lnTo>
                <a:lnTo>
                  <a:pt x="186" y="284"/>
                </a:lnTo>
                <a:lnTo>
                  <a:pt x="177" y="277"/>
                </a:lnTo>
                <a:lnTo>
                  <a:pt x="167" y="269"/>
                </a:lnTo>
                <a:lnTo>
                  <a:pt x="156" y="259"/>
                </a:lnTo>
                <a:lnTo>
                  <a:pt x="146" y="250"/>
                </a:lnTo>
                <a:lnTo>
                  <a:pt x="138" y="240"/>
                </a:lnTo>
                <a:lnTo>
                  <a:pt x="129" y="229"/>
                </a:lnTo>
                <a:lnTo>
                  <a:pt x="119" y="217"/>
                </a:lnTo>
                <a:lnTo>
                  <a:pt x="109" y="206"/>
                </a:lnTo>
                <a:lnTo>
                  <a:pt x="102" y="194"/>
                </a:lnTo>
                <a:lnTo>
                  <a:pt x="92" y="181"/>
                </a:lnTo>
                <a:lnTo>
                  <a:pt x="83" y="165"/>
                </a:lnTo>
                <a:lnTo>
                  <a:pt x="75" y="152"/>
                </a:lnTo>
                <a:lnTo>
                  <a:pt x="63" y="138"/>
                </a:lnTo>
                <a:lnTo>
                  <a:pt x="54" y="127"/>
                </a:lnTo>
                <a:lnTo>
                  <a:pt x="44" y="115"/>
                </a:lnTo>
                <a:lnTo>
                  <a:pt x="37" y="104"/>
                </a:lnTo>
                <a:lnTo>
                  <a:pt x="29" y="94"/>
                </a:lnTo>
                <a:lnTo>
                  <a:pt x="23" y="85"/>
                </a:lnTo>
                <a:lnTo>
                  <a:pt x="17" y="75"/>
                </a:lnTo>
                <a:lnTo>
                  <a:pt x="12" y="66"/>
                </a:lnTo>
                <a:lnTo>
                  <a:pt x="8" y="58"/>
                </a:lnTo>
                <a:lnTo>
                  <a:pt x="4" y="50"/>
                </a:lnTo>
                <a:lnTo>
                  <a:pt x="2" y="43"/>
                </a:lnTo>
                <a:lnTo>
                  <a:pt x="0" y="37"/>
                </a:lnTo>
                <a:lnTo>
                  <a:pt x="0" y="31"/>
                </a:lnTo>
                <a:lnTo>
                  <a:pt x="0" y="25"/>
                </a:lnTo>
                <a:lnTo>
                  <a:pt x="2" y="23"/>
                </a:lnTo>
                <a:lnTo>
                  <a:pt x="4" y="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25"/>
          <p:cNvSpPr/>
          <p:nvPr/>
        </p:nvSpPr>
        <p:spPr>
          <a:xfrm>
            <a:off x="7345440" y="4429080"/>
            <a:ext cx="382680" cy="393840"/>
          </a:xfrm>
          <a:custGeom>
            <a:avLst/>
            <a:gdLst/>
            <a:ahLst/>
            <a:rect l="l" t="t" r="r" b="b"/>
            <a:pathLst>
              <a:path w="481" h="497">
                <a:moveTo>
                  <a:pt x="1" y="27"/>
                </a:moveTo>
                <a:lnTo>
                  <a:pt x="9" y="16"/>
                </a:lnTo>
                <a:lnTo>
                  <a:pt x="15" y="12"/>
                </a:lnTo>
                <a:lnTo>
                  <a:pt x="21" y="8"/>
                </a:lnTo>
                <a:lnTo>
                  <a:pt x="26" y="4"/>
                </a:lnTo>
                <a:lnTo>
                  <a:pt x="32" y="2"/>
                </a:lnTo>
                <a:lnTo>
                  <a:pt x="40" y="0"/>
                </a:lnTo>
                <a:lnTo>
                  <a:pt x="49" y="0"/>
                </a:lnTo>
                <a:lnTo>
                  <a:pt x="51" y="0"/>
                </a:lnTo>
                <a:lnTo>
                  <a:pt x="55" y="0"/>
                </a:lnTo>
                <a:lnTo>
                  <a:pt x="59" y="0"/>
                </a:lnTo>
                <a:lnTo>
                  <a:pt x="63" y="2"/>
                </a:lnTo>
                <a:lnTo>
                  <a:pt x="69" y="4"/>
                </a:lnTo>
                <a:lnTo>
                  <a:pt x="76" y="4"/>
                </a:lnTo>
                <a:lnTo>
                  <a:pt x="82" y="6"/>
                </a:lnTo>
                <a:lnTo>
                  <a:pt x="90" y="8"/>
                </a:lnTo>
                <a:lnTo>
                  <a:pt x="97" y="10"/>
                </a:lnTo>
                <a:lnTo>
                  <a:pt x="107" y="12"/>
                </a:lnTo>
                <a:lnTo>
                  <a:pt x="117" y="14"/>
                </a:lnTo>
                <a:lnTo>
                  <a:pt x="126" y="16"/>
                </a:lnTo>
                <a:lnTo>
                  <a:pt x="145" y="21"/>
                </a:lnTo>
                <a:lnTo>
                  <a:pt x="167" y="27"/>
                </a:lnTo>
                <a:lnTo>
                  <a:pt x="178" y="31"/>
                </a:lnTo>
                <a:lnTo>
                  <a:pt x="190" y="37"/>
                </a:lnTo>
                <a:lnTo>
                  <a:pt x="201" y="44"/>
                </a:lnTo>
                <a:lnTo>
                  <a:pt x="214" y="50"/>
                </a:lnTo>
                <a:lnTo>
                  <a:pt x="226" y="58"/>
                </a:lnTo>
                <a:lnTo>
                  <a:pt x="239" y="66"/>
                </a:lnTo>
                <a:lnTo>
                  <a:pt x="251" y="75"/>
                </a:lnTo>
                <a:lnTo>
                  <a:pt x="264" y="85"/>
                </a:lnTo>
                <a:lnTo>
                  <a:pt x="289" y="104"/>
                </a:lnTo>
                <a:lnTo>
                  <a:pt x="316" y="125"/>
                </a:lnTo>
                <a:lnTo>
                  <a:pt x="343" y="148"/>
                </a:lnTo>
                <a:lnTo>
                  <a:pt x="370" y="171"/>
                </a:lnTo>
                <a:lnTo>
                  <a:pt x="380" y="185"/>
                </a:lnTo>
                <a:lnTo>
                  <a:pt x="391" y="196"/>
                </a:lnTo>
                <a:lnTo>
                  <a:pt x="401" y="210"/>
                </a:lnTo>
                <a:lnTo>
                  <a:pt x="408" y="221"/>
                </a:lnTo>
                <a:lnTo>
                  <a:pt x="418" y="235"/>
                </a:lnTo>
                <a:lnTo>
                  <a:pt x="426" y="246"/>
                </a:lnTo>
                <a:lnTo>
                  <a:pt x="433" y="258"/>
                </a:lnTo>
                <a:lnTo>
                  <a:pt x="441" y="271"/>
                </a:lnTo>
                <a:lnTo>
                  <a:pt x="447" y="283"/>
                </a:lnTo>
                <a:lnTo>
                  <a:pt x="452" y="296"/>
                </a:lnTo>
                <a:lnTo>
                  <a:pt x="458" y="307"/>
                </a:lnTo>
                <a:lnTo>
                  <a:pt x="462" y="321"/>
                </a:lnTo>
                <a:lnTo>
                  <a:pt x="468" y="332"/>
                </a:lnTo>
                <a:lnTo>
                  <a:pt x="472" y="344"/>
                </a:lnTo>
                <a:lnTo>
                  <a:pt x="474" y="357"/>
                </a:lnTo>
                <a:lnTo>
                  <a:pt x="477" y="369"/>
                </a:lnTo>
                <a:lnTo>
                  <a:pt x="479" y="382"/>
                </a:lnTo>
                <a:lnTo>
                  <a:pt x="479" y="394"/>
                </a:lnTo>
                <a:lnTo>
                  <a:pt x="481" y="403"/>
                </a:lnTo>
                <a:lnTo>
                  <a:pt x="481" y="415"/>
                </a:lnTo>
                <a:lnTo>
                  <a:pt x="481" y="425"/>
                </a:lnTo>
                <a:lnTo>
                  <a:pt x="481" y="432"/>
                </a:lnTo>
                <a:lnTo>
                  <a:pt x="479" y="442"/>
                </a:lnTo>
                <a:lnTo>
                  <a:pt x="479" y="450"/>
                </a:lnTo>
                <a:lnTo>
                  <a:pt x="477" y="455"/>
                </a:lnTo>
                <a:lnTo>
                  <a:pt x="476" y="463"/>
                </a:lnTo>
                <a:lnTo>
                  <a:pt x="476" y="469"/>
                </a:lnTo>
                <a:lnTo>
                  <a:pt x="474" y="473"/>
                </a:lnTo>
                <a:lnTo>
                  <a:pt x="472" y="478"/>
                </a:lnTo>
                <a:lnTo>
                  <a:pt x="470" y="482"/>
                </a:lnTo>
                <a:lnTo>
                  <a:pt x="466" y="486"/>
                </a:lnTo>
                <a:lnTo>
                  <a:pt x="464" y="488"/>
                </a:lnTo>
                <a:lnTo>
                  <a:pt x="460" y="492"/>
                </a:lnTo>
                <a:lnTo>
                  <a:pt x="454" y="496"/>
                </a:lnTo>
                <a:lnTo>
                  <a:pt x="447" y="497"/>
                </a:lnTo>
                <a:lnTo>
                  <a:pt x="441" y="497"/>
                </a:lnTo>
                <a:lnTo>
                  <a:pt x="431" y="497"/>
                </a:lnTo>
                <a:lnTo>
                  <a:pt x="424" y="496"/>
                </a:lnTo>
                <a:lnTo>
                  <a:pt x="414" y="492"/>
                </a:lnTo>
                <a:lnTo>
                  <a:pt x="403" y="486"/>
                </a:lnTo>
                <a:lnTo>
                  <a:pt x="393" y="480"/>
                </a:lnTo>
                <a:lnTo>
                  <a:pt x="381" y="473"/>
                </a:lnTo>
                <a:lnTo>
                  <a:pt x="368" y="463"/>
                </a:lnTo>
                <a:lnTo>
                  <a:pt x="355" y="453"/>
                </a:lnTo>
                <a:lnTo>
                  <a:pt x="341" y="442"/>
                </a:lnTo>
                <a:lnTo>
                  <a:pt x="328" y="428"/>
                </a:lnTo>
                <a:lnTo>
                  <a:pt x="312" y="413"/>
                </a:lnTo>
                <a:lnTo>
                  <a:pt x="299" y="396"/>
                </a:lnTo>
                <a:lnTo>
                  <a:pt x="268" y="361"/>
                </a:lnTo>
                <a:lnTo>
                  <a:pt x="238" y="329"/>
                </a:lnTo>
                <a:lnTo>
                  <a:pt x="209" y="296"/>
                </a:lnTo>
                <a:lnTo>
                  <a:pt x="182" y="265"/>
                </a:lnTo>
                <a:lnTo>
                  <a:pt x="155" y="235"/>
                </a:lnTo>
                <a:lnTo>
                  <a:pt x="130" y="206"/>
                </a:lnTo>
                <a:lnTo>
                  <a:pt x="107" y="175"/>
                </a:lnTo>
                <a:lnTo>
                  <a:pt x="84" y="146"/>
                </a:lnTo>
                <a:lnTo>
                  <a:pt x="72" y="133"/>
                </a:lnTo>
                <a:lnTo>
                  <a:pt x="63" y="121"/>
                </a:lnTo>
                <a:lnTo>
                  <a:pt x="53" y="110"/>
                </a:lnTo>
                <a:lnTo>
                  <a:pt x="46" y="100"/>
                </a:lnTo>
                <a:lnTo>
                  <a:pt x="36" y="91"/>
                </a:lnTo>
                <a:lnTo>
                  <a:pt x="28" y="81"/>
                </a:lnTo>
                <a:lnTo>
                  <a:pt x="23" y="73"/>
                </a:lnTo>
                <a:lnTo>
                  <a:pt x="17" y="66"/>
                </a:lnTo>
                <a:lnTo>
                  <a:pt x="11" y="58"/>
                </a:lnTo>
                <a:lnTo>
                  <a:pt x="7" y="52"/>
                </a:lnTo>
                <a:lnTo>
                  <a:pt x="3" y="46"/>
                </a:lnTo>
                <a:lnTo>
                  <a:pt x="1" y="41"/>
                </a:lnTo>
                <a:lnTo>
                  <a:pt x="0" y="37"/>
                </a:lnTo>
                <a:lnTo>
                  <a:pt x="0" y="33"/>
                </a:lnTo>
                <a:lnTo>
                  <a:pt x="0" y="29"/>
                </a:lnTo>
                <a:lnTo>
                  <a:pt x="1" y="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6653160" y="4511520"/>
            <a:ext cx="228600" cy="252720"/>
          </a:xfrm>
          <a:custGeom>
            <a:avLst/>
            <a:gdLst/>
            <a:ahLst/>
            <a:rect l="l" t="t" r="r" b="b"/>
            <a:pathLst>
              <a:path w="288" h="317">
                <a:moveTo>
                  <a:pt x="196" y="65"/>
                </a:moveTo>
                <a:lnTo>
                  <a:pt x="207" y="81"/>
                </a:lnTo>
                <a:lnTo>
                  <a:pt x="221" y="96"/>
                </a:lnTo>
                <a:lnTo>
                  <a:pt x="234" y="109"/>
                </a:lnTo>
                <a:lnTo>
                  <a:pt x="246" y="125"/>
                </a:lnTo>
                <a:lnTo>
                  <a:pt x="255" y="140"/>
                </a:lnTo>
                <a:lnTo>
                  <a:pt x="265" y="155"/>
                </a:lnTo>
                <a:lnTo>
                  <a:pt x="269" y="161"/>
                </a:lnTo>
                <a:lnTo>
                  <a:pt x="273" y="169"/>
                </a:lnTo>
                <a:lnTo>
                  <a:pt x="276" y="177"/>
                </a:lnTo>
                <a:lnTo>
                  <a:pt x="278" y="184"/>
                </a:lnTo>
                <a:lnTo>
                  <a:pt x="282" y="200"/>
                </a:lnTo>
                <a:lnTo>
                  <a:pt x="284" y="213"/>
                </a:lnTo>
                <a:lnTo>
                  <a:pt x="286" y="228"/>
                </a:lnTo>
                <a:lnTo>
                  <a:pt x="288" y="240"/>
                </a:lnTo>
                <a:lnTo>
                  <a:pt x="286" y="251"/>
                </a:lnTo>
                <a:lnTo>
                  <a:pt x="284" y="263"/>
                </a:lnTo>
                <a:lnTo>
                  <a:pt x="284" y="267"/>
                </a:lnTo>
                <a:lnTo>
                  <a:pt x="282" y="271"/>
                </a:lnTo>
                <a:lnTo>
                  <a:pt x="280" y="274"/>
                </a:lnTo>
                <a:lnTo>
                  <a:pt x="278" y="276"/>
                </a:lnTo>
                <a:lnTo>
                  <a:pt x="273" y="286"/>
                </a:lnTo>
                <a:lnTo>
                  <a:pt x="267" y="294"/>
                </a:lnTo>
                <a:lnTo>
                  <a:pt x="261" y="301"/>
                </a:lnTo>
                <a:lnTo>
                  <a:pt x="255" y="307"/>
                </a:lnTo>
                <a:lnTo>
                  <a:pt x="248" y="311"/>
                </a:lnTo>
                <a:lnTo>
                  <a:pt x="242" y="315"/>
                </a:lnTo>
                <a:lnTo>
                  <a:pt x="236" y="315"/>
                </a:lnTo>
                <a:lnTo>
                  <a:pt x="230" y="317"/>
                </a:lnTo>
                <a:lnTo>
                  <a:pt x="227" y="317"/>
                </a:lnTo>
                <a:lnTo>
                  <a:pt x="221" y="315"/>
                </a:lnTo>
                <a:lnTo>
                  <a:pt x="217" y="313"/>
                </a:lnTo>
                <a:lnTo>
                  <a:pt x="211" y="311"/>
                </a:lnTo>
                <a:lnTo>
                  <a:pt x="205" y="309"/>
                </a:lnTo>
                <a:lnTo>
                  <a:pt x="200" y="305"/>
                </a:lnTo>
                <a:lnTo>
                  <a:pt x="194" y="303"/>
                </a:lnTo>
                <a:lnTo>
                  <a:pt x="188" y="297"/>
                </a:lnTo>
                <a:lnTo>
                  <a:pt x="175" y="288"/>
                </a:lnTo>
                <a:lnTo>
                  <a:pt x="161" y="278"/>
                </a:lnTo>
                <a:lnTo>
                  <a:pt x="148" y="265"/>
                </a:lnTo>
                <a:lnTo>
                  <a:pt x="136" y="249"/>
                </a:lnTo>
                <a:lnTo>
                  <a:pt x="119" y="234"/>
                </a:lnTo>
                <a:lnTo>
                  <a:pt x="102" y="219"/>
                </a:lnTo>
                <a:lnTo>
                  <a:pt x="86" y="201"/>
                </a:lnTo>
                <a:lnTo>
                  <a:pt x="73" y="182"/>
                </a:lnTo>
                <a:lnTo>
                  <a:pt x="60" y="163"/>
                </a:lnTo>
                <a:lnTo>
                  <a:pt x="48" y="144"/>
                </a:lnTo>
                <a:lnTo>
                  <a:pt x="38" y="125"/>
                </a:lnTo>
                <a:lnTo>
                  <a:pt x="29" y="105"/>
                </a:lnTo>
                <a:lnTo>
                  <a:pt x="21" y="90"/>
                </a:lnTo>
                <a:lnTo>
                  <a:pt x="14" y="75"/>
                </a:lnTo>
                <a:lnTo>
                  <a:pt x="8" y="61"/>
                </a:lnTo>
                <a:lnTo>
                  <a:pt x="4" y="50"/>
                </a:lnTo>
                <a:lnTo>
                  <a:pt x="0" y="36"/>
                </a:lnTo>
                <a:lnTo>
                  <a:pt x="0" y="33"/>
                </a:lnTo>
                <a:lnTo>
                  <a:pt x="0" y="27"/>
                </a:lnTo>
                <a:lnTo>
                  <a:pt x="0" y="23"/>
                </a:lnTo>
                <a:lnTo>
                  <a:pt x="2" y="19"/>
                </a:lnTo>
                <a:lnTo>
                  <a:pt x="2" y="15"/>
                </a:lnTo>
                <a:lnTo>
                  <a:pt x="6" y="13"/>
                </a:lnTo>
                <a:lnTo>
                  <a:pt x="6" y="11"/>
                </a:lnTo>
                <a:lnTo>
                  <a:pt x="6" y="8"/>
                </a:lnTo>
                <a:lnTo>
                  <a:pt x="8" y="8"/>
                </a:lnTo>
                <a:lnTo>
                  <a:pt x="10" y="6"/>
                </a:lnTo>
                <a:lnTo>
                  <a:pt x="12" y="4"/>
                </a:lnTo>
                <a:lnTo>
                  <a:pt x="15" y="2"/>
                </a:lnTo>
                <a:lnTo>
                  <a:pt x="19" y="2"/>
                </a:lnTo>
                <a:lnTo>
                  <a:pt x="23" y="2"/>
                </a:lnTo>
                <a:lnTo>
                  <a:pt x="27" y="0"/>
                </a:lnTo>
                <a:lnTo>
                  <a:pt x="33" y="0"/>
                </a:lnTo>
                <a:lnTo>
                  <a:pt x="38" y="0"/>
                </a:lnTo>
                <a:lnTo>
                  <a:pt x="44" y="0"/>
                </a:lnTo>
                <a:lnTo>
                  <a:pt x="52" y="0"/>
                </a:lnTo>
                <a:lnTo>
                  <a:pt x="60" y="0"/>
                </a:lnTo>
                <a:lnTo>
                  <a:pt x="67" y="0"/>
                </a:lnTo>
                <a:lnTo>
                  <a:pt x="77" y="0"/>
                </a:lnTo>
                <a:lnTo>
                  <a:pt x="90" y="4"/>
                </a:lnTo>
                <a:lnTo>
                  <a:pt x="106" y="10"/>
                </a:lnTo>
                <a:lnTo>
                  <a:pt x="121" y="15"/>
                </a:lnTo>
                <a:lnTo>
                  <a:pt x="136" y="23"/>
                </a:lnTo>
                <a:lnTo>
                  <a:pt x="152" y="31"/>
                </a:lnTo>
                <a:lnTo>
                  <a:pt x="159" y="34"/>
                </a:lnTo>
                <a:lnTo>
                  <a:pt x="167" y="40"/>
                </a:lnTo>
                <a:lnTo>
                  <a:pt x="175" y="46"/>
                </a:lnTo>
                <a:lnTo>
                  <a:pt x="181" y="52"/>
                </a:lnTo>
                <a:lnTo>
                  <a:pt x="188" y="58"/>
                </a:lnTo>
                <a:lnTo>
                  <a:pt x="196" y="6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27"/>
          <p:cNvSpPr/>
          <p:nvPr/>
        </p:nvSpPr>
        <p:spPr>
          <a:xfrm>
            <a:off x="6313320" y="4491000"/>
            <a:ext cx="173160" cy="461880"/>
          </a:xfrm>
          <a:custGeom>
            <a:avLst/>
            <a:gdLst/>
            <a:ahLst/>
            <a:rect l="l" t="t" r="r" b="b"/>
            <a:pathLst>
              <a:path w="219" h="582">
                <a:moveTo>
                  <a:pt x="88" y="582"/>
                </a:moveTo>
                <a:lnTo>
                  <a:pt x="83" y="580"/>
                </a:lnTo>
                <a:lnTo>
                  <a:pt x="77" y="578"/>
                </a:lnTo>
                <a:lnTo>
                  <a:pt x="71" y="574"/>
                </a:lnTo>
                <a:lnTo>
                  <a:pt x="63" y="568"/>
                </a:lnTo>
                <a:lnTo>
                  <a:pt x="61" y="566"/>
                </a:lnTo>
                <a:lnTo>
                  <a:pt x="58" y="562"/>
                </a:lnTo>
                <a:lnTo>
                  <a:pt x="54" y="557"/>
                </a:lnTo>
                <a:lnTo>
                  <a:pt x="52" y="553"/>
                </a:lnTo>
                <a:lnTo>
                  <a:pt x="48" y="547"/>
                </a:lnTo>
                <a:lnTo>
                  <a:pt x="46" y="541"/>
                </a:lnTo>
                <a:lnTo>
                  <a:pt x="42" y="536"/>
                </a:lnTo>
                <a:lnTo>
                  <a:pt x="40" y="528"/>
                </a:lnTo>
                <a:lnTo>
                  <a:pt x="33" y="514"/>
                </a:lnTo>
                <a:lnTo>
                  <a:pt x="25" y="501"/>
                </a:lnTo>
                <a:lnTo>
                  <a:pt x="19" y="488"/>
                </a:lnTo>
                <a:lnTo>
                  <a:pt x="14" y="474"/>
                </a:lnTo>
                <a:lnTo>
                  <a:pt x="10" y="463"/>
                </a:lnTo>
                <a:lnTo>
                  <a:pt x="8" y="449"/>
                </a:lnTo>
                <a:lnTo>
                  <a:pt x="6" y="436"/>
                </a:lnTo>
                <a:lnTo>
                  <a:pt x="6" y="422"/>
                </a:lnTo>
                <a:lnTo>
                  <a:pt x="4" y="417"/>
                </a:lnTo>
                <a:lnTo>
                  <a:pt x="2" y="413"/>
                </a:lnTo>
                <a:lnTo>
                  <a:pt x="0" y="407"/>
                </a:lnTo>
                <a:lnTo>
                  <a:pt x="0" y="401"/>
                </a:lnTo>
                <a:lnTo>
                  <a:pt x="0" y="394"/>
                </a:lnTo>
                <a:lnTo>
                  <a:pt x="2" y="388"/>
                </a:lnTo>
                <a:lnTo>
                  <a:pt x="4" y="382"/>
                </a:lnTo>
                <a:lnTo>
                  <a:pt x="6" y="374"/>
                </a:lnTo>
                <a:lnTo>
                  <a:pt x="8" y="369"/>
                </a:lnTo>
                <a:lnTo>
                  <a:pt x="12" y="361"/>
                </a:lnTo>
                <a:lnTo>
                  <a:pt x="14" y="353"/>
                </a:lnTo>
                <a:lnTo>
                  <a:pt x="19" y="346"/>
                </a:lnTo>
                <a:lnTo>
                  <a:pt x="23" y="340"/>
                </a:lnTo>
                <a:lnTo>
                  <a:pt x="29" y="332"/>
                </a:lnTo>
                <a:lnTo>
                  <a:pt x="35" y="324"/>
                </a:lnTo>
                <a:lnTo>
                  <a:pt x="40" y="317"/>
                </a:lnTo>
                <a:lnTo>
                  <a:pt x="46" y="309"/>
                </a:lnTo>
                <a:lnTo>
                  <a:pt x="52" y="301"/>
                </a:lnTo>
                <a:lnTo>
                  <a:pt x="58" y="292"/>
                </a:lnTo>
                <a:lnTo>
                  <a:pt x="63" y="282"/>
                </a:lnTo>
                <a:lnTo>
                  <a:pt x="67" y="273"/>
                </a:lnTo>
                <a:lnTo>
                  <a:pt x="71" y="261"/>
                </a:lnTo>
                <a:lnTo>
                  <a:pt x="75" y="250"/>
                </a:lnTo>
                <a:lnTo>
                  <a:pt x="79" y="238"/>
                </a:lnTo>
                <a:lnTo>
                  <a:pt x="83" y="225"/>
                </a:lnTo>
                <a:lnTo>
                  <a:pt x="85" y="211"/>
                </a:lnTo>
                <a:lnTo>
                  <a:pt x="88" y="198"/>
                </a:lnTo>
                <a:lnTo>
                  <a:pt x="90" y="182"/>
                </a:lnTo>
                <a:lnTo>
                  <a:pt x="94" y="169"/>
                </a:lnTo>
                <a:lnTo>
                  <a:pt x="96" y="152"/>
                </a:lnTo>
                <a:lnTo>
                  <a:pt x="98" y="136"/>
                </a:lnTo>
                <a:lnTo>
                  <a:pt x="100" y="119"/>
                </a:lnTo>
                <a:lnTo>
                  <a:pt x="100" y="106"/>
                </a:lnTo>
                <a:lnTo>
                  <a:pt x="100" y="92"/>
                </a:lnTo>
                <a:lnTo>
                  <a:pt x="102" y="79"/>
                </a:lnTo>
                <a:lnTo>
                  <a:pt x="102" y="67"/>
                </a:lnTo>
                <a:lnTo>
                  <a:pt x="104" y="56"/>
                </a:lnTo>
                <a:lnTo>
                  <a:pt x="104" y="46"/>
                </a:lnTo>
                <a:lnTo>
                  <a:pt x="106" y="38"/>
                </a:lnTo>
                <a:lnTo>
                  <a:pt x="108" y="31"/>
                </a:lnTo>
                <a:lnTo>
                  <a:pt x="109" y="23"/>
                </a:lnTo>
                <a:lnTo>
                  <a:pt x="111" y="17"/>
                </a:lnTo>
                <a:lnTo>
                  <a:pt x="113" y="12"/>
                </a:lnTo>
                <a:lnTo>
                  <a:pt x="115" y="8"/>
                </a:lnTo>
                <a:lnTo>
                  <a:pt x="117" y="4"/>
                </a:lnTo>
                <a:lnTo>
                  <a:pt x="119" y="2"/>
                </a:lnTo>
                <a:lnTo>
                  <a:pt x="121" y="0"/>
                </a:lnTo>
                <a:lnTo>
                  <a:pt x="125" y="0"/>
                </a:lnTo>
                <a:lnTo>
                  <a:pt x="127" y="0"/>
                </a:lnTo>
                <a:lnTo>
                  <a:pt x="129" y="2"/>
                </a:lnTo>
                <a:lnTo>
                  <a:pt x="133" y="2"/>
                </a:lnTo>
                <a:lnTo>
                  <a:pt x="134" y="4"/>
                </a:lnTo>
                <a:lnTo>
                  <a:pt x="138" y="8"/>
                </a:lnTo>
                <a:lnTo>
                  <a:pt x="142" y="10"/>
                </a:lnTo>
                <a:lnTo>
                  <a:pt x="146" y="13"/>
                </a:lnTo>
                <a:lnTo>
                  <a:pt x="150" y="17"/>
                </a:lnTo>
                <a:lnTo>
                  <a:pt x="157" y="27"/>
                </a:lnTo>
                <a:lnTo>
                  <a:pt x="165" y="38"/>
                </a:lnTo>
                <a:lnTo>
                  <a:pt x="175" y="52"/>
                </a:lnTo>
                <a:lnTo>
                  <a:pt x="184" y="67"/>
                </a:lnTo>
                <a:lnTo>
                  <a:pt x="188" y="75"/>
                </a:lnTo>
                <a:lnTo>
                  <a:pt x="192" y="83"/>
                </a:lnTo>
                <a:lnTo>
                  <a:pt x="196" y="92"/>
                </a:lnTo>
                <a:lnTo>
                  <a:pt x="198" y="100"/>
                </a:lnTo>
                <a:lnTo>
                  <a:pt x="205" y="121"/>
                </a:lnTo>
                <a:lnTo>
                  <a:pt x="209" y="142"/>
                </a:lnTo>
                <a:lnTo>
                  <a:pt x="213" y="165"/>
                </a:lnTo>
                <a:lnTo>
                  <a:pt x="217" y="188"/>
                </a:lnTo>
                <a:lnTo>
                  <a:pt x="219" y="213"/>
                </a:lnTo>
                <a:lnTo>
                  <a:pt x="219" y="238"/>
                </a:lnTo>
                <a:lnTo>
                  <a:pt x="219" y="263"/>
                </a:lnTo>
                <a:lnTo>
                  <a:pt x="217" y="290"/>
                </a:lnTo>
                <a:lnTo>
                  <a:pt x="213" y="317"/>
                </a:lnTo>
                <a:lnTo>
                  <a:pt x="207" y="346"/>
                </a:lnTo>
                <a:lnTo>
                  <a:pt x="202" y="374"/>
                </a:lnTo>
                <a:lnTo>
                  <a:pt x="194" y="403"/>
                </a:lnTo>
                <a:lnTo>
                  <a:pt x="188" y="417"/>
                </a:lnTo>
                <a:lnTo>
                  <a:pt x="184" y="432"/>
                </a:lnTo>
                <a:lnTo>
                  <a:pt x="179" y="447"/>
                </a:lnTo>
                <a:lnTo>
                  <a:pt x="171" y="463"/>
                </a:lnTo>
                <a:lnTo>
                  <a:pt x="165" y="476"/>
                </a:lnTo>
                <a:lnTo>
                  <a:pt x="157" y="490"/>
                </a:lnTo>
                <a:lnTo>
                  <a:pt x="152" y="503"/>
                </a:lnTo>
                <a:lnTo>
                  <a:pt x="146" y="514"/>
                </a:lnTo>
                <a:lnTo>
                  <a:pt x="138" y="524"/>
                </a:lnTo>
                <a:lnTo>
                  <a:pt x="133" y="534"/>
                </a:lnTo>
                <a:lnTo>
                  <a:pt x="127" y="543"/>
                </a:lnTo>
                <a:lnTo>
                  <a:pt x="121" y="551"/>
                </a:lnTo>
                <a:lnTo>
                  <a:pt x="115" y="559"/>
                </a:lnTo>
                <a:lnTo>
                  <a:pt x="109" y="564"/>
                </a:lnTo>
                <a:lnTo>
                  <a:pt x="106" y="568"/>
                </a:lnTo>
                <a:lnTo>
                  <a:pt x="102" y="574"/>
                </a:lnTo>
                <a:lnTo>
                  <a:pt x="98" y="576"/>
                </a:lnTo>
                <a:lnTo>
                  <a:pt x="94" y="580"/>
                </a:lnTo>
                <a:lnTo>
                  <a:pt x="90" y="580"/>
                </a:lnTo>
                <a:lnTo>
                  <a:pt x="88" y="5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28"/>
          <p:cNvSpPr/>
          <p:nvPr/>
        </p:nvSpPr>
        <p:spPr>
          <a:xfrm>
            <a:off x="6873840" y="3538440"/>
            <a:ext cx="163440" cy="701640"/>
          </a:xfrm>
          <a:custGeom>
            <a:avLst/>
            <a:gdLst/>
            <a:ahLst/>
            <a:rect l="l" t="t" r="r" b="b"/>
            <a:pathLst>
              <a:path w="206" h="883">
                <a:moveTo>
                  <a:pt x="60" y="883"/>
                </a:moveTo>
                <a:lnTo>
                  <a:pt x="60" y="837"/>
                </a:lnTo>
                <a:lnTo>
                  <a:pt x="60" y="793"/>
                </a:lnTo>
                <a:lnTo>
                  <a:pt x="60" y="751"/>
                </a:lnTo>
                <a:lnTo>
                  <a:pt x="58" y="709"/>
                </a:lnTo>
                <a:lnTo>
                  <a:pt x="58" y="668"/>
                </a:lnTo>
                <a:lnTo>
                  <a:pt x="58" y="628"/>
                </a:lnTo>
                <a:lnTo>
                  <a:pt x="56" y="590"/>
                </a:lnTo>
                <a:lnTo>
                  <a:pt x="56" y="553"/>
                </a:lnTo>
                <a:lnTo>
                  <a:pt x="54" y="517"/>
                </a:lnTo>
                <a:lnTo>
                  <a:pt x="54" y="480"/>
                </a:lnTo>
                <a:lnTo>
                  <a:pt x="52" y="446"/>
                </a:lnTo>
                <a:lnTo>
                  <a:pt x="50" y="413"/>
                </a:lnTo>
                <a:lnTo>
                  <a:pt x="48" y="382"/>
                </a:lnTo>
                <a:lnTo>
                  <a:pt x="46" y="352"/>
                </a:lnTo>
                <a:lnTo>
                  <a:pt x="45" y="321"/>
                </a:lnTo>
                <a:lnTo>
                  <a:pt x="43" y="294"/>
                </a:lnTo>
                <a:lnTo>
                  <a:pt x="41" y="265"/>
                </a:lnTo>
                <a:lnTo>
                  <a:pt x="39" y="240"/>
                </a:lnTo>
                <a:lnTo>
                  <a:pt x="37" y="215"/>
                </a:lnTo>
                <a:lnTo>
                  <a:pt x="35" y="190"/>
                </a:lnTo>
                <a:lnTo>
                  <a:pt x="33" y="169"/>
                </a:lnTo>
                <a:lnTo>
                  <a:pt x="29" y="146"/>
                </a:lnTo>
                <a:lnTo>
                  <a:pt x="27" y="127"/>
                </a:lnTo>
                <a:lnTo>
                  <a:pt x="25" y="108"/>
                </a:lnTo>
                <a:lnTo>
                  <a:pt x="22" y="91"/>
                </a:lnTo>
                <a:lnTo>
                  <a:pt x="20" y="73"/>
                </a:lnTo>
                <a:lnTo>
                  <a:pt x="16" y="58"/>
                </a:lnTo>
                <a:lnTo>
                  <a:pt x="14" y="45"/>
                </a:lnTo>
                <a:lnTo>
                  <a:pt x="10" y="31"/>
                </a:lnTo>
                <a:lnTo>
                  <a:pt x="6" y="20"/>
                </a:lnTo>
                <a:lnTo>
                  <a:pt x="4" y="8"/>
                </a:lnTo>
                <a:lnTo>
                  <a:pt x="0" y="0"/>
                </a:lnTo>
                <a:lnTo>
                  <a:pt x="16" y="2"/>
                </a:lnTo>
                <a:lnTo>
                  <a:pt x="29" y="4"/>
                </a:lnTo>
                <a:lnTo>
                  <a:pt x="45" y="8"/>
                </a:lnTo>
                <a:lnTo>
                  <a:pt x="56" y="12"/>
                </a:lnTo>
                <a:lnTo>
                  <a:pt x="70" y="16"/>
                </a:lnTo>
                <a:lnTo>
                  <a:pt x="81" y="20"/>
                </a:lnTo>
                <a:lnTo>
                  <a:pt x="91" y="23"/>
                </a:lnTo>
                <a:lnTo>
                  <a:pt x="102" y="27"/>
                </a:lnTo>
                <a:lnTo>
                  <a:pt x="112" y="31"/>
                </a:lnTo>
                <a:lnTo>
                  <a:pt x="121" y="37"/>
                </a:lnTo>
                <a:lnTo>
                  <a:pt x="129" y="41"/>
                </a:lnTo>
                <a:lnTo>
                  <a:pt x="137" y="46"/>
                </a:lnTo>
                <a:lnTo>
                  <a:pt x="154" y="56"/>
                </a:lnTo>
                <a:lnTo>
                  <a:pt x="167" y="66"/>
                </a:lnTo>
                <a:lnTo>
                  <a:pt x="173" y="71"/>
                </a:lnTo>
                <a:lnTo>
                  <a:pt x="179" y="77"/>
                </a:lnTo>
                <a:lnTo>
                  <a:pt x="185" y="83"/>
                </a:lnTo>
                <a:lnTo>
                  <a:pt x="189" y="89"/>
                </a:lnTo>
                <a:lnTo>
                  <a:pt x="192" y="94"/>
                </a:lnTo>
                <a:lnTo>
                  <a:pt x="196" y="100"/>
                </a:lnTo>
                <a:lnTo>
                  <a:pt x="200" y="108"/>
                </a:lnTo>
                <a:lnTo>
                  <a:pt x="202" y="116"/>
                </a:lnTo>
                <a:lnTo>
                  <a:pt x="204" y="123"/>
                </a:lnTo>
                <a:lnTo>
                  <a:pt x="206" y="131"/>
                </a:lnTo>
                <a:lnTo>
                  <a:pt x="206" y="139"/>
                </a:lnTo>
                <a:lnTo>
                  <a:pt x="206" y="146"/>
                </a:lnTo>
                <a:lnTo>
                  <a:pt x="206" y="156"/>
                </a:lnTo>
                <a:lnTo>
                  <a:pt x="206" y="165"/>
                </a:lnTo>
                <a:lnTo>
                  <a:pt x="204" y="175"/>
                </a:lnTo>
                <a:lnTo>
                  <a:pt x="202" y="185"/>
                </a:lnTo>
                <a:lnTo>
                  <a:pt x="202" y="190"/>
                </a:lnTo>
                <a:lnTo>
                  <a:pt x="200" y="198"/>
                </a:lnTo>
                <a:lnTo>
                  <a:pt x="200" y="208"/>
                </a:lnTo>
                <a:lnTo>
                  <a:pt x="198" y="217"/>
                </a:lnTo>
                <a:lnTo>
                  <a:pt x="196" y="227"/>
                </a:lnTo>
                <a:lnTo>
                  <a:pt x="196" y="238"/>
                </a:lnTo>
                <a:lnTo>
                  <a:pt x="194" y="250"/>
                </a:lnTo>
                <a:lnTo>
                  <a:pt x="194" y="263"/>
                </a:lnTo>
                <a:lnTo>
                  <a:pt x="192" y="279"/>
                </a:lnTo>
                <a:lnTo>
                  <a:pt x="192" y="294"/>
                </a:lnTo>
                <a:lnTo>
                  <a:pt x="190" y="309"/>
                </a:lnTo>
                <a:lnTo>
                  <a:pt x="190" y="327"/>
                </a:lnTo>
                <a:lnTo>
                  <a:pt x="189" y="344"/>
                </a:lnTo>
                <a:lnTo>
                  <a:pt x="189" y="363"/>
                </a:lnTo>
                <a:lnTo>
                  <a:pt x="187" y="384"/>
                </a:lnTo>
                <a:lnTo>
                  <a:pt x="187" y="405"/>
                </a:lnTo>
                <a:lnTo>
                  <a:pt x="185" y="427"/>
                </a:lnTo>
                <a:lnTo>
                  <a:pt x="185" y="451"/>
                </a:lnTo>
                <a:lnTo>
                  <a:pt x="185" y="474"/>
                </a:lnTo>
                <a:lnTo>
                  <a:pt x="183" y="499"/>
                </a:lnTo>
                <a:lnTo>
                  <a:pt x="183" y="526"/>
                </a:lnTo>
                <a:lnTo>
                  <a:pt x="181" y="553"/>
                </a:lnTo>
                <a:lnTo>
                  <a:pt x="181" y="582"/>
                </a:lnTo>
                <a:lnTo>
                  <a:pt x="181" y="611"/>
                </a:lnTo>
                <a:lnTo>
                  <a:pt x="181" y="641"/>
                </a:lnTo>
                <a:lnTo>
                  <a:pt x="179" y="672"/>
                </a:lnTo>
                <a:lnTo>
                  <a:pt x="179" y="705"/>
                </a:lnTo>
                <a:lnTo>
                  <a:pt x="179" y="739"/>
                </a:lnTo>
                <a:lnTo>
                  <a:pt x="179" y="774"/>
                </a:lnTo>
                <a:lnTo>
                  <a:pt x="179" y="808"/>
                </a:lnTo>
                <a:lnTo>
                  <a:pt x="179" y="845"/>
                </a:lnTo>
                <a:lnTo>
                  <a:pt x="179" y="883"/>
                </a:lnTo>
                <a:lnTo>
                  <a:pt x="119" y="883"/>
                </a:lnTo>
                <a:lnTo>
                  <a:pt x="60" y="8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29"/>
          <p:cNvSpPr/>
          <p:nvPr/>
        </p:nvSpPr>
        <p:spPr>
          <a:xfrm>
            <a:off x="6524640" y="4125960"/>
            <a:ext cx="934920" cy="208080"/>
          </a:xfrm>
          <a:custGeom>
            <a:avLst/>
            <a:gdLst/>
            <a:ahLst/>
            <a:rect l="l" t="t" r="r" b="b"/>
            <a:pathLst>
              <a:path w="1176" h="263">
                <a:moveTo>
                  <a:pt x="48" y="236"/>
                </a:moveTo>
                <a:lnTo>
                  <a:pt x="40" y="235"/>
                </a:lnTo>
                <a:lnTo>
                  <a:pt x="34" y="231"/>
                </a:lnTo>
                <a:lnTo>
                  <a:pt x="29" y="229"/>
                </a:lnTo>
                <a:lnTo>
                  <a:pt x="25" y="225"/>
                </a:lnTo>
                <a:lnTo>
                  <a:pt x="21" y="221"/>
                </a:lnTo>
                <a:lnTo>
                  <a:pt x="17" y="217"/>
                </a:lnTo>
                <a:lnTo>
                  <a:pt x="9" y="210"/>
                </a:lnTo>
                <a:lnTo>
                  <a:pt x="6" y="204"/>
                </a:lnTo>
                <a:lnTo>
                  <a:pt x="2" y="196"/>
                </a:lnTo>
                <a:lnTo>
                  <a:pt x="0" y="190"/>
                </a:lnTo>
                <a:lnTo>
                  <a:pt x="0" y="185"/>
                </a:lnTo>
                <a:lnTo>
                  <a:pt x="0" y="183"/>
                </a:lnTo>
                <a:lnTo>
                  <a:pt x="2" y="181"/>
                </a:lnTo>
                <a:lnTo>
                  <a:pt x="4" y="181"/>
                </a:lnTo>
                <a:lnTo>
                  <a:pt x="8" y="179"/>
                </a:lnTo>
                <a:lnTo>
                  <a:pt x="11" y="177"/>
                </a:lnTo>
                <a:lnTo>
                  <a:pt x="15" y="175"/>
                </a:lnTo>
                <a:lnTo>
                  <a:pt x="21" y="173"/>
                </a:lnTo>
                <a:lnTo>
                  <a:pt x="29" y="171"/>
                </a:lnTo>
                <a:lnTo>
                  <a:pt x="36" y="169"/>
                </a:lnTo>
                <a:lnTo>
                  <a:pt x="44" y="167"/>
                </a:lnTo>
                <a:lnTo>
                  <a:pt x="54" y="165"/>
                </a:lnTo>
                <a:lnTo>
                  <a:pt x="65" y="164"/>
                </a:lnTo>
                <a:lnTo>
                  <a:pt x="77" y="160"/>
                </a:lnTo>
                <a:lnTo>
                  <a:pt x="88" y="158"/>
                </a:lnTo>
                <a:lnTo>
                  <a:pt x="102" y="154"/>
                </a:lnTo>
                <a:lnTo>
                  <a:pt x="115" y="152"/>
                </a:lnTo>
                <a:lnTo>
                  <a:pt x="130" y="148"/>
                </a:lnTo>
                <a:lnTo>
                  <a:pt x="146" y="144"/>
                </a:lnTo>
                <a:lnTo>
                  <a:pt x="163" y="142"/>
                </a:lnTo>
                <a:lnTo>
                  <a:pt x="180" y="139"/>
                </a:lnTo>
                <a:lnTo>
                  <a:pt x="199" y="135"/>
                </a:lnTo>
                <a:lnTo>
                  <a:pt x="219" y="131"/>
                </a:lnTo>
                <a:lnTo>
                  <a:pt x="240" y="125"/>
                </a:lnTo>
                <a:lnTo>
                  <a:pt x="261" y="121"/>
                </a:lnTo>
                <a:lnTo>
                  <a:pt x="282" y="117"/>
                </a:lnTo>
                <a:lnTo>
                  <a:pt x="305" y="112"/>
                </a:lnTo>
                <a:lnTo>
                  <a:pt x="330" y="108"/>
                </a:lnTo>
                <a:lnTo>
                  <a:pt x="355" y="102"/>
                </a:lnTo>
                <a:lnTo>
                  <a:pt x="380" y="96"/>
                </a:lnTo>
                <a:lnTo>
                  <a:pt x="407" y="91"/>
                </a:lnTo>
                <a:lnTo>
                  <a:pt x="434" y="85"/>
                </a:lnTo>
                <a:lnTo>
                  <a:pt x="462" y="79"/>
                </a:lnTo>
                <a:lnTo>
                  <a:pt x="491" y="73"/>
                </a:lnTo>
                <a:lnTo>
                  <a:pt x="518" y="69"/>
                </a:lnTo>
                <a:lnTo>
                  <a:pt x="543" y="64"/>
                </a:lnTo>
                <a:lnTo>
                  <a:pt x="570" y="60"/>
                </a:lnTo>
                <a:lnTo>
                  <a:pt x="595" y="56"/>
                </a:lnTo>
                <a:lnTo>
                  <a:pt x="618" y="52"/>
                </a:lnTo>
                <a:lnTo>
                  <a:pt x="643" y="46"/>
                </a:lnTo>
                <a:lnTo>
                  <a:pt x="666" y="45"/>
                </a:lnTo>
                <a:lnTo>
                  <a:pt x="689" y="41"/>
                </a:lnTo>
                <a:lnTo>
                  <a:pt x="710" y="37"/>
                </a:lnTo>
                <a:lnTo>
                  <a:pt x="731" y="33"/>
                </a:lnTo>
                <a:lnTo>
                  <a:pt x="752" y="29"/>
                </a:lnTo>
                <a:lnTo>
                  <a:pt x="771" y="27"/>
                </a:lnTo>
                <a:lnTo>
                  <a:pt x="791" y="23"/>
                </a:lnTo>
                <a:lnTo>
                  <a:pt x="810" y="21"/>
                </a:lnTo>
                <a:lnTo>
                  <a:pt x="829" y="20"/>
                </a:lnTo>
                <a:lnTo>
                  <a:pt x="846" y="16"/>
                </a:lnTo>
                <a:lnTo>
                  <a:pt x="864" y="14"/>
                </a:lnTo>
                <a:lnTo>
                  <a:pt x="879" y="12"/>
                </a:lnTo>
                <a:lnTo>
                  <a:pt x="894" y="10"/>
                </a:lnTo>
                <a:lnTo>
                  <a:pt x="910" y="8"/>
                </a:lnTo>
                <a:lnTo>
                  <a:pt x="925" y="6"/>
                </a:lnTo>
                <a:lnTo>
                  <a:pt x="938" y="6"/>
                </a:lnTo>
                <a:lnTo>
                  <a:pt x="952" y="4"/>
                </a:lnTo>
                <a:lnTo>
                  <a:pt x="963" y="2"/>
                </a:lnTo>
                <a:lnTo>
                  <a:pt x="975" y="2"/>
                </a:lnTo>
                <a:lnTo>
                  <a:pt x="986" y="0"/>
                </a:lnTo>
                <a:lnTo>
                  <a:pt x="998" y="0"/>
                </a:lnTo>
                <a:lnTo>
                  <a:pt x="1008" y="0"/>
                </a:lnTo>
                <a:lnTo>
                  <a:pt x="1017" y="0"/>
                </a:lnTo>
                <a:lnTo>
                  <a:pt x="1027" y="0"/>
                </a:lnTo>
                <a:lnTo>
                  <a:pt x="1034" y="0"/>
                </a:lnTo>
                <a:lnTo>
                  <a:pt x="1048" y="0"/>
                </a:lnTo>
                <a:lnTo>
                  <a:pt x="1059" y="0"/>
                </a:lnTo>
                <a:lnTo>
                  <a:pt x="1071" y="0"/>
                </a:lnTo>
                <a:lnTo>
                  <a:pt x="1082" y="0"/>
                </a:lnTo>
                <a:lnTo>
                  <a:pt x="1094" y="0"/>
                </a:lnTo>
                <a:lnTo>
                  <a:pt x="1104" y="0"/>
                </a:lnTo>
                <a:lnTo>
                  <a:pt x="1113" y="0"/>
                </a:lnTo>
                <a:lnTo>
                  <a:pt x="1121" y="0"/>
                </a:lnTo>
                <a:lnTo>
                  <a:pt x="1130" y="2"/>
                </a:lnTo>
                <a:lnTo>
                  <a:pt x="1136" y="2"/>
                </a:lnTo>
                <a:lnTo>
                  <a:pt x="1144" y="4"/>
                </a:lnTo>
                <a:lnTo>
                  <a:pt x="1150" y="4"/>
                </a:lnTo>
                <a:lnTo>
                  <a:pt x="1153" y="6"/>
                </a:lnTo>
                <a:lnTo>
                  <a:pt x="1159" y="8"/>
                </a:lnTo>
                <a:lnTo>
                  <a:pt x="1161" y="10"/>
                </a:lnTo>
                <a:lnTo>
                  <a:pt x="1165" y="12"/>
                </a:lnTo>
                <a:lnTo>
                  <a:pt x="1169" y="18"/>
                </a:lnTo>
                <a:lnTo>
                  <a:pt x="1171" y="21"/>
                </a:lnTo>
                <a:lnTo>
                  <a:pt x="1173" y="27"/>
                </a:lnTo>
                <a:lnTo>
                  <a:pt x="1175" y="33"/>
                </a:lnTo>
                <a:lnTo>
                  <a:pt x="1176" y="37"/>
                </a:lnTo>
                <a:lnTo>
                  <a:pt x="1176" y="43"/>
                </a:lnTo>
                <a:lnTo>
                  <a:pt x="1176" y="52"/>
                </a:lnTo>
                <a:lnTo>
                  <a:pt x="1176" y="58"/>
                </a:lnTo>
                <a:lnTo>
                  <a:pt x="1175" y="62"/>
                </a:lnTo>
                <a:lnTo>
                  <a:pt x="1171" y="68"/>
                </a:lnTo>
                <a:lnTo>
                  <a:pt x="1167" y="73"/>
                </a:lnTo>
                <a:lnTo>
                  <a:pt x="1159" y="79"/>
                </a:lnTo>
                <a:lnTo>
                  <a:pt x="1155" y="83"/>
                </a:lnTo>
                <a:lnTo>
                  <a:pt x="1152" y="87"/>
                </a:lnTo>
                <a:lnTo>
                  <a:pt x="1146" y="91"/>
                </a:lnTo>
                <a:lnTo>
                  <a:pt x="1142" y="96"/>
                </a:lnTo>
                <a:lnTo>
                  <a:pt x="1136" y="100"/>
                </a:lnTo>
                <a:lnTo>
                  <a:pt x="1128" y="106"/>
                </a:lnTo>
                <a:lnTo>
                  <a:pt x="1121" y="110"/>
                </a:lnTo>
                <a:lnTo>
                  <a:pt x="1113" y="116"/>
                </a:lnTo>
                <a:lnTo>
                  <a:pt x="1102" y="119"/>
                </a:lnTo>
                <a:lnTo>
                  <a:pt x="1088" y="125"/>
                </a:lnTo>
                <a:lnTo>
                  <a:pt x="1075" y="129"/>
                </a:lnTo>
                <a:lnTo>
                  <a:pt x="1057" y="135"/>
                </a:lnTo>
                <a:lnTo>
                  <a:pt x="1038" y="139"/>
                </a:lnTo>
                <a:lnTo>
                  <a:pt x="1029" y="140"/>
                </a:lnTo>
                <a:lnTo>
                  <a:pt x="1019" y="142"/>
                </a:lnTo>
                <a:lnTo>
                  <a:pt x="1008" y="144"/>
                </a:lnTo>
                <a:lnTo>
                  <a:pt x="996" y="146"/>
                </a:lnTo>
                <a:lnTo>
                  <a:pt x="985" y="150"/>
                </a:lnTo>
                <a:lnTo>
                  <a:pt x="973" y="152"/>
                </a:lnTo>
                <a:lnTo>
                  <a:pt x="960" y="154"/>
                </a:lnTo>
                <a:lnTo>
                  <a:pt x="946" y="156"/>
                </a:lnTo>
                <a:lnTo>
                  <a:pt x="933" y="158"/>
                </a:lnTo>
                <a:lnTo>
                  <a:pt x="917" y="158"/>
                </a:lnTo>
                <a:lnTo>
                  <a:pt x="904" y="160"/>
                </a:lnTo>
                <a:lnTo>
                  <a:pt x="889" y="162"/>
                </a:lnTo>
                <a:lnTo>
                  <a:pt x="871" y="164"/>
                </a:lnTo>
                <a:lnTo>
                  <a:pt x="856" y="165"/>
                </a:lnTo>
                <a:lnTo>
                  <a:pt x="839" y="167"/>
                </a:lnTo>
                <a:lnTo>
                  <a:pt x="821" y="167"/>
                </a:lnTo>
                <a:lnTo>
                  <a:pt x="802" y="169"/>
                </a:lnTo>
                <a:lnTo>
                  <a:pt x="785" y="171"/>
                </a:lnTo>
                <a:lnTo>
                  <a:pt x="747" y="175"/>
                </a:lnTo>
                <a:lnTo>
                  <a:pt x="710" y="181"/>
                </a:lnTo>
                <a:lnTo>
                  <a:pt x="676" y="187"/>
                </a:lnTo>
                <a:lnTo>
                  <a:pt x="641" y="190"/>
                </a:lnTo>
                <a:lnTo>
                  <a:pt x="608" y="196"/>
                </a:lnTo>
                <a:lnTo>
                  <a:pt x="578" y="200"/>
                </a:lnTo>
                <a:lnTo>
                  <a:pt x="547" y="204"/>
                </a:lnTo>
                <a:lnTo>
                  <a:pt x="516" y="210"/>
                </a:lnTo>
                <a:lnTo>
                  <a:pt x="487" y="213"/>
                </a:lnTo>
                <a:lnTo>
                  <a:pt x="461" y="217"/>
                </a:lnTo>
                <a:lnTo>
                  <a:pt x="436" y="221"/>
                </a:lnTo>
                <a:lnTo>
                  <a:pt x="409" y="225"/>
                </a:lnTo>
                <a:lnTo>
                  <a:pt x="386" y="229"/>
                </a:lnTo>
                <a:lnTo>
                  <a:pt x="363" y="231"/>
                </a:lnTo>
                <a:lnTo>
                  <a:pt x="342" y="235"/>
                </a:lnTo>
                <a:lnTo>
                  <a:pt x="320" y="236"/>
                </a:lnTo>
                <a:lnTo>
                  <a:pt x="301" y="240"/>
                </a:lnTo>
                <a:lnTo>
                  <a:pt x="282" y="242"/>
                </a:lnTo>
                <a:lnTo>
                  <a:pt x="265" y="244"/>
                </a:lnTo>
                <a:lnTo>
                  <a:pt x="247" y="246"/>
                </a:lnTo>
                <a:lnTo>
                  <a:pt x="232" y="250"/>
                </a:lnTo>
                <a:lnTo>
                  <a:pt x="217" y="252"/>
                </a:lnTo>
                <a:lnTo>
                  <a:pt x="203" y="254"/>
                </a:lnTo>
                <a:lnTo>
                  <a:pt x="190" y="256"/>
                </a:lnTo>
                <a:lnTo>
                  <a:pt x="178" y="258"/>
                </a:lnTo>
                <a:lnTo>
                  <a:pt x="167" y="260"/>
                </a:lnTo>
                <a:lnTo>
                  <a:pt x="157" y="260"/>
                </a:lnTo>
                <a:lnTo>
                  <a:pt x="150" y="261"/>
                </a:lnTo>
                <a:lnTo>
                  <a:pt x="144" y="261"/>
                </a:lnTo>
                <a:lnTo>
                  <a:pt x="138" y="263"/>
                </a:lnTo>
                <a:lnTo>
                  <a:pt x="134" y="263"/>
                </a:lnTo>
                <a:lnTo>
                  <a:pt x="130" y="263"/>
                </a:lnTo>
                <a:lnTo>
                  <a:pt x="121" y="263"/>
                </a:lnTo>
                <a:lnTo>
                  <a:pt x="113" y="261"/>
                </a:lnTo>
                <a:lnTo>
                  <a:pt x="104" y="260"/>
                </a:lnTo>
                <a:lnTo>
                  <a:pt x="94" y="256"/>
                </a:lnTo>
                <a:lnTo>
                  <a:pt x="82" y="252"/>
                </a:lnTo>
                <a:lnTo>
                  <a:pt x="71" y="246"/>
                </a:lnTo>
                <a:lnTo>
                  <a:pt x="59" y="242"/>
                </a:lnTo>
                <a:lnTo>
                  <a:pt x="48" y="2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30"/>
          <p:cNvSpPr/>
          <p:nvPr/>
        </p:nvSpPr>
        <p:spPr>
          <a:xfrm>
            <a:off x="6637320" y="3780000"/>
            <a:ext cx="700200" cy="177480"/>
          </a:xfrm>
          <a:custGeom>
            <a:avLst/>
            <a:gdLst/>
            <a:ahLst/>
            <a:rect l="l" t="t" r="r" b="b"/>
            <a:pathLst>
              <a:path w="881" h="224">
                <a:moveTo>
                  <a:pt x="0" y="170"/>
                </a:moveTo>
                <a:lnTo>
                  <a:pt x="0" y="169"/>
                </a:lnTo>
                <a:lnTo>
                  <a:pt x="2" y="169"/>
                </a:lnTo>
                <a:lnTo>
                  <a:pt x="2" y="167"/>
                </a:lnTo>
                <a:lnTo>
                  <a:pt x="6" y="165"/>
                </a:lnTo>
                <a:lnTo>
                  <a:pt x="8" y="163"/>
                </a:lnTo>
                <a:lnTo>
                  <a:pt x="11" y="161"/>
                </a:lnTo>
                <a:lnTo>
                  <a:pt x="15" y="159"/>
                </a:lnTo>
                <a:lnTo>
                  <a:pt x="21" y="157"/>
                </a:lnTo>
                <a:lnTo>
                  <a:pt x="25" y="153"/>
                </a:lnTo>
                <a:lnTo>
                  <a:pt x="31" y="151"/>
                </a:lnTo>
                <a:lnTo>
                  <a:pt x="38" y="149"/>
                </a:lnTo>
                <a:lnTo>
                  <a:pt x="46" y="146"/>
                </a:lnTo>
                <a:lnTo>
                  <a:pt x="54" y="142"/>
                </a:lnTo>
                <a:lnTo>
                  <a:pt x="61" y="140"/>
                </a:lnTo>
                <a:lnTo>
                  <a:pt x="71" y="136"/>
                </a:lnTo>
                <a:lnTo>
                  <a:pt x="81" y="132"/>
                </a:lnTo>
                <a:lnTo>
                  <a:pt x="90" y="130"/>
                </a:lnTo>
                <a:lnTo>
                  <a:pt x="102" y="126"/>
                </a:lnTo>
                <a:lnTo>
                  <a:pt x="113" y="123"/>
                </a:lnTo>
                <a:lnTo>
                  <a:pt x="125" y="119"/>
                </a:lnTo>
                <a:lnTo>
                  <a:pt x="138" y="115"/>
                </a:lnTo>
                <a:lnTo>
                  <a:pt x="152" y="111"/>
                </a:lnTo>
                <a:lnTo>
                  <a:pt x="167" y="107"/>
                </a:lnTo>
                <a:lnTo>
                  <a:pt x="180" y="101"/>
                </a:lnTo>
                <a:lnTo>
                  <a:pt x="196" y="98"/>
                </a:lnTo>
                <a:lnTo>
                  <a:pt x="213" y="94"/>
                </a:lnTo>
                <a:lnTo>
                  <a:pt x="228" y="90"/>
                </a:lnTo>
                <a:lnTo>
                  <a:pt x="246" y="84"/>
                </a:lnTo>
                <a:lnTo>
                  <a:pt x="263" y="80"/>
                </a:lnTo>
                <a:lnTo>
                  <a:pt x="282" y="75"/>
                </a:lnTo>
                <a:lnTo>
                  <a:pt x="301" y="71"/>
                </a:lnTo>
                <a:lnTo>
                  <a:pt x="320" y="65"/>
                </a:lnTo>
                <a:lnTo>
                  <a:pt x="359" y="57"/>
                </a:lnTo>
                <a:lnTo>
                  <a:pt x="393" y="51"/>
                </a:lnTo>
                <a:lnTo>
                  <a:pt x="428" y="44"/>
                </a:lnTo>
                <a:lnTo>
                  <a:pt x="459" y="38"/>
                </a:lnTo>
                <a:lnTo>
                  <a:pt x="489" y="32"/>
                </a:lnTo>
                <a:lnTo>
                  <a:pt x="518" y="27"/>
                </a:lnTo>
                <a:lnTo>
                  <a:pt x="545" y="21"/>
                </a:lnTo>
                <a:lnTo>
                  <a:pt x="570" y="17"/>
                </a:lnTo>
                <a:lnTo>
                  <a:pt x="595" y="13"/>
                </a:lnTo>
                <a:lnTo>
                  <a:pt x="616" y="9"/>
                </a:lnTo>
                <a:lnTo>
                  <a:pt x="637" y="5"/>
                </a:lnTo>
                <a:lnTo>
                  <a:pt x="656" y="3"/>
                </a:lnTo>
                <a:lnTo>
                  <a:pt x="672" y="2"/>
                </a:lnTo>
                <a:lnTo>
                  <a:pt x="687" y="0"/>
                </a:lnTo>
                <a:lnTo>
                  <a:pt x="702" y="0"/>
                </a:lnTo>
                <a:lnTo>
                  <a:pt x="714" y="0"/>
                </a:lnTo>
                <a:lnTo>
                  <a:pt x="731" y="0"/>
                </a:lnTo>
                <a:lnTo>
                  <a:pt x="747" y="2"/>
                </a:lnTo>
                <a:lnTo>
                  <a:pt x="762" y="3"/>
                </a:lnTo>
                <a:lnTo>
                  <a:pt x="777" y="7"/>
                </a:lnTo>
                <a:lnTo>
                  <a:pt x="793" y="11"/>
                </a:lnTo>
                <a:lnTo>
                  <a:pt x="806" y="15"/>
                </a:lnTo>
                <a:lnTo>
                  <a:pt x="833" y="27"/>
                </a:lnTo>
                <a:lnTo>
                  <a:pt x="839" y="28"/>
                </a:lnTo>
                <a:lnTo>
                  <a:pt x="844" y="30"/>
                </a:lnTo>
                <a:lnTo>
                  <a:pt x="850" y="34"/>
                </a:lnTo>
                <a:lnTo>
                  <a:pt x="854" y="38"/>
                </a:lnTo>
                <a:lnTo>
                  <a:pt x="860" y="42"/>
                </a:lnTo>
                <a:lnTo>
                  <a:pt x="864" y="44"/>
                </a:lnTo>
                <a:lnTo>
                  <a:pt x="869" y="51"/>
                </a:lnTo>
                <a:lnTo>
                  <a:pt x="875" y="59"/>
                </a:lnTo>
                <a:lnTo>
                  <a:pt x="877" y="67"/>
                </a:lnTo>
                <a:lnTo>
                  <a:pt x="879" y="73"/>
                </a:lnTo>
                <a:lnTo>
                  <a:pt x="881" y="78"/>
                </a:lnTo>
                <a:lnTo>
                  <a:pt x="879" y="80"/>
                </a:lnTo>
                <a:lnTo>
                  <a:pt x="877" y="82"/>
                </a:lnTo>
                <a:lnTo>
                  <a:pt x="875" y="84"/>
                </a:lnTo>
                <a:lnTo>
                  <a:pt x="871" y="86"/>
                </a:lnTo>
                <a:lnTo>
                  <a:pt x="867" y="88"/>
                </a:lnTo>
                <a:lnTo>
                  <a:pt x="864" y="88"/>
                </a:lnTo>
                <a:lnTo>
                  <a:pt x="858" y="90"/>
                </a:lnTo>
                <a:lnTo>
                  <a:pt x="852" y="92"/>
                </a:lnTo>
                <a:lnTo>
                  <a:pt x="844" y="94"/>
                </a:lnTo>
                <a:lnTo>
                  <a:pt x="839" y="96"/>
                </a:lnTo>
                <a:lnTo>
                  <a:pt x="829" y="99"/>
                </a:lnTo>
                <a:lnTo>
                  <a:pt x="821" y="101"/>
                </a:lnTo>
                <a:lnTo>
                  <a:pt x="812" y="103"/>
                </a:lnTo>
                <a:lnTo>
                  <a:pt x="802" y="105"/>
                </a:lnTo>
                <a:lnTo>
                  <a:pt x="791" y="107"/>
                </a:lnTo>
                <a:lnTo>
                  <a:pt x="779" y="111"/>
                </a:lnTo>
                <a:lnTo>
                  <a:pt x="768" y="113"/>
                </a:lnTo>
                <a:lnTo>
                  <a:pt x="754" y="115"/>
                </a:lnTo>
                <a:lnTo>
                  <a:pt x="741" y="119"/>
                </a:lnTo>
                <a:lnTo>
                  <a:pt x="725" y="121"/>
                </a:lnTo>
                <a:lnTo>
                  <a:pt x="712" y="124"/>
                </a:lnTo>
                <a:lnTo>
                  <a:pt x="697" y="126"/>
                </a:lnTo>
                <a:lnTo>
                  <a:pt x="679" y="130"/>
                </a:lnTo>
                <a:lnTo>
                  <a:pt x="662" y="134"/>
                </a:lnTo>
                <a:lnTo>
                  <a:pt x="645" y="136"/>
                </a:lnTo>
                <a:lnTo>
                  <a:pt x="626" y="140"/>
                </a:lnTo>
                <a:lnTo>
                  <a:pt x="606" y="144"/>
                </a:lnTo>
                <a:lnTo>
                  <a:pt x="587" y="147"/>
                </a:lnTo>
                <a:lnTo>
                  <a:pt x="566" y="149"/>
                </a:lnTo>
                <a:lnTo>
                  <a:pt x="545" y="153"/>
                </a:lnTo>
                <a:lnTo>
                  <a:pt x="524" y="157"/>
                </a:lnTo>
                <a:lnTo>
                  <a:pt x="501" y="161"/>
                </a:lnTo>
                <a:lnTo>
                  <a:pt x="478" y="165"/>
                </a:lnTo>
                <a:lnTo>
                  <a:pt x="457" y="169"/>
                </a:lnTo>
                <a:lnTo>
                  <a:pt x="436" y="172"/>
                </a:lnTo>
                <a:lnTo>
                  <a:pt x="414" y="176"/>
                </a:lnTo>
                <a:lnTo>
                  <a:pt x="395" y="178"/>
                </a:lnTo>
                <a:lnTo>
                  <a:pt x="376" y="182"/>
                </a:lnTo>
                <a:lnTo>
                  <a:pt x="359" y="184"/>
                </a:lnTo>
                <a:lnTo>
                  <a:pt x="340" y="188"/>
                </a:lnTo>
                <a:lnTo>
                  <a:pt x="324" y="192"/>
                </a:lnTo>
                <a:lnTo>
                  <a:pt x="307" y="194"/>
                </a:lnTo>
                <a:lnTo>
                  <a:pt x="292" y="195"/>
                </a:lnTo>
                <a:lnTo>
                  <a:pt x="276" y="199"/>
                </a:lnTo>
                <a:lnTo>
                  <a:pt x="261" y="201"/>
                </a:lnTo>
                <a:lnTo>
                  <a:pt x="248" y="203"/>
                </a:lnTo>
                <a:lnTo>
                  <a:pt x="234" y="205"/>
                </a:lnTo>
                <a:lnTo>
                  <a:pt x="223" y="207"/>
                </a:lnTo>
                <a:lnTo>
                  <a:pt x="211" y="209"/>
                </a:lnTo>
                <a:lnTo>
                  <a:pt x="200" y="211"/>
                </a:lnTo>
                <a:lnTo>
                  <a:pt x="188" y="213"/>
                </a:lnTo>
                <a:lnTo>
                  <a:pt x="178" y="215"/>
                </a:lnTo>
                <a:lnTo>
                  <a:pt x="169" y="217"/>
                </a:lnTo>
                <a:lnTo>
                  <a:pt x="161" y="217"/>
                </a:lnTo>
                <a:lnTo>
                  <a:pt x="152" y="218"/>
                </a:lnTo>
                <a:lnTo>
                  <a:pt x="144" y="220"/>
                </a:lnTo>
                <a:lnTo>
                  <a:pt x="138" y="220"/>
                </a:lnTo>
                <a:lnTo>
                  <a:pt x="130" y="222"/>
                </a:lnTo>
                <a:lnTo>
                  <a:pt x="125" y="222"/>
                </a:lnTo>
                <a:lnTo>
                  <a:pt x="119" y="222"/>
                </a:lnTo>
                <a:lnTo>
                  <a:pt x="115" y="222"/>
                </a:lnTo>
                <a:lnTo>
                  <a:pt x="111" y="222"/>
                </a:lnTo>
                <a:lnTo>
                  <a:pt x="107" y="224"/>
                </a:lnTo>
                <a:lnTo>
                  <a:pt x="94" y="222"/>
                </a:lnTo>
                <a:lnTo>
                  <a:pt x="82" y="220"/>
                </a:lnTo>
                <a:lnTo>
                  <a:pt x="73" y="218"/>
                </a:lnTo>
                <a:lnTo>
                  <a:pt x="63" y="215"/>
                </a:lnTo>
                <a:lnTo>
                  <a:pt x="54" y="211"/>
                </a:lnTo>
                <a:lnTo>
                  <a:pt x="46" y="207"/>
                </a:lnTo>
                <a:lnTo>
                  <a:pt x="40" y="201"/>
                </a:lnTo>
                <a:lnTo>
                  <a:pt x="36" y="197"/>
                </a:lnTo>
                <a:lnTo>
                  <a:pt x="27" y="192"/>
                </a:lnTo>
                <a:lnTo>
                  <a:pt x="21" y="190"/>
                </a:lnTo>
                <a:lnTo>
                  <a:pt x="13" y="186"/>
                </a:lnTo>
                <a:lnTo>
                  <a:pt x="10" y="184"/>
                </a:lnTo>
                <a:lnTo>
                  <a:pt x="6" y="182"/>
                </a:lnTo>
                <a:lnTo>
                  <a:pt x="2" y="178"/>
                </a:lnTo>
                <a:lnTo>
                  <a:pt x="0" y="174"/>
                </a:lnTo>
                <a:lnTo>
                  <a:pt x="0" y="17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31"/>
          <p:cNvSpPr/>
          <p:nvPr/>
        </p:nvSpPr>
        <p:spPr>
          <a:xfrm>
            <a:off x="6599160" y="3371760"/>
            <a:ext cx="785880" cy="231840"/>
          </a:xfrm>
          <a:custGeom>
            <a:avLst/>
            <a:gdLst/>
            <a:ahLst/>
            <a:rect l="l" t="t" r="r" b="b"/>
            <a:pathLst>
              <a:path w="988" h="294">
                <a:moveTo>
                  <a:pt x="48" y="290"/>
                </a:moveTo>
                <a:lnTo>
                  <a:pt x="42" y="284"/>
                </a:lnTo>
                <a:lnTo>
                  <a:pt x="36" y="280"/>
                </a:lnTo>
                <a:lnTo>
                  <a:pt x="31" y="275"/>
                </a:lnTo>
                <a:lnTo>
                  <a:pt x="25" y="271"/>
                </a:lnTo>
                <a:lnTo>
                  <a:pt x="17" y="261"/>
                </a:lnTo>
                <a:lnTo>
                  <a:pt x="11" y="252"/>
                </a:lnTo>
                <a:lnTo>
                  <a:pt x="6" y="244"/>
                </a:lnTo>
                <a:lnTo>
                  <a:pt x="4" y="236"/>
                </a:lnTo>
                <a:lnTo>
                  <a:pt x="2" y="229"/>
                </a:lnTo>
                <a:lnTo>
                  <a:pt x="0" y="225"/>
                </a:lnTo>
                <a:lnTo>
                  <a:pt x="2" y="219"/>
                </a:lnTo>
                <a:lnTo>
                  <a:pt x="4" y="213"/>
                </a:lnTo>
                <a:lnTo>
                  <a:pt x="6" y="209"/>
                </a:lnTo>
                <a:lnTo>
                  <a:pt x="11" y="204"/>
                </a:lnTo>
                <a:lnTo>
                  <a:pt x="17" y="200"/>
                </a:lnTo>
                <a:lnTo>
                  <a:pt x="21" y="196"/>
                </a:lnTo>
                <a:lnTo>
                  <a:pt x="25" y="194"/>
                </a:lnTo>
                <a:lnTo>
                  <a:pt x="31" y="192"/>
                </a:lnTo>
                <a:lnTo>
                  <a:pt x="36" y="188"/>
                </a:lnTo>
                <a:lnTo>
                  <a:pt x="42" y="186"/>
                </a:lnTo>
                <a:lnTo>
                  <a:pt x="48" y="185"/>
                </a:lnTo>
                <a:lnTo>
                  <a:pt x="56" y="181"/>
                </a:lnTo>
                <a:lnTo>
                  <a:pt x="63" y="179"/>
                </a:lnTo>
                <a:lnTo>
                  <a:pt x="73" y="177"/>
                </a:lnTo>
                <a:lnTo>
                  <a:pt x="82" y="173"/>
                </a:lnTo>
                <a:lnTo>
                  <a:pt x="92" y="171"/>
                </a:lnTo>
                <a:lnTo>
                  <a:pt x="104" y="169"/>
                </a:lnTo>
                <a:lnTo>
                  <a:pt x="117" y="165"/>
                </a:lnTo>
                <a:lnTo>
                  <a:pt x="130" y="163"/>
                </a:lnTo>
                <a:lnTo>
                  <a:pt x="146" y="160"/>
                </a:lnTo>
                <a:lnTo>
                  <a:pt x="163" y="156"/>
                </a:lnTo>
                <a:lnTo>
                  <a:pt x="180" y="152"/>
                </a:lnTo>
                <a:lnTo>
                  <a:pt x="200" y="148"/>
                </a:lnTo>
                <a:lnTo>
                  <a:pt x="219" y="144"/>
                </a:lnTo>
                <a:lnTo>
                  <a:pt x="240" y="140"/>
                </a:lnTo>
                <a:lnTo>
                  <a:pt x="263" y="137"/>
                </a:lnTo>
                <a:lnTo>
                  <a:pt x="286" y="131"/>
                </a:lnTo>
                <a:lnTo>
                  <a:pt x="334" y="125"/>
                </a:lnTo>
                <a:lnTo>
                  <a:pt x="382" y="119"/>
                </a:lnTo>
                <a:lnTo>
                  <a:pt x="428" y="112"/>
                </a:lnTo>
                <a:lnTo>
                  <a:pt x="474" y="102"/>
                </a:lnTo>
                <a:lnTo>
                  <a:pt x="520" y="92"/>
                </a:lnTo>
                <a:lnTo>
                  <a:pt x="566" y="79"/>
                </a:lnTo>
                <a:lnTo>
                  <a:pt x="610" y="67"/>
                </a:lnTo>
                <a:lnTo>
                  <a:pt x="654" y="52"/>
                </a:lnTo>
                <a:lnTo>
                  <a:pt x="674" y="44"/>
                </a:lnTo>
                <a:lnTo>
                  <a:pt x="693" y="39"/>
                </a:lnTo>
                <a:lnTo>
                  <a:pt x="710" y="33"/>
                </a:lnTo>
                <a:lnTo>
                  <a:pt x="727" y="27"/>
                </a:lnTo>
                <a:lnTo>
                  <a:pt x="745" y="21"/>
                </a:lnTo>
                <a:lnTo>
                  <a:pt x="758" y="18"/>
                </a:lnTo>
                <a:lnTo>
                  <a:pt x="773" y="14"/>
                </a:lnTo>
                <a:lnTo>
                  <a:pt x="787" y="10"/>
                </a:lnTo>
                <a:lnTo>
                  <a:pt x="798" y="8"/>
                </a:lnTo>
                <a:lnTo>
                  <a:pt x="810" y="6"/>
                </a:lnTo>
                <a:lnTo>
                  <a:pt x="821" y="4"/>
                </a:lnTo>
                <a:lnTo>
                  <a:pt x="829" y="2"/>
                </a:lnTo>
                <a:lnTo>
                  <a:pt x="839" y="0"/>
                </a:lnTo>
                <a:lnTo>
                  <a:pt x="846" y="0"/>
                </a:lnTo>
                <a:lnTo>
                  <a:pt x="852" y="0"/>
                </a:lnTo>
                <a:lnTo>
                  <a:pt x="856" y="0"/>
                </a:lnTo>
                <a:lnTo>
                  <a:pt x="866" y="0"/>
                </a:lnTo>
                <a:lnTo>
                  <a:pt x="875" y="2"/>
                </a:lnTo>
                <a:lnTo>
                  <a:pt x="885" y="4"/>
                </a:lnTo>
                <a:lnTo>
                  <a:pt x="894" y="8"/>
                </a:lnTo>
                <a:lnTo>
                  <a:pt x="904" y="12"/>
                </a:lnTo>
                <a:lnTo>
                  <a:pt x="915" y="16"/>
                </a:lnTo>
                <a:lnTo>
                  <a:pt x="927" y="21"/>
                </a:lnTo>
                <a:lnTo>
                  <a:pt x="940" y="27"/>
                </a:lnTo>
                <a:lnTo>
                  <a:pt x="946" y="31"/>
                </a:lnTo>
                <a:lnTo>
                  <a:pt x="952" y="37"/>
                </a:lnTo>
                <a:lnTo>
                  <a:pt x="958" y="41"/>
                </a:lnTo>
                <a:lnTo>
                  <a:pt x="962" y="46"/>
                </a:lnTo>
                <a:lnTo>
                  <a:pt x="971" y="56"/>
                </a:lnTo>
                <a:lnTo>
                  <a:pt x="977" y="64"/>
                </a:lnTo>
                <a:lnTo>
                  <a:pt x="983" y="71"/>
                </a:lnTo>
                <a:lnTo>
                  <a:pt x="985" y="79"/>
                </a:lnTo>
                <a:lnTo>
                  <a:pt x="987" y="87"/>
                </a:lnTo>
                <a:lnTo>
                  <a:pt x="988" y="92"/>
                </a:lnTo>
                <a:lnTo>
                  <a:pt x="987" y="94"/>
                </a:lnTo>
                <a:lnTo>
                  <a:pt x="987" y="96"/>
                </a:lnTo>
                <a:lnTo>
                  <a:pt x="985" y="100"/>
                </a:lnTo>
                <a:lnTo>
                  <a:pt x="981" y="102"/>
                </a:lnTo>
                <a:lnTo>
                  <a:pt x="977" y="106"/>
                </a:lnTo>
                <a:lnTo>
                  <a:pt x="973" y="108"/>
                </a:lnTo>
                <a:lnTo>
                  <a:pt x="967" y="112"/>
                </a:lnTo>
                <a:lnTo>
                  <a:pt x="960" y="113"/>
                </a:lnTo>
                <a:lnTo>
                  <a:pt x="954" y="117"/>
                </a:lnTo>
                <a:lnTo>
                  <a:pt x="946" y="121"/>
                </a:lnTo>
                <a:lnTo>
                  <a:pt x="937" y="125"/>
                </a:lnTo>
                <a:lnTo>
                  <a:pt x="927" y="127"/>
                </a:lnTo>
                <a:lnTo>
                  <a:pt x="915" y="131"/>
                </a:lnTo>
                <a:lnTo>
                  <a:pt x="904" y="135"/>
                </a:lnTo>
                <a:lnTo>
                  <a:pt x="892" y="138"/>
                </a:lnTo>
                <a:lnTo>
                  <a:pt x="879" y="142"/>
                </a:lnTo>
                <a:lnTo>
                  <a:pt x="866" y="146"/>
                </a:lnTo>
                <a:lnTo>
                  <a:pt x="850" y="150"/>
                </a:lnTo>
                <a:lnTo>
                  <a:pt x="835" y="156"/>
                </a:lnTo>
                <a:lnTo>
                  <a:pt x="818" y="160"/>
                </a:lnTo>
                <a:lnTo>
                  <a:pt x="800" y="163"/>
                </a:lnTo>
                <a:lnTo>
                  <a:pt x="781" y="169"/>
                </a:lnTo>
                <a:lnTo>
                  <a:pt x="762" y="173"/>
                </a:lnTo>
                <a:lnTo>
                  <a:pt x="741" y="179"/>
                </a:lnTo>
                <a:lnTo>
                  <a:pt x="720" y="185"/>
                </a:lnTo>
                <a:lnTo>
                  <a:pt x="699" y="188"/>
                </a:lnTo>
                <a:lnTo>
                  <a:pt x="676" y="194"/>
                </a:lnTo>
                <a:lnTo>
                  <a:pt x="653" y="200"/>
                </a:lnTo>
                <a:lnTo>
                  <a:pt x="628" y="206"/>
                </a:lnTo>
                <a:lnTo>
                  <a:pt x="601" y="211"/>
                </a:lnTo>
                <a:lnTo>
                  <a:pt x="576" y="217"/>
                </a:lnTo>
                <a:lnTo>
                  <a:pt x="547" y="225"/>
                </a:lnTo>
                <a:lnTo>
                  <a:pt x="520" y="231"/>
                </a:lnTo>
                <a:lnTo>
                  <a:pt x="493" y="236"/>
                </a:lnTo>
                <a:lnTo>
                  <a:pt x="468" y="242"/>
                </a:lnTo>
                <a:lnTo>
                  <a:pt x="441" y="246"/>
                </a:lnTo>
                <a:lnTo>
                  <a:pt x="418" y="252"/>
                </a:lnTo>
                <a:lnTo>
                  <a:pt x="393" y="256"/>
                </a:lnTo>
                <a:lnTo>
                  <a:pt x="370" y="261"/>
                </a:lnTo>
                <a:lnTo>
                  <a:pt x="349" y="265"/>
                </a:lnTo>
                <a:lnTo>
                  <a:pt x="328" y="269"/>
                </a:lnTo>
                <a:lnTo>
                  <a:pt x="307" y="271"/>
                </a:lnTo>
                <a:lnTo>
                  <a:pt x="288" y="275"/>
                </a:lnTo>
                <a:lnTo>
                  <a:pt x="269" y="279"/>
                </a:lnTo>
                <a:lnTo>
                  <a:pt x="249" y="280"/>
                </a:lnTo>
                <a:lnTo>
                  <a:pt x="232" y="282"/>
                </a:lnTo>
                <a:lnTo>
                  <a:pt x="215" y="284"/>
                </a:lnTo>
                <a:lnTo>
                  <a:pt x="200" y="286"/>
                </a:lnTo>
                <a:lnTo>
                  <a:pt x="184" y="288"/>
                </a:lnTo>
                <a:lnTo>
                  <a:pt x="171" y="290"/>
                </a:lnTo>
                <a:lnTo>
                  <a:pt x="155" y="292"/>
                </a:lnTo>
                <a:lnTo>
                  <a:pt x="144" y="292"/>
                </a:lnTo>
                <a:lnTo>
                  <a:pt x="130" y="294"/>
                </a:lnTo>
                <a:lnTo>
                  <a:pt x="119" y="294"/>
                </a:lnTo>
                <a:lnTo>
                  <a:pt x="109" y="294"/>
                </a:lnTo>
                <a:lnTo>
                  <a:pt x="100" y="294"/>
                </a:lnTo>
                <a:lnTo>
                  <a:pt x="90" y="294"/>
                </a:lnTo>
                <a:lnTo>
                  <a:pt x="82" y="294"/>
                </a:lnTo>
                <a:lnTo>
                  <a:pt x="75" y="294"/>
                </a:lnTo>
                <a:lnTo>
                  <a:pt x="67" y="294"/>
                </a:lnTo>
                <a:lnTo>
                  <a:pt x="61" y="292"/>
                </a:lnTo>
                <a:lnTo>
                  <a:pt x="56" y="292"/>
                </a:lnTo>
                <a:lnTo>
                  <a:pt x="52" y="290"/>
                </a:lnTo>
                <a:lnTo>
                  <a:pt x="48" y="2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32"/>
          <p:cNvSpPr/>
          <p:nvPr/>
        </p:nvSpPr>
        <p:spPr>
          <a:xfrm>
            <a:off x="7070760" y="2811600"/>
            <a:ext cx="398520" cy="468000"/>
          </a:xfrm>
          <a:custGeom>
            <a:avLst/>
            <a:gdLst/>
            <a:ahLst/>
            <a:rect l="l" t="t" r="r" b="b"/>
            <a:pathLst>
              <a:path w="503" h="589">
                <a:moveTo>
                  <a:pt x="501" y="163"/>
                </a:moveTo>
                <a:lnTo>
                  <a:pt x="503" y="169"/>
                </a:lnTo>
                <a:lnTo>
                  <a:pt x="503" y="174"/>
                </a:lnTo>
                <a:lnTo>
                  <a:pt x="501" y="180"/>
                </a:lnTo>
                <a:lnTo>
                  <a:pt x="499" y="188"/>
                </a:lnTo>
                <a:lnTo>
                  <a:pt x="495" y="196"/>
                </a:lnTo>
                <a:lnTo>
                  <a:pt x="491" y="203"/>
                </a:lnTo>
                <a:lnTo>
                  <a:pt x="484" y="213"/>
                </a:lnTo>
                <a:lnTo>
                  <a:pt x="478" y="222"/>
                </a:lnTo>
                <a:lnTo>
                  <a:pt x="468" y="232"/>
                </a:lnTo>
                <a:lnTo>
                  <a:pt x="459" y="244"/>
                </a:lnTo>
                <a:lnTo>
                  <a:pt x="449" y="255"/>
                </a:lnTo>
                <a:lnTo>
                  <a:pt x="438" y="267"/>
                </a:lnTo>
                <a:lnTo>
                  <a:pt x="424" y="278"/>
                </a:lnTo>
                <a:lnTo>
                  <a:pt x="413" y="292"/>
                </a:lnTo>
                <a:lnTo>
                  <a:pt x="397" y="307"/>
                </a:lnTo>
                <a:lnTo>
                  <a:pt x="382" y="320"/>
                </a:lnTo>
                <a:lnTo>
                  <a:pt x="351" y="351"/>
                </a:lnTo>
                <a:lnTo>
                  <a:pt x="321" y="378"/>
                </a:lnTo>
                <a:lnTo>
                  <a:pt x="290" y="405"/>
                </a:lnTo>
                <a:lnTo>
                  <a:pt x="257" y="430"/>
                </a:lnTo>
                <a:lnTo>
                  <a:pt x="227" y="455"/>
                </a:lnTo>
                <a:lnTo>
                  <a:pt x="196" y="476"/>
                </a:lnTo>
                <a:lnTo>
                  <a:pt x="163" y="499"/>
                </a:lnTo>
                <a:lnTo>
                  <a:pt x="132" y="520"/>
                </a:lnTo>
                <a:lnTo>
                  <a:pt x="117" y="530"/>
                </a:lnTo>
                <a:lnTo>
                  <a:pt x="104" y="537"/>
                </a:lnTo>
                <a:lnTo>
                  <a:pt x="90" y="547"/>
                </a:lnTo>
                <a:lnTo>
                  <a:pt x="79" y="555"/>
                </a:lnTo>
                <a:lnTo>
                  <a:pt x="69" y="560"/>
                </a:lnTo>
                <a:lnTo>
                  <a:pt x="58" y="566"/>
                </a:lnTo>
                <a:lnTo>
                  <a:pt x="50" y="572"/>
                </a:lnTo>
                <a:lnTo>
                  <a:pt x="40" y="578"/>
                </a:lnTo>
                <a:lnTo>
                  <a:pt x="33" y="581"/>
                </a:lnTo>
                <a:lnTo>
                  <a:pt x="27" y="583"/>
                </a:lnTo>
                <a:lnTo>
                  <a:pt x="21" y="587"/>
                </a:lnTo>
                <a:lnTo>
                  <a:pt x="15" y="587"/>
                </a:lnTo>
                <a:lnTo>
                  <a:pt x="12" y="589"/>
                </a:lnTo>
                <a:lnTo>
                  <a:pt x="8" y="587"/>
                </a:lnTo>
                <a:lnTo>
                  <a:pt x="4" y="587"/>
                </a:lnTo>
                <a:lnTo>
                  <a:pt x="2" y="585"/>
                </a:lnTo>
                <a:lnTo>
                  <a:pt x="0" y="581"/>
                </a:lnTo>
                <a:lnTo>
                  <a:pt x="0" y="579"/>
                </a:lnTo>
                <a:lnTo>
                  <a:pt x="0" y="574"/>
                </a:lnTo>
                <a:lnTo>
                  <a:pt x="0" y="570"/>
                </a:lnTo>
                <a:lnTo>
                  <a:pt x="2" y="564"/>
                </a:lnTo>
                <a:lnTo>
                  <a:pt x="4" y="558"/>
                </a:lnTo>
                <a:lnTo>
                  <a:pt x="8" y="551"/>
                </a:lnTo>
                <a:lnTo>
                  <a:pt x="13" y="543"/>
                </a:lnTo>
                <a:lnTo>
                  <a:pt x="19" y="533"/>
                </a:lnTo>
                <a:lnTo>
                  <a:pt x="25" y="524"/>
                </a:lnTo>
                <a:lnTo>
                  <a:pt x="33" y="512"/>
                </a:lnTo>
                <a:lnTo>
                  <a:pt x="40" y="501"/>
                </a:lnTo>
                <a:lnTo>
                  <a:pt x="50" y="487"/>
                </a:lnTo>
                <a:lnTo>
                  <a:pt x="61" y="472"/>
                </a:lnTo>
                <a:lnTo>
                  <a:pt x="73" y="457"/>
                </a:lnTo>
                <a:lnTo>
                  <a:pt x="86" y="439"/>
                </a:lnTo>
                <a:lnTo>
                  <a:pt x="98" y="424"/>
                </a:lnTo>
                <a:lnTo>
                  <a:pt x="111" y="411"/>
                </a:lnTo>
                <a:lnTo>
                  <a:pt x="123" y="395"/>
                </a:lnTo>
                <a:lnTo>
                  <a:pt x="134" y="380"/>
                </a:lnTo>
                <a:lnTo>
                  <a:pt x="155" y="351"/>
                </a:lnTo>
                <a:lnTo>
                  <a:pt x="177" y="322"/>
                </a:lnTo>
                <a:lnTo>
                  <a:pt x="194" y="293"/>
                </a:lnTo>
                <a:lnTo>
                  <a:pt x="211" y="267"/>
                </a:lnTo>
                <a:lnTo>
                  <a:pt x="227" y="240"/>
                </a:lnTo>
                <a:lnTo>
                  <a:pt x="240" y="215"/>
                </a:lnTo>
                <a:lnTo>
                  <a:pt x="246" y="203"/>
                </a:lnTo>
                <a:lnTo>
                  <a:pt x="251" y="192"/>
                </a:lnTo>
                <a:lnTo>
                  <a:pt x="257" y="180"/>
                </a:lnTo>
                <a:lnTo>
                  <a:pt x="261" y="171"/>
                </a:lnTo>
                <a:lnTo>
                  <a:pt x="267" y="161"/>
                </a:lnTo>
                <a:lnTo>
                  <a:pt x="269" y="151"/>
                </a:lnTo>
                <a:lnTo>
                  <a:pt x="273" y="142"/>
                </a:lnTo>
                <a:lnTo>
                  <a:pt x="274" y="132"/>
                </a:lnTo>
                <a:lnTo>
                  <a:pt x="276" y="125"/>
                </a:lnTo>
                <a:lnTo>
                  <a:pt x="278" y="117"/>
                </a:lnTo>
                <a:lnTo>
                  <a:pt x="280" y="107"/>
                </a:lnTo>
                <a:lnTo>
                  <a:pt x="280" y="100"/>
                </a:lnTo>
                <a:lnTo>
                  <a:pt x="280" y="92"/>
                </a:lnTo>
                <a:lnTo>
                  <a:pt x="278" y="84"/>
                </a:lnTo>
                <a:lnTo>
                  <a:pt x="278" y="78"/>
                </a:lnTo>
                <a:lnTo>
                  <a:pt x="276" y="71"/>
                </a:lnTo>
                <a:lnTo>
                  <a:pt x="274" y="63"/>
                </a:lnTo>
                <a:lnTo>
                  <a:pt x="273" y="57"/>
                </a:lnTo>
                <a:lnTo>
                  <a:pt x="271" y="50"/>
                </a:lnTo>
                <a:lnTo>
                  <a:pt x="271" y="46"/>
                </a:lnTo>
                <a:lnTo>
                  <a:pt x="273" y="36"/>
                </a:lnTo>
                <a:lnTo>
                  <a:pt x="274" y="27"/>
                </a:lnTo>
                <a:lnTo>
                  <a:pt x="278" y="21"/>
                </a:lnTo>
                <a:lnTo>
                  <a:pt x="284" y="15"/>
                </a:lnTo>
                <a:lnTo>
                  <a:pt x="292" y="9"/>
                </a:lnTo>
                <a:lnTo>
                  <a:pt x="299" y="4"/>
                </a:lnTo>
                <a:lnTo>
                  <a:pt x="301" y="2"/>
                </a:lnTo>
                <a:lnTo>
                  <a:pt x="305" y="0"/>
                </a:lnTo>
                <a:lnTo>
                  <a:pt x="309" y="0"/>
                </a:lnTo>
                <a:lnTo>
                  <a:pt x="315" y="0"/>
                </a:lnTo>
                <a:lnTo>
                  <a:pt x="321" y="0"/>
                </a:lnTo>
                <a:lnTo>
                  <a:pt x="326" y="0"/>
                </a:lnTo>
                <a:lnTo>
                  <a:pt x="334" y="2"/>
                </a:lnTo>
                <a:lnTo>
                  <a:pt x="342" y="4"/>
                </a:lnTo>
                <a:lnTo>
                  <a:pt x="349" y="7"/>
                </a:lnTo>
                <a:lnTo>
                  <a:pt x="357" y="9"/>
                </a:lnTo>
                <a:lnTo>
                  <a:pt x="367" y="15"/>
                </a:lnTo>
                <a:lnTo>
                  <a:pt x="376" y="19"/>
                </a:lnTo>
                <a:lnTo>
                  <a:pt x="386" y="25"/>
                </a:lnTo>
                <a:lnTo>
                  <a:pt x="397" y="31"/>
                </a:lnTo>
                <a:lnTo>
                  <a:pt x="407" y="36"/>
                </a:lnTo>
                <a:lnTo>
                  <a:pt x="418" y="44"/>
                </a:lnTo>
                <a:lnTo>
                  <a:pt x="428" y="52"/>
                </a:lnTo>
                <a:lnTo>
                  <a:pt x="438" y="59"/>
                </a:lnTo>
                <a:lnTo>
                  <a:pt x="447" y="67"/>
                </a:lnTo>
                <a:lnTo>
                  <a:pt x="457" y="75"/>
                </a:lnTo>
                <a:lnTo>
                  <a:pt x="463" y="82"/>
                </a:lnTo>
                <a:lnTo>
                  <a:pt x="470" y="88"/>
                </a:lnTo>
                <a:lnTo>
                  <a:pt x="476" y="96"/>
                </a:lnTo>
                <a:lnTo>
                  <a:pt x="482" y="103"/>
                </a:lnTo>
                <a:lnTo>
                  <a:pt x="488" y="111"/>
                </a:lnTo>
                <a:lnTo>
                  <a:pt x="491" y="119"/>
                </a:lnTo>
                <a:lnTo>
                  <a:pt x="493" y="126"/>
                </a:lnTo>
                <a:lnTo>
                  <a:pt x="497" y="132"/>
                </a:lnTo>
                <a:lnTo>
                  <a:pt x="499" y="140"/>
                </a:lnTo>
                <a:lnTo>
                  <a:pt x="501" y="148"/>
                </a:lnTo>
                <a:lnTo>
                  <a:pt x="501" y="155"/>
                </a:lnTo>
                <a:lnTo>
                  <a:pt x="501" y="1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33"/>
          <p:cNvSpPr/>
          <p:nvPr/>
        </p:nvSpPr>
        <p:spPr>
          <a:xfrm>
            <a:off x="6643800" y="3003480"/>
            <a:ext cx="239760" cy="284400"/>
          </a:xfrm>
          <a:custGeom>
            <a:avLst/>
            <a:gdLst/>
            <a:ahLst/>
            <a:rect l="l" t="t" r="r" b="b"/>
            <a:pathLst>
              <a:path w="301" h="357">
                <a:moveTo>
                  <a:pt x="3" y="27"/>
                </a:moveTo>
                <a:lnTo>
                  <a:pt x="9" y="21"/>
                </a:lnTo>
                <a:lnTo>
                  <a:pt x="13" y="17"/>
                </a:lnTo>
                <a:lnTo>
                  <a:pt x="19" y="11"/>
                </a:lnTo>
                <a:lnTo>
                  <a:pt x="25" y="7"/>
                </a:lnTo>
                <a:lnTo>
                  <a:pt x="32" y="5"/>
                </a:lnTo>
                <a:lnTo>
                  <a:pt x="42" y="2"/>
                </a:lnTo>
                <a:lnTo>
                  <a:pt x="46" y="2"/>
                </a:lnTo>
                <a:lnTo>
                  <a:pt x="51" y="0"/>
                </a:lnTo>
                <a:lnTo>
                  <a:pt x="57" y="0"/>
                </a:lnTo>
                <a:lnTo>
                  <a:pt x="63" y="0"/>
                </a:lnTo>
                <a:lnTo>
                  <a:pt x="76" y="0"/>
                </a:lnTo>
                <a:lnTo>
                  <a:pt x="90" y="2"/>
                </a:lnTo>
                <a:lnTo>
                  <a:pt x="105" y="5"/>
                </a:lnTo>
                <a:lnTo>
                  <a:pt x="121" y="7"/>
                </a:lnTo>
                <a:lnTo>
                  <a:pt x="136" y="11"/>
                </a:lnTo>
                <a:lnTo>
                  <a:pt x="153" y="17"/>
                </a:lnTo>
                <a:lnTo>
                  <a:pt x="163" y="19"/>
                </a:lnTo>
                <a:lnTo>
                  <a:pt x="172" y="21"/>
                </a:lnTo>
                <a:lnTo>
                  <a:pt x="184" y="23"/>
                </a:lnTo>
                <a:lnTo>
                  <a:pt x="195" y="27"/>
                </a:lnTo>
                <a:lnTo>
                  <a:pt x="211" y="36"/>
                </a:lnTo>
                <a:lnTo>
                  <a:pt x="228" y="46"/>
                </a:lnTo>
                <a:lnTo>
                  <a:pt x="241" y="57"/>
                </a:lnTo>
                <a:lnTo>
                  <a:pt x="255" y="67"/>
                </a:lnTo>
                <a:lnTo>
                  <a:pt x="266" y="78"/>
                </a:lnTo>
                <a:lnTo>
                  <a:pt x="272" y="84"/>
                </a:lnTo>
                <a:lnTo>
                  <a:pt x="276" y="92"/>
                </a:lnTo>
                <a:lnTo>
                  <a:pt x="280" y="98"/>
                </a:lnTo>
                <a:lnTo>
                  <a:pt x="284" y="105"/>
                </a:lnTo>
                <a:lnTo>
                  <a:pt x="287" y="111"/>
                </a:lnTo>
                <a:lnTo>
                  <a:pt x="289" y="119"/>
                </a:lnTo>
                <a:lnTo>
                  <a:pt x="293" y="134"/>
                </a:lnTo>
                <a:lnTo>
                  <a:pt x="297" y="147"/>
                </a:lnTo>
                <a:lnTo>
                  <a:pt x="299" y="163"/>
                </a:lnTo>
                <a:lnTo>
                  <a:pt x="299" y="178"/>
                </a:lnTo>
                <a:lnTo>
                  <a:pt x="301" y="194"/>
                </a:lnTo>
                <a:lnTo>
                  <a:pt x="301" y="207"/>
                </a:lnTo>
                <a:lnTo>
                  <a:pt x="301" y="238"/>
                </a:lnTo>
                <a:lnTo>
                  <a:pt x="301" y="247"/>
                </a:lnTo>
                <a:lnTo>
                  <a:pt x="301" y="255"/>
                </a:lnTo>
                <a:lnTo>
                  <a:pt x="301" y="265"/>
                </a:lnTo>
                <a:lnTo>
                  <a:pt x="301" y="272"/>
                </a:lnTo>
                <a:lnTo>
                  <a:pt x="301" y="280"/>
                </a:lnTo>
                <a:lnTo>
                  <a:pt x="301" y="286"/>
                </a:lnTo>
                <a:lnTo>
                  <a:pt x="301" y="293"/>
                </a:lnTo>
                <a:lnTo>
                  <a:pt x="299" y="299"/>
                </a:lnTo>
                <a:lnTo>
                  <a:pt x="299" y="309"/>
                </a:lnTo>
                <a:lnTo>
                  <a:pt x="297" y="316"/>
                </a:lnTo>
                <a:lnTo>
                  <a:pt x="293" y="324"/>
                </a:lnTo>
                <a:lnTo>
                  <a:pt x="289" y="330"/>
                </a:lnTo>
                <a:lnTo>
                  <a:pt x="280" y="339"/>
                </a:lnTo>
                <a:lnTo>
                  <a:pt x="276" y="343"/>
                </a:lnTo>
                <a:lnTo>
                  <a:pt x="272" y="347"/>
                </a:lnTo>
                <a:lnTo>
                  <a:pt x="266" y="351"/>
                </a:lnTo>
                <a:lnTo>
                  <a:pt x="263" y="355"/>
                </a:lnTo>
                <a:lnTo>
                  <a:pt x="259" y="355"/>
                </a:lnTo>
                <a:lnTo>
                  <a:pt x="253" y="357"/>
                </a:lnTo>
                <a:lnTo>
                  <a:pt x="251" y="357"/>
                </a:lnTo>
                <a:lnTo>
                  <a:pt x="249" y="355"/>
                </a:lnTo>
                <a:lnTo>
                  <a:pt x="245" y="353"/>
                </a:lnTo>
                <a:lnTo>
                  <a:pt x="241" y="351"/>
                </a:lnTo>
                <a:lnTo>
                  <a:pt x="238" y="349"/>
                </a:lnTo>
                <a:lnTo>
                  <a:pt x="234" y="345"/>
                </a:lnTo>
                <a:lnTo>
                  <a:pt x="230" y="339"/>
                </a:lnTo>
                <a:lnTo>
                  <a:pt x="224" y="336"/>
                </a:lnTo>
                <a:lnTo>
                  <a:pt x="218" y="330"/>
                </a:lnTo>
                <a:lnTo>
                  <a:pt x="211" y="322"/>
                </a:lnTo>
                <a:lnTo>
                  <a:pt x="205" y="314"/>
                </a:lnTo>
                <a:lnTo>
                  <a:pt x="197" y="307"/>
                </a:lnTo>
                <a:lnTo>
                  <a:pt x="188" y="297"/>
                </a:lnTo>
                <a:lnTo>
                  <a:pt x="178" y="288"/>
                </a:lnTo>
                <a:lnTo>
                  <a:pt x="168" y="276"/>
                </a:lnTo>
                <a:lnTo>
                  <a:pt x="159" y="265"/>
                </a:lnTo>
                <a:lnTo>
                  <a:pt x="147" y="253"/>
                </a:lnTo>
                <a:lnTo>
                  <a:pt x="138" y="243"/>
                </a:lnTo>
                <a:lnTo>
                  <a:pt x="128" y="234"/>
                </a:lnTo>
                <a:lnTo>
                  <a:pt x="119" y="224"/>
                </a:lnTo>
                <a:lnTo>
                  <a:pt x="101" y="205"/>
                </a:lnTo>
                <a:lnTo>
                  <a:pt x="86" y="184"/>
                </a:lnTo>
                <a:lnTo>
                  <a:pt x="73" y="165"/>
                </a:lnTo>
                <a:lnTo>
                  <a:pt x="59" y="146"/>
                </a:lnTo>
                <a:lnTo>
                  <a:pt x="49" y="124"/>
                </a:lnTo>
                <a:lnTo>
                  <a:pt x="40" y="105"/>
                </a:lnTo>
                <a:lnTo>
                  <a:pt x="32" y="98"/>
                </a:lnTo>
                <a:lnTo>
                  <a:pt x="26" y="92"/>
                </a:lnTo>
                <a:lnTo>
                  <a:pt x="23" y="84"/>
                </a:lnTo>
                <a:lnTo>
                  <a:pt x="17" y="78"/>
                </a:lnTo>
                <a:lnTo>
                  <a:pt x="13" y="73"/>
                </a:lnTo>
                <a:lnTo>
                  <a:pt x="9" y="67"/>
                </a:lnTo>
                <a:lnTo>
                  <a:pt x="7" y="61"/>
                </a:lnTo>
                <a:lnTo>
                  <a:pt x="3" y="55"/>
                </a:lnTo>
                <a:lnTo>
                  <a:pt x="2" y="51"/>
                </a:lnTo>
                <a:lnTo>
                  <a:pt x="2" y="46"/>
                </a:lnTo>
                <a:lnTo>
                  <a:pt x="0" y="42"/>
                </a:lnTo>
                <a:lnTo>
                  <a:pt x="0" y="38"/>
                </a:lnTo>
                <a:lnTo>
                  <a:pt x="0" y="34"/>
                </a:lnTo>
                <a:lnTo>
                  <a:pt x="2" y="32"/>
                </a:lnTo>
                <a:lnTo>
                  <a:pt x="2" y="28"/>
                </a:lnTo>
                <a:lnTo>
                  <a:pt x="3" y="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34"/>
          <p:cNvSpPr/>
          <p:nvPr/>
        </p:nvSpPr>
        <p:spPr>
          <a:xfrm>
            <a:off x="6129360" y="4056120"/>
            <a:ext cx="272880" cy="218880"/>
          </a:xfrm>
          <a:custGeom>
            <a:avLst/>
            <a:gdLst/>
            <a:ahLst/>
            <a:rect l="l" t="t" r="r" b="b"/>
            <a:pathLst>
              <a:path w="343" h="276">
                <a:moveTo>
                  <a:pt x="0" y="8"/>
                </a:moveTo>
                <a:lnTo>
                  <a:pt x="17" y="6"/>
                </a:lnTo>
                <a:lnTo>
                  <a:pt x="34" y="4"/>
                </a:lnTo>
                <a:lnTo>
                  <a:pt x="50" y="2"/>
                </a:lnTo>
                <a:lnTo>
                  <a:pt x="65" y="0"/>
                </a:lnTo>
                <a:lnTo>
                  <a:pt x="82" y="0"/>
                </a:lnTo>
                <a:lnTo>
                  <a:pt x="96" y="0"/>
                </a:lnTo>
                <a:lnTo>
                  <a:pt x="125" y="0"/>
                </a:lnTo>
                <a:lnTo>
                  <a:pt x="140" y="0"/>
                </a:lnTo>
                <a:lnTo>
                  <a:pt x="153" y="2"/>
                </a:lnTo>
                <a:lnTo>
                  <a:pt x="165" y="4"/>
                </a:lnTo>
                <a:lnTo>
                  <a:pt x="178" y="6"/>
                </a:lnTo>
                <a:lnTo>
                  <a:pt x="190" y="10"/>
                </a:lnTo>
                <a:lnTo>
                  <a:pt x="201" y="12"/>
                </a:lnTo>
                <a:lnTo>
                  <a:pt x="213" y="17"/>
                </a:lnTo>
                <a:lnTo>
                  <a:pt x="224" y="21"/>
                </a:lnTo>
                <a:lnTo>
                  <a:pt x="236" y="27"/>
                </a:lnTo>
                <a:lnTo>
                  <a:pt x="246" y="31"/>
                </a:lnTo>
                <a:lnTo>
                  <a:pt x="255" y="37"/>
                </a:lnTo>
                <a:lnTo>
                  <a:pt x="265" y="42"/>
                </a:lnTo>
                <a:lnTo>
                  <a:pt x="274" y="46"/>
                </a:lnTo>
                <a:lnTo>
                  <a:pt x="282" y="52"/>
                </a:lnTo>
                <a:lnTo>
                  <a:pt x="290" y="58"/>
                </a:lnTo>
                <a:lnTo>
                  <a:pt x="297" y="63"/>
                </a:lnTo>
                <a:lnTo>
                  <a:pt x="303" y="69"/>
                </a:lnTo>
                <a:lnTo>
                  <a:pt x="309" y="75"/>
                </a:lnTo>
                <a:lnTo>
                  <a:pt x="315" y="81"/>
                </a:lnTo>
                <a:lnTo>
                  <a:pt x="318" y="86"/>
                </a:lnTo>
                <a:lnTo>
                  <a:pt x="322" y="92"/>
                </a:lnTo>
                <a:lnTo>
                  <a:pt x="326" y="100"/>
                </a:lnTo>
                <a:lnTo>
                  <a:pt x="330" y="106"/>
                </a:lnTo>
                <a:lnTo>
                  <a:pt x="332" y="113"/>
                </a:lnTo>
                <a:lnTo>
                  <a:pt x="336" y="129"/>
                </a:lnTo>
                <a:lnTo>
                  <a:pt x="340" y="144"/>
                </a:lnTo>
                <a:lnTo>
                  <a:pt x="341" y="157"/>
                </a:lnTo>
                <a:lnTo>
                  <a:pt x="341" y="171"/>
                </a:lnTo>
                <a:lnTo>
                  <a:pt x="343" y="184"/>
                </a:lnTo>
                <a:lnTo>
                  <a:pt x="343" y="198"/>
                </a:lnTo>
                <a:lnTo>
                  <a:pt x="343" y="209"/>
                </a:lnTo>
                <a:lnTo>
                  <a:pt x="343" y="219"/>
                </a:lnTo>
                <a:lnTo>
                  <a:pt x="343" y="228"/>
                </a:lnTo>
                <a:lnTo>
                  <a:pt x="343" y="236"/>
                </a:lnTo>
                <a:lnTo>
                  <a:pt x="343" y="244"/>
                </a:lnTo>
                <a:lnTo>
                  <a:pt x="341" y="252"/>
                </a:lnTo>
                <a:lnTo>
                  <a:pt x="341" y="257"/>
                </a:lnTo>
                <a:lnTo>
                  <a:pt x="340" y="261"/>
                </a:lnTo>
                <a:lnTo>
                  <a:pt x="336" y="267"/>
                </a:lnTo>
                <a:lnTo>
                  <a:pt x="332" y="273"/>
                </a:lnTo>
                <a:lnTo>
                  <a:pt x="330" y="275"/>
                </a:lnTo>
                <a:lnTo>
                  <a:pt x="326" y="275"/>
                </a:lnTo>
                <a:lnTo>
                  <a:pt x="322" y="276"/>
                </a:lnTo>
                <a:lnTo>
                  <a:pt x="318" y="275"/>
                </a:lnTo>
                <a:lnTo>
                  <a:pt x="315" y="275"/>
                </a:lnTo>
                <a:lnTo>
                  <a:pt x="309" y="273"/>
                </a:lnTo>
                <a:lnTo>
                  <a:pt x="303" y="269"/>
                </a:lnTo>
                <a:lnTo>
                  <a:pt x="295" y="265"/>
                </a:lnTo>
                <a:lnTo>
                  <a:pt x="290" y="261"/>
                </a:lnTo>
                <a:lnTo>
                  <a:pt x="282" y="257"/>
                </a:lnTo>
                <a:lnTo>
                  <a:pt x="274" y="252"/>
                </a:lnTo>
                <a:lnTo>
                  <a:pt x="265" y="246"/>
                </a:lnTo>
                <a:lnTo>
                  <a:pt x="255" y="240"/>
                </a:lnTo>
                <a:lnTo>
                  <a:pt x="246" y="234"/>
                </a:lnTo>
                <a:lnTo>
                  <a:pt x="236" y="227"/>
                </a:lnTo>
                <a:lnTo>
                  <a:pt x="224" y="219"/>
                </a:lnTo>
                <a:lnTo>
                  <a:pt x="213" y="211"/>
                </a:lnTo>
                <a:lnTo>
                  <a:pt x="201" y="204"/>
                </a:lnTo>
                <a:lnTo>
                  <a:pt x="190" y="194"/>
                </a:lnTo>
                <a:lnTo>
                  <a:pt x="176" y="184"/>
                </a:lnTo>
                <a:lnTo>
                  <a:pt x="163" y="175"/>
                </a:lnTo>
                <a:lnTo>
                  <a:pt x="150" y="163"/>
                </a:lnTo>
                <a:lnTo>
                  <a:pt x="134" y="152"/>
                </a:lnTo>
                <a:lnTo>
                  <a:pt x="121" y="138"/>
                </a:lnTo>
                <a:lnTo>
                  <a:pt x="105" y="125"/>
                </a:lnTo>
                <a:lnTo>
                  <a:pt x="92" y="111"/>
                </a:lnTo>
                <a:lnTo>
                  <a:pt x="77" y="96"/>
                </a:lnTo>
                <a:lnTo>
                  <a:pt x="61" y="81"/>
                </a:lnTo>
                <a:lnTo>
                  <a:pt x="46" y="63"/>
                </a:lnTo>
                <a:lnTo>
                  <a:pt x="31" y="46"/>
                </a:lnTo>
                <a:lnTo>
                  <a:pt x="15" y="27"/>
                </a:lnTo>
                <a:lnTo>
                  <a:pt x="0" y="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35"/>
          <p:cNvSpPr/>
          <p:nvPr/>
        </p:nvSpPr>
        <p:spPr>
          <a:xfrm>
            <a:off x="5457960" y="3841920"/>
            <a:ext cx="688680" cy="893520"/>
          </a:xfrm>
          <a:custGeom>
            <a:avLst/>
            <a:gdLst/>
            <a:ahLst/>
            <a:rect l="l" t="t" r="r" b="b"/>
            <a:pathLst>
              <a:path w="870" h="1125">
                <a:moveTo>
                  <a:pt x="2" y="1121"/>
                </a:moveTo>
                <a:lnTo>
                  <a:pt x="0" y="1119"/>
                </a:lnTo>
                <a:lnTo>
                  <a:pt x="0" y="1116"/>
                </a:lnTo>
                <a:lnTo>
                  <a:pt x="0" y="1112"/>
                </a:lnTo>
                <a:lnTo>
                  <a:pt x="2" y="1108"/>
                </a:lnTo>
                <a:lnTo>
                  <a:pt x="2" y="1104"/>
                </a:lnTo>
                <a:lnTo>
                  <a:pt x="4" y="1100"/>
                </a:lnTo>
                <a:lnTo>
                  <a:pt x="6" y="1094"/>
                </a:lnTo>
                <a:lnTo>
                  <a:pt x="8" y="1089"/>
                </a:lnTo>
                <a:lnTo>
                  <a:pt x="12" y="1083"/>
                </a:lnTo>
                <a:lnTo>
                  <a:pt x="16" y="1077"/>
                </a:lnTo>
                <a:lnTo>
                  <a:pt x="20" y="1071"/>
                </a:lnTo>
                <a:lnTo>
                  <a:pt x="23" y="1064"/>
                </a:lnTo>
                <a:lnTo>
                  <a:pt x="29" y="1056"/>
                </a:lnTo>
                <a:lnTo>
                  <a:pt x="35" y="1048"/>
                </a:lnTo>
                <a:lnTo>
                  <a:pt x="41" y="1041"/>
                </a:lnTo>
                <a:lnTo>
                  <a:pt x="46" y="1031"/>
                </a:lnTo>
                <a:lnTo>
                  <a:pt x="54" y="1022"/>
                </a:lnTo>
                <a:lnTo>
                  <a:pt x="62" y="1012"/>
                </a:lnTo>
                <a:lnTo>
                  <a:pt x="77" y="993"/>
                </a:lnTo>
                <a:lnTo>
                  <a:pt x="96" y="970"/>
                </a:lnTo>
                <a:lnTo>
                  <a:pt x="116" y="947"/>
                </a:lnTo>
                <a:lnTo>
                  <a:pt x="139" y="920"/>
                </a:lnTo>
                <a:lnTo>
                  <a:pt x="162" y="893"/>
                </a:lnTo>
                <a:lnTo>
                  <a:pt x="188" y="862"/>
                </a:lnTo>
                <a:lnTo>
                  <a:pt x="202" y="847"/>
                </a:lnTo>
                <a:lnTo>
                  <a:pt x="215" y="831"/>
                </a:lnTo>
                <a:lnTo>
                  <a:pt x="231" y="816"/>
                </a:lnTo>
                <a:lnTo>
                  <a:pt x="244" y="801"/>
                </a:lnTo>
                <a:lnTo>
                  <a:pt x="259" y="783"/>
                </a:lnTo>
                <a:lnTo>
                  <a:pt x="275" y="766"/>
                </a:lnTo>
                <a:lnTo>
                  <a:pt x="290" y="749"/>
                </a:lnTo>
                <a:lnTo>
                  <a:pt x="306" y="730"/>
                </a:lnTo>
                <a:lnTo>
                  <a:pt x="321" y="711"/>
                </a:lnTo>
                <a:lnTo>
                  <a:pt x="336" y="689"/>
                </a:lnTo>
                <a:lnTo>
                  <a:pt x="352" y="670"/>
                </a:lnTo>
                <a:lnTo>
                  <a:pt x="369" y="647"/>
                </a:lnTo>
                <a:lnTo>
                  <a:pt x="384" y="626"/>
                </a:lnTo>
                <a:lnTo>
                  <a:pt x="402" y="603"/>
                </a:lnTo>
                <a:lnTo>
                  <a:pt x="417" y="580"/>
                </a:lnTo>
                <a:lnTo>
                  <a:pt x="434" y="555"/>
                </a:lnTo>
                <a:lnTo>
                  <a:pt x="451" y="530"/>
                </a:lnTo>
                <a:lnTo>
                  <a:pt x="469" y="505"/>
                </a:lnTo>
                <a:lnTo>
                  <a:pt x="484" y="478"/>
                </a:lnTo>
                <a:lnTo>
                  <a:pt x="503" y="451"/>
                </a:lnTo>
                <a:lnTo>
                  <a:pt x="521" y="425"/>
                </a:lnTo>
                <a:lnTo>
                  <a:pt x="538" y="396"/>
                </a:lnTo>
                <a:lnTo>
                  <a:pt x="555" y="367"/>
                </a:lnTo>
                <a:lnTo>
                  <a:pt x="574" y="336"/>
                </a:lnTo>
                <a:lnTo>
                  <a:pt x="592" y="307"/>
                </a:lnTo>
                <a:lnTo>
                  <a:pt x="611" y="275"/>
                </a:lnTo>
                <a:lnTo>
                  <a:pt x="628" y="244"/>
                </a:lnTo>
                <a:lnTo>
                  <a:pt x="647" y="211"/>
                </a:lnTo>
                <a:lnTo>
                  <a:pt x="666" y="177"/>
                </a:lnTo>
                <a:lnTo>
                  <a:pt x="686" y="144"/>
                </a:lnTo>
                <a:lnTo>
                  <a:pt x="705" y="110"/>
                </a:lnTo>
                <a:lnTo>
                  <a:pt x="724" y="73"/>
                </a:lnTo>
                <a:lnTo>
                  <a:pt x="743" y="37"/>
                </a:lnTo>
                <a:lnTo>
                  <a:pt x="762" y="0"/>
                </a:lnTo>
                <a:lnTo>
                  <a:pt x="789" y="27"/>
                </a:lnTo>
                <a:lnTo>
                  <a:pt x="816" y="52"/>
                </a:lnTo>
                <a:lnTo>
                  <a:pt x="843" y="79"/>
                </a:lnTo>
                <a:lnTo>
                  <a:pt x="870" y="106"/>
                </a:lnTo>
                <a:lnTo>
                  <a:pt x="851" y="144"/>
                </a:lnTo>
                <a:lnTo>
                  <a:pt x="830" y="183"/>
                </a:lnTo>
                <a:lnTo>
                  <a:pt x="810" y="221"/>
                </a:lnTo>
                <a:lnTo>
                  <a:pt x="789" y="258"/>
                </a:lnTo>
                <a:lnTo>
                  <a:pt x="770" y="292"/>
                </a:lnTo>
                <a:lnTo>
                  <a:pt x="749" y="327"/>
                </a:lnTo>
                <a:lnTo>
                  <a:pt x="728" y="361"/>
                </a:lnTo>
                <a:lnTo>
                  <a:pt x="709" y="394"/>
                </a:lnTo>
                <a:lnTo>
                  <a:pt x="688" y="426"/>
                </a:lnTo>
                <a:lnTo>
                  <a:pt x="666" y="457"/>
                </a:lnTo>
                <a:lnTo>
                  <a:pt x="645" y="488"/>
                </a:lnTo>
                <a:lnTo>
                  <a:pt x="624" y="519"/>
                </a:lnTo>
                <a:lnTo>
                  <a:pt x="603" y="549"/>
                </a:lnTo>
                <a:lnTo>
                  <a:pt x="580" y="578"/>
                </a:lnTo>
                <a:lnTo>
                  <a:pt x="559" y="605"/>
                </a:lnTo>
                <a:lnTo>
                  <a:pt x="538" y="634"/>
                </a:lnTo>
                <a:lnTo>
                  <a:pt x="492" y="688"/>
                </a:lnTo>
                <a:lnTo>
                  <a:pt x="471" y="714"/>
                </a:lnTo>
                <a:lnTo>
                  <a:pt x="448" y="739"/>
                </a:lnTo>
                <a:lnTo>
                  <a:pt x="426" y="764"/>
                </a:lnTo>
                <a:lnTo>
                  <a:pt x="403" y="789"/>
                </a:lnTo>
                <a:lnTo>
                  <a:pt x="382" y="814"/>
                </a:lnTo>
                <a:lnTo>
                  <a:pt x="361" y="837"/>
                </a:lnTo>
                <a:lnTo>
                  <a:pt x="338" y="860"/>
                </a:lnTo>
                <a:lnTo>
                  <a:pt x="317" y="883"/>
                </a:lnTo>
                <a:lnTo>
                  <a:pt x="296" y="904"/>
                </a:lnTo>
                <a:lnTo>
                  <a:pt x="275" y="926"/>
                </a:lnTo>
                <a:lnTo>
                  <a:pt x="254" y="947"/>
                </a:lnTo>
                <a:lnTo>
                  <a:pt x="233" y="966"/>
                </a:lnTo>
                <a:lnTo>
                  <a:pt x="211" y="985"/>
                </a:lnTo>
                <a:lnTo>
                  <a:pt x="192" y="1002"/>
                </a:lnTo>
                <a:lnTo>
                  <a:pt x="171" y="1020"/>
                </a:lnTo>
                <a:lnTo>
                  <a:pt x="150" y="1035"/>
                </a:lnTo>
                <a:lnTo>
                  <a:pt x="133" y="1050"/>
                </a:lnTo>
                <a:lnTo>
                  <a:pt x="114" y="1062"/>
                </a:lnTo>
                <a:lnTo>
                  <a:pt x="98" y="1075"/>
                </a:lnTo>
                <a:lnTo>
                  <a:pt x="83" y="1085"/>
                </a:lnTo>
                <a:lnTo>
                  <a:pt x="69" y="1094"/>
                </a:lnTo>
                <a:lnTo>
                  <a:pt x="58" y="1102"/>
                </a:lnTo>
                <a:lnTo>
                  <a:pt x="46" y="1110"/>
                </a:lnTo>
                <a:lnTo>
                  <a:pt x="37" y="1114"/>
                </a:lnTo>
                <a:lnTo>
                  <a:pt x="27" y="1119"/>
                </a:lnTo>
                <a:lnTo>
                  <a:pt x="20" y="1121"/>
                </a:lnTo>
                <a:lnTo>
                  <a:pt x="14" y="1123"/>
                </a:lnTo>
                <a:lnTo>
                  <a:pt x="8" y="1125"/>
                </a:lnTo>
                <a:lnTo>
                  <a:pt x="4" y="1123"/>
                </a:lnTo>
                <a:lnTo>
                  <a:pt x="2" y="11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36"/>
          <p:cNvSpPr/>
          <p:nvPr/>
        </p:nvSpPr>
        <p:spPr>
          <a:xfrm>
            <a:off x="5524560" y="3710160"/>
            <a:ext cx="946080" cy="299880"/>
          </a:xfrm>
          <a:custGeom>
            <a:avLst/>
            <a:gdLst/>
            <a:ahLst/>
            <a:rect l="l" t="t" r="r" b="b"/>
            <a:pathLst>
              <a:path w="1192" h="378">
                <a:moveTo>
                  <a:pt x="405" y="167"/>
                </a:moveTo>
                <a:lnTo>
                  <a:pt x="430" y="162"/>
                </a:lnTo>
                <a:lnTo>
                  <a:pt x="455" y="156"/>
                </a:lnTo>
                <a:lnTo>
                  <a:pt x="480" y="150"/>
                </a:lnTo>
                <a:lnTo>
                  <a:pt x="503" y="144"/>
                </a:lnTo>
                <a:lnTo>
                  <a:pt x="526" y="139"/>
                </a:lnTo>
                <a:lnTo>
                  <a:pt x="549" y="133"/>
                </a:lnTo>
                <a:lnTo>
                  <a:pt x="572" y="127"/>
                </a:lnTo>
                <a:lnTo>
                  <a:pt x="593" y="121"/>
                </a:lnTo>
                <a:lnTo>
                  <a:pt x="614" y="117"/>
                </a:lnTo>
                <a:lnTo>
                  <a:pt x="635" y="112"/>
                </a:lnTo>
                <a:lnTo>
                  <a:pt x="656" y="108"/>
                </a:lnTo>
                <a:lnTo>
                  <a:pt x="675" y="102"/>
                </a:lnTo>
                <a:lnTo>
                  <a:pt x="695" y="98"/>
                </a:lnTo>
                <a:lnTo>
                  <a:pt x="714" y="92"/>
                </a:lnTo>
                <a:lnTo>
                  <a:pt x="731" y="89"/>
                </a:lnTo>
                <a:lnTo>
                  <a:pt x="748" y="85"/>
                </a:lnTo>
                <a:lnTo>
                  <a:pt x="766" y="81"/>
                </a:lnTo>
                <a:lnTo>
                  <a:pt x="783" y="75"/>
                </a:lnTo>
                <a:lnTo>
                  <a:pt x="798" y="71"/>
                </a:lnTo>
                <a:lnTo>
                  <a:pt x="814" y="68"/>
                </a:lnTo>
                <a:lnTo>
                  <a:pt x="829" y="64"/>
                </a:lnTo>
                <a:lnTo>
                  <a:pt x="842" y="60"/>
                </a:lnTo>
                <a:lnTo>
                  <a:pt x="856" y="56"/>
                </a:lnTo>
                <a:lnTo>
                  <a:pt x="869" y="52"/>
                </a:lnTo>
                <a:lnTo>
                  <a:pt x="881" y="48"/>
                </a:lnTo>
                <a:lnTo>
                  <a:pt x="894" y="45"/>
                </a:lnTo>
                <a:lnTo>
                  <a:pt x="904" y="41"/>
                </a:lnTo>
                <a:lnTo>
                  <a:pt x="915" y="37"/>
                </a:lnTo>
                <a:lnTo>
                  <a:pt x="925" y="33"/>
                </a:lnTo>
                <a:lnTo>
                  <a:pt x="935" y="29"/>
                </a:lnTo>
                <a:lnTo>
                  <a:pt x="944" y="25"/>
                </a:lnTo>
                <a:lnTo>
                  <a:pt x="952" y="21"/>
                </a:lnTo>
                <a:lnTo>
                  <a:pt x="967" y="18"/>
                </a:lnTo>
                <a:lnTo>
                  <a:pt x="983" y="14"/>
                </a:lnTo>
                <a:lnTo>
                  <a:pt x="996" y="10"/>
                </a:lnTo>
                <a:lnTo>
                  <a:pt x="1011" y="6"/>
                </a:lnTo>
                <a:lnTo>
                  <a:pt x="1025" y="4"/>
                </a:lnTo>
                <a:lnTo>
                  <a:pt x="1038" y="2"/>
                </a:lnTo>
                <a:lnTo>
                  <a:pt x="1052" y="0"/>
                </a:lnTo>
                <a:lnTo>
                  <a:pt x="1065" y="0"/>
                </a:lnTo>
                <a:lnTo>
                  <a:pt x="1077" y="0"/>
                </a:lnTo>
                <a:lnTo>
                  <a:pt x="1088" y="0"/>
                </a:lnTo>
                <a:lnTo>
                  <a:pt x="1098" y="0"/>
                </a:lnTo>
                <a:lnTo>
                  <a:pt x="1109" y="2"/>
                </a:lnTo>
                <a:lnTo>
                  <a:pt x="1117" y="2"/>
                </a:lnTo>
                <a:lnTo>
                  <a:pt x="1127" y="4"/>
                </a:lnTo>
                <a:lnTo>
                  <a:pt x="1134" y="6"/>
                </a:lnTo>
                <a:lnTo>
                  <a:pt x="1142" y="10"/>
                </a:lnTo>
                <a:lnTo>
                  <a:pt x="1153" y="20"/>
                </a:lnTo>
                <a:lnTo>
                  <a:pt x="1165" y="29"/>
                </a:lnTo>
                <a:lnTo>
                  <a:pt x="1171" y="33"/>
                </a:lnTo>
                <a:lnTo>
                  <a:pt x="1174" y="39"/>
                </a:lnTo>
                <a:lnTo>
                  <a:pt x="1180" y="43"/>
                </a:lnTo>
                <a:lnTo>
                  <a:pt x="1182" y="46"/>
                </a:lnTo>
                <a:lnTo>
                  <a:pt x="1186" y="50"/>
                </a:lnTo>
                <a:lnTo>
                  <a:pt x="1188" y="54"/>
                </a:lnTo>
                <a:lnTo>
                  <a:pt x="1190" y="58"/>
                </a:lnTo>
                <a:lnTo>
                  <a:pt x="1192" y="62"/>
                </a:lnTo>
                <a:lnTo>
                  <a:pt x="1192" y="66"/>
                </a:lnTo>
                <a:lnTo>
                  <a:pt x="1192" y="69"/>
                </a:lnTo>
                <a:lnTo>
                  <a:pt x="1190" y="71"/>
                </a:lnTo>
                <a:lnTo>
                  <a:pt x="1190" y="75"/>
                </a:lnTo>
                <a:lnTo>
                  <a:pt x="1186" y="77"/>
                </a:lnTo>
                <a:lnTo>
                  <a:pt x="1182" y="81"/>
                </a:lnTo>
                <a:lnTo>
                  <a:pt x="1176" y="83"/>
                </a:lnTo>
                <a:lnTo>
                  <a:pt x="1169" y="87"/>
                </a:lnTo>
                <a:lnTo>
                  <a:pt x="1161" y="91"/>
                </a:lnTo>
                <a:lnTo>
                  <a:pt x="1151" y="94"/>
                </a:lnTo>
                <a:lnTo>
                  <a:pt x="1140" y="100"/>
                </a:lnTo>
                <a:lnTo>
                  <a:pt x="1127" y="104"/>
                </a:lnTo>
                <a:lnTo>
                  <a:pt x="1113" y="110"/>
                </a:lnTo>
                <a:lnTo>
                  <a:pt x="1098" y="116"/>
                </a:lnTo>
                <a:lnTo>
                  <a:pt x="1080" y="121"/>
                </a:lnTo>
                <a:lnTo>
                  <a:pt x="1061" y="127"/>
                </a:lnTo>
                <a:lnTo>
                  <a:pt x="1042" y="133"/>
                </a:lnTo>
                <a:lnTo>
                  <a:pt x="1021" y="140"/>
                </a:lnTo>
                <a:lnTo>
                  <a:pt x="998" y="146"/>
                </a:lnTo>
                <a:lnTo>
                  <a:pt x="975" y="154"/>
                </a:lnTo>
                <a:lnTo>
                  <a:pt x="948" y="162"/>
                </a:lnTo>
                <a:lnTo>
                  <a:pt x="921" y="169"/>
                </a:lnTo>
                <a:lnTo>
                  <a:pt x="892" y="177"/>
                </a:lnTo>
                <a:lnTo>
                  <a:pt x="864" y="185"/>
                </a:lnTo>
                <a:lnTo>
                  <a:pt x="835" y="192"/>
                </a:lnTo>
                <a:lnTo>
                  <a:pt x="804" y="200"/>
                </a:lnTo>
                <a:lnTo>
                  <a:pt x="775" y="208"/>
                </a:lnTo>
                <a:lnTo>
                  <a:pt x="743" y="215"/>
                </a:lnTo>
                <a:lnTo>
                  <a:pt x="712" y="223"/>
                </a:lnTo>
                <a:lnTo>
                  <a:pt x="679" y="231"/>
                </a:lnTo>
                <a:lnTo>
                  <a:pt x="647" y="240"/>
                </a:lnTo>
                <a:lnTo>
                  <a:pt x="614" y="248"/>
                </a:lnTo>
                <a:lnTo>
                  <a:pt x="579" y="258"/>
                </a:lnTo>
                <a:lnTo>
                  <a:pt x="547" y="267"/>
                </a:lnTo>
                <a:lnTo>
                  <a:pt x="510" y="277"/>
                </a:lnTo>
                <a:lnTo>
                  <a:pt x="476" y="286"/>
                </a:lnTo>
                <a:lnTo>
                  <a:pt x="459" y="292"/>
                </a:lnTo>
                <a:lnTo>
                  <a:pt x="441" y="298"/>
                </a:lnTo>
                <a:lnTo>
                  <a:pt x="424" y="304"/>
                </a:lnTo>
                <a:lnTo>
                  <a:pt x="409" y="309"/>
                </a:lnTo>
                <a:lnTo>
                  <a:pt x="393" y="315"/>
                </a:lnTo>
                <a:lnTo>
                  <a:pt x="378" y="319"/>
                </a:lnTo>
                <a:lnTo>
                  <a:pt x="363" y="325"/>
                </a:lnTo>
                <a:lnTo>
                  <a:pt x="349" y="329"/>
                </a:lnTo>
                <a:lnTo>
                  <a:pt x="336" y="332"/>
                </a:lnTo>
                <a:lnTo>
                  <a:pt x="322" y="336"/>
                </a:lnTo>
                <a:lnTo>
                  <a:pt x="309" y="340"/>
                </a:lnTo>
                <a:lnTo>
                  <a:pt x="297" y="344"/>
                </a:lnTo>
                <a:lnTo>
                  <a:pt x="286" y="348"/>
                </a:lnTo>
                <a:lnTo>
                  <a:pt x="274" y="352"/>
                </a:lnTo>
                <a:lnTo>
                  <a:pt x="263" y="355"/>
                </a:lnTo>
                <a:lnTo>
                  <a:pt x="253" y="357"/>
                </a:lnTo>
                <a:lnTo>
                  <a:pt x="244" y="359"/>
                </a:lnTo>
                <a:lnTo>
                  <a:pt x="234" y="363"/>
                </a:lnTo>
                <a:lnTo>
                  <a:pt x="224" y="365"/>
                </a:lnTo>
                <a:lnTo>
                  <a:pt x="217" y="367"/>
                </a:lnTo>
                <a:lnTo>
                  <a:pt x="209" y="369"/>
                </a:lnTo>
                <a:lnTo>
                  <a:pt x="201" y="371"/>
                </a:lnTo>
                <a:lnTo>
                  <a:pt x="194" y="373"/>
                </a:lnTo>
                <a:lnTo>
                  <a:pt x="188" y="373"/>
                </a:lnTo>
                <a:lnTo>
                  <a:pt x="182" y="375"/>
                </a:lnTo>
                <a:lnTo>
                  <a:pt x="176" y="377"/>
                </a:lnTo>
                <a:lnTo>
                  <a:pt x="173" y="377"/>
                </a:lnTo>
                <a:lnTo>
                  <a:pt x="167" y="377"/>
                </a:lnTo>
                <a:lnTo>
                  <a:pt x="163" y="378"/>
                </a:lnTo>
                <a:lnTo>
                  <a:pt x="161" y="378"/>
                </a:lnTo>
                <a:lnTo>
                  <a:pt x="157" y="378"/>
                </a:lnTo>
                <a:lnTo>
                  <a:pt x="155" y="378"/>
                </a:lnTo>
                <a:lnTo>
                  <a:pt x="146" y="378"/>
                </a:lnTo>
                <a:lnTo>
                  <a:pt x="134" y="377"/>
                </a:lnTo>
                <a:lnTo>
                  <a:pt x="123" y="373"/>
                </a:lnTo>
                <a:lnTo>
                  <a:pt x="111" y="367"/>
                </a:lnTo>
                <a:lnTo>
                  <a:pt x="105" y="363"/>
                </a:lnTo>
                <a:lnTo>
                  <a:pt x="100" y="359"/>
                </a:lnTo>
                <a:lnTo>
                  <a:pt x="92" y="355"/>
                </a:lnTo>
                <a:lnTo>
                  <a:pt x="86" y="352"/>
                </a:lnTo>
                <a:lnTo>
                  <a:pt x="80" y="346"/>
                </a:lnTo>
                <a:lnTo>
                  <a:pt x="73" y="340"/>
                </a:lnTo>
                <a:lnTo>
                  <a:pt x="67" y="332"/>
                </a:lnTo>
                <a:lnTo>
                  <a:pt x="59" y="327"/>
                </a:lnTo>
                <a:lnTo>
                  <a:pt x="48" y="315"/>
                </a:lnTo>
                <a:lnTo>
                  <a:pt x="36" y="306"/>
                </a:lnTo>
                <a:lnTo>
                  <a:pt x="25" y="296"/>
                </a:lnTo>
                <a:lnTo>
                  <a:pt x="17" y="288"/>
                </a:lnTo>
                <a:lnTo>
                  <a:pt x="9" y="279"/>
                </a:lnTo>
                <a:lnTo>
                  <a:pt x="7" y="275"/>
                </a:lnTo>
                <a:lnTo>
                  <a:pt x="6" y="271"/>
                </a:lnTo>
                <a:lnTo>
                  <a:pt x="4" y="269"/>
                </a:lnTo>
                <a:lnTo>
                  <a:pt x="2" y="265"/>
                </a:lnTo>
                <a:lnTo>
                  <a:pt x="0" y="261"/>
                </a:lnTo>
                <a:lnTo>
                  <a:pt x="0" y="259"/>
                </a:lnTo>
                <a:lnTo>
                  <a:pt x="0" y="258"/>
                </a:lnTo>
                <a:lnTo>
                  <a:pt x="2" y="258"/>
                </a:lnTo>
                <a:lnTo>
                  <a:pt x="4" y="256"/>
                </a:lnTo>
                <a:lnTo>
                  <a:pt x="6" y="254"/>
                </a:lnTo>
                <a:lnTo>
                  <a:pt x="9" y="252"/>
                </a:lnTo>
                <a:lnTo>
                  <a:pt x="15" y="250"/>
                </a:lnTo>
                <a:lnTo>
                  <a:pt x="19" y="250"/>
                </a:lnTo>
                <a:lnTo>
                  <a:pt x="25" y="248"/>
                </a:lnTo>
                <a:lnTo>
                  <a:pt x="32" y="246"/>
                </a:lnTo>
                <a:lnTo>
                  <a:pt x="38" y="244"/>
                </a:lnTo>
                <a:lnTo>
                  <a:pt x="48" y="240"/>
                </a:lnTo>
                <a:lnTo>
                  <a:pt x="55" y="238"/>
                </a:lnTo>
                <a:lnTo>
                  <a:pt x="65" y="236"/>
                </a:lnTo>
                <a:lnTo>
                  <a:pt x="77" y="235"/>
                </a:lnTo>
                <a:lnTo>
                  <a:pt x="88" y="231"/>
                </a:lnTo>
                <a:lnTo>
                  <a:pt x="100" y="229"/>
                </a:lnTo>
                <a:lnTo>
                  <a:pt x="113" y="227"/>
                </a:lnTo>
                <a:lnTo>
                  <a:pt x="126" y="223"/>
                </a:lnTo>
                <a:lnTo>
                  <a:pt x="142" y="219"/>
                </a:lnTo>
                <a:lnTo>
                  <a:pt x="157" y="217"/>
                </a:lnTo>
                <a:lnTo>
                  <a:pt x="173" y="213"/>
                </a:lnTo>
                <a:lnTo>
                  <a:pt x="190" y="210"/>
                </a:lnTo>
                <a:lnTo>
                  <a:pt x="207" y="206"/>
                </a:lnTo>
                <a:lnTo>
                  <a:pt x="226" y="202"/>
                </a:lnTo>
                <a:lnTo>
                  <a:pt x="245" y="198"/>
                </a:lnTo>
                <a:lnTo>
                  <a:pt x="267" y="194"/>
                </a:lnTo>
                <a:lnTo>
                  <a:pt x="286" y="190"/>
                </a:lnTo>
                <a:lnTo>
                  <a:pt x="309" y="187"/>
                </a:lnTo>
                <a:lnTo>
                  <a:pt x="332" y="183"/>
                </a:lnTo>
                <a:lnTo>
                  <a:pt x="355" y="177"/>
                </a:lnTo>
                <a:lnTo>
                  <a:pt x="380" y="173"/>
                </a:lnTo>
                <a:lnTo>
                  <a:pt x="405" y="1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37"/>
          <p:cNvSpPr/>
          <p:nvPr/>
        </p:nvSpPr>
        <p:spPr>
          <a:xfrm>
            <a:off x="6267600" y="3224160"/>
            <a:ext cx="285480" cy="370080"/>
          </a:xfrm>
          <a:custGeom>
            <a:avLst/>
            <a:gdLst/>
            <a:ahLst/>
            <a:rect l="l" t="t" r="r" b="b"/>
            <a:pathLst>
              <a:path w="359" h="464">
                <a:moveTo>
                  <a:pt x="110" y="395"/>
                </a:moveTo>
                <a:lnTo>
                  <a:pt x="100" y="405"/>
                </a:lnTo>
                <a:lnTo>
                  <a:pt x="89" y="413"/>
                </a:lnTo>
                <a:lnTo>
                  <a:pt x="79" y="422"/>
                </a:lnTo>
                <a:lnTo>
                  <a:pt x="70" y="430"/>
                </a:lnTo>
                <a:lnTo>
                  <a:pt x="62" y="436"/>
                </a:lnTo>
                <a:lnTo>
                  <a:pt x="54" y="443"/>
                </a:lnTo>
                <a:lnTo>
                  <a:pt x="47" y="447"/>
                </a:lnTo>
                <a:lnTo>
                  <a:pt x="39" y="453"/>
                </a:lnTo>
                <a:lnTo>
                  <a:pt x="33" y="457"/>
                </a:lnTo>
                <a:lnTo>
                  <a:pt x="27" y="461"/>
                </a:lnTo>
                <a:lnTo>
                  <a:pt x="22" y="463"/>
                </a:lnTo>
                <a:lnTo>
                  <a:pt x="18" y="464"/>
                </a:lnTo>
                <a:lnTo>
                  <a:pt x="12" y="464"/>
                </a:lnTo>
                <a:lnTo>
                  <a:pt x="8" y="464"/>
                </a:lnTo>
                <a:lnTo>
                  <a:pt x="6" y="463"/>
                </a:lnTo>
                <a:lnTo>
                  <a:pt x="4" y="461"/>
                </a:lnTo>
                <a:lnTo>
                  <a:pt x="2" y="457"/>
                </a:lnTo>
                <a:lnTo>
                  <a:pt x="0" y="453"/>
                </a:lnTo>
                <a:lnTo>
                  <a:pt x="0" y="449"/>
                </a:lnTo>
                <a:lnTo>
                  <a:pt x="2" y="443"/>
                </a:lnTo>
                <a:lnTo>
                  <a:pt x="4" y="436"/>
                </a:lnTo>
                <a:lnTo>
                  <a:pt x="6" y="428"/>
                </a:lnTo>
                <a:lnTo>
                  <a:pt x="10" y="420"/>
                </a:lnTo>
                <a:lnTo>
                  <a:pt x="14" y="409"/>
                </a:lnTo>
                <a:lnTo>
                  <a:pt x="20" y="399"/>
                </a:lnTo>
                <a:lnTo>
                  <a:pt x="25" y="386"/>
                </a:lnTo>
                <a:lnTo>
                  <a:pt x="33" y="372"/>
                </a:lnTo>
                <a:lnTo>
                  <a:pt x="43" y="359"/>
                </a:lnTo>
                <a:lnTo>
                  <a:pt x="52" y="344"/>
                </a:lnTo>
                <a:lnTo>
                  <a:pt x="62" y="326"/>
                </a:lnTo>
                <a:lnTo>
                  <a:pt x="73" y="309"/>
                </a:lnTo>
                <a:lnTo>
                  <a:pt x="87" y="290"/>
                </a:lnTo>
                <a:lnTo>
                  <a:pt x="96" y="269"/>
                </a:lnTo>
                <a:lnTo>
                  <a:pt x="108" y="250"/>
                </a:lnTo>
                <a:lnTo>
                  <a:pt x="118" y="232"/>
                </a:lnTo>
                <a:lnTo>
                  <a:pt x="125" y="215"/>
                </a:lnTo>
                <a:lnTo>
                  <a:pt x="135" y="198"/>
                </a:lnTo>
                <a:lnTo>
                  <a:pt x="143" y="182"/>
                </a:lnTo>
                <a:lnTo>
                  <a:pt x="148" y="167"/>
                </a:lnTo>
                <a:lnTo>
                  <a:pt x="154" y="152"/>
                </a:lnTo>
                <a:lnTo>
                  <a:pt x="160" y="138"/>
                </a:lnTo>
                <a:lnTo>
                  <a:pt x="164" y="125"/>
                </a:lnTo>
                <a:lnTo>
                  <a:pt x="167" y="113"/>
                </a:lnTo>
                <a:lnTo>
                  <a:pt x="169" y="102"/>
                </a:lnTo>
                <a:lnTo>
                  <a:pt x="171" y="92"/>
                </a:lnTo>
                <a:lnTo>
                  <a:pt x="171" y="81"/>
                </a:lnTo>
                <a:lnTo>
                  <a:pt x="171" y="73"/>
                </a:lnTo>
                <a:lnTo>
                  <a:pt x="169" y="65"/>
                </a:lnTo>
                <a:lnTo>
                  <a:pt x="167" y="58"/>
                </a:lnTo>
                <a:lnTo>
                  <a:pt x="167" y="50"/>
                </a:lnTo>
                <a:lnTo>
                  <a:pt x="166" y="44"/>
                </a:lnTo>
                <a:lnTo>
                  <a:pt x="166" y="38"/>
                </a:lnTo>
                <a:lnTo>
                  <a:pt x="166" y="27"/>
                </a:lnTo>
                <a:lnTo>
                  <a:pt x="169" y="17"/>
                </a:lnTo>
                <a:lnTo>
                  <a:pt x="171" y="13"/>
                </a:lnTo>
                <a:lnTo>
                  <a:pt x="173" y="10"/>
                </a:lnTo>
                <a:lnTo>
                  <a:pt x="175" y="6"/>
                </a:lnTo>
                <a:lnTo>
                  <a:pt x="179" y="4"/>
                </a:lnTo>
                <a:lnTo>
                  <a:pt x="181" y="2"/>
                </a:lnTo>
                <a:lnTo>
                  <a:pt x="185" y="0"/>
                </a:lnTo>
                <a:lnTo>
                  <a:pt x="189" y="0"/>
                </a:lnTo>
                <a:lnTo>
                  <a:pt x="194" y="0"/>
                </a:lnTo>
                <a:lnTo>
                  <a:pt x="204" y="0"/>
                </a:lnTo>
                <a:lnTo>
                  <a:pt x="214" y="2"/>
                </a:lnTo>
                <a:lnTo>
                  <a:pt x="225" y="6"/>
                </a:lnTo>
                <a:lnTo>
                  <a:pt x="238" y="10"/>
                </a:lnTo>
                <a:lnTo>
                  <a:pt x="244" y="13"/>
                </a:lnTo>
                <a:lnTo>
                  <a:pt x="252" y="17"/>
                </a:lnTo>
                <a:lnTo>
                  <a:pt x="260" y="21"/>
                </a:lnTo>
                <a:lnTo>
                  <a:pt x="267" y="27"/>
                </a:lnTo>
                <a:lnTo>
                  <a:pt x="275" y="33"/>
                </a:lnTo>
                <a:lnTo>
                  <a:pt x="283" y="38"/>
                </a:lnTo>
                <a:lnTo>
                  <a:pt x="292" y="44"/>
                </a:lnTo>
                <a:lnTo>
                  <a:pt x="300" y="52"/>
                </a:lnTo>
                <a:lnTo>
                  <a:pt x="313" y="67"/>
                </a:lnTo>
                <a:lnTo>
                  <a:pt x="325" y="81"/>
                </a:lnTo>
                <a:lnTo>
                  <a:pt x="334" y="96"/>
                </a:lnTo>
                <a:lnTo>
                  <a:pt x="344" y="109"/>
                </a:lnTo>
                <a:lnTo>
                  <a:pt x="350" y="123"/>
                </a:lnTo>
                <a:lnTo>
                  <a:pt x="354" y="129"/>
                </a:lnTo>
                <a:lnTo>
                  <a:pt x="356" y="136"/>
                </a:lnTo>
                <a:lnTo>
                  <a:pt x="357" y="142"/>
                </a:lnTo>
                <a:lnTo>
                  <a:pt x="359" y="148"/>
                </a:lnTo>
                <a:lnTo>
                  <a:pt x="359" y="152"/>
                </a:lnTo>
                <a:lnTo>
                  <a:pt x="359" y="157"/>
                </a:lnTo>
                <a:lnTo>
                  <a:pt x="359" y="165"/>
                </a:lnTo>
                <a:lnTo>
                  <a:pt x="359" y="171"/>
                </a:lnTo>
                <a:lnTo>
                  <a:pt x="357" y="178"/>
                </a:lnTo>
                <a:lnTo>
                  <a:pt x="356" y="184"/>
                </a:lnTo>
                <a:lnTo>
                  <a:pt x="354" y="192"/>
                </a:lnTo>
                <a:lnTo>
                  <a:pt x="350" y="198"/>
                </a:lnTo>
                <a:lnTo>
                  <a:pt x="346" y="203"/>
                </a:lnTo>
                <a:lnTo>
                  <a:pt x="342" y="209"/>
                </a:lnTo>
                <a:lnTo>
                  <a:pt x="336" y="217"/>
                </a:lnTo>
                <a:lnTo>
                  <a:pt x="333" y="223"/>
                </a:lnTo>
                <a:lnTo>
                  <a:pt x="327" y="228"/>
                </a:lnTo>
                <a:lnTo>
                  <a:pt x="319" y="234"/>
                </a:lnTo>
                <a:lnTo>
                  <a:pt x="313" y="242"/>
                </a:lnTo>
                <a:lnTo>
                  <a:pt x="306" y="248"/>
                </a:lnTo>
                <a:lnTo>
                  <a:pt x="298" y="255"/>
                </a:lnTo>
                <a:lnTo>
                  <a:pt x="288" y="263"/>
                </a:lnTo>
                <a:lnTo>
                  <a:pt x="271" y="278"/>
                </a:lnTo>
                <a:lnTo>
                  <a:pt x="252" y="292"/>
                </a:lnTo>
                <a:lnTo>
                  <a:pt x="231" y="307"/>
                </a:lnTo>
                <a:lnTo>
                  <a:pt x="208" y="324"/>
                </a:lnTo>
                <a:lnTo>
                  <a:pt x="185" y="340"/>
                </a:lnTo>
                <a:lnTo>
                  <a:pt x="162" y="357"/>
                </a:lnTo>
                <a:lnTo>
                  <a:pt x="137" y="374"/>
                </a:lnTo>
                <a:lnTo>
                  <a:pt x="110" y="39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38"/>
          <p:cNvSpPr/>
          <p:nvPr/>
        </p:nvSpPr>
        <p:spPr>
          <a:xfrm>
            <a:off x="6021360" y="2797200"/>
            <a:ext cx="217440" cy="2281320"/>
          </a:xfrm>
          <a:custGeom>
            <a:avLst/>
            <a:gdLst/>
            <a:ahLst/>
            <a:rect l="l" t="t" r="r" b="b"/>
            <a:pathLst>
              <a:path w="274" h="2873">
                <a:moveTo>
                  <a:pt x="230" y="433"/>
                </a:moveTo>
                <a:lnTo>
                  <a:pt x="228" y="453"/>
                </a:lnTo>
                <a:lnTo>
                  <a:pt x="226" y="476"/>
                </a:lnTo>
                <a:lnTo>
                  <a:pt x="224" y="501"/>
                </a:lnTo>
                <a:lnTo>
                  <a:pt x="224" y="526"/>
                </a:lnTo>
                <a:lnTo>
                  <a:pt x="222" y="554"/>
                </a:lnTo>
                <a:lnTo>
                  <a:pt x="220" y="583"/>
                </a:lnTo>
                <a:lnTo>
                  <a:pt x="220" y="616"/>
                </a:lnTo>
                <a:lnTo>
                  <a:pt x="218" y="648"/>
                </a:lnTo>
                <a:lnTo>
                  <a:pt x="216" y="683"/>
                </a:lnTo>
                <a:lnTo>
                  <a:pt x="216" y="719"/>
                </a:lnTo>
                <a:lnTo>
                  <a:pt x="215" y="758"/>
                </a:lnTo>
                <a:lnTo>
                  <a:pt x="213" y="798"/>
                </a:lnTo>
                <a:lnTo>
                  <a:pt x="213" y="838"/>
                </a:lnTo>
                <a:lnTo>
                  <a:pt x="211" y="883"/>
                </a:lnTo>
                <a:lnTo>
                  <a:pt x="209" y="927"/>
                </a:lnTo>
                <a:lnTo>
                  <a:pt x="207" y="973"/>
                </a:lnTo>
                <a:lnTo>
                  <a:pt x="205" y="1021"/>
                </a:lnTo>
                <a:lnTo>
                  <a:pt x="201" y="1071"/>
                </a:lnTo>
                <a:lnTo>
                  <a:pt x="199" y="1122"/>
                </a:lnTo>
                <a:lnTo>
                  <a:pt x="197" y="1176"/>
                </a:lnTo>
                <a:lnTo>
                  <a:pt x="195" y="1230"/>
                </a:lnTo>
                <a:lnTo>
                  <a:pt x="193" y="1288"/>
                </a:lnTo>
                <a:lnTo>
                  <a:pt x="191" y="1345"/>
                </a:lnTo>
                <a:lnTo>
                  <a:pt x="190" y="1405"/>
                </a:lnTo>
                <a:lnTo>
                  <a:pt x="186" y="1466"/>
                </a:lnTo>
                <a:lnTo>
                  <a:pt x="184" y="1529"/>
                </a:lnTo>
                <a:lnTo>
                  <a:pt x="182" y="1595"/>
                </a:lnTo>
                <a:lnTo>
                  <a:pt x="180" y="1660"/>
                </a:lnTo>
                <a:lnTo>
                  <a:pt x="178" y="1727"/>
                </a:lnTo>
                <a:lnTo>
                  <a:pt x="176" y="1796"/>
                </a:lnTo>
                <a:lnTo>
                  <a:pt x="172" y="1865"/>
                </a:lnTo>
                <a:lnTo>
                  <a:pt x="170" y="1936"/>
                </a:lnTo>
                <a:lnTo>
                  <a:pt x="170" y="1973"/>
                </a:lnTo>
                <a:lnTo>
                  <a:pt x="168" y="2009"/>
                </a:lnTo>
                <a:lnTo>
                  <a:pt x="168" y="2044"/>
                </a:lnTo>
                <a:lnTo>
                  <a:pt x="167" y="2078"/>
                </a:lnTo>
                <a:lnTo>
                  <a:pt x="167" y="2111"/>
                </a:lnTo>
                <a:lnTo>
                  <a:pt x="165" y="2144"/>
                </a:lnTo>
                <a:lnTo>
                  <a:pt x="165" y="2176"/>
                </a:lnTo>
                <a:lnTo>
                  <a:pt x="165" y="2207"/>
                </a:lnTo>
                <a:lnTo>
                  <a:pt x="163" y="2236"/>
                </a:lnTo>
                <a:lnTo>
                  <a:pt x="163" y="2265"/>
                </a:lnTo>
                <a:lnTo>
                  <a:pt x="161" y="2293"/>
                </a:lnTo>
                <a:lnTo>
                  <a:pt x="161" y="2320"/>
                </a:lnTo>
                <a:lnTo>
                  <a:pt x="161" y="2347"/>
                </a:lnTo>
                <a:lnTo>
                  <a:pt x="161" y="2374"/>
                </a:lnTo>
                <a:lnTo>
                  <a:pt x="159" y="2399"/>
                </a:lnTo>
                <a:lnTo>
                  <a:pt x="159" y="2422"/>
                </a:lnTo>
                <a:lnTo>
                  <a:pt x="159" y="2447"/>
                </a:lnTo>
                <a:lnTo>
                  <a:pt x="157" y="2468"/>
                </a:lnTo>
                <a:lnTo>
                  <a:pt x="157" y="2491"/>
                </a:lnTo>
                <a:lnTo>
                  <a:pt x="157" y="2512"/>
                </a:lnTo>
                <a:lnTo>
                  <a:pt x="155" y="2531"/>
                </a:lnTo>
                <a:lnTo>
                  <a:pt x="155" y="2551"/>
                </a:lnTo>
                <a:lnTo>
                  <a:pt x="155" y="2570"/>
                </a:lnTo>
                <a:lnTo>
                  <a:pt x="153" y="2587"/>
                </a:lnTo>
                <a:lnTo>
                  <a:pt x="153" y="2604"/>
                </a:lnTo>
                <a:lnTo>
                  <a:pt x="153" y="2620"/>
                </a:lnTo>
                <a:lnTo>
                  <a:pt x="151" y="2637"/>
                </a:lnTo>
                <a:lnTo>
                  <a:pt x="151" y="2650"/>
                </a:lnTo>
                <a:lnTo>
                  <a:pt x="149" y="2664"/>
                </a:lnTo>
                <a:lnTo>
                  <a:pt x="149" y="2677"/>
                </a:lnTo>
                <a:lnTo>
                  <a:pt x="147" y="2691"/>
                </a:lnTo>
                <a:lnTo>
                  <a:pt x="147" y="2702"/>
                </a:lnTo>
                <a:lnTo>
                  <a:pt x="145" y="2723"/>
                </a:lnTo>
                <a:lnTo>
                  <a:pt x="142" y="2743"/>
                </a:lnTo>
                <a:lnTo>
                  <a:pt x="140" y="2762"/>
                </a:lnTo>
                <a:lnTo>
                  <a:pt x="136" y="2779"/>
                </a:lnTo>
                <a:lnTo>
                  <a:pt x="134" y="2794"/>
                </a:lnTo>
                <a:lnTo>
                  <a:pt x="130" y="2808"/>
                </a:lnTo>
                <a:lnTo>
                  <a:pt x="126" y="2821"/>
                </a:lnTo>
                <a:lnTo>
                  <a:pt x="122" y="2833"/>
                </a:lnTo>
                <a:lnTo>
                  <a:pt x="120" y="2842"/>
                </a:lnTo>
                <a:lnTo>
                  <a:pt x="117" y="2850"/>
                </a:lnTo>
                <a:lnTo>
                  <a:pt x="113" y="2858"/>
                </a:lnTo>
                <a:lnTo>
                  <a:pt x="111" y="2863"/>
                </a:lnTo>
                <a:lnTo>
                  <a:pt x="107" y="2867"/>
                </a:lnTo>
                <a:lnTo>
                  <a:pt x="105" y="2871"/>
                </a:lnTo>
                <a:lnTo>
                  <a:pt x="101" y="2873"/>
                </a:lnTo>
                <a:lnTo>
                  <a:pt x="99" y="2873"/>
                </a:lnTo>
                <a:lnTo>
                  <a:pt x="96" y="2873"/>
                </a:lnTo>
                <a:lnTo>
                  <a:pt x="90" y="2871"/>
                </a:lnTo>
                <a:lnTo>
                  <a:pt x="86" y="2867"/>
                </a:lnTo>
                <a:lnTo>
                  <a:pt x="82" y="2863"/>
                </a:lnTo>
                <a:lnTo>
                  <a:pt x="76" y="2858"/>
                </a:lnTo>
                <a:lnTo>
                  <a:pt x="72" y="2852"/>
                </a:lnTo>
                <a:lnTo>
                  <a:pt x="69" y="2844"/>
                </a:lnTo>
                <a:lnTo>
                  <a:pt x="63" y="2835"/>
                </a:lnTo>
                <a:lnTo>
                  <a:pt x="59" y="2825"/>
                </a:lnTo>
                <a:lnTo>
                  <a:pt x="55" y="2814"/>
                </a:lnTo>
                <a:lnTo>
                  <a:pt x="49" y="2802"/>
                </a:lnTo>
                <a:lnTo>
                  <a:pt x="46" y="2789"/>
                </a:lnTo>
                <a:lnTo>
                  <a:pt x="42" y="2775"/>
                </a:lnTo>
                <a:lnTo>
                  <a:pt x="36" y="2760"/>
                </a:lnTo>
                <a:lnTo>
                  <a:pt x="32" y="2744"/>
                </a:lnTo>
                <a:lnTo>
                  <a:pt x="28" y="2727"/>
                </a:lnTo>
                <a:lnTo>
                  <a:pt x="24" y="2710"/>
                </a:lnTo>
                <a:lnTo>
                  <a:pt x="21" y="2695"/>
                </a:lnTo>
                <a:lnTo>
                  <a:pt x="17" y="2679"/>
                </a:lnTo>
                <a:lnTo>
                  <a:pt x="13" y="2664"/>
                </a:lnTo>
                <a:lnTo>
                  <a:pt x="9" y="2648"/>
                </a:lnTo>
                <a:lnTo>
                  <a:pt x="7" y="2635"/>
                </a:lnTo>
                <a:lnTo>
                  <a:pt x="5" y="2622"/>
                </a:lnTo>
                <a:lnTo>
                  <a:pt x="3" y="2610"/>
                </a:lnTo>
                <a:lnTo>
                  <a:pt x="1" y="2597"/>
                </a:lnTo>
                <a:lnTo>
                  <a:pt x="0" y="2585"/>
                </a:lnTo>
                <a:lnTo>
                  <a:pt x="0" y="2576"/>
                </a:lnTo>
                <a:lnTo>
                  <a:pt x="0" y="2564"/>
                </a:lnTo>
                <a:lnTo>
                  <a:pt x="0" y="2554"/>
                </a:lnTo>
                <a:lnTo>
                  <a:pt x="1" y="2547"/>
                </a:lnTo>
                <a:lnTo>
                  <a:pt x="1" y="2537"/>
                </a:lnTo>
                <a:lnTo>
                  <a:pt x="5" y="2529"/>
                </a:lnTo>
                <a:lnTo>
                  <a:pt x="5" y="2528"/>
                </a:lnTo>
                <a:lnTo>
                  <a:pt x="5" y="2524"/>
                </a:lnTo>
                <a:lnTo>
                  <a:pt x="5" y="2518"/>
                </a:lnTo>
                <a:lnTo>
                  <a:pt x="5" y="2512"/>
                </a:lnTo>
                <a:lnTo>
                  <a:pt x="5" y="2506"/>
                </a:lnTo>
                <a:lnTo>
                  <a:pt x="5" y="2499"/>
                </a:lnTo>
                <a:lnTo>
                  <a:pt x="7" y="2489"/>
                </a:lnTo>
                <a:lnTo>
                  <a:pt x="7" y="2480"/>
                </a:lnTo>
                <a:lnTo>
                  <a:pt x="7" y="2470"/>
                </a:lnTo>
                <a:lnTo>
                  <a:pt x="9" y="2458"/>
                </a:lnTo>
                <a:lnTo>
                  <a:pt x="9" y="2447"/>
                </a:lnTo>
                <a:lnTo>
                  <a:pt x="11" y="2433"/>
                </a:lnTo>
                <a:lnTo>
                  <a:pt x="11" y="2420"/>
                </a:lnTo>
                <a:lnTo>
                  <a:pt x="13" y="2405"/>
                </a:lnTo>
                <a:lnTo>
                  <a:pt x="13" y="2389"/>
                </a:lnTo>
                <a:lnTo>
                  <a:pt x="15" y="2372"/>
                </a:lnTo>
                <a:lnTo>
                  <a:pt x="17" y="2355"/>
                </a:lnTo>
                <a:lnTo>
                  <a:pt x="19" y="2336"/>
                </a:lnTo>
                <a:lnTo>
                  <a:pt x="19" y="2316"/>
                </a:lnTo>
                <a:lnTo>
                  <a:pt x="21" y="2295"/>
                </a:lnTo>
                <a:lnTo>
                  <a:pt x="23" y="2274"/>
                </a:lnTo>
                <a:lnTo>
                  <a:pt x="24" y="2251"/>
                </a:lnTo>
                <a:lnTo>
                  <a:pt x="28" y="2228"/>
                </a:lnTo>
                <a:lnTo>
                  <a:pt x="30" y="2203"/>
                </a:lnTo>
                <a:lnTo>
                  <a:pt x="32" y="2178"/>
                </a:lnTo>
                <a:lnTo>
                  <a:pt x="34" y="2151"/>
                </a:lnTo>
                <a:lnTo>
                  <a:pt x="38" y="2124"/>
                </a:lnTo>
                <a:lnTo>
                  <a:pt x="40" y="2098"/>
                </a:lnTo>
                <a:lnTo>
                  <a:pt x="42" y="2069"/>
                </a:lnTo>
                <a:lnTo>
                  <a:pt x="46" y="2038"/>
                </a:lnTo>
                <a:lnTo>
                  <a:pt x="49" y="2007"/>
                </a:lnTo>
                <a:lnTo>
                  <a:pt x="51" y="1977"/>
                </a:lnTo>
                <a:lnTo>
                  <a:pt x="61" y="1846"/>
                </a:lnTo>
                <a:lnTo>
                  <a:pt x="67" y="1718"/>
                </a:lnTo>
                <a:lnTo>
                  <a:pt x="72" y="1589"/>
                </a:lnTo>
                <a:lnTo>
                  <a:pt x="78" y="1460"/>
                </a:lnTo>
                <a:lnTo>
                  <a:pt x="82" y="1330"/>
                </a:lnTo>
                <a:lnTo>
                  <a:pt x="86" y="1199"/>
                </a:lnTo>
                <a:lnTo>
                  <a:pt x="86" y="1067"/>
                </a:lnTo>
                <a:lnTo>
                  <a:pt x="88" y="934"/>
                </a:lnTo>
                <a:lnTo>
                  <a:pt x="88" y="900"/>
                </a:lnTo>
                <a:lnTo>
                  <a:pt x="88" y="869"/>
                </a:lnTo>
                <a:lnTo>
                  <a:pt x="88" y="836"/>
                </a:lnTo>
                <a:lnTo>
                  <a:pt x="88" y="806"/>
                </a:lnTo>
                <a:lnTo>
                  <a:pt x="88" y="777"/>
                </a:lnTo>
                <a:lnTo>
                  <a:pt x="88" y="746"/>
                </a:lnTo>
                <a:lnTo>
                  <a:pt x="88" y="719"/>
                </a:lnTo>
                <a:lnTo>
                  <a:pt x="88" y="691"/>
                </a:lnTo>
                <a:lnTo>
                  <a:pt x="88" y="664"/>
                </a:lnTo>
                <a:lnTo>
                  <a:pt x="88" y="639"/>
                </a:lnTo>
                <a:lnTo>
                  <a:pt x="88" y="614"/>
                </a:lnTo>
                <a:lnTo>
                  <a:pt x="86" y="589"/>
                </a:lnTo>
                <a:lnTo>
                  <a:pt x="86" y="564"/>
                </a:lnTo>
                <a:lnTo>
                  <a:pt x="86" y="543"/>
                </a:lnTo>
                <a:lnTo>
                  <a:pt x="86" y="520"/>
                </a:lnTo>
                <a:lnTo>
                  <a:pt x="86" y="499"/>
                </a:lnTo>
                <a:lnTo>
                  <a:pt x="86" y="478"/>
                </a:lnTo>
                <a:lnTo>
                  <a:pt x="86" y="458"/>
                </a:lnTo>
                <a:lnTo>
                  <a:pt x="84" y="439"/>
                </a:lnTo>
                <a:lnTo>
                  <a:pt x="84" y="420"/>
                </a:lnTo>
                <a:lnTo>
                  <a:pt x="84" y="403"/>
                </a:lnTo>
                <a:lnTo>
                  <a:pt x="84" y="385"/>
                </a:lnTo>
                <a:lnTo>
                  <a:pt x="82" y="370"/>
                </a:lnTo>
                <a:lnTo>
                  <a:pt x="82" y="355"/>
                </a:lnTo>
                <a:lnTo>
                  <a:pt x="82" y="341"/>
                </a:lnTo>
                <a:lnTo>
                  <a:pt x="80" y="326"/>
                </a:lnTo>
                <a:lnTo>
                  <a:pt x="80" y="314"/>
                </a:lnTo>
                <a:lnTo>
                  <a:pt x="80" y="301"/>
                </a:lnTo>
                <a:lnTo>
                  <a:pt x="78" y="289"/>
                </a:lnTo>
                <a:lnTo>
                  <a:pt x="78" y="280"/>
                </a:lnTo>
                <a:lnTo>
                  <a:pt x="76" y="270"/>
                </a:lnTo>
                <a:lnTo>
                  <a:pt x="76" y="261"/>
                </a:lnTo>
                <a:lnTo>
                  <a:pt x="72" y="243"/>
                </a:lnTo>
                <a:lnTo>
                  <a:pt x="71" y="228"/>
                </a:lnTo>
                <a:lnTo>
                  <a:pt x="69" y="213"/>
                </a:lnTo>
                <a:lnTo>
                  <a:pt x="67" y="199"/>
                </a:lnTo>
                <a:lnTo>
                  <a:pt x="65" y="186"/>
                </a:lnTo>
                <a:lnTo>
                  <a:pt x="63" y="172"/>
                </a:lnTo>
                <a:lnTo>
                  <a:pt x="61" y="161"/>
                </a:lnTo>
                <a:lnTo>
                  <a:pt x="57" y="151"/>
                </a:lnTo>
                <a:lnTo>
                  <a:pt x="55" y="140"/>
                </a:lnTo>
                <a:lnTo>
                  <a:pt x="53" y="130"/>
                </a:lnTo>
                <a:lnTo>
                  <a:pt x="51" y="122"/>
                </a:lnTo>
                <a:lnTo>
                  <a:pt x="49" y="115"/>
                </a:lnTo>
                <a:lnTo>
                  <a:pt x="48" y="107"/>
                </a:lnTo>
                <a:lnTo>
                  <a:pt x="44" y="101"/>
                </a:lnTo>
                <a:lnTo>
                  <a:pt x="42" y="96"/>
                </a:lnTo>
                <a:lnTo>
                  <a:pt x="40" y="90"/>
                </a:lnTo>
                <a:lnTo>
                  <a:pt x="36" y="84"/>
                </a:lnTo>
                <a:lnTo>
                  <a:pt x="32" y="80"/>
                </a:lnTo>
                <a:lnTo>
                  <a:pt x="28" y="74"/>
                </a:lnTo>
                <a:lnTo>
                  <a:pt x="26" y="69"/>
                </a:lnTo>
                <a:lnTo>
                  <a:pt x="24" y="65"/>
                </a:lnTo>
                <a:lnTo>
                  <a:pt x="23" y="59"/>
                </a:lnTo>
                <a:lnTo>
                  <a:pt x="23" y="55"/>
                </a:lnTo>
                <a:lnTo>
                  <a:pt x="23" y="50"/>
                </a:lnTo>
                <a:lnTo>
                  <a:pt x="23" y="44"/>
                </a:lnTo>
                <a:lnTo>
                  <a:pt x="23" y="40"/>
                </a:lnTo>
                <a:lnTo>
                  <a:pt x="24" y="34"/>
                </a:lnTo>
                <a:lnTo>
                  <a:pt x="26" y="30"/>
                </a:lnTo>
                <a:lnTo>
                  <a:pt x="28" y="25"/>
                </a:lnTo>
                <a:lnTo>
                  <a:pt x="32" y="21"/>
                </a:lnTo>
                <a:lnTo>
                  <a:pt x="36" y="15"/>
                </a:lnTo>
                <a:lnTo>
                  <a:pt x="40" y="11"/>
                </a:lnTo>
                <a:lnTo>
                  <a:pt x="42" y="7"/>
                </a:lnTo>
                <a:lnTo>
                  <a:pt x="46" y="5"/>
                </a:lnTo>
                <a:lnTo>
                  <a:pt x="49" y="3"/>
                </a:lnTo>
                <a:lnTo>
                  <a:pt x="53" y="3"/>
                </a:lnTo>
                <a:lnTo>
                  <a:pt x="57" y="2"/>
                </a:lnTo>
                <a:lnTo>
                  <a:pt x="63" y="2"/>
                </a:lnTo>
                <a:lnTo>
                  <a:pt x="69" y="0"/>
                </a:lnTo>
                <a:lnTo>
                  <a:pt x="76" y="0"/>
                </a:lnTo>
                <a:lnTo>
                  <a:pt x="82" y="0"/>
                </a:lnTo>
                <a:lnTo>
                  <a:pt x="90" y="2"/>
                </a:lnTo>
                <a:lnTo>
                  <a:pt x="97" y="2"/>
                </a:lnTo>
                <a:lnTo>
                  <a:pt x="107" y="3"/>
                </a:lnTo>
                <a:lnTo>
                  <a:pt x="117" y="3"/>
                </a:lnTo>
                <a:lnTo>
                  <a:pt x="126" y="5"/>
                </a:lnTo>
                <a:lnTo>
                  <a:pt x="136" y="7"/>
                </a:lnTo>
                <a:lnTo>
                  <a:pt x="147" y="11"/>
                </a:lnTo>
                <a:lnTo>
                  <a:pt x="157" y="13"/>
                </a:lnTo>
                <a:lnTo>
                  <a:pt x="168" y="15"/>
                </a:lnTo>
                <a:lnTo>
                  <a:pt x="178" y="19"/>
                </a:lnTo>
                <a:lnTo>
                  <a:pt x="188" y="23"/>
                </a:lnTo>
                <a:lnTo>
                  <a:pt x="195" y="26"/>
                </a:lnTo>
                <a:lnTo>
                  <a:pt x="205" y="30"/>
                </a:lnTo>
                <a:lnTo>
                  <a:pt x="220" y="38"/>
                </a:lnTo>
                <a:lnTo>
                  <a:pt x="234" y="48"/>
                </a:lnTo>
                <a:lnTo>
                  <a:pt x="245" y="57"/>
                </a:lnTo>
                <a:lnTo>
                  <a:pt x="257" y="67"/>
                </a:lnTo>
                <a:lnTo>
                  <a:pt x="266" y="76"/>
                </a:lnTo>
                <a:lnTo>
                  <a:pt x="270" y="92"/>
                </a:lnTo>
                <a:lnTo>
                  <a:pt x="272" y="105"/>
                </a:lnTo>
                <a:lnTo>
                  <a:pt x="274" y="121"/>
                </a:lnTo>
                <a:lnTo>
                  <a:pt x="274" y="136"/>
                </a:lnTo>
                <a:lnTo>
                  <a:pt x="274" y="151"/>
                </a:lnTo>
                <a:lnTo>
                  <a:pt x="272" y="165"/>
                </a:lnTo>
                <a:lnTo>
                  <a:pt x="270" y="180"/>
                </a:lnTo>
                <a:lnTo>
                  <a:pt x="266" y="195"/>
                </a:lnTo>
                <a:lnTo>
                  <a:pt x="264" y="205"/>
                </a:lnTo>
                <a:lnTo>
                  <a:pt x="261" y="216"/>
                </a:lnTo>
                <a:lnTo>
                  <a:pt x="259" y="228"/>
                </a:lnTo>
                <a:lnTo>
                  <a:pt x="257" y="240"/>
                </a:lnTo>
                <a:lnTo>
                  <a:pt x="255" y="253"/>
                </a:lnTo>
                <a:lnTo>
                  <a:pt x="253" y="266"/>
                </a:lnTo>
                <a:lnTo>
                  <a:pt x="251" y="280"/>
                </a:lnTo>
                <a:lnTo>
                  <a:pt x="249" y="293"/>
                </a:lnTo>
                <a:lnTo>
                  <a:pt x="245" y="309"/>
                </a:lnTo>
                <a:lnTo>
                  <a:pt x="243" y="324"/>
                </a:lnTo>
                <a:lnTo>
                  <a:pt x="241" y="341"/>
                </a:lnTo>
                <a:lnTo>
                  <a:pt x="239" y="359"/>
                </a:lnTo>
                <a:lnTo>
                  <a:pt x="238" y="376"/>
                </a:lnTo>
                <a:lnTo>
                  <a:pt x="236" y="395"/>
                </a:lnTo>
                <a:lnTo>
                  <a:pt x="232" y="412"/>
                </a:lnTo>
                <a:lnTo>
                  <a:pt x="230" y="4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39"/>
          <p:cNvSpPr/>
          <p:nvPr/>
        </p:nvSpPr>
        <p:spPr>
          <a:xfrm>
            <a:off x="5721480" y="3360600"/>
            <a:ext cx="218880" cy="292320"/>
          </a:xfrm>
          <a:custGeom>
            <a:avLst/>
            <a:gdLst/>
            <a:ahLst/>
            <a:rect l="l" t="t" r="r" b="b"/>
            <a:pathLst>
              <a:path w="277" h="368">
                <a:moveTo>
                  <a:pt x="206" y="79"/>
                </a:moveTo>
                <a:lnTo>
                  <a:pt x="213" y="88"/>
                </a:lnTo>
                <a:lnTo>
                  <a:pt x="221" y="98"/>
                </a:lnTo>
                <a:lnTo>
                  <a:pt x="229" y="109"/>
                </a:lnTo>
                <a:lnTo>
                  <a:pt x="237" y="119"/>
                </a:lnTo>
                <a:lnTo>
                  <a:pt x="242" y="128"/>
                </a:lnTo>
                <a:lnTo>
                  <a:pt x="248" y="138"/>
                </a:lnTo>
                <a:lnTo>
                  <a:pt x="254" y="148"/>
                </a:lnTo>
                <a:lnTo>
                  <a:pt x="258" y="157"/>
                </a:lnTo>
                <a:lnTo>
                  <a:pt x="263" y="169"/>
                </a:lnTo>
                <a:lnTo>
                  <a:pt x="265" y="178"/>
                </a:lnTo>
                <a:lnTo>
                  <a:pt x="269" y="188"/>
                </a:lnTo>
                <a:lnTo>
                  <a:pt x="271" y="198"/>
                </a:lnTo>
                <a:lnTo>
                  <a:pt x="273" y="207"/>
                </a:lnTo>
                <a:lnTo>
                  <a:pt x="275" y="217"/>
                </a:lnTo>
                <a:lnTo>
                  <a:pt x="277" y="226"/>
                </a:lnTo>
                <a:lnTo>
                  <a:pt x="277" y="238"/>
                </a:lnTo>
                <a:lnTo>
                  <a:pt x="277" y="249"/>
                </a:lnTo>
                <a:lnTo>
                  <a:pt x="275" y="259"/>
                </a:lnTo>
                <a:lnTo>
                  <a:pt x="275" y="270"/>
                </a:lnTo>
                <a:lnTo>
                  <a:pt x="275" y="280"/>
                </a:lnTo>
                <a:lnTo>
                  <a:pt x="273" y="288"/>
                </a:lnTo>
                <a:lnTo>
                  <a:pt x="271" y="295"/>
                </a:lnTo>
                <a:lnTo>
                  <a:pt x="271" y="303"/>
                </a:lnTo>
                <a:lnTo>
                  <a:pt x="269" y="309"/>
                </a:lnTo>
                <a:lnTo>
                  <a:pt x="267" y="315"/>
                </a:lnTo>
                <a:lnTo>
                  <a:pt x="265" y="320"/>
                </a:lnTo>
                <a:lnTo>
                  <a:pt x="263" y="326"/>
                </a:lnTo>
                <a:lnTo>
                  <a:pt x="261" y="330"/>
                </a:lnTo>
                <a:lnTo>
                  <a:pt x="258" y="338"/>
                </a:lnTo>
                <a:lnTo>
                  <a:pt x="252" y="343"/>
                </a:lnTo>
                <a:lnTo>
                  <a:pt x="248" y="347"/>
                </a:lnTo>
                <a:lnTo>
                  <a:pt x="242" y="353"/>
                </a:lnTo>
                <a:lnTo>
                  <a:pt x="235" y="357"/>
                </a:lnTo>
                <a:lnTo>
                  <a:pt x="227" y="361"/>
                </a:lnTo>
                <a:lnTo>
                  <a:pt x="219" y="365"/>
                </a:lnTo>
                <a:lnTo>
                  <a:pt x="212" y="366"/>
                </a:lnTo>
                <a:lnTo>
                  <a:pt x="202" y="368"/>
                </a:lnTo>
                <a:lnTo>
                  <a:pt x="192" y="368"/>
                </a:lnTo>
                <a:lnTo>
                  <a:pt x="189" y="368"/>
                </a:lnTo>
                <a:lnTo>
                  <a:pt x="183" y="366"/>
                </a:lnTo>
                <a:lnTo>
                  <a:pt x="179" y="363"/>
                </a:lnTo>
                <a:lnTo>
                  <a:pt x="173" y="359"/>
                </a:lnTo>
                <a:lnTo>
                  <a:pt x="167" y="353"/>
                </a:lnTo>
                <a:lnTo>
                  <a:pt x="160" y="347"/>
                </a:lnTo>
                <a:lnTo>
                  <a:pt x="154" y="340"/>
                </a:lnTo>
                <a:lnTo>
                  <a:pt x="146" y="330"/>
                </a:lnTo>
                <a:lnTo>
                  <a:pt x="139" y="318"/>
                </a:lnTo>
                <a:lnTo>
                  <a:pt x="131" y="307"/>
                </a:lnTo>
                <a:lnTo>
                  <a:pt x="123" y="293"/>
                </a:lnTo>
                <a:lnTo>
                  <a:pt x="114" y="280"/>
                </a:lnTo>
                <a:lnTo>
                  <a:pt x="104" y="265"/>
                </a:lnTo>
                <a:lnTo>
                  <a:pt x="94" y="247"/>
                </a:lnTo>
                <a:lnTo>
                  <a:pt x="85" y="230"/>
                </a:lnTo>
                <a:lnTo>
                  <a:pt x="75" y="211"/>
                </a:lnTo>
                <a:lnTo>
                  <a:pt x="64" y="192"/>
                </a:lnTo>
                <a:lnTo>
                  <a:pt x="54" y="173"/>
                </a:lnTo>
                <a:lnTo>
                  <a:pt x="45" y="155"/>
                </a:lnTo>
                <a:lnTo>
                  <a:pt x="37" y="138"/>
                </a:lnTo>
                <a:lnTo>
                  <a:pt x="29" y="123"/>
                </a:lnTo>
                <a:lnTo>
                  <a:pt x="23" y="109"/>
                </a:lnTo>
                <a:lnTo>
                  <a:pt x="18" y="96"/>
                </a:lnTo>
                <a:lnTo>
                  <a:pt x="12" y="84"/>
                </a:lnTo>
                <a:lnTo>
                  <a:pt x="8" y="73"/>
                </a:lnTo>
                <a:lnTo>
                  <a:pt x="4" y="61"/>
                </a:lnTo>
                <a:lnTo>
                  <a:pt x="2" y="54"/>
                </a:lnTo>
                <a:lnTo>
                  <a:pt x="0" y="46"/>
                </a:lnTo>
                <a:lnTo>
                  <a:pt x="0" y="38"/>
                </a:lnTo>
                <a:lnTo>
                  <a:pt x="0" y="32"/>
                </a:lnTo>
                <a:lnTo>
                  <a:pt x="0" y="29"/>
                </a:lnTo>
                <a:lnTo>
                  <a:pt x="2" y="27"/>
                </a:lnTo>
                <a:lnTo>
                  <a:pt x="2" y="23"/>
                </a:lnTo>
                <a:lnTo>
                  <a:pt x="4" y="21"/>
                </a:lnTo>
                <a:lnTo>
                  <a:pt x="6" y="19"/>
                </a:lnTo>
                <a:lnTo>
                  <a:pt x="8" y="17"/>
                </a:lnTo>
                <a:lnTo>
                  <a:pt x="10" y="17"/>
                </a:lnTo>
                <a:lnTo>
                  <a:pt x="14" y="15"/>
                </a:lnTo>
                <a:lnTo>
                  <a:pt x="16" y="13"/>
                </a:lnTo>
                <a:lnTo>
                  <a:pt x="22" y="13"/>
                </a:lnTo>
                <a:lnTo>
                  <a:pt x="25" y="11"/>
                </a:lnTo>
                <a:lnTo>
                  <a:pt x="31" y="9"/>
                </a:lnTo>
                <a:lnTo>
                  <a:pt x="37" y="9"/>
                </a:lnTo>
                <a:lnTo>
                  <a:pt x="43" y="7"/>
                </a:lnTo>
                <a:lnTo>
                  <a:pt x="50" y="6"/>
                </a:lnTo>
                <a:lnTo>
                  <a:pt x="58" y="4"/>
                </a:lnTo>
                <a:lnTo>
                  <a:pt x="66" y="2"/>
                </a:lnTo>
                <a:lnTo>
                  <a:pt x="75" y="0"/>
                </a:lnTo>
                <a:lnTo>
                  <a:pt x="81" y="0"/>
                </a:lnTo>
                <a:lnTo>
                  <a:pt x="89" y="0"/>
                </a:lnTo>
                <a:lnTo>
                  <a:pt x="96" y="2"/>
                </a:lnTo>
                <a:lnTo>
                  <a:pt x="104" y="4"/>
                </a:lnTo>
                <a:lnTo>
                  <a:pt x="112" y="7"/>
                </a:lnTo>
                <a:lnTo>
                  <a:pt x="119" y="11"/>
                </a:lnTo>
                <a:lnTo>
                  <a:pt x="127" y="15"/>
                </a:lnTo>
                <a:lnTo>
                  <a:pt x="135" y="19"/>
                </a:lnTo>
                <a:lnTo>
                  <a:pt x="144" y="25"/>
                </a:lnTo>
                <a:lnTo>
                  <a:pt x="152" y="31"/>
                </a:lnTo>
                <a:lnTo>
                  <a:pt x="162" y="36"/>
                </a:lnTo>
                <a:lnTo>
                  <a:pt x="169" y="44"/>
                </a:lnTo>
                <a:lnTo>
                  <a:pt x="179" y="52"/>
                </a:lnTo>
                <a:lnTo>
                  <a:pt x="187" y="59"/>
                </a:lnTo>
                <a:lnTo>
                  <a:pt x="196" y="69"/>
                </a:lnTo>
                <a:lnTo>
                  <a:pt x="206" y="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髓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58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59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组合 8"/>
          <p:cNvGrpSpPr/>
          <p:nvPr/>
        </p:nvGrpSpPr>
        <p:grpSpPr>
          <a:xfrm>
            <a:off x="1390680" y="3975120"/>
            <a:ext cx="2863800" cy="1572120"/>
            <a:chOff x="1390680" y="3975120"/>
            <a:chExt cx="2863800" cy="1572120"/>
          </a:xfrm>
        </p:grpSpPr>
        <p:pic>
          <p:nvPicPr>
            <p:cNvPr id="163" name="图示 4" descr=""/>
            <p:cNvPicPr/>
            <p:nvPr/>
          </p:nvPicPr>
          <p:blipFill>
            <a:blip r:embed="rId3"/>
            <a:stretch/>
          </p:blipFill>
          <p:spPr>
            <a:xfrm>
              <a:off x="1390680" y="3975120"/>
              <a:ext cx="2863800" cy="15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矩形 2"/>
            <p:cNvSpPr/>
            <p:nvPr/>
          </p:nvSpPr>
          <p:spPr>
            <a:xfrm>
              <a:off x="1435680" y="4588200"/>
              <a:ext cx="279576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辶”的点在斜上方，平捺托上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矩形 3"/>
          <p:cNvSpPr/>
          <p:nvPr/>
        </p:nvSpPr>
        <p:spPr>
          <a:xfrm>
            <a:off x="2092320" y="1868400"/>
            <a:ext cx="138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u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24"/>
          <p:cNvSpPr/>
          <p:nvPr/>
        </p:nvSpPr>
        <p:spPr>
          <a:xfrm>
            <a:off x="6883560" y="3743280"/>
            <a:ext cx="465120" cy="995400"/>
          </a:xfrm>
          <a:custGeom>
            <a:avLst/>
            <a:gdLst/>
            <a:ahLst/>
            <a:rect l="l" t="t" r="r" b="b"/>
            <a:pathLst>
              <a:path w="588" h="1255">
                <a:moveTo>
                  <a:pt x="0" y="148"/>
                </a:moveTo>
                <a:lnTo>
                  <a:pt x="20" y="142"/>
                </a:lnTo>
                <a:lnTo>
                  <a:pt x="37" y="138"/>
                </a:lnTo>
                <a:lnTo>
                  <a:pt x="56" y="132"/>
                </a:lnTo>
                <a:lnTo>
                  <a:pt x="71" y="129"/>
                </a:lnTo>
                <a:lnTo>
                  <a:pt x="89" y="123"/>
                </a:lnTo>
                <a:lnTo>
                  <a:pt x="104" y="119"/>
                </a:lnTo>
                <a:lnTo>
                  <a:pt x="119" y="115"/>
                </a:lnTo>
                <a:lnTo>
                  <a:pt x="135" y="109"/>
                </a:lnTo>
                <a:lnTo>
                  <a:pt x="150" y="106"/>
                </a:lnTo>
                <a:lnTo>
                  <a:pt x="164" y="102"/>
                </a:lnTo>
                <a:lnTo>
                  <a:pt x="177" y="98"/>
                </a:lnTo>
                <a:lnTo>
                  <a:pt x="188" y="94"/>
                </a:lnTo>
                <a:lnTo>
                  <a:pt x="202" y="90"/>
                </a:lnTo>
                <a:lnTo>
                  <a:pt x="213" y="86"/>
                </a:lnTo>
                <a:lnTo>
                  <a:pt x="223" y="83"/>
                </a:lnTo>
                <a:lnTo>
                  <a:pt x="235" y="79"/>
                </a:lnTo>
                <a:lnTo>
                  <a:pt x="244" y="75"/>
                </a:lnTo>
                <a:lnTo>
                  <a:pt x="254" y="71"/>
                </a:lnTo>
                <a:lnTo>
                  <a:pt x="261" y="69"/>
                </a:lnTo>
                <a:lnTo>
                  <a:pt x="271" y="65"/>
                </a:lnTo>
                <a:lnTo>
                  <a:pt x="277" y="63"/>
                </a:lnTo>
                <a:lnTo>
                  <a:pt x="284" y="60"/>
                </a:lnTo>
                <a:lnTo>
                  <a:pt x="290" y="58"/>
                </a:lnTo>
                <a:lnTo>
                  <a:pt x="298" y="56"/>
                </a:lnTo>
                <a:lnTo>
                  <a:pt x="302" y="52"/>
                </a:lnTo>
                <a:lnTo>
                  <a:pt x="307" y="50"/>
                </a:lnTo>
                <a:lnTo>
                  <a:pt x="311" y="48"/>
                </a:lnTo>
                <a:lnTo>
                  <a:pt x="315" y="46"/>
                </a:lnTo>
                <a:lnTo>
                  <a:pt x="319" y="44"/>
                </a:lnTo>
                <a:lnTo>
                  <a:pt x="321" y="42"/>
                </a:lnTo>
                <a:lnTo>
                  <a:pt x="323" y="40"/>
                </a:lnTo>
                <a:lnTo>
                  <a:pt x="325" y="40"/>
                </a:lnTo>
                <a:lnTo>
                  <a:pt x="329" y="35"/>
                </a:lnTo>
                <a:lnTo>
                  <a:pt x="334" y="31"/>
                </a:lnTo>
                <a:lnTo>
                  <a:pt x="342" y="25"/>
                </a:lnTo>
                <a:lnTo>
                  <a:pt x="348" y="19"/>
                </a:lnTo>
                <a:lnTo>
                  <a:pt x="355" y="15"/>
                </a:lnTo>
                <a:lnTo>
                  <a:pt x="361" y="10"/>
                </a:lnTo>
                <a:lnTo>
                  <a:pt x="367" y="4"/>
                </a:lnTo>
                <a:lnTo>
                  <a:pt x="373" y="0"/>
                </a:lnTo>
                <a:lnTo>
                  <a:pt x="375" y="0"/>
                </a:lnTo>
                <a:lnTo>
                  <a:pt x="378" y="0"/>
                </a:lnTo>
                <a:lnTo>
                  <a:pt x="382" y="2"/>
                </a:lnTo>
                <a:lnTo>
                  <a:pt x="388" y="2"/>
                </a:lnTo>
                <a:lnTo>
                  <a:pt x="394" y="4"/>
                </a:lnTo>
                <a:lnTo>
                  <a:pt x="400" y="6"/>
                </a:lnTo>
                <a:lnTo>
                  <a:pt x="407" y="8"/>
                </a:lnTo>
                <a:lnTo>
                  <a:pt x="413" y="12"/>
                </a:lnTo>
                <a:lnTo>
                  <a:pt x="423" y="15"/>
                </a:lnTo>
                <a:lnTo>
                  <a:pt x="430" y="19"/>
                </a:lnTo>
                <a:lnTo>
                  <a:pt x="440" y="23"/>
                </a:lnTo>
                <a:lnTo>
                  <a:pt x="450" y="27"/>
                </a:lnTo>
                <a:lnTo>
                  <a:pt x="459" y="33"/>
                </a:lnTo>
                <a:lnTo>
                  <a:pt x="471" y="38"/>
                </a:lnTo>
                <a:lnTo>
                  <a:pt x="480" y="46"/>
                </a:lnTo>
                <a:lnTo>
                  <a:pt x="492" y="54"/>
                </a:lnTo>
                <a:lnTo>
                  <a:pt x="503" y="61"/>
                </a:lnTo>
                <a:lnTo>
                  <a:pt x="513" y="67"/>
                </a:lnTo>
                <a:lnTo>
                  <a:pt x="522" y="75"/>
                </a:lnTo>
                <a:lnTo>
                  <a:pt x="530" y="81"/>
                </a:lnTo>
                <a:lnTo>
                  <a:pt x="538" y="88"/>
                </a:lnTo>
                <a:lnTo>
                  <a:pt x="545" y="94"/>
                </a:lnTo>
                <a:lnTo>
                  <a:pt x="551" y="100"/>
                </a:lnTo>
                <a:lnTo>
                  <a:pt x="557" y="104"/>
                </a:lnTo>
                <a:lnTo>
                  <a:pt x="563" y="109"/>
                </a:lnTo>
                <a:lnTo>
                  <a:pt x="569" y="113"/>
                </a:lnTo>
                <a:lnTo>
                  <a:pt x="572" y="117"/>
                </a:lnTo>
                <a:lnTo>
                  <a:pt x="576" y="121"/>
                </a:lnTo>
                <a:lnTo>
                  <a:pt x="582" y="129"/>
                </a:lnTo>
                <a:lnTo>
                  <a:pt x="588" y="134"/>
                </a:lnTo>
                <a:lnTo>
                  <a:pt x="588" y="140"/>
                </a:lnTo>
                <a:lnTo>
                  <a:pt x="586" y="146"/>
                </a:lnTo>
                <a:lnTo>
                  <a:pt x="584" y="154"/>
                </a:lnTo>
                <a:lnTo>
                  <a:pt x="580" y="161"/>
                </a:lnTo>
                <a:lnTo>
                  <a:pt x="576" y="169"/>
                </a:lnTo>
                <a:lnTo>
                  <a:pt x="572" y="177"/>
                </a:lnTo>
                <a:lnTo>
                  <a:pt x="569" y="182"/>
                </a:lnTo>
                <a:lnTo>
                  <a:pt x="565" y="188"/>
                </a:lnTo>
                <a:lnTo>
                  <a:pt x="559" y="194"/>
                </a:lnTo>
                <a:lnTo>
                  <a:pt x="555" y="202"/>
                </a:lnTo>
                <a:lnTo>
                  <a:pt x="551" y="207"/>
                </a:lnTo>
                <a:lnTo>
                  <a:pt x="547" y="215"/>
                </a:lnTo>
                <a:lnTo>
                  <a:pt x="544" y="223"/>
                </a:lnTo>
                <a:lnTo>
                  <a:pt x="542" y="230"/>
                </a:lnTo>
                <a:lnTo>
                  <a:pt x="540" y="236"/>
                </a:lnTo>
                <a:lnTo>
                  <a:pt x="540" y="242"/>
                </a:lnTo>
                <a:lnTo>
                  <a:pt x="540" y="244"/>
                </a:lnTo>
                <a:lnTo>
                  <a:pt x="540" y="246"/>
                </a:lnTo>
                <a:lnTo>
                  <a:pt x="540" y="250"/>
                </a:lnTo>
                <a:lnTo>
                  <a:pt x="540" y="251"/>
                </a:lnTo>
                <a:lnTo>
                  <a:pt x="540" y="255"/>
                </a:lnTo>
                <a:lnTo>
                  <a:pt x="542" y="259"/>
                </a:lnTo>
                <a:lnTo>
                  <a:pt x="542" y="265"/>
                </a:lnTo>
                <a:lnTo>
                  <a:pt x="542" y="271"/>
                </a:lnTo>
                <a:lnTo>
                  <a:pt x="542" y="276"/>
                </a:lnTo>
                <a:lnTo>
                  <a:pt x="544" y="282"/>
                </a:lnTo>
                <a:lnTo>
                  <a:pt x="544" y="290"/>
                </a:lnTo>
                <a:lnTo>
                  <a:pt x="544" y="298"/>
                </a:lnTo>
                <a:lnTo>
                  <a:pt x="545" y="305"/>
                </a:lnTo>
                <a:lnTo>
                  <a:pt x="545" y="313"/>
                </a:lnTo>
                <a:lnTo>
                  <a:pt x="547" y="322"/>
                </a:lnTo>
                <a:lnTo>
                  <a:pt x="547" y="332"/>
                </a:lnTo>
                <a:lnTo>
                  <a:pt x="547" y="342"/>
                </a:lnTo>
                <a:lnTo>
                  <a:pt x="549" y="353"/>
                </a:lnTo>
                <a:lnTo>
                  <a:pt x="549" y="365"/>
                </a:lnTo>
                <a:lnTo>
                  <a:pt x="551" y="376"/>
                </a:lnTo>
                <a:lnTo>
                  <a:pt x="551" y="388"/>
                </a:lnTo>
                <a:lnTo>
                  <a:pt x="553" y="399"/>
                </a:lnTo>
                <a:lnTo>
                  <a:pt x="553" y="413"/>
                </a:lnTo>
                <a:lnTo>
                  <a:pt x="555" y="426"/>
                </a:lnTo>
                <a:lnTo>
                  <a:pt x="557" y="441"/>
                </a:lnTo>
                <a:lnTo>
                  <a:pt x="557" y="455"/>
                </a:lnTo>
                <a:lnTo>
                  <a:pt x="559" y="470"/>
                </a:lnTo>
                <a:lnTo>
                  <a:pt x="559" y="486"/>
                </a:lnTo>
                <a:lnTo>
                  <a:pt x="561" y="503"/>
                </a:lnTo>
                <a:lnTo>
                  <a:pt x="561" y="518"/>
                </a:lnTo>
                <a:lnTo>
                  <a:pt x="565" y="553"/>
                </a:lnTo>
                <a:lnTo>
                  <a:pt x="567" y="589"/>
                </a:lnTo>
                <a:lnTo>
                  <a:pt x="569" y="626"/>
                </a:lnTo>
                <a:lnTo>
                  <a:pt x="569" y="660"/>
                </a:lnTo>
                <a:lnTo>
                  <a:pt x="570" y="693"/>
                </a:lnTo>
                <a:lnTo>
                  <a:pt x="572" y="724"/>
                </a:lnTo>
                <a:lnTo>
                  <a:pt x="572" y="754"/>
                </a:lnTo>
                <a:lnTo>
                  <a:pt x="574" y="783"/>
                </a:lnTo>
                <a:lnTo>
                  <a:pt x="574" y="810"/>
                </a:lnTo>
                <a:lnTo>
                  <a:pt x="574" y="835"/>
                </a:lnTo>
                <a:lnTo>
                  <a:pt x="574" y="860"/>
                </a:lnTo>
                <a:lnTo>
                  <a:pt x="576" y="885"/>
                </a:lnTo>
                <a:lnTo>
                  <a:pt x="576" y="906"/>
                </a:lnTo>
                <a:lnTo>
                  <a:pt x="576" y="927"/>
                </a:lnTo>
                <a:lnTo>
                  <a:pt x="576" y="948"/>
                </a:lnTo>
                <a:lnTo>
                  <a:pt x="576" y="967"/>
                </a:lnTo>
                <a:lnTo>
                  <a:pt x="576" y="985"/>
                </a:lnTo>
                <a:lnTo>
                  <a:pt x="574" y="1002"/>
                </a:lnTo>
                <a:lnTo>
                  <a:pt x="570" y="1019"/>
                </a:lnTo>
                <a:lnTo>
                  <a:pt x="569" y="1035"/>
                </a:lnTo>
                <a:lnTo>
                  <a:pt x="567" y="1052"/>
                </a:lnTo>
                <a:lnTo>
                  <a:pt x="565" y="1065"/>
                </a:lnTo>
                <a:lnTo>
                  <a:pt x="561" y="1081"/>
                </a:lnTo>
                <a:lnTo>
                  <a:pt x="559" y="1094"/>
                </a:lnTo>
                <a:lnTo>
                  <a:pt x="555" y="1108"/>
                </a:lnTo>
                <a:lnTo>
                  <a:pt x="551" y="1119"/>
                </a:lnTo>
                <a:lnTo>
                  <a:pt x="547" y="1131"/>
                </a:lnTo>
                <a:lnTo>
                  <a:pt x="544" y="1142"/>
                </a:lnTo>
                <a:lnTo>
                  <a:pt x="538" y="1152"/>
                </a:lnTo>
                <a:lnTo>
                  <a:pt x="534" y="1161"/>
                </a:lnTo>
                <a:lnTo>
                  <a:pt x="528" y="1171"/>
                </a:lnTo>
                <a:lnTo>
                  <a:pt x="522" y="1180"/>
                </a:lnTo>
                <a:lnTo>
                  <a:pt x="517" y="1188"/>
                </a:lnTo>
                <a:lnTo>
                  <a:pt x="503" y="1202"/>
                </a:lnTo>
                <a:lnTo>
                  <a:pt x="492" y="1215"/>
                </a:lnTo>
                <a:lnTo>
                  <a:pt x="480" y="1227"/>
                </a:lnTo>
                <a:lnTo>
                  <a:pt x="471" y="1236"/>
                </a:lnTo>
                <a:lnTo>
                  <a:pt x="467" y="1242"/>
                </a:lnTo>
                <a:lnTo>
                  <a:pt x="463" y="1244"/>
                </a:lnTo>
                <a:lnTo>
                  <a:pt x="459" y="1248"/>
                </a:lnTo>
                <a:lnTo>
                  <a:pt x="455" y="1252"/>
                </a:lnTo>
                <a:lnTo>
                  <a:pt x="451" y="1253"/>
                </a:lnTo>
                <a:lnTo>
                  <a:pt x="450" y="1253"/>
                </a:lnTo>
                <a:lnTo>
                  <a:pt x="446" y="1255"/>
                </a:lnTo>
                <a:lnTo>
                  <a:pt x="444" y="1255"/>
                </a:lnTo>
                <a:lnTo>
                  <a:pt x="440" y="1255"/>
                </a:lnTo>
                <a:lnTo>
                  <a:pt x="436" y="1253"/>
                </a:lnTo>
                <a:lnTo>
                  <a:pt x="432" y="1253"/>
                </a:lnTo>
                <a:lnTo>
                  <a:pt x="428" y="1250"/>
                </a:lnTo>
                <a:lnTo>
                  <a:pt x="425" y="1248"/>
                </a:lnTo>
                <a:lnTo>
                  <a:pt x="423" y="1244"/>
                </a:lnTo>
                <a:lnTo>
                  <a:pt x="419" y="1240"/>
                </a:lnTo>
                <a:lnTo>
                  <a:pt x="417" y="1236"/>
                </a:lnTo>
                <a:lnTo>
                  <a:pt x="413" y="1227"/>
                </a:lnTo>
                <a:lnTo>
                  <a:pt x="409" y="1215"/>
                </a:lnTo>
                <a:lnTo>
                  <a:pt x="409" y="1202"/>
                </a:lnTo>
                <a:lnTo>
                  <a:pt x="407" y="1188"/>
                </a:lnTo>
                <a:lnTo>
                  <a:pt x="403" y="1173"/>
                </a:lnTo>
                <a:lnTo>
                  <a:pt x="396" y="1156"/>
                </a:lnTo>
                <a:lnTo>
                  <a:pt x="392" y="1146"/>
                </a:lnTo>
                <a:lnTo>
                  <a:pt x="388" y="1138"/>
                </a:lnTo>
                <a:lnTo>
                  <a:pt x="384" y="1129"/>
                </a:lnTo>
                <a:lnTo>
                  <a:pt x="378" y="1121"/>
                </a:lnTo>
                <a:lnTo>
                  <a:pt x="373" y="1111"/>
                </a:lnTo>
                <a:lnTo>
                  <a:pt x="365" y="1102"/>
                </a:lnTo>
                <a:lnTo>
                  <a:pt x="359" y="1094"/>
                </a:lnTo>
                <a:lnTo>
                  <a:pt x="350" y="1085"/>
                </a:lnTo>
                <a:lnTo>
                  <a:pt x="342" y="1077"/>
                </a:lnTo>
                <a:lnTo>
                  <a:pt x="332" y="1069"/>
                </a:lnTo>
                <a:lnTo>
                  <a:pt x="323" y="1060"/>
                </a:lnTo>
                <a:lnTo>
                  <a:pt x="311" y="1052"/>
                </a:lnTo>
                <a:lnTo>
                  <a:pt x="302" y="1044"/>
                </a:lnTo>
                <a:lnTo>
                  <a:pt x="292" y="1038"/>
                </a:lnTo>
                <a:lnTo>
                  <a:pt x="283" y="1031"/>
                </a:lnTo>
                <a:lnTo>
                  <a:pt x="273" y="1025"/>
                </a:lnTo>
                <a:lnTo>
                  <a:pt x="267" y="1019"/>
                </a:lnTo>
                <a:lnTo>
                  <a:pt x="259" y="1012"/>
                </a:lnTo>
                <a:lnTo>
                  <a:pt x="254" y="1008"/>
                </a:lnTo>
                <a:lnTo>
                  <a:pt x="250" y="1002"/>
                </a:lnTo>
                <a:lnTo>
                  <a:pt x="246" y="996"/>
                </a:lnTo>
                <a:lnTo>
                  <a:pt x="242" y="992"/>
                </a:lnTo>
                <a:lnTo>
                  <a:pt x="240" y="989"/>
                </a:lnTo>
                <a:lnTo>
                  <a:pt x="238" y="985"/>
                </a:lnTo>
                <a:lnTo>
                  <a:pt x="236" y="981"/>
                </a:lnTo>
                <a:lnTo>
                  <a:pt x="238" y="977"/>
                </a:lnTo>
                <a:lnTo>
                  <a:pt x="238" y="975"/>
                </a:lnTo>
                <a:lnTo>
                  <a:pt x="240" y="971"/>
                </a:lnTo>
                <a:lnTo>
                  <a:pt x="246" y="967"/>
                </a:lnTo>
                <a:lnTo>
                  <a:pt x="252" y="964"/>
                </a:lnTo>
                <a:lnTo>
                  <a:pt x="259" y="962"/>
                </a:lnTo>
                <a:lnTo>
                  <a:pt x="269" y="962"/>
                </a:lnTo>
                <a:lnTo>
                  <a:pt x="279" y="962"/>
                </a:lnTo>
                <a:lnTo>
                  <a:pt x="286" y="964"/>
                </a:lnTo>
                <a:lnTo>
                  <a:pt x="292" y="964"/>
                </a:lnTo>
                <a:lnTo>
                  <a:pt x="300" y="966"/>
                </a:lnTo>
                <a:lnTo>
                  <a:pt x="307" y="967"/>
                </a:lnTo>
                <a:lnTo>
                  <a:pt x="315" y="969"/>
                </a:lnTo>
                <a:lnTo>
                  <a:pt x="325" y="971"/>
                </a:lnTo>
                <a:lnTo>
                  <a:pt x="338" y="977"/>
                </a:lnTo>
                <a:lnTo>
                  <a:pt x="350" y="981"/>
                </a:lnTo>
                <a:lnTo>
                  <a:pt x="363" y="985"/>
                </a:lnTo>
                <a:lnTo>
                  <a:pt x="375" y="989"/>
                </a:lnTo>
                <a:lnTo>
                  <a:pt x="386" y="990"/>
                </a:lnTo>
                <a:lnTo>
                  <a:pt x="396" y="990"/>
                </a:lnTo>
                <a:lnTo>
                  <a:pt x="400" y="990"/>
                </a:lnTo>
                <a:lnTo>
                  <a:pt x="402" y="989"/>
                </a:lnTo>
                <a:lnTo>
                  <a:pt x="405" y="987"/>
                </a:lnTo>
                <a:lnTo>
                  <a:pt x="407" y="985"/>
                </a:lnTo>
                <a:lnTo>
                  <a:pt x="409" y="983"/>
                </a:lnTo>
                <a:lnTo>
                  <a:pt x="413" y="977"/>
                </a:lnTo>
                <a:lnTo>
                  <a:pt x="415" y="971"/>
                </a:lnTo>
                <a:lnTo>
                  <a:pt x="417" y="966"/>
                </a:lnTo>
                <a:lnTo>
                  <a:pt x="419" y="956"/>
                </a:lnTo>
                <a:lnTo>
                  <a:pt x="421" y="946"/>
                </a:lnTo>
                <a:lnTo>
                  <a:pt x="423" y="937"/>
                </a:lnTo>
                <a:lnTo>
                  <a:pt x="425" y="925"/>
                </a:lnTo>
                <a:lnTo>
                  <a:pt x="426" y="912"/>
                </a:lnTo>
                <a:lnTo>
                  <a:pt x="426" y="896"/>
                </a:lnTo>
                <a:lnTo>
                  <a:pt x="428" y="881"/>
                </a:lnTo>
                <a:lnTo>
                  <a:pt x="430" y="864"/>
                </a:lnTo>
                <a:lnTo>
                  <a:pt x="430" y="845"/>
                </a:lnTo>
                <a:lnTo>
                  <a:pt x="430" y="825"/>
                </a:lnTo>
                <a:lnTo>
                  <a:pt x="432" y="804"/>
                </a:lnTo>
                <a:lnTo>
                  <a:pt x="432" y="783"/>
                </a:lnTo>
                <a:lnTo>
                  <a:pt x="432" y="691"/>
                </a:lnTo>
                <a:lnTo>
                  <a:pt x="430" y="645"/>
                </a:lnTo>
                <a:lnTo>
                  <a:pt x="430" y="599"/>
                </a:lnTo>
                <a:lnTo>
                  <a:pt x="428" y="551"/>
                </a:lnTo>
                <a:lnTo>
                  <a:pt x="426" y="503"/>
                </a:lnTo>
                <a:lnTo>
                  <a:pt x="425" y="455"/>
                </a:lnTo>
                <a:lnTo>
                  <a:pt x="421" y="405"/>
                </a:lnTo>
                <a:lnTo>
                  <a:pt x="417" y="382"/>
                </a:lnTo>
                <a:lnTo>
                  <a:pt x="415" y="361"/>
                </a:lnTo>
                <a:lnTo>
                  <a:pt x="413" y="340"/>
                </a:lnTo>
                <a:lnTo>
                  <a:pt x="411" y="321"/>
                </a:lnTo>
                <a:lnTo>
                  <a:pt x="409" y="303"/>
                </a:lnTo>
                <a:lnTo>
                  <a:pt x="405" y="286"/>
                </a:lnTo>
                <a:lnTo>
                  <a:pt x="403" y="269"/>
                </a:lnTo>
                <a:lnTo>
                  <a:pt x="400" y="255"/>
                </a:lnTo>
                <a:lnTo>
                  <a:pt x="398" y="240"/>
                </a:lnTo>
                <a:lnTo>
                  <a:pt x="394" y="228"/>
                </a:lnTo>
                <a:lnTo>
                  <a:pt x="392" y="215"/>
                </a:lnTo>
                <a:lnTo>
                  <a:pt x="388" y="205"/>
                </a:lnTo>
                <a:lnTo>
                  <a:pt x="384" y="196"/>
                </a:lnTo>
                <a:lnTo>
                  <a:pt x="380" y="188"/>
                </a:lnTo>
                <a:lnTo>
                  <a:pt x="377" y="180"/>
                </a:lnTo>
                <a:lnTo>
                  <a:pt x="373" y="175"/>
                </a:lnTo>
                <a:lnTo>
                  <a:pt x="367" y="173"/>
                </a:lnTo>
                <a:lnTo>
                  <a:pt x="361" y="171"/>
                </a:lnTo>
                <a:lnTo>
                  <a:pt x="355" y="167"/>
                </a:lnTo>
                <a:lnTo>
                  <a:pt x="350" y="165"/>
                </a:lnTo>
                <a:lnTo>
                  <a:pt x="342" y="163"/>
                </a:lnTo>
                <a:lnTo>
                  <a:pt x="336" y="161"/>
                </a:lnTo>
                <a:lnTo>
                  <a:pt x="319" y="157"/>
                </a:lnTo>
                <a:lnTo>
                  <a:pt x="302" y="155"/>
                </a:lnTo>
                <a:lnTo>
                  <a:pt x="292" y="155"/>
                </a:lnTo>
                <a:lnTo>
                  <a:pt x="283" y="155"/>
                </a:lnTo>
                <a:lnTo>
                  <a:pt x="273" y="157"/>
                </a:lnTo>
                <a:lnTo>
                  <a:pt x="261" y="157"/>
                </a:lnTo>
                <a:lnTo>
                  <a:pt x="252" y="159"/>
                </a:lnTo>
                <a:lnTo>
                  <a:pt x="240" y="161"/>
                </a:lnTo>
                <a:lnTo>
                  <a:pt x="229" y="165"/>
                </a:lnTo>
                <a:lnTo>
                  <a:pt x="217" y="167"/>
                </a:lnTo>
                <a:lnTo>
                  <a:pt x="204" y="169"/>
                </a:lnTo>
                <a:lnTo>
                  <a:pt x="190" y="173"/>
                </a:lnTo>
                <a:lnTo>
                  <a:pt x="177" y="175"/>
                </a:lnTo>
                <a:lnTo>
                  <a:pt x="164" y="179"/>
                </a:lnTo>
                <a:lnTo>
                  <a:pt x="133" y="184"/>
                </a:lnTo>
                <a:lnTo>
                  <a:pt x="102" y="194"/>
                </a:lnTo>
                <a:lnTo>
                  <a:pt x="87" y="198"/>
                </a:lnTo>
                <a:lnTo>
                  <a:pt x="69" y="203"/>
                </a:lnTo>
                <a:lnTo>
                  <a:pt x="52" y="209"/>
                </a:lnTo>
                <a:lnTo>
                  <a:pt x="35" y="215"/>
                </a:lnTo>
                <a:lnTo>
                  <a:pt x="18" y="221"/>
                </a:lnTo>
                <a:lnTo>
                  <a:pt x="0" y="228"/>
                </a:lnTo>
                <a:lnTo>
                  <a:pt x="0" y="188"/>
                </a:lnTo>
                <a:lnTo>
                  <a:pt x="0" y="14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25"/>
          <p:cNvSpPr/>
          <p:nvPr/>
        </p:nvSpPr>
        <p:spPr>
          <a:xfrm>
            <a:off x="6810480" y="3838680"/>
            <a:ext cx="101520" cy="795240"/>
          </a:xfrm>
          <a:custGeom>
            <a:avLst/>
            <a:gdLst/>
            <a:ahLst/>
            <a:rect l="l" t="t" r="r" b="b"/>
            <a:pathLst>
              <a:path w="129" h="1002">
                <a:moveTo>
                  <a:pt x="8" y="81"/>
                </a:moveTo>
                <a:lnTo>
                  <a:pt x="4" y="67"/>
                </a:lnTo>
                <a:lnTo>
                  <a:pt x="2" y="54"/>
                </a:lnTo>
                <a:lnTo>
                  <a:pt x="0" y="40"/>
                </a:lnTo>
                <a:lnTo>
                  <a:pt x="0" y="31"/>
                </a:lnTo>
                <a:lnTo>
                  <a:pt x="0" y="21"/>
                </a:lnTo>
                <a:lnTo>
                  <a:pt x="2" y="13"/>
                </a:lnTo>
                <a:lnTo>
                  <a:pt x="4" y="6"/>
                </a:lnTo>
                <a:lnTo>
                  <a:pt x="8" y="0"/>
                </a:lnTo>
                <a:lnTo>
                  <a:pt x="12" y="0"/>
                </a:lnTo>
                <a:lnTo>
                  <a:pt x="14" y="0"/>
                </a:lnTo>
                <a:lnTo>
                  <a:pt x="18" y="0"/>
                </a:lnTo>
                <a:lnTo>
                  <a:pt x="21" y="0"/>
                </a:lnTo>
                <a:lnTo>
                  <a:pt x="27" y="0"/>
                </a:lnTo>
                <a:lnTo>
                  <a:pt x="33" y="0"/>
                </a:lnTo>
                <a:lnTo>
                  <a:pt x="39" y="2"/>
                </a:lnTo>
                <a:lnTo>
                  <a:pt x="46" y="2"/>
                </a:lnTo>
                <a:lnTo>
                  <a:pt x="54" y="2"/>
                </a:lnTo>
                <a:lnTo>
                  <a:pt x="62" y="4"/>
                </a:lnTo>
                <a:lnTo>
                  <a:pt x="71" y="4"/>
                </a:lnTo>
                <a:lnTo>
                  <a:pt x="81" y="6"/>
                </a:lnTo>
                <a:lnTo>
                  <a:pt x="92" y="8"/>
                </a:lnTo>
                <a:lnTo>
                  <a:pt x="104" y="10"/>
                </a:lnTo>
                <a:lnTo>
                  <a:pt x="115" y="11"/>
                </a:lnTo>
                <a:lnTo>
                  <a:pt x="129" y="13"/>
                </a:lnTo>
                <a:lnTo>
                  <a:pt x="129" y="59"/>
                </a:lnTo>
                <a:lnTo>
                  <a:pt x="129" y="106"/>
                </a:lnTo>
                <a:lnTo>
                  <a:pt x="129" y="148"/>
                </a:lnTo>
                <a:lnTo>
                  <a:pt x="129" y="190"/>
                </a:lnTo>
                <a:lnTo>
                  <a:pt x="129" y="232"/>
                </a:lnTo>
                <a:lnTo>
                  <a:pt x="129" y="273"/>
                </a:lnTo>
                <a:lnTo>
                  <a:pt x="129" y="311"/>
                </a:lnTo>
                <a:lnTo>
                  <a:pt x="129" y="347"/>
                </a:lnTo>
                <a:lnTo>
                  <a:pt x="129" y="384"/>
                </a:lnTo>
                <a:lnTo>
                  <a:pt x="129" y="418"/>
                </a:lnTo>
                <a:lnTo>
                  <a:pt x="127" y="453"/>
                </a:lnTo>
                <a:lnTo>
                  <a:pt x="127" y="486"/>
                </a:lnTo>
                <a:lnTo>
                  <a:pt x="127" y="516"/>
                </a:lnTo>
                <a:lnTo>
                  <a:pt x="127" y="547"/>
                </a:lnTo>
                <a:lnTo>
                  <a:pt x="127" y="576"/>
                </a:lnTo>
                <a:lnTo>
                  <a:pt x="127" y="603"/>
                </a:lnTo>
                <a:lnTo>
                  <a:pt x="127" y="630"/>
                </a:lnTo>
                <a:lnTo>
                  <a:pt x="127" y="654"/>
                </a:lnTo>
                <a:lnTo>
                  <a:pt x="125" y="678"/>
                </a:lnTo>
                <a:lnTo>
                  <a:pt x="125" y="701"/>
                </a:lnTo>
                <a:lnTo>
                  <a:pt x="125" y="722"/>
                </a:lnTo>
                <a:lnTo>
                  <a:pt x="125" y="743"/>
                </a:lnTo>
                <a:lnTo>
                  <a:pt x="123" y="760"/>
                </a:lnTo>
                <a:lnTo>
                  <a:pt x="123" y="779"/>
                </a:lnTo>
                <a:lnTo>
                  <a:pt x="123" y="795"/>
                </a:lnTo>
                <a:lnTo>
                  <a:pt x="121" y="810"/>
                </a:lnTo>
                <a:lnTo>
                  <a:pt x="121" y="825"/>
                </a:lnTo>
                <a:lnTo>
                  <a:pt x="121" y="837"/>
                </a:lnTo>
                <a:lnTo>
                  <a:pt x="119" y="850"/>
                </a:lnTo>
                <a:lnTo>
                  <a:pt x="119" y="860"/>
                </a:lnTo>
                <a:lnTo>
                  <a:pt x="117" y="869"/>
                </a:lnTo>
                <a:lnTo>
                  <a:pt x="117" y="877"/>
                </a:lnTo>
                <a:lnTo>
                  <a:pt x="113" y="894"/>
                </a:lnTo>
                <a:lnTo>
                  <a:pt x="112" y="910"/>
                </a:lnTo>
                <a:lnTo>
                  <a:pt x="112" y="925"/>
                </a:lnTo>
                <a:lnTo>
                  <a:pt x="110" y="939"/>
                </a:lnTo>
                <a:lnTo>
                  <a:pt x="108" y="950"/>
                </a:lnTo>
                <a:lnTo>
                  <a:pt x="106" y="962"/>
                </a:lnTo>
                <a:lnTo>
                  <a:pt x="106" y="971"/>
                </a:lnTo>
                <a:lnTo>
                  <a:pt x="104" y="979"/>
                </a:lnTo>
                <a:lnTo>
                  <a:pt x="104" y="987"/>
                </a:lnTo>
                <a:lnTo>
                  <a:pt x="102" y="992"/>
                </a:lnTo>
                <a:lnTo>
                  <a:pt x="100" y="996"/>
                </a:lnTo>
                <a:lnTo>
                  <a:pt x="100" y="1000"/>
                </a:lnTo>
                <a:lnTo>
                  <a:pt x="98" y="1002"/>
                </a:lnTo>
                <a:lnTo>
                  <a:pt x="96" y="1002"/>
                </a:lnTo>
                <a:lnTo>
                  <a:pt x="94" y="1002"/>
                </a:lnTo>
                <a:lnTo>
                  <a:pt x="92" y="1000"/>
                </a:lnTo>
                <a:lnTo>
                  <a:pt x="90" y="998"/>
                </a:lnTo>
                <a:lnTo>
                  <a:pt x="87" y="998"/>
                </a:lnTo>
                <a:lnTo>
                  <a:pt x="85" y="996"/>
                </a:lnTo>
                <a:lnTo>
                  <a:pt x="81" y="994"/>
                </a:lnTo>
                <a:lnTo>
                  <a:pt x="79" y="990"/>
                </a:lnTo>
                <a:lnTo>
                  <a:pt x="75" y="987"/>
                </a:lnTo>
                <a:lnTo>
                  <a:pt x="71" y="983"/>
                </a:lnTo>
                <a:lnTo>
                  <a:pt x="69" y="977"/>
                </a:lnTo>
                <a:lnTo>
                  <a:pt x="65" y="971"/>
                </a:lnTo>
                <a:lnTo>
                  <a:pt x="62" y="964"/>
                </a:lnTo>
                <a:lnTo>
                  <a:pt x="58" y="956"/>
                </a:lnTo>
                <a:lnTo>
                  <a:pt x="56" y="948"/>
                </a:lnTo>
                <a:lnTo>
                  <a:pt x="52" y="939"/>
                </a:lnTo>
                <a:lnTo>
                  <a:pt x="50" y="929"/>
                </a:lnTo>
                <a:lnTo>
                  <a:pt x="46" y="917"/>
                </a:lnTo>
                <a:lnTo>
                  <a:pt x="44" y="904"/>
                </a:lnTo>
                <a:lnTo>
                  <a:pt x="37" y="885"/>
                </a:lnTo>
                <a:lnTo>
                  <a:pt x="29" y="868"/>
                </a:lnTo>
                <a:lnTo>
                  <a:pt x="23" y="850"/>
                </a:lnTo>
                <a:lnTo>
                  <a:pt x="18" y="835"/>
                </a:lnTo>
                <a:lnTo>
                  <a:pt x="16" y="829"/>
                </a:lnTo>
                <a:lnTo>
                  <a:pt x="14" y="821"/>
                </a:lnTo>
                <a:lnTo>
                  <a:pt x="12" y="816"/>
                </a:lnTo>
                <a:lnTo>
                  <a:pt x="10" y="812"/>
                </a:lnTo>
                <a:lnTo>
                  <a:pt x="10" y="806"/>
                </a:lnTo>
                <a:lnTo>
                  <a:pt x="10" y="802"/>
                </a:lnTo>
                <a:lnTo>
                  <a:pt x="8" y="798"/>
                </a:lnTo>
                <a:lnTo>
                  <a:pt x="8" y="797"/>
                </a:lnTo>
                <a:lnTo>
                  <a:pt x="8" y="793"/>
                </a:lnTo>
                <a:lnTo>
                  <a:pt x="10" y="789"/>
                </a:lnTo>
                <a:lnTo>
                  <a:pt x="10" y="785"/>
                </a:lnTo>
                <a:lnTo>
                  <a:pt x="10" y="779"/>
                </a:lnTo>
                <a:lnTo>
                  <a:pt x="12" y="772"/>
                </a:lnTo>
                <a:lnTo>
                  <a:pt x="14" y="766"/>
                </a:lnTo>
                <a:lnTo>
                  <a:pt x="14" y="756"/>
                </a:lnTo>
                <a:lnTo>
                  <a:pt x="16" y="749"/>
                </a:lnTo>
                <a:lnTo>
                  <a:pt x="18" y="737"/>
                </a:lnTo>
                <a:lnTo>
                  <a:pt x="19" y="727"/>
                </a:lnTo>
                <a:lnTo>
                  <a:pt x="21" y="716"/>
                </a:lnTo>
                <a:lnTo>
                  <a:pt x="23" y="704"/>
                </a:lnTo>
                <a:lnTo>
                  <a:pt x="25" y="691"/>
                </a:lnTo>
                <a:lnTo>
                  <a:pt x="29" y="678"/>
                </a:lnTo>
                <a:lnTo>
                  <a:pt x="31" y="662"/>
                </a:lnTo>
                <a:lnTo>
                  <a:pt x="33" y="649"/>
                </a:lnTo>
                <a:lnTo>
                  <a:pt x="35" y="635"/>
                </a:lnTo>
                <a:lnTo>
                  <a:pt x="37" y="622"/>
                </a:lnTo>
                <a:lnTo>
                  <a:pt x="39" y="606"/>
                </a:lnTo>
                <a:lnTo>
                  <a:pt x="39" y="591"/>
                </a:lnTo>
                <a:lnTo>
                  <a:pt x="41" y="574"/>
                </a:lnTo>
                <a:lnTo>
                  <a:pt x="41" y="557"/>
                </a:lnTo>
                <a:lnTo>
                  <a:pt x="42" y="537"/>
                </a:lnTo>
                <a:lnTo>
                  <a:pt x="42" y="518"/>
                </a:lnTo>
                <a:lnTo>
                  <a:pt x="42" y="499"/>
                </a:lnTo>
                <a:lnTo>
                  <a:pt x="44" y="478"/>
                </a:lnTo>
                <a:lnTo>
                  <a:pt x="44" y="457"/>
                </a:lnTo>
                <a:lnTo>
                  <a:pt x="44" y="434"/>
                </a:lnTo>
                <a:lnTo>
                  <a:pt x="44" y="411"/>
                </a:lnTo>
                <a:lnTo>
                  <a:pt x="44" y="388"/>
                </a:lnTo>
                <a:lnTo>
                  <a:pt x="44" y="363"/>
                </a:lnTo>
                <a:lnTo>
                  <a:pt x="44" y="338"/>
                </a:lnTo>
                <a:lnTo>
                  <a:pt x="42" y="313"/>
                </a:lnTo>
                <a:lnTo>
                  <a:pt x="41" y="290"/>
                </a:lnTo>
                <a:lnTo>
                  <a:pt x="39" y="267"/>
                </a:lnTo>
                <a:lnTo>
                  <a:pt x="35" y="246"/>
                </a:lnTo>
                <a:lnTo>
                  <a:pt x="33" y="226"/>
                </a:lnTo>
                <a:lnTo>
                  <a:pt x="31" y="207"/>
                </a:lnTo>
                <a:lnTo>
                  <a:pt x="29" y="190"/>
                </a:lnTo>
                <a:lnTo>
                  <a:pt x="27" y="175"/>
                </a:lnTo>
                <a:lnTo>
                  <a:pt x="25" y="159"/>
                </a:lnTo>
                <a:lnTo>
                  <a:pt x="21" y="144"/>
                </a:lnTo>
                <a:lnTo>
                  <a:pt x="19" y="132"/>
                </a:lnTo>
                <a:lnTo>
                  <a:pt x="18" y="119"/>
                </a:lnTo>
                <a:lnTo>
                  <a:pt x="16" y="107"/>
                </a:lnTo>
                <a:lnTo>
                  <a:pt x="14" y="98"/>
                </a:lnTo>
                <a:lnTo>
                  <a:pt x="10" y="88"/>
                </a:lnTo>
                <a:lnTo>
                  <a:pt x="8" y="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26"/>
          <p:cNvSpPr/>
          <p:nvPr/>
        </p:nvSpPr>
        <p:spPr>
          <a:xfrm>
            <a:off x="6302520" y="4660920"/>
            <a:ext cx="1495440" cy="368280"/>
          </a:xfrm>
          <a:custGeom>
            <a:avLst/>
            <a:gdLst/>
            <a:ahLst/>
            <a:rect l="l" t="t" r="r" b="b"/>
            <a:pathLst>
              <a:path w="1883" h="463">
                <a:moveTo>
                  <a:pt x="288" y="4"/>
                </a:moveTo>
                <a:lnTo>
                  <a:pt x="294" y="2"/>
                </a:lnTo>
                <a:lnTo>
                  <a:pt x="299" y="2"/>
                </a:lnTo>
                <a:lnTo>
                  <a:pt x="307" y="0"/>
                </a:lnTo>
                <a:lnTo>
                  <a:pt x="315" y="0"/>
                </a:lnTo>
                <a:lnTo>
                  <a:pt x="323" y="0"/>
                </a:lnTo>
                <a:lnTo>
                  <a:pt x="332" y="2"/>
                </a:lnTo>
                <a:lnTo>
                  <a:pt x="340" y="2"/>
                </a:lnTo>
                <a:lnTo>
                  <a:pt x="351" y="2"/>
                </a:lnTo>
                <a:lnTo>
                  <a:pt x="361" y="4"/>
                </a:lnTo>
                <a:lnTo>
                  <a:pt x="371" y="6"/>
                </a:lnTo>
                <a:lnTo>
                  <a:pt x="382" y="8"/>
                </a:lnTo>
                <a:lnTo>
                  <a:pt x="394" y="10"/>
                </a:lnTo>
                <a:lnTo>
                  <a:pt x="407" y="12"/>
                </a:lnTo>
                <a:lnTo>
                  <a:pt x="420" y="14"/>
                </a:lnTo>
                <a:lnTo>
                  <a:pt x="434" y="18"/>
                </a:lnTo>
                <a:lnTo>
                  <a:pt x="447" y="20"/>
                </a:lnTo>
                <a:lnTo>
                  <a:pt x="461" y="23"/>
                </a:lnTo>
                <a:lnTo>
                  <a:pt x="476" y="27"/>
                </a:lnTo>
                <a:lnTo>
                  <a:pt x="491" y="31"/>
                </a:lnTo>
                <a:lnTo>
                  <a:pt x="507" y="35"/>
                </a:lnTo>
                <a:lnTo>
                  <a:pt x="539" y="43"/>
                </a:lnTo>
                <a:lnTo>
                  <a:pt x="574" y="52"/>
                </a:lnTo>
                <a:lnTo>
                  <a:pt x="610" y="62"/>
                </a:lnTo>
                <a:lnTo>
                  <a:pt x="649" y="73"/>
                </a:lnTo>
                <a:lnTo>
                  <a:pt x="689" y="85"/>
                </a:lnTo>
                <a:lnTo>
                  <a:pt x="731" y="98"/>
                </a:lnTo>
                <a:lnTo>
                  <a:pt x="774" y="114"/>
                </a:lnTo>
                <a:lnTo>
                  <a:pt x="818" y="127"/>
                </a:lnTo>
                <a:lnTo>
                  <a:pt x="862" y="141"/>
                </a:lnTo>
                <a:lnTo>
                  <a:pt x="906" y="152"/>
                </a:lnTo>
                <a:lnTo>
                  <a:pt x="952" y="162"/>
                </a:lnTo>
                <a:lnTo>
                  <a:pt x="998" y="171"/>
                </a:lnTo>
                <a:lnTo>
                  <a:pt x="1044" y="181"/>
                </a:lnTo>
                <a:lnTo>
                  <a:pt x="1090" y="189"/>
                </a:lnTo>
                <a:lnTo>
                  <a:pt x="1138" y="194"/>
                </a:lnTo>
                <a:lnTo>
                  <a:pt x="1186" y="200"/>
                </a:lnTo>
                <a:lnTo>
                  <a:pt x="1234" y="204"/>
                </a:lnTo>
                <a:lnTo>
                  <a:pt x="1284" y="206"/>
                </a:lnTo>
                <a:lnTo>
                  <a:pt x="1334" y="208"/>
                </a:lnTo>
                <a:lnTo>
                  <a:pt x="1384" y="210"/>
                </a:lnTo>
                <a:lnTo>
                  <a:pt x="1436" y="208"/>
                </a:lnTo>
                <a:lnTo>
                  <a:pt x="1488" y="206"/>
                </a:lnTo>
                <a:lnTo>
                  <a:pt x="1511" y="206"/>
                </a:lnTo>
                <a:lnTo>
                  <a:pt x="1534" y="206"/>
                </a:lnTo>
                <a:lnTo>
                  <a:pt x="1557" y="206"/>
                </a:lnTo>
                <a:lnTo>
                  <a:pt x="1580" y="206"/>
                </a:lnTo>
                <a:lnTo>
                  <a:pt x="1601" y="206"/>
                </a:lnTo>
                <a:lnTo>
                  <a:pt x="1620" y="206"/>
                </a:lnTo>
                <a:lnTo>
                  <a:pt x="1641" y="206"/>
                </a:lnTo>
                <a:lnTo>
                  <a:pt x="1660" y="206"/>
                </a:lnTo>
                <a:lnTo>
                  <a:pt x="1678" y="206"/>
                </a:lnTo>
                <a:lnTo>
                  <a:pt x="1695" y="206"/>
                </a:lnTo>
                <a:lnTo>
                  <a:pt x="1712" y="208"/>
                </a:lnTo>
                <a:lnTo>
                  <a:pt x="1728" y="208"/>
                </a:lnTo>
                <a:lnTo>
                  <a:pt x="1743" y="208"/>
                </a:lnTo>
                <a:lnTo>
                  <a:pt x="1756" y="208"/>
                </a:lnTo>
                <a:lnTo>
                  <a:pt x="1770" y="208"/>
                </a:lnTo>
                <a:lnTo>
                  <a:pt x="1783" y="208"/>
                </a:lnTo>
                <a:lnTo>
                  <a:pt x="1795" y="208"/>
                </a:lnTo>
                <a:lnTo>
                  <a:pt x="1806" y="210"/>
                </a:lnTo>
                <a:lnTo>
                  <a:pt x="1816" y="210"/>
                </a:lnTo>
                <a:lnTo>
                  <a:pt x="1827" y="210"/>
                </a:lnTo>
                <a:lnTo>
                  <a:pt x="1835" y="210"/>
                </a:lnTo>
                <a:lnTo>
                  <a:pt x="1843" y="212"/>
                </a:lnTo>
                <a:lnTo>
                  <a:pt x="1850" y="212"/>
                </a:lnTo>
                <a:lnTo>
                  <a:pt x="1858" y="212"/>
                </a:lnTo>
                <a:lnTo>
                  <a:pt x="1864" y="214"/>
                </a:lnTo>
                <a:lnTo>
                  <a:pt x="1868" y="214"/>
                </a:lnTo>
                <a:lnTo>
                  <a:pt x="1872" y="214"/>
                </a:lnTo>
                <a:lnTo>
                  <a:pt x="1875" y="215"/>
                </a:lnTo>
                <a:lnTo>
                  <a:pt x="1879" y="215"/>
                </a:lnTo>
                <a:lnTo>
                  <a:pt x="1881" y="217"/>
                </a:lnTo>
                <a:lnTo>
                  <a:pt x="1881" y="219"/>
                </a:lnTo>
                <a:lnTo>
                  <a:pt x="1883" y="219"/>
                </a:lnTo>
                <a:lnTo>
                  <a:pt x="1881" y="221"/>
                </a:lnTo>
                <a:lnTo>
                  <a:pt x="1881" y="223"/>
                </a:lnTo>
                <a:lnTo>
                  <a:pt x="1879" y="225"/>
                </a:lnTo>
                <a:lnTo>
                  <a:pt x="1877" y="227"/>
                </a:lnTo>
                <a:lnTo>
                  <a:pt x="1875" y="229"/>
                </a:lnTo>
                <a:lnTo>
                  <a:pt x="1873" y="231"/>
                </a:lnTo>
                <a:lnTo>
                  <a:pt x="1866" y="237"/>
                </a:lnTo>
                <a:lnTo>
                  <a:pt x="1858" y="242"/>
                </a:lnTo>
                <a:lnTo>
                  <a:pt x="1847" y="250"/>
                </a:lnTo>
                <a:lnTo>
                  <a:pt x="1835" y="258"/>
                </a:lnTo>
                <a:lnTo>
                  <a:pt x="1820" y="267"/>
                </a:lnTo>
                <a:lnTo>
                  <a:pt x="1804" y="275"/>
                </a:lnTo>
                <a:lnTo>
                  <a:pt x="1787" y="285"/>
                </a:lnTo>
                <a:lnTo>
                  <a:pt x="1766" y="296"/>
                </a:lnTo>
                <a:lnTo>
                  <a:pt x="1745" y="306"/>
                </a:lnTo>
                <a:lnTo>
                  <a:pt x="1722" y="317"/>
                </a:lnTo>
                <a:lnTo>
                  <a:pt x="1697" y="331"/>
                </a:lnTo>
                <a:lnTo>
                  <a:pt x="1670" y="342"/>
                </a:lnTo>
                <a:lnTo>
                  <a:pt x="1643" y="356"/>
                </a:lnTo>
                <a:lnTo>
                  <a:pt x="1614" y="367"/>
                </a:lnTo>
                <a:lnTo>
                  <a:pt x="1586" y="379"/>
                </a:lnTo>
                <a:lnTo>
                  <a:pt x="1559" y="390"/>
                </a:lnTo>
                <a:lnTo>
                  <a:pt x="1534" y="400"/>
                </a:lnTo>
                <a:lnTo>
                  <a:pt x="1509" y="409"/>
                </a:lnTo>
                <a:lnTo>
                  <a:pt x="1484" y="419"/>
                </a:lnTo>
                <a:lnTo>
                  <a:pt x="1461" y="427"/>
                </a:lnTo>
                <a:lnTo>
                  <a:pt x="1440" y="434"/>
                </a:lnTo>
                <a:lnTo>
                  <a:pt x="1419" y="440"/>
                </a:lnTo>
                <a:lnTo>
                  <a:pt x="1399" y="446"/>
                </a:lnTo>
                <a:lnTo>
                  <a:pt x="1380" y="452"/>
                </a:lnTo>
                <a:lnTo>
                  <a:pt x="1363" y="455"/>
                </a:lnTo>
                <a:lnTo>
                  <a:pt x="1348" y="459"/>
                </a:lnTo>
                <a:lnTo>
                  <a:pt x="1332" y="461"/>
                </a:lnTo>
                <a:lnTo>
                  <a:pt x="1319" y="463"/>
                </a:lnTo>
                <a:lnTo>
                  <a:pt x="1307" y="463"/>
                </a:lnTo>
                <a:lnTo>
                  <a:pt x="1301" y="463"/>
                </a:lnTo>
                <a:lnTo>
                  <a:pt x="1294" y="461"/>
                </a:lnTo>
                <a:lnTo>
                  <a:pt x="1286" y="461"/>
                </a:lnTo>
                <a:lnTo>
                  <a:pt x="1278" y="459"/>
                </a:lnTo>
                <a:lnTo>
                  <a:pt x="1271" y="457"/>
                </a:lnTo>
                <a:lnTo>
                  <a:pt x="1261" y="455"/>
                </a:lnTo>
                <a:lnTo>
                  <a:pt x="1252" y="453"/>
                </a:lnTo>
                <a:lnTo>
                  <a:pt x="1242" y="450"/>
                </a:lnTo>
                <a:lnTo>
                  <a:pt x="1230" y="448"/>
                </a:lnTo>
                <a:lnTo>
                  <a:pt x="1219" y="444"/>
                </a:lnTo>
                <a:lnTo>
                  <a:pt x="1207" y="440"/>
                </a:lnTo>
                <a:lnTo>
                  <a:pt x="1194" y="436"/>
                </a:lnTo>
                <a:lnTo>
                  <a:pt x="1181" y="430"/>
                </a:lnTo>
                <a:lnTo>
                  <a:pt x="1167" y="427"/>
                </a:lnTo>
                <a:lnTo>
                  <a:pt x="1152" y="421"/>
                </a:lnTo>
                <a:lnTo>
                  <a:pt x="1136" y="415"/>
                </a:lnTo>
                <a:lnTo>
                  <a:pt x="1121" y="409"/>
                </a:lnTo>
                <a:lnTo>
                  <a:pt x="1106" y="402"/>
                </a:lnTo>
                <a:lnTo>
                  <a:pt x="1088" y="396"/>
                </a:lnTo>
                <a:lnTo>
                  <a:pt x="1071" y="388"/>
                </a:lnTo>
                <a:lnTo>
                  <a:pt x="1052" y="381"/>
                </a:lnTo>
                <a:lnTo>
                  <a:pt x="1035" y="373"/>
                </a:lnTo>
                <a:lnTo>
                  <a:pt x="1015" y="363"/>
                </a:lnTo>
                <a:lnTo>
                  <a:pt x="994" y="356"/>
                </a:lnTo>
                <a:lnTo>
                  <a:pt x="975" y="346"/>
                </a:lnTo>
                <a:lnTo>
                  <a:pt x="954" y="336"/>
                </a:lnTo>
                <a:lnTo>
                  <a:pt x="931" y="327"/>
                </a:lnTo>
                <a:lnTo>
                  <a:pt x="910" y="317"/>
                </a:lnTo>
                <a:lnTo>
                  <a:pt x="887" y="308"/>
                </a:lnTo>
                <a:lnTo>
                  <a:pt x="864" y="296"/>
                </a:lnTo>
                <a:lnTo>
                  <a:pt x="839" y="285"/>
                </a:lnTo>
                <a:lnTo>
                  <a:pt x="816" y="273"/>
                </a:lnTo>
                <a:lnTo>
                  <a:pt x="791" y="262"/>
                </a:lnTo>
                <a:lnTo>
                  <a:pt x="768" y="252"/>
                </a:lnTo>
                <a:lnTo>
                  <a:pt x="745" y="240"/>
                </a:lnTo>
                <a:lnTo>
                  <a:pt x="722" y="231"/>
                </a:lnTo>
                <a:lnTo>
                  <a:pt x="701" y="219"/>
                </a:lnTo>
                <a:lnTo>
                  <a:pt x="680" y="210"/>
                </a:lnTo>
                <a:lnTo>
                  <a:pt x="660" y="200"/>
                </a:lnTo>
                <a:lnTo>
                  <a:pt x="639" y="192"/>
                </a:lnTo>
                <a:lnTo>
                  <a:pt x="622" y="183"/>
                </a:lnTo>
                <a:lnTo>
                  <a:pt x="603" y="175"/>
                </a:lnTo>
                <a:lnTo>
                  <a:pt x="585" y="167"/>
                </a:lnTo>
                <a:lnTo>
                  <a:pt x="568" y="160"/>
                </a:lnTo>
                <a:lnTo>
                  <a:pt x="553" y="152"/>
                </a:lnTo>
                <a:lnTo>
                  <a:pt x="537" y="146"/>
                </a:lnTo>
                <a:lnTo>
                  <a:pt x="522" y="139"/>
                </a:lnTo>
                <a:lnTo>
                  <a:pt x="509" y="133"/>
                </a:lnTo>
                <a:lnTo>
                  <a:pt x="495" y="127"/>
                </a:lnTo>
                <a:lnTo>
                  <a:pt x="482" y="121"/>
                </a:lnTo>
                <a:lnTo>
                  <a:pt x="470" y="116"/>
                </a:lnTo>
                <a:lnTo>
                  <a:pt x="459" y="112"/>
                </a:lnTo>
                <a:lnTo>
                  <a:pt x="447" y="108"/>
                </a:lnTo>
                <a:lnTo>
                  <a:pt x="438" y="104"/>
                </a:lnTo>
                <a:lnTo>
                  <a:pt x="428" y="100"/>
                </a:lnTo>
                <a:lnTo>
                  <a:pt x="418" y="96"/>
                </a:lnTo>
                <a:lnTo>
                  <a:pt x="411" y="95"/>
                </a:lnTo>
                <a:lnTo>
                  <a:pt x="403" y="91"/>
                </a:lnTo>
                <a:lnTo>
                  <a:pt x="395" y="89"/>
                </a:lnTo>
                <a:lnTo>
                  <a:pt x="390" y="87"/>
                </a:lnTo>
                <a:lnTo>
                  <a:pt x="384" y="87"/>
                </a:lnTo>
                <a:lnTo>
                  <a:pt x="380" y="85"/>
                </a:lnTo>
                <a:lnTo>
                  <a:pt x="374" y="85"/>
                </a:lnTo>
                <a:lnTo>
                  <a:pt x="372" y="85"/>
                </a:lnTo>
                <a:lnTo>
                  <a:pt x="357" y="85"/>
                </a:lnTo>
                <a:lnTo>
                  <a:pt x="342" y="87"/>
                </a:lnTo>
                <a:lnTo>
                  <a:pt x="326" y="89"/>
                </a:lnTo>
                <a:lnTo>
                  <a:pt x="309" y="93"/>
                </a:lnTo>
                <a:lnTo>
                  <a:pt x="290" y="96"/>
                </a:lnTo>
                <a:lnTo>
                  <a:pt x="271" y="102"/>
                </a:lnTo>
                <a:lnTo>
                  <a:pt x="250" y="106"/>
                </a:lnTo>
                <a:lnTo>
                  <a:pt x="228" y="112"/>
                </a:lnTo>
                <a:lnTo>
                  <a:pt x="205" y="121"/>
                </a:lnTo>
                <a:lnTo>
                  <a:pt x="186" y="129"/>
                </a:lnTo>
                <a:lnTo>
                  <a:pt x="167" y="137"/>
                </a:lnTo>
                <a:lnTo>
                  <a:pt x="148" y="144"/>
                </a:lnTo>
                <a:lnTo>
                  <a:pt x="132" y="150"/>
                </a:lnTo>
                <a:lnTo>
                  <a:pt x="125" y="152"/>
                </a:lnTo>
                <a:lnTo>
                  <a:pt x="119" y="156"/>
                </a:lnTo>
                <a:lnTo>
                  <a:pt x="111" y="158"/>
                </a:lnTo>
                <a:lnTo>
                  <a:pt x="106" y="160"/>
                </a:lnTo>
                <a:lnTo>
                  <a:pt x="102" y="164"/>
                </a:lnTo>
                <a:lnTo>
                  <a:pt x="96" y="166"/>
                </a:lnTo>
                <a:lnTo>
                  <a:pt x="92" y="167"/>
                </a:lnTo>
                <a:lnTo>
                  <a:pt x="86" y="167"/>
                </a:lnTo>
                <a:lnTo>
                  <a:pt x="81" y="167"/>
                </a:lnTo>
                <a:lnTo>
                  <a:pt x="77" y="166"/>
                </a:lnTo>
                <a:lnTo>
                  <a:pt x="71" y="164"/>
                </a:lnTo>
                <a:lnTo>
                  <a:pt x="65" y="160"/>
                </a:lnTo>
                <a:lnTo>
                  <a:pt x="58" y="154"/>
                </a:lnTo>
                <a:lnTo>
                  <a:pt x="52" y="146"/>
                </a:lnTo>
                <a:lnTo>
                  <a:pt x="46" y="141"/>
                </a:lnTo>
                <a:lnTo>
                  <a:pt x="40" y="131"/>
                </a:lnTo>
                <a:lnTo>
                  <a:pt x="33" y="121"/>
                </a:lnTo>
                <a:lnTo>
                  <a:pt x="27" y="110"/>
                </a:lnTo>
                <a:lnTo>
                  <a:pt x="19" y="98"/>
                </a:lnTo>
                <a:lnTo>
                  <a:pt x="13" y="87"/>
                </a:lnTo>
                <a:lnTo>
                  <a:pt x="6" y="71"/>
                </a:lnTo>
                <a:lnTo>
                  <a:pt x="0" y="58"/>
                </a:lnTo>
                <a:lnTo>
                  <a:pt x="21" y="52"/>
                </a:lnTo>
                <a:lnTo>
                  <a:pt x="42" y="47"/>
                </a:lnTo>
                <a:lnTo>
                  <a:pt x="63" y="43"/>
                </a:lnTo>
                <a:lnTo>
                  <a:pt x="81" y="37"/>
                </a:lnTo>
                <a:lnTo>
                  <a:pt x="98" y="33"/>
                </a:lnTo>
                <a:lnTo>
                  <a:pt x="115" y="27"/>
                </a:lnTo>
                <a:lnTo>
                  <a:pt x="131" y="22"/>
                </a:lnTo>
                <a:lnTo>
                  <a:pt x="144" y="18"/>
                </a:lnTo>
                <a:lnTo>
                  <a:pt x="157" y="12"/>
                </a:lnTo>
                <a:lnTo>
                  <a:pt x="173" y="10"/>
                </a:lnTo>
                <a:lnTo>
                  <a:pt x="190" y="6"/>
                </a:lnTo>
                <a:lnTo>
                  <a:pt x="207" y="6"/>
                </a:lnTo>
                <a:lnTo>
                  <a:pt x="227" y="4"/>
                </a:lnTo>
                <a:lnTo>
                  <a:pt x="246" y="4"/>
                </a:lnTo>
                <a:lnTo>
                  <a:pt x="267" y="4"/>
                </a:lnTo>
                <a:lnTo>
                  <a:pt x="288" y="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27"/>
          <p:cNvSpPr/>
          <p:nvPr/>
        </p:nvSpPr>
        <p:spPr>
          <a:xfrm>
            <a:off x="6883560" y="4255920"/>
            <a:ext cx="257040" cy="96840"/>
          </a:xfrm>
          <a:custGeom>
            <a:avLst/>
            <a:gdLst/>
            <a:ahLst/>
            <a:rect l="l" t="t" r="r" b="b"/>
            <a:pathLst>
              <a:path w="325" h="123">
                <a:moveTo>
                  <a:pt x="0" y="42"/>
                </a:moveTo>
                <a:lnTo>
                  <a:pt x="21" y="40"/>
                </a:lnTo>
                <a:lnTo>
                  <a:pt x="43" y="38"/>
                </a:lnTo>
                <a:lnTo>
                  <a:pt x="64" y="36"/>
                </a:lnTo>
                <a:lnTo>
                  <a:pt x="81" y="33"/>
                </a:lnTo>
                <a:lnTo>
                  <a:pt x="98" y="29"/>
                </a:lnTo>
                <a:lnTo>
                  <a:pt x="116" y="25"/>
                </a:lnTo>
                <a:lnTo>
                  <a:pt x="131" y="19"/>
                </a:lnTo>
                <a:lnTo>
                  <a:pt x="144" y="15"/>
                </a:lnTo>
                <a:lnTo>
                  <a:pt x="158" y="9"/>
                </a:lnTo>
                <a:lnTo>
                  <a:pt x="171" y="6"/>
                </a:lnTo>
                <a:lnTo>
                  <a:pt x="185" y="4"/>
                </a:lnTo>
                <a:lnTo>
                  <a:pt x="200" y="2"/>
                </a:lnTo>
                <a:lnTo>
                  <a:pt x="215" y="2"/>
                </a:lnTo>
                <a:lnTo>
                  <a:pt x="231" y="0"/>
                </a:lnTo>
                <a:lnTo>
                  <a:pt x="246" y="0"/>
                </a:lnTo>
                <a:lnTo>
                  <a:pt x="265" y="0"/>
                </a:lnTo>
                <a:lnTo>
                  <a:pt x="277" y="2"/>
                </a:lnTo>
                <a:lnTo>
                  <a:pt x="288" y="4"/>
                </a:lnTo>
                <a:lnTo>
                  <a:pt x="298" y="6"/>
                </a:lnTo>
                <a:lnTo>
                  <a:pt x="307" y="9"/>
                </a:lnTo>
                <a:lnTo>
                  <a:pt x="315" y="13"/>
                </a:lnTo>
                <a:lnTo>
                  <a:pt x="317" y="15"/>
                </a:lnTo>
                <a:lnTo>
                  <a:pt x="319" y="17"/>
                </a:lnTo>
                <a:lnTo>
                  <a:pt x="321" y="21"/>
                </a:lnTo>
                <a:lnTo>
                  <a:pt x="323" y="23"/>
                </a:lnTo>
                <a:lnTo>
                  <a:pt x="323" y="25"/>
                </a:lnTo>
                <a:lnTo>
                  <a:pt x="325" y="29"/>
                </a:lnTo>
                <a:lnTo>
                  <a:pt x="323" y="31"/>
                </a:lnTo>
                <a:lnTo>
                  <a:pt x="323" y="33"/>
                </a:lnTo>
                <a:lnTo>
                  <a:pt x="321" y="36"/>
                </a:lnTo>
                <a:lnTo>
                  <a:pt x="319" y="40"/>
                </a:lnTo>
                <a:lnTo>
                  <a:pt x="317" y="44"/>
                </a:lnTo>
                <a:lnTo>
                  <a:pt x="313" y="48"/>
                </a:lnTo>
                <a:lnTo>
                  <a:pt x="309" y="52"/>
                </a:lnTo>
                <a:lnTo>
                  <a:pt x="304" y="56"/>
                </a:lnTo>
                <a:lnTo>
                  <a:pt x="300" y="57"/>
                </a:lnTo>
                <a:lnTo>
                  <a:pt x="292" y="61"/>
                </a:lnTo>
                <a:lnTo>
                  <a:pt x="286" y="65"/>
                </a:lnTo>
                <a:lnTo>
                  <a:pt x="279" y="69"/>
                </a:lnTo>
                <a:lnTo>
                  <a:pt x="271" y="73"/>
                </a:lnTo>
                <a:lnTo>
                  <a:pt x="261" y="77"/>
                </a:lnTo>
                <a:lnTo>
                  <a:pt x="252" y="79"/>
                </a:lnTo>
                <a:lnTo>
                  <a:pt x="240" y="82"/>
                </a:lnTo>
                <a:lnTo>
                  <a:pt x="217" y="92"/>
                </a:lnTo>
                <a:lnTo>
                  <a:pt x="192" y="100"/>
                </a:lnTo>
                <a:lnTo>
                  <a:pt x="181" y="104"/>
                </a:lnTo>
                <a:lnTo>
                  <a:pt x="167" y="107"/>
                </a:lnTo>
                <a:lnTo>
                  <a:pt x="152" y="109"/>
                </a:lnTo>
                <a:lnTo>
                  <a:pt x="139" y="111"/>
                </a:lnTo>
                <a:lnTo>
                  <a:pt x="123" y="115"/>
                </a:lnTo>
                <a:lnTo>
                  <a:pt x="108" y="117"/>
                </a:lnTo>
                <a:lnTo>
                  <a:pt x="92" y="119"/>
                </a:lnTo>
                <a:lnTo>
                  <a:pt x="75" y="119"/>
                </a:lnTo>
                <a:lnTo>
                  <a:pt x="58" y="121"/>
                </a:lnTo>
                <a:lnTo>
                  <a:pt x="39" y="121"/>
                </a:lnTo>
                <a:lnTo>
                  <a:pt x="20" y="123"/>
                </a:lnTo>
                <a:lnTo>
                  <a:pt x="0" y="123"/>
                </a:lnTo>
                <a:lnTo>
                  <a:pt x="0" y="82"/>
                </a:lnTo>
                <a:lnTo>
                  <a:pt x="0" y="4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28"/>
          <p:cNvSpPr/>
          <p:nvPr/>
        </p:nvSpPr>
        <p:spPr>
          <a:xfrm>
            <a:off x="6883560" y="4006800"/>
            <a:ext cx="257040" cy="111240"/>
          </a:xfrm>
          <a:custGeom>
            <a:avLst/>
            <a:gdLst/>
            <a:ahLst/>
            <a:rect l="l" t="t" r="r" b="b"/>
            <a:pathLst>
              <a:path w="325" h="140">
                <a:moveTo>
                  <a:pt x="240" y="113"/>
                </a:moveTo>
                <a:lnTo>
                  <a:pt x="217" y="117"/>
                </a:lnTo>
                <a:lnTo>
                  <a:pt x="192" y="123"/>
                </a:lnTo>
                <a:lnTo>
                  <a:pt x="181" y="125"/>
                </a:lnTo>
                <a:lnTo>
                  <a:pt x="167" y="127"/>
                </a:lnTo>
                <a:lnTo>
                  <a:pt x="152" y="131"/>
                </a:lnTo>
                <a:lnTo>
                  <a:pt x="139" y="133"/>
                </a:lnTo>
                <a:lnTo>
                  <a:pt x="123" y="134"/>
                </a:lnTo>
                <a:lnTo>
                  <a:pt x="108" y="134"/>
                </a:lnTo>
                <a:lnTo>
                  <a:pt x="92" y="136"/>
                </a:lnTo>
                <a:lnTo>
                  <a:pt x="75" y="138"/>
                </a:lnTo>
                <a:lnTo>
                  <a:pt x="58" y="138"/>
                </a:lnTo>
                <a:lnTo>
                  <a:pt x="39" y="140"/>
                </a:lnTo>
                <a:lnTo>
                  <a:pt x="20" y="140"/>
                </a:lnTo>
                <a:lnTo>
                  <a:pt x="0" y="140"/>
                </a:lnTo>
                <a:lnTo>
                  <a:pt x="0" y="100"/>
                </a:lnTo>
                <a:lnTo>
                  <a:pt x="0" y="60"/>
                </a:lnTo>
                <a:lnTo>
                  <a:pt x="23" y="58"/>
                </a:lnTo>
                <a:lnTo>
                  <a:pt x="45" y="56"/>
                </a:lnTo>
                <a:lnTo>
                  <a:pt x="68" y="54"/>
                </a:lnTo>
                <a:lnTo>
                  <a:pt x="89" y="50"/>
                </a:lnTo>
                <a:lnTo>
                  <a:pt x="110" y="44"/>
                </a:lnTo>
                <a:lnTo>
                  <a:pt x="131" y="37"/>
                </a:lnTo>
                <a:lnTo>
                  <a:pt x="150" y="29"/>
                </a:lnTo>
                <a:lnTo>
                  <a:pt x="169" y="19"/>
                </a:lnTo>
                <a:lnTo>
                  <a:pt x="181" y="14"/>
                </a:lnTo>
                <a:lnTo>
                  <a:pt x="194" y="8"/>
                </a:lnTo>
                <a:lnTo>
                  <a:pt x="208" y="4"/>
                </a:lnTo>
                <a:lnTo>
                  <a:pt x="223" y="2"/>
                </a:lnTo>
                <a:lnTo>
                  <a:pt x="236" y="0"/>
                </a:lnTo>
                <a:lnTo>
                  <a:pt x="250" y="0"/>
                </a:lnTo>
                <a:lnTo>
                  <a:pt x="256" y="0"/>
                </a:lnTo>
                <a:lnTo>
                  <a:pt x="263" y="2"/>
                </a:lnTo>
                <a:lnTo>
                  <a:pt x="269" y="2"/>
                </a:lnTo>
                <a:lnTo>
                  <a:pt x="277" y="6"/>
                </a:lnTo>
                <a:lnTo>
                  <a:pt x="283" y="8"/>
                </a:lnTo>
                <a:lnTo>
                  <a:pt x="288" y="10"/>
                </a:lnTo>
                <a:lnTo>
                  <a:pt x="294" y="14"/>
                </a:lnTo>
                <a:lnTo>
                  <a:pt x="298" y="15"/>
                </a:lnTo>
                <a:lnTo>
                  <a:pt x="304" y="17"/>
                </a:lnTo>
                <a:lnTo>
                  <a:pt x="307" y="21"/>
                </a:lnTo>
                <a:lnTo>
                  <a:pt x="313" y="25"/>
                </a:lnTo>
                <a:lnTo>
                  <a:pt x="319" y="31"/>
                </a:lnTo>
                <a:lnTo>
                  <a:pt x="321" y="37"/>
                </a:lnTo>
                <a:lnTo>
                  <a:pt x="323" y="40"/>
                </a:lnTo>
                <a:lnTo>
                  <a:pt x="325" y="46"/>
                </a:lnTo>
                <a:lnTo>
                  <a:pt x="323" y="48"/>
                </a:lnTo>
                <a:lnTo>
                  <a:pt x="323" y="52"/>
                </a:lnTo>
                <a:lnTo>
                  <a:pt x="321" y="54"/>
                </a:lnTo>
                <a:lnTo>
                  <a:pt x="319" y="58"/>
                </a:lnTo>
                <a:lnTo>
                  <a:pt x="317" y="62"/>
                </a:lnTo>
                <a:lnTo>
                  <a:pt x="313" y="65"/>
                </a:lnTo>
                <a:lnTo>
                  <a:pt x="309" y="69"/>
                </a:lnTo>
                <a:lnTo>
                  <a:pt x="304" y="75"/>
                </a:lnTo>
                <a:lnTo>
                  <a:pt x="300" y="79"/>
                </a:lnTo>
                <a:lnTo>
                  <a:pt x="292" y="83"/>
                </a:lnTo>
                <a:lnTo>
                  <a:pt x="286" y="88"/>
                </a:lnTo>
                <a:lnTo>
                  <a:pt x="279" y="92"/>
                </a:lnTo>
                <a:lnTo>
                  <a:pt x="271" y="98"/>
                </a:lnTo>
                <a:lnTo>
                  <a:pt x="261" y="102"/>
                </a:lnTo>
                <a:lnTo>
                  <a:pt x="252" y="108"/>
                </a:lnTo>
                <a:lnTo>
                  <a:pt x="240" y="1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29"/>
          <p:cNvSpPr/>
          <p:nvPr/>
        </p:nvSpPr>
        <p:spPr>
          <a:xfrm>
            <a:off x="6302520" y="3870360"/>
            <a:ext cx="380880" cy="836640"/>
          </a:xfrm>
          <a:custGeom>
            <a:avLst/>
            <a:gdLst/>
            <a:ahLst/>
            <a:rect l="l" t="t" r="r" b="b"/>
            <a:pathLst>
              <a:path w="480" h="1054">
                <a:moveTo>
                  <a:pt x="359" y="325"/>
                </a:moveTo>
                <a:lnTo>
                  <a:pt x="351" y="350"/>
                </a:lnTo>
                <a:lnTo>
                  <a:pt x="344" y="373"/>
                </a:lnTo>
                <a:lnTo>
                  <a:pt x="338" y="394"/>
                </a:lnTo>
                <a:lnTo>
                  <a:pt x="332" y="415"/>
                </a:lnTo>
                <a:lnTo>
                  <a:pt x="330" y="423"/>
                </a:lnTo>
                <a:lnTo>
                  <a:pt x="328" y="432"/>
                </a:lnTo>
                <a:lnTo>
                  <a:pt x="328" y="440"/>
                </a:lnTo>
                <a:lnTo>
                  <a:pt x="326" y="447"/>
                </a:lnTo>
                <a:lnTo>
                  <a:pt x="324" y="455"/>
                </a:lnTo>
                <a:lnTo>
                  <a:pt x="324" y="461"/>
                </a:lnTo>
                <a:lnTo>
                  <a:pt x="324" y="467"/>
                </a:lnTo>
                <a:lnTo>
                  <a:pt x="324" y="472"/>
                </a:lnTo>
                <a:lnTo>
                  <a:pt x="324" y="478"/>
                </a:lnTo>
                <a:lnTo>
                  <a:pt x="324" y="484"/>
                </a:lnTo>
                <a:lnTo>
                  <a:pt x="324" y="492"/>
                </a:lnTo>
                <a:lnTo>
                  <a:pt x="326" y="497"/>
                </a:lnTo>
                <a:lnTo>
                  <a:pt x="328" y="505"/>
                </a:lnTo>
                <a:lnTo>
                  <a:pt x="328" y="515"/>
                </a:lnTo>
                <a:lnTo>
                  <a:pt x="330" y="522"/>
                </a:lnTo>
                <a:lnTo>
                  <a:pt x="332" y="532"/>
                </a:lnTo>
                <a:lnTo>
                  <a:pt x="338" y="553"/>
                </a:lnTo>
                <a:lnTo>
                  <a:pt x="344" y="574"/>
                </a:lnTo>
                <a:lnTo>
                  <a:pt x="351" y="597"/>
                </a:lnTo>
                <a:lnTo>
                  <a:pt x="359" y="622"/>
                </a:lnTo>
                <a:lnTo>
                  <a:pt x="361" y="636"/>
                </a:lnTo>
                <a:lnTo>
                  <a:pt x="365" y="651"/>
                </a:lnTo>
                <a:lnTo>
                  <a:pt x="367" y="668"/>
                </a:lnTo>
                <a:lnTo>
                  <a:pt x="369" y="687"/>
                </a:lnTo>
                <a:lnTo>
                  <a:pt x="371" y="709"/>
                </a:lnTo>
                <a:lnTo>
                  <a:pt x="372" y="732"/>
                </a:lnTo>
                <a:lnTo>
                  <a:pt x="374" y="755"/>
                </a:lnTo>
                <a:lnTo>
                  <a:pt x="376" y="781"/>
                </a:lnTo>
                <a:lnTo>
                  <a:pt x="378" y="810"/>
                </a:lnTo>
                <a:lnTo>
                  <a:pt x="378" y="839"/>
                </a:lnTo>
                <a:lnTo>
                  <a:pt x="380" y="872"/>
                </a:lnTo>
                <a:lnTo>
                  <a:pt x="382" y="904"/>
                </a:lnTo>
                <a:lnTo>
                  <a:pt x="382" y="939"/>
                </a:lnTo>
                <a:lnTo>
                  <a:pt x="382" y="975"/>
                </a:lnTo>
                <a:lnTo>
                  <a:pt x="384" y="1014"/>
                </a:lnTo>
                <a:lnTo>
                  <a:pt x="384" y="1054"/>
                </a:lnTo>
                <a:lnTo>
                  <a:pt x="353" y="1054"/>
                </a:lnTo>
                <a:lnTo>
                  <a:pt x="324" y="1054"/>
                </a:lnTo>
                <a:lnTo>
                  <a:pt x="324" y="1046"/>
                </a:lnTo>
                <a:lnTo>
                  <a:pt x="323" y="1037"/>
                </a:lnTo>
                <a:lnTo>
                  <a:pt x="323" y="1025"/>
                </a:lnTo>
                <a:lnTo>
                  <a:pt x="323" y="1014"/>
                </a:lnTo>
                <a:lnTo>
                  <a:pt x="321" y="1000"/>
                </a:lnTo>
                <a:lnTo>
                  <a:pt x="319" y="985"/>
                </a:lnTo>
                <a:lnTo>
                  <a:pt x="317" y="970"/>
                </a:lnTo>
                <a:lnTo>
                  <a:pt x="315" y="952"/>
                </a:lnTo>
                <a:lnTo>
                  <a:pt x="313" y="935"/>
                </a:lnTo>
                <a:lnTo>
                  <a:pt x="309" y="914"/>
                </a:lnTo>
                <a:lnTo>
                  <a:pt x="307" y="893"/>
                </a:lnTo>
                <a:lnTo>
                  <a:pt x="303" y="872"/>
                </a:lnTo>
                <a:lnTo>
                  <a:pt x="299" y="849"/>
                </a:lnTo>
                <a:lnTo>
                  <a:pt x="296" y="824"/>
                </a:lnTo>
                <a:lnTo>
                  <a:pt x="292" y="797"/>
                </a:lnTo>
                <a:lnTo>
                  <a:pt x="288" y="770"/>
                </a:lnTo>
                <a:lnTo>
                  <a:pt x="282" y="743"/>
                </a:lnTo>
                <a:lnTo>
                  <a:pt x="276" y="718"/>
                </a:lnTo>
                <a:lnTo>
                  <a:pt x="271" y="693"/>
                </a:lnTo>
                <a:lnTo>
                  <a:pt x="265" y="670"/>
                </a:lnTo>
                <a:lnTo>
                  <a:pt x="261" y="651"/>
                </a:lnTo>
                <a:lnTo>
                  <a:pt x="257" y="630"/>
                </a:lnTo>
                <a:lnTo>
                  <a:pt x="253" y="613"/>
                </a:lnTo>
                <a:lnTo>
                  <a:pt x="251" y="595"/>
                </a:lnTo>
                <a:lnTo>
                  <a:pt x="248" y="582"/>
                </a:lnTo>
                <a:lnTo>
                  <a:pt x="246" y="566"/>
                </a:lnTo>
                <a:lnTo>
                  <a:pt x="244" y="555"/>
                </a:lnTo>
                <a:lnTo>
                  <a:pt x="242" y="543"/>
                </a:lnTo>
                <a:lnTo>
                  <a:pt x="242" y="534"/>
                </a:lnTo>
                <a:lnTo>
                  <a:pt x="240" y="526"/>
                </a:lnTo>
                <a:lnTo>
                  <a:pt x="240" y="519"/>
                </a:lnTo>
                <a:lnTo>
                  <a:pt x="240" y="515"/>
                </a:lnTo>
                <a:lnTo>
                  <a:pt x="238" y="511"/>
                </a:lnTo>
                <a:lnTo>
                  <a:pt x="236" y="507"/>
                </a:lnTo>
                <a:lnTo>
                  <a:pt x="236" y="501"/>
                </a:lnTo>
                <a:lnTo>
                  <a:pt x="236" y="494"/>
                </a:lnTo>
                <a:lnTo>
                  <a:pt x="236" y="486"/>
                </a:lnTo>
                <a:lnTo>
                  <a:pt x="236" y="476"/>
                </a:lnTo>
                <a:lnTo>
                  <a:pt x="238" y="467"/>
                </a:lnTo>
                <a:lnTo>
                  <a:pt x="238" y="457"/>
                </a:lnTo>
                <a:lnTo>
                  <a:pt x="240" y="444"/>
                </a:lnTo>
                <a:lnTo>
                  <a:pt x="244" y="432"/>
                </a:lnTo>
                <a:lnTo>
                  <a:pt x="246" y="419"/>
                </a:lnTo>
                <a:lnTo>
                  <a:pt x="250" y="403"/>
                </a:lnTo>
                <a:lnTo>
                  <a:pt x="251" y="388"/>
                </a:lnTo>
                <a:lnTo>
                  <a:pt x="255" y="373"/>
                </a:lnTo>
                <a:lnTo>
                  <a:pt x="259" y="355"/>
                </a:lnTo>
                <a:lnTo>
                  <a:pt x="265" y="338"/>
                </a:lnTo>
                <a:lnTo>
                  <a:pt x="267" y="321"/>
                </a:lnTo>
                <a:lnTo>
                  <a:pt x="269" y="305"/>
                </a:lnTo>
                <a:lnTo>
                  <a:pt x="271" y="290"/>
                </a:lnTo>
                <a:lnTo>
                  <a:pt x="273" y="275"/>
                </a:lnTo>
                <a:lnTo>
                  <a:pt x="275" y="261"/>
                </a:lnTo>
                <a:lnTo>
                  <a:pt x="276" y="250"/>
                </a:lnTo>
                <a:lnTo>
                  <a:pt x="276" y="238"/>
                </a:lnTo>
                <a:lnTo>
                  <a:pt x="278" y="227"/>
                </a:lnTo>
                <a:lnTo>
                  <a:pt x="280" y="217"/>
                </a:lnTo>
                <a:lnTo>
                  <a:pt x="280" y="208"/>
                </a:lnTo>
                <a:lnTo>
                  <a:pt x="280" y="200"/>
                </a:lnTo>
                <a:lnTo>
                  <a:pt x="280" y="194"/>
                </a:lnTo>
                <a:lnTo>
                  <a:pt x="280" y="188"/>
                </a:lnTo>
                <a:lnTo>
                  <a:pt x="278" y="183"/>
                </a:lnTo>
                <a:lnTo>
                  <a:pt x="278" y="179"/>
                </a:lnTo>
                <a:lnTo>
                  <a:pt x="276" y="177"/>
                </a:lnTo>
                <a:lnTo>
                  <a:pt x="275" y="173"/>
                </a:lnTo>
                <a:lnTo>
                  <a:pt x="271" y="173"/>
                </a:lnTo>
                <a:lnTo>
                  <a:pt x="269" y="171"/>
                </a:lnTo>
                <a:lnTo>
                  <a:pt x="265" y="171"/>
                </a:lnTo>
                <a:lnTo>
                  <a:pt x="259" y="171"/>
                </a:lnTo>
                <a:lnTo>
                  <a:pt x="251" y="173"/>
                </a:lnTo>
                <a:lnTo>
                  <a:pt x="246" y="175"/>
                </a:lnTo>
                <a:lnTo>
                  <a:pt x="238" y="179"/>
                </a:lnTo>
                <a:lnTo>
                  <a:pt x="232" y="185"/>
                </a:lnTo>
                <a:lnTo>
                  <a:pt x="228" y="190"/>
                </a:lnTo>
                <a:lnTo>
                  <a:pt x="223" y="194"/>
                </a:lnTo>
                <a:lnTo>
                  <a:pt x="219" y="200"/>
                </a:lnTo>
                <a:lnTo>
                  <a:pt x="211" y="204"/>
                </a:lnTo>
                <a:lnTo>
                  <a:pt x="205" y="208"/>
                </a:lnTo>
                <a:lnTo>
                  <a:pt x="200" y="211"/>
                </a:lnTo>
                <a:lnTo>
                  <a:pt x="192" y="215"/>
                </a:lnTo>
                <a:lnTo>
                  <a:pt x="175" y="219"/>
                </a:lnTo>
                <a:lnTo>
                  <a:pt x="157" y="225"/>
                </a:lnTo>
                <a:lnTo>
                  <a:pt x="138" y="227"/>
                </a:lnTo>
                <a:lnTo>
                  <a:pt x="117" y="229"/>
                </a:lnTo>
                <a:lnTo>
                  <a:pt x="96" y="231"/>
                </a:lnTo>
                <a:lnTo>
                  <a:pt x="85" y="231"/>
                </a:lnTo>
                <a:lnTo>
                  <a:pt x="75" y="229"/>
                </a:lnTo>
                <a:lnTo>
                  <a:pt x="65" y="229"/>
                </a:lnTo>
                <a:lnTo>
                  <a:pt x="56" y="229"/>
                </a:lnTo>
                <a:lnTo>
                  <a:pt x="48" y="227"/>
                </a:lnTo>
                <a:lnTo>
                  <a:pt x="38" y="225"/>
                </a:lnTo>
                <a:lnTo>
                  <a:pt x="33" y="223"/>
                </a:lnTo>
                <a:lnTo>
                  <a:pt x="25" y="221"/>
                </a:lnTo>
                <a:lnTo>
                  <a:pt x="19" y="219"/>
                </a:lnTo>
                <a:lnTo>
                  <a:pt x="15" y="217"/>
                </a:lnTo>
                <a:lnTo>
                  <a:pt x="10" y="215"/>
                </a:lnTo>
                <a:lnTo>
                  <a:pt x="6" y="213"/>
                </a:lnTo>
                <a:lnTo>
                  <a:pt x="4" y="211"/>
                </a:lnTo>
                <a:lnTo>
                  <a:pt x="2" y="208"/>
                </a:lnTo>
                <a:lnTo>
                  <a:pt x="0" y="206"/>
                </a:lnTo>
                <a:lnTo>
                  <a:pt x="0" y="204"/>
                </a:lnTo>
                <a:lnTo>
                  <a:pt x="0" y="198"/>
                </a:lnTo>
                <a:lnTo>
                  <a:pt x="2" y="192"/>
                </a:lnTo>
                <a:lnTo>
                  <a:pt x="6" y="188"/>
                </a:lnTo>
                <a:lnTo>
                  <a:pt x="10" y="183"/>
                </a:lnTo>
                <a:lnTo>
                  <a:pt x="17" y="179"/>
                </a:lnTo>
                <a:lnTo>
                  <a:pt x="21" y="175"/>
                </a:lnTo>
                <a:lnTo>
                  <a:pt x="25" y="173"/>
                </a:lnTo>
                <a:lnTo>
                  <a:pt x="31" y="171"/>
                </a:lnTo>
                <a:lnTo>
                  <a:pt x="37" y="167"/>
                </a:lnTo>
                <a:lnTo>
                  <a:pt x="42" y="165"/>
                </a:lnTo>
                <a:lnTo>
                  <a:pt x="48" y="163"/>
                </a:lnTo>
                <a:lnTo>
                  <a:pt x="61" y="158"/>
                </a:lnTo>
                <a:lnTo>
                  <a:pt x="75" y="152"/>
                </a:lnTo>
                <a:lnTo>
                  <a:pt x="90" y="146"/>
                </a:lnTo>
                <a:lnTo>
                  <a:pt x="106" y="140"/>
                </a:lnTo>
                <a:lnTo>
                  <a:pt x="121" y="135"/>
                </a:lnTo>
                <a:lnTo>
                  <a:pt x="138" y="127"/>
                </a:lnTo>
                <a:lnTo>
                  <a:pt x="148" y="123"/>
                </a:lnTo>
                <a:lnTo>
                  <a:pt x="159" y="119"/>
                </a:lnTo>
                <a:lnTo>
                  <a:pt x="169" y="113"/>
                </a:lnTo>
                <a:lnTo>
                  <a:pt x="180" y="110"/>
                </a:lnTo>
                <a:lnTo>
                  <a:pt x="188" y="106"/>
                </a:lnTo>
                <a:lnTo>
                  <a:pt x="198" y="102"/>
                </a:lnTo>
                <a:lnTo>
                  <a:pt x="205" y="100"/>
                </a:lnTo>
                <a:lnTo>
                  <a:pt x="211" y="96"/>
                </a:lnTo>
                <a:lnTo>
                  <a:pt x="219" y="92"/>
                </a:lnTo>
                <a:lnTo>
                  <a:pt x="225" y="89"/>
                </a:lnTo>
                <a:lnTo>
                  <a:pt x="236" y="79"/>
                </a:lnTo>
                <a:lnTo>
                  <a:pt x="246" y="71"/>
                </a:lnTo>
                <a:lnTo>
                  <a:pt x="253" y="62"/>
                </a:lnTo>
                <a:lnTo>
                  <a:pt x="259" y="52"/>
                </a:lnTo>
                <a:lnTo>
                  <a:pt x="265" y="41"/>
                </a:lnTo>
                <a:lnTo>
                  <a:pt x="269" y="31"/>
                </a:lnTo>
                <a:lnTo>
                  <a:pt x="273" y="23"/>
                </a:lnTo>
                <a:lnTo>
                  <a:pt x="278" y="16"/>
                </a:lnTo>
                <a:lnTo>
                  <a:pt x="284" y="10"/>
                </a:lnTo>
                <a:lnTo>
                  <a:pt x="290" y="6"/>
                </a:lnTo>
                <a:lnTo>
                  <a:pt x="296" y="4"/>
                </a:lnTo>
                <a:lnTo>
                  <a:pt x="303" y="2"/>
                </a:lnTo>
                <a:lnTo>
                  <a:pt x="313" y="0"/>
                </a:lnTo>
                <a:lnTo>
                  <a:pt x="321" y="6"/>
                </a:lnTo>
                <a:lnTo>
                  <a:pt x="332" y="12"/>
                </a:lnTo>
                <a:lnTo>
                  <a:pt x="344" y="16"/>
                </a:lnTo>
                <a:lnTo>
                  <a:pt x="357" y="23"/>
                </a:lnTo>
                <a:lnTo>
                  <a:pt x="371" y="29"/>
                </a:lnTo>
                <a:lnTo>
                  <a:pt x="386" y="37"/>
                </a:lnTo>
                <a:lnTo>
                  <a:pt x="403" y="44"/>
                </a:lnTo>
                <a:lnTo>
                  <a:pt x="420" y="54"/>
                </a:lnTo>
                <a:lnTo>
                  <a:pt x="432" y="66"/>
                </a:lnTo>
                <a:lnTo>
                  <a:pt x="443" y="75"/>
                </a:lnTo>
                <a:lnTo>
                  <a:pt x="455" y="85"/>
                </a:lnTo>
                <a:lnTo>
                  <a:pt x="463" y="94"/>
                </a:lnTo>
                <a:lnTo>
                  <a:pt x="470" y="106"/>
                </a:lnTo>
                <a:lnTo>
                  <a:pt x="472" y="110"/>
                </a:lnTo>
                <a:lnTo>
                  <a:pt x="476" y="115"/>
                </a:lnTo>
                <a:lnTo>
                  <a:pt x="476" y="121"/>
                </a:lnTo>
                <a:lnTo>
                  <a:pt x="478" y="125"/>
                </a:lnTo>
                <a:lnTo>
                  <a:pt x="480" y="131"/>
                </a:lnTo>
                <a:lnTo>
                  <a:pt x="480" y="137"/>
                </a:lnTo>
                <a:lnTo>
                  <a:pt x="478" y="144"/>
                </a:lnTo>
                <a:lnTo>
                  <a:pt x="478" y="154"/>
                </a:lnTo>
                <a:lnTo>
                  <a:pt x="474" y="161"/>
                </a:lnTo>
                <a:lnTo>
                  <a:pt x="470" y="167"/>
                </a:lnTo>
                <a:lnTo>
                  <a:pt x="465" y="173"/>
                </a:lnTo>
                <a:lnTo>
                  <a:pt x="459" y="179"/>
                </a:lnTo>
                <a:lnTo>
                  <a:pt x="451" y="185"/>
                </a:lnTo>
                <a:lnTo>
                  <a:pt x="443" y="190"/>
                </a:lnTo>
                <a:lnTo>
                  <a:pt x="440" y="192"/>
                </a:lnTo>
                <a:lnTo>
                  <a:pt x="434" y="196"/>
                </a:lnTo>
                <a:lnTo>
                  <a:pt x="430" y="202"/>
                </a:lnTo>
                <a:lnTo>
                  <a:pt x="426" y="208"/>
                </a:lnTo>
                <a:lnTo>
                  <a:pt x="420" y="213"/>
                </a:lnTo>
                <a:lnTo>
                  <a:pt x="417" y="221"/>
                </a:lnTo>
                <a:lnTo>
                  <a:pt x="411" y="229"/>
                </a:lnTo>
                <a:lnTo>
                  <a:pt x="405" y="236"/>
                </a:lnTo>
                <a:lnTo>
                  <a:pt x="401" y="246"/>
                </a:lnTo>
                <a:lnTo>
                  <a:pt x="395" y="256"/>
                </a:lnTo>
                <a:lnTo>
                  <a:pt x="390" y="267"/>
                </a:lnTo>
                <a:lnTo>
                  <a:pt x="384" y="277"/>
                </a:lnTo>
                <a:lnTo>
                  <a:pt x="372" y="300"/>
                </a:lnTo>
                <a:lnTo>
                  <a:pt x="359" y="3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30"/>
          <p:cNvSpPr/>
          <p:nvPr/>
        </p:nvSpPr>
        <p:spPr>
          <a:xfrm>
            <a:off x="6467400" y="3216240"/>
            <a:ext cx="174600" cy="282600"/>
          </a:xfrm>
          <a:custGeom>
            <a:avLst/>
            <a:gdLst/>
            <a:ahLst/>
            <a:rect l="l" t="t" r="r" b="b"/>
            <a:pathLst>
              <a:path w="221" h="355">
                <a:moveTo>
                  <a:pt x="213" y="203"/>
                </a:moveTo>
                <a:lnTo>
                  <a:pt x="215" y="219"/>
                </a:lnTo>
                <a:lnTo>
                  <a:pt x="217" y="236"/>
                </a:lnTo>
                <a:lnTo>
                  <a:pt x="217" y="249"/>
                </a:lnTo>
                <a:lnTo>
                  <a:pt x="219" y="263"/>
                </a:lnTo>
                <a:lnTo>
                  <a:pt x="221" y="276"/>
                </a:lnTo>
                <a:lnTo>
                  <a:pt x="221" y="288"/>
                </a:lnTo>
                <a:lnTo>
                  <a:pt x="221" y="297"/>
                </a:lnTo>
                <a:lnTo>
                  <a:pt x="221" y="307"/>
                </a:lnTo>
                <a:lnTo>
                  <a:pt x="221" y="315"/>
                </a:lnTo>
                <a:lnTo>
                  <a:pt x="221" y="322"/>
                </a:lnTo>
                <a:lnTo>
                  <a:pt x="221" y="330"/>
                </a:lnTo>
                <a:lnTo>
                  <a:pt x="219" y="336"/>
                </a:lnTo>
                <a:lnTo>
                  <a:pt x="217" y="340"/>
                </a:lnTo>
                <a:lnTo>
                  <a:pt x="217" y="345"/>
                </a:lnTo>
                <a:lnTo>
                  <a:pt x="215" y="349"/>
                </a:lnTo>
                <a:lnTo>
                  <a:pt x="213" y="351"/>
                </a:lnTo>
                <a:lnTo>
                  <a:pt x="208" y="353"/>
                </a:lnTo>
                <a:lnTo>
                  <a:pt x="204" y="355"/>
                </a:lnTo>
                <a:lnTo>
                  <a:pt x="198" y="355"/>
                </a:lnTo>
                <a:lnTo>
                  <a:pt x="192" y="353"/>
                </a:lnTo>
                <a:lnTo>
                  <a:pt x="187" y="351"/>
                </a:lnTo>
                <a:lnTo>
                  <a:pt x="181" y="349"/>
                </a:lnTo>
                <a:lnTo>
                  <a:pt x="175" y="345"/>
                </a:lnTo>
                <a:lnTo>
                  <a:pt x="167" y="341"/>
                </a:lnTo>
                <a:lnTo>
                  <a:pt x="162" y="336"/>
                </a:lnTo>
                <a:lnTo>
                  <a:pt x="154" y="330"/>
                </a:lnTo>
                <a:lnTo>
                  <a:pt x="146" y="322"/>
                </a:lnTo>
                <a:lnTo>
                  <a:pt x="139" y="313"/>
                </a:lnTo>
                <a:lnTo>
                  <a:pt x="131" y="303"/>
                </a:lnTo>
                <a:lnTo>
                  <a:pt x="121" y="293"/>
                </a:lnTo>
                <a:lnTo>
                  <a:pt x="114" y="282"/>
                </a:lnTo>
                <a:lnTo>
                  <a:pt x="106" y="270"/>
                </a:lnTo>
                <a:lnTo>
                  <a:pt x="94" y="257"/>
                </a:lnTo>
                <a:lnTo>
                  <a:pt x="85" y="245"/>
                </a:lnTo>
                <a:lnTo>
                  <a:pt x="75" y="232"/>
                </a:lnTo>
                <a:lnTo>
                  <a:pt x="66" y="219"/>
                </a:lnTo>
                <a:lnTo>
                  <a:pt x="58" y="207"/>
                </a:lnTo>
                <a:lnTo>
                  <a:pt x="52" y="194"/>
                </a:lnTo>
                <a:lnTo>
                  <a:pt x="44" y="182"/>
                </a:lnTo>
                <a:lnTo>
                  <a:pt x="39" y="171"/>
                </a:lnTo>
                <a:lnTo>
                  <a:pt x="33" y="159"/>
                </a:lnTo>
                <a:lnTo>
                  <a:pt x="29" y="146"/>
                </a:lnTo>
                <a:lnTo>
                  <a:pt x="25" y="134"/>
                </a:lnTo>
                <a:lnTo>
                  <a:pt x="21" y="125"/>
                </a:lnTo>
                <a:lnTo>
                  <a:pt x="14" y="102"/>
                </a:lnTo>
                <a:lnTo>
                  <a:pt x="10" y="80"/>
                </a:lnTo>
                <a:lnTo>
                  <a:pt x="4" y="67"/>
                </a:lnTo>
                <a:lnTo>
                  <a:pt x="2" y="54"/>
                </a:lnTo>
                <a:lnTo>
                  <a:pt x="0" y="42"/>
                </a:lnTo>
                <a:lnTo>
                  <a:pt x="0" y="31"/>
                </a:lnTo>
                <a:lnTo>
                  <a:pt x="0" y="21"/>
                </a:lnTo>
                <a:lnTo>
                  <a:pt x="2" y="13"/>
                </a:lnTo>
                <a:lnTo>
                  <a:pt x="4" y="6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8" y="2"/>
                </a:lnTo>
                <a:lnTo>
                  <a:pt x="23" y="2"/>
                </a:lnTo>
                <a:lnTo>
                  <a:pt x="27" y="4"/>
                </a:lnTo>
                <a:lnTo>
                  <a:pt x="33" y="6"/>
                </a:lnTo>
                <a:lnTo>
                  <a:pt x="39" y="6"/>
                </a:lnTo>
                <a:lnTo>
                  <a:pt x="44" y="7"/>
                </a:lnTo>
                <a:lnTo>
                  <a:pt x="52" y="9"/>
                </a:lnTo>
                <a:lnTo>
                  <a:pt x="60" y="13"/>
                </a:lnTo>
                <a:lnTo>
                  <a:pt x="68" y="15"/>
                </a:lnTo>
                <a:lnTo>
                  <a:pt x="77" y="17"/>
                </a:lnTo>
                <a:lnTo>
                  <a:pt x="87" y="19"/>
                </a:lnTo>
                <a:lnTo>
                  <a:pt x="96" y="23"/>
                </a:lnTo>
                <a:lnTo>
                  <a:pt x="106" y="25"/>
                </a:lnTo>
                <a:lnTo>
                  <a:pt x="117" y="27"/>
                </a:lnTo>
                <a:lnTo>
                  <a:pt x="127" y="32"/>
                </a:lnTo>
                <a:lnTo>
                  <a:pt x="139" y="38"/>
                </a:lnTo>
                <a:lnTo>
                  <a:pt x="146" y="46"/>
                </a:lnTo>
                <a:lnTo>
                  <a:pt x="156" y="54"/>
                </a:lnTo>
                <a:lnTo>
                  <a:pt x="164" y="61"/>
                </a:lnTo>
                <a:lnTo>
                  <a:pt x="171" y="69"/>
                </a:lnTo>
                <a:lnTo>
                  <a:pt x="177" y="78"/>
                </a:lnTo>
                <a:lnTo>
                  <a:pt x="183" y="90"/>
                </a:lnTo>
                <a:lnTo>
                  <a:pt x="188" y="102"/>
                </a:lnTo>
                <a:lnTo>
                  <a:pt x="192" y="113"/>
                </a:lnTo>
                <a:lnTo>
                  <a:pt x="198" y="125"/>
                </a:lnTo>
                <a:lnTo>
                  <a:pt x="202" y="138"/>
                </a:lnTo>
                <a:lnTo>
                  <a:pt x="204" y="153"/>
                </a:lnTo>
                <a:lnTo>
                  <a:pt x="208" y="169"/>
                </a:lnTo>
                <a:lnTo>
                  <a:pt x="210" y="186"/>
                </a:lnTo>
                <a:lnTo>
                  <a:pt x="213" y="20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31"/>
          <p:cNvSpPr/>
          <p:nvPr/>
        </p:nvSpPr>
        <p:spPr>
          <a:xfrm>
            <a:off x="6567480" y="2747880"/>
            <a:ext cx="509760" cy="1006560"/>
          </a:xfrm>
          <a:custGeom>
            <a:avLst/>
            <a:gdLst/>
            <a:ahLst/>
            <a:rect l="l" t="t" r="r" b="b"/>
            <a:pathLst>
              <a:path w="641" h="1268">
                <a:moveTo>
                  <a:pt x="2" y="1266"/>
                </a:moveTo>
                <a:lnTo>
                  <a:pt x="0" y="1263"/>
                </a:lnTo>
                <a:lnTo>
                  <a:pt x="0" y="1259"/>
                </a:lnTo>
                <a:lnTo>
                  <a:pt x="2" y="1253"/>
                </a:lnTo>
                <a:lnTo>
                  <a:pt x="4" y="1245"/>
                </a:lnTo>
                <a:lnTo>
                  <a:pt x="8" y="1238"/>
                </a:lnTo>
                <a:lnTo>
                  <a:pt x="13" y="1228"/>
                </a:lnTo>
                <a:lnTo>
                  <a:pt x="19" y="1218"/>
                </a:lnTo>
                <a:lnTo>
                  <a:pt x="27" y="1205"/>
                </a:lnTo>
                <a:lnTo>
                  <a:pt x="35" y="1192"/>
                </a:lnTo>
                <a:lnTo>
                  <a:pt x="44" y="1178"/>
                </a:lnTo>
                <a:lnTo>
                  <a:pt x="56" y="1163"/>
                </a:lnTo>
                <a:lnTo>
                  <a:pt x="67" y="1146"/>
                </a:lnTo>
                <a:lnTo>
                  <a:pt x="79" y="1126"/>
                </a:lnTo>
                <a:lnTo>
                  <a:pt x="92" y="1107"/>
                </a:lnTo>
                <a:lnTo>
                  <a:pt x="106" y="1086"/>
                </a:lnTo>
                <a:lnTo>
                  <a:pt x="121" y="1063"/>
                </a:lnTo>
                <a:lnTo>
                  <a:pt x="136" y="1040"/>
                </a:lnTo>
                <a:lnTo>
                  <a:pt x="152" y="1017"/>
                </a:lnTo>
                <a:lnTo>
                  <a:pt x="180" y="973"/>
                </a:lnTo>
                <a:lnTo>
                  <a:pt x="207" y="927"/>
                </a:lnTo>
                <a:lnTo>
                  <a:pt x="232" y="881"/>
                </a:lnTo>
                <a:lnTo>
                  <a:pt x="257" y="836"/>
                </a:lnTo>
                <a:lnTo>
                  <a:pt x="280" y="790"/>
                </a:lnTo>
                <a:lnTo>
                  <a:pt x="303" y="744"/>
                </a:lnTo>
                <a:lnTo>
                  <a:pt x="326" y="698"/>
                </a:lnTo>
                <a:lnTo>
                  <a:pt x="342" y="654"/>
                </a:lnTo>
                <a:lnTo>
                  <a:pt x="359" y="608"/>
                </a:lnTo>
                <a:lnTo>
                  <a:pt x="374" y="560"/>
                </a:lnTo>
                <a:lnTo>
                  <a:pt x="390" y="514"/>
                </a:lnTo>
                <a:lnTo>
                  <a:pt x="405" y="464"/>
                </a:lnTo>
                <a:lnTo>
                  <a:pt x="418" y="414"/>
                </a:lnTo>
                <a:lnTo>
                  <a:pt x="424" y="389"/>
                </a:lnTo>
                <a:lnTo>
                  <a:pt x="432" y="362"/>
                </a:lnTo>
                <a:lnTo>
                  <a:pt x="440" y="336"/>
                </a:lnTo>
                <a:lnTo>
                  <a:pt x="445" y="309"/>
                </a:lnTo>
                <a:lnTo>
                  <a:pt x="449" y="280"/>
                </a:lnTo>
                <a:lnTo>
                  <a:pt x="453" y="255"/>
                </a:lnTo>
                <a:lnTo>
                  <a:pt x="457" y="232"/>
                </a:lnTo>
                <a:lnTo>
                  <a:pt x="459" y="209"/>
                </a:lnTo>
                <a:lnTo>
                  <a:pt x="461" y="188"/>
                </a:lnTo>
                <a:lnTo>
                  <a:pt x="463" y="169"/>
                </a:lnTo>
                <a:lnTo>
                  <a:pt x="465" y="151"/>
                </a:lnTo>
                <a:lnTo>
                  <a:pt x="465" y="136"/>
                </a:lnTo>
                <a:lnTo>
                  <a:pt x="465" y="121"/>
                </a:lnTo>
                <a:lnTo>
                  <a:pt x="465" y="109"/>
                </a:lnTo>
                <a:lnTo>
                  <a:pt x="465" y="97"/>
                </a:lnTo>
                <a:lnTo>
                  <a:pt x="465" y="88"/>
                </a:lnTo>
                <a:lnTo>
                  <a:pt x="463" y="80"/>
                </a:lnTo>
                <a:lnTo>
                  <a:pt x="461" y="73"/>
                </a:lnTo>
                <a:lnTo>
                  <a:pt x="459" y="69"/>
                </a:lnTo>
                <a:lnTo>
                  <a:pt x="457" y="65"/>
                </a:lnTo>
                <a:lnTo>
                  <a:pt x="453" y="61"/>
                </a:lnTo>
                <a:lnTo>
                  <a:pt x="449" y="59"/>
                </a:lnTo>
                <a:lnTo>
                  <a:pt x="447" y="55"/>
                </a:lnTo>
                <a:lnTo>
                  <a:pt x="443" y="51"/>
                </a:lnTo>
                <a:lnTo>
                  <a:pt x="442" y="50"/>
                </a:lnTo>
                <a:lnTo>
                  <a:pt x="440" y="46"/>
                </a:lnTo>
                <a:lnTo>
                  <a:pt x="438" y="38"/>
                </a:lnTo>
                <a:lnTo>
                  <a:pt x="438" y="30"/>
                </a:lnTo>
                <a:lnTo>
                  <a:pt x="440" y="23"/>
                </a:lnTo>
                <a:lnTo>
                  <a:pt x="442" y="17"/>
                </a:lnTo>
                <a:lnTo>
                  <a:pt x="445" y="11"/>
                </a:lnTo>
                <a:lnTo>
                  <a:pt x="451" y="5"/>
                </a:lnTo>
                <a:lnTo>
                  <a:pt x="457" y="3"/>
                </a:lnTo>
                <a:lnTo>
                  <a:pt x="461" y="2"/>
                </a:lnTo>
                <a:lnTo>
                  <a:pt x="465" y="2"/>
                </a:lnTo>
                <a:lnTo>
                  <a:pt x="470" y="0"/>
                </a:lnTo>
                <a:lnTo>
                  <a:pt x="476" y="0"/>
                </a:lnTo>
                <a:lnTo>
                  <a:pt x="482" y="0"/>
                </a:lnTo>
                <a:lnTo>
                  <a:pt x="488" y="2"/>
                </a:lnTo>
                <a:lnTo>
                  <a:pt x="495" y="2"/>
                </a:lnTo>
                <a:lnTo>
                  <a:pt x="503" y="3"/>
                </a:lnTo>
                <a:lnTo>
                  <a:pt x="511" y="3"/>
                </a:lnTo>
                <a:lnTo>
                  <a:pt x="520" y="5"/>
                </a:lnTo>
                <a:lnTo>
                  <a:pt x="530" y="7"/>
                </a:lnTo>
                <a:lnTo>
                  <a:pt x="541" y="11"/>
                </a:lnTo>
                <a:lnTo>
                  <a:pt x="559" y="17"/>
                </a:lnTo>
                <a:lnTo>
                  <a:pt x="574" y="23"/>
                </a:lnTo>
                <a:lnTo>
                  <a:pt x="589" y="30"/>
                </a:lnTo>
                <a:lnTo>
                  <a:pt x="603" y="38"/>
                </a:lnTo>
                <a:lnTo>
                  <a:pt x="614" y="46"/>
                </a:lnTo>
                <a:lnTo>
                  <a:pt x="620" y="50"/>
                </a:lnTo>
                <a:lnTo>
                  <a:pt x="624" y="51"/>
                </a:lnTo>
                <a:lnTo>
                  <a:pt x="628" y="55"/>
                </a:lnTo>
                <a:lnTo>
                  <a:pt x="632" y="59"/>
                </a:lnTo>
                <a:lnTo>
                  <a:pt x="635" y="61"/>
                </a:lnTo>
                <a:lnTo>
                  <a:pt x="637" y="65"/>
                </a:lnTo>
                <a:lnTo>
                  <a:pt x="639" y="69"/>
                </a:lnTo>
                <a:lnTo>
                  <a:pt x="639" y="73"/>
                </a:lnTo>
                <a:lnTo>
                  <a:pt x="641" y="80"/>
                </a:lnTo>
                <a:lnTo>
                  <a:pt x="639" y="88"/>
                </a:lnTo>
                <a:lnTo>
                  <a:pt x="639" y="97"/>
                </a:lnTo>
                <a:lnTo>
                  <a:pt x="637" y="109"/>
                </a:lnTo>
                <a:lnTo>
                  <a:pt x="633" y="121"/>
                </a:lnTo>
                <a:lnTo>
                  <a:pt x="632" y="136"/>
                </a:lnTo>
                <a:lnTo>
                  <a:pt x="628" y="151"/>
                </a:lnTo>
                <a:lnTo>
                  <a:pt x="624" y="169"/>
                </a:lnTo>
                <a:lnTo>
                  <a:pt x="618" y="188"/>
                </a:lnTo>
                <a:lnTo>
                  <a:pt x="612" y="209"/>
                </a:lnTo>
                <a:lnTo>
                  <a:pt x="609" y="232"/>
                </a:lnTo>
                <a:lnTo>
                  <a:pt x="603" y="255"/>
                </a:lnTo>
                <a:lnTo>
                  <a:pt x="595" y="280"/>
                </a:lnTo>
                <a:lnTo>
                  <a:pt x="589" y="309"/>
                </a:lnTo>
                <a:lnTo>
                  <a:pt x="582" y="336"/>
                </a:lnTo>
                <a:lnTo>
                  <a:pt x="574" y="362"/>
                </a:lnTo>
                <a:lnTo>
                  <a:pt x="566" y="389"/>
                </a:lnTo>
                <a:lnTo>
                  <a:pt x="559" y="416"/>
                </a:lnTo>
                <a:lnTo>
                  <a:pt x="539" y="470"/>
                </a:lnTo>
                <a:lnTo>
                  <a:pt x="520" y="524"/>
                </a:lnTo>
                <a:lnTo>
                  <a:pt x="499" y="577"/>
                </a:lnTo>
                <a:lnTo>
                  <a:pt x="478" y="631"/>
                </a:lnTo>
                <a:lnTo>
                  <a:pt x="455" y="685"/>
                </a:lnTo>
                <a:lnTo>
                  <a:pt x="434" y="741"/>
                </a:lnTo>
                <a:lnTo>
                  <a:pt x="422" y="767"/>
                </a:lnTo>
                <a:lnTo>
                  <a:pt x="411" y="794"/>
                </a:lnTo>
                <a:lnTo>
                  <a:pt x="397" y="821"/>
                </a:lnTo>
                <a:lnTo>
                  <a:pt x="384" y="846"/>
                </a:lnTo>
                <a:lnTo>
                  <a:pt x="370" y="871"/>
                </a:lnTo>
                <a:lnTo>
                  <a:pt x="355" y="896"/>
                </a:lnTo>
                <a:lnTo>
                  <a:pt x="342" y="919"/>
                </a:lnTo>
                <a:lnTo>
                  <a:pt x="326" y="944"/>
                </a:lnTo>
                <a:lnTo>
                  <a:pt x="309" y="967"/>
                </a:lnTo>
                <a:lnTo>
                  <a:pt x="292" y="990"/>
                </a:lnTo>
                <a:lnTo>
                  <a:pt x="275" y="1011"/>
                </a:lnTo>
                <a:lnTo>
                  <a:pt x="257" y="1034"/>
                </a:lnTo>
                <a:lnTo>
                  <a:pt x="240" y="1055"/>
                </a:lnTo>
                <a:lnTo>
                  <a:pt x="221" y="1076"/>
                </a:lnTo>
                <a:lnTo>
                  <a:pt x="202" y="1098"/>
                </a:lnTo>
                <a:lnTo>
                  <a:pt x="182" y="1119"/>
                </a:lnTo>
                <a:lnTo>
                  <a:pt x="171" y="1128"/>
                </a:lnTo>
                <a:lnTo>
                  <a:pt x="161" y="1140"/>
                </a:lnTo>
                <a:lnTo>
                  <a:pt x="144" y="1159"/>
                </a:lnTo>
                <a:lnTo>
                  <a:pt x="127" y="1178"/>
                </a:lnTo>
                <a:lnTo>
                  <a:pt x="109" y="1194"/>
                </a:lnTo>
                <a:lnTo>
                  <a:pt x="94" y="1209"/>
                </a:lnTo>
                <a:lnTo>
                  <a:pt x="81" y="1222"/>
                </a:lnTo>
                <a:lnTo>
                  <a:pt x="67" y="1234"/>
                </a:lnTo>
                <a:lnTo>
                  <a:pt x="56" y="1243"/>
                </a:lnTo>
                <a:lnTo>
                  <a:pt x="46" y="1251"/>
                </a:lnTo>
                <a:lnTo>
                  <a:pt x="37" y="1257"/>
                </a:lnTo>
                <a:lnTo>
                  <a:pt x="27" y="1263"/>
                </a:lnTo>
                <a:lnTo>
                  <a:pt x="19" y="1266"/>
                </a:lnTo>
                <a:lnTo>
                  <a:pt x="13" y="1268"/>
                </a:lnTo>
                <a:lnTo>
                  <a:pt x="8" y="1268"/>
                </a:lnTo>
                <a:lnTo>
                  <a:pt x="4" y="1268"/>
                </a:lnTo>
                <a:lnTo>
                  <a:pt x="2" y="12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32"/>
          <p:cNvSpPr/>
          <p:nvPr/>
        </p:nvSpPr>
        <p:spPr>
          <a:xfrm>
            <a:off x="6711840" y="3506760"/>
            <a:ext cx="760680" cy="203400"/>
          </a:xfrm>
          <a:custGeom>
            <a:avLst/>
            <a:gdLst/>
            <a:ahLst/>
            <a:rect l="l" t="t" r="r" b="b"/>
            <a:pathLst>
              <a:path w="958" h="258">
                <a:moveTo>
                  <a:pt x="156" y="258"/>
                </a:moveTo>
                <a:lnTo>
                  <a:pt x="152" y="258"/>
                </a:lnTo>
                <a:lnTo>
                  <a:pt x="150" y="256"/>
                </a:lnTo>
                <a:lnTo>
                  <a:pt x="146" y="256"/>
                </a:lnTo>
                <a:lnTo>
                  <a:pt x="142" y="256"/>
                </a:lnTo>
                <a:lnTo>
                  <a:pt x="133" y="252"/>
                </a:lnTo>
                <a:lnTo>
                  <a:pt x="123" y="248"/>
                </a:lnTo>
                <a:lnTo>
                  <a:pt x="110" y="244"/>
                </a:lnTo>
                <a:lnTo>
                  <a:pt x="98" y="240"/>
                </a:lnTo>
                <a:lnTo>
                  <a:pt x="85" y="235"/>
                </a:lnTo>
                <a:lnTo>
                  <a:pt x="71" y="231"/>
                </a:lnTo>
                <a:lnTo>
                  <a:pt x="62" y="227"/>
                </a:lnTo>
                <a:lnTo>
                  <a:pt x="54" y="225"/>
                </a:lnTo>
                <a:lnTo>
                  <a:pt x="46" y="221"/>
                </a:lnTo>
                <a:lnTo>
                  <a:pt x="41" y="219"/>
                </a:lnTo>
                <a:lnTo>
                  <a:pt x="33" y="217"/>
                </a:lnTo>
                <a:lnTo>
                  <a:pt x="27" y="214"/>
                </a:lnTo>
                <a:lnTo>
                  <a:pt x="21" y="210"/>
                </a:lnTo>
                <a:lnTo>
                  <a:pt x="18" y="206"/>
                </a:lnTo>
                <a:lnTo>
                  <a:pt x="14" y="202"/>
                </a:lnTo>
                <a:lnTo>
                  <a:pt x="10" y="198"/>
                </a:lnTo>
                <a:lnTo>
                  <a:pt x="6" y="194"/>
                </a:lnTo>
                <a:lnTo>
                  <a:pt x="4" y="189"/>
                </a:lnTo>
                <a:lnTo>
                  <a:pt x="2" y="183"/>
                </a:lnTo>
                <a:lnTo>
                  <a:pt x="0" y="177"/>
                </a:lnTo>
                <a:lnTo>
                  <a:pt x="0" y="169"/>
                </a:lnTo>
                <a:lnTo>
                  <a:pt x="0" y="164"/>
                </a:lnTo>
                <a:lnTo>
                  <a:pt x="23" y="158"/>
                </a:lnTo>
                <a:lnTo>
                  <a:pt x="46" y="154"/>
                </a:lnTo>
                <a:lnTo>
                  <a:pt x="71" y="152"/>
                </a:lnTo>
                <a:lnTo>
                  <a:pt x="96" y="148"/>
                </a:lnTo>
                <a:lnTo>
                  <a:pt x="119" y="146"/>
                </a:lnTo>
                <a:lnTo>
                  <a:pt x="144" y="144"/>
                </a:lnTo>
                <a:lnTo>
                  <a:pt x="169" y="141"/>
                </a:lnTo>
                <a:lnTo>
                  <a:pt x="192" y="135"/>
                </a:lnTo>
                <a:lnTo>
                  <a:pt x="204" y="133"/>
                </a:lnTo>
                <a:lnTo>
                  <a:pt x="215" y="129"/>
                </a:lnTo>
                <a:lnTo>
                  <a:pt x="231" y="127"/>
                </a:lnTo>
                <a:lnTo>
                  <a:pt x="246" y="123"/>
                </a:lnTo>
                <a:lnTo>
                  <a:pt x="261" y="120"/>
                </a:lnTo>
                <a:lnTo>
                  <a:pt x="279" y="116"/>
                </a:lnTo>
                <a:lnTo>
                  <a:pt x="298" y="110"/>
                </a:lnTo>
                <a:lnTo>
                  <a:pt x="317" y="106"/>
                </a:lnTo>
                <a:lnTo>
                  <a:pt x="338" y="100"/>
                </a:lnTo>
                <a:lnTo>
                  <a:pt x="359" y="95"/>
                </a:lnTo>
                <a:lnTo>
                  <a:pt x="382" y="89"/>
                </a:lnTo>
                <a:lnTo>
                  <a:pt x="407" y="83"/>
                </a:lnTo>
                <a:lnTo>
                  <a:pt x="432" y="77"/>
                </a:lnTo>
                <a:lnTo>
                  <a:pt x="459" y="70"/>
                </a:lnTo>
                <a:lnTo>
                  <a:pt x="486" y="62"/>
                </a:lnTo>
                <a:lnTo>
                  <a:pt x="515" y="54"/>
                </a:lnTo>
                <a:lnTo>
                  <a:pt x="542" y="47"/>
                </a:lnTo>
                <a:lnTo>
                  <a:pt x="567" y="41"/>
                </a:lnTo>
                <a:lnTo>
                  <a:pt x="592" y="35"/>
                </a:lnTo>
                <a:lnTo>
                  <a:pt x="615" y="29"/>
                </a:lnTo>
                <a:lnTo>
                  <a:pt x="636" y="24"/>
                </a:lnTo>
                <a:lnTo>
                  <a:pt x="657" y="20"/>
                </a:lnTo>
                <a:lnTo>
                  <a:pt x="676" y="16"/>
                </a:lnTo>
                <a:lnTo>
                  <a:pt x="695" y="12"/>
                </a:lnTo>
                <a:lnTo>
                  <a:pt x="713" y="10"/>
                </a:lnTo>
                <a:lnTo>
                  <a:pt x="728" y="6"/>
                </a:lnTo>
                <a:lnTo>
                  <a:pt x="743" y="4"/>
                </a:lnTo>
                <a:lnTo>
                  <a:pt x="759" y="2"/>
                </a:lnTo>
                <a:lnTo>
                  <a:pt x="770" y="2"/>
                </a:lnTo>
                <a:lnTo>
                  <a:pt x="782" y="0"/>
                </a:lnTo>
                <a:lnTo>
                  <a:pt x="793" y="0"/>
                </a:lnTo>
                <a:lnTo>
                  <a:pt x="803" y="0"/>
                </a:lnTo>
                <a:lnTo>
                  <a:pt x="830" y="0"/>
                </a:lnTo>
                <a:lnTo>
                  <a:pt x="843" y="0"/>
                </a:lnTo>
                <a:lnTo>
                  <a:pt x="856" y="2"/>
                </a:lnTo>
                <a:lnTo>
                  <a:pt x="870" y="4"/>
                </a:lnTo>
                <a:lnTo>
                  <a:pt x="883" y="6"/>
                </a:lnTo>
                <a:lnTo>
                  <a:pt x="897" y="10"/>
                </a:lnTo>
                <a:lnTo>
                  <a:pt x="910" y="14"/>
                </a:lnTo>
                <a:lnTo>
                  <a:pt x="918" y="16"/>
                </a:lnTo>
                <a:lnTo>
                  <a:pt x="924" y="20"/>
                </a:lnTo>
                <a:lnTo>
                  <a:pt x="929" y="24"/>
                </a:lnTo>
                <a:lnTo>
                  <a:pt x="933" y="27"/>
                </a:lnTo>
                <a:lnTo>
                  <a:pt x="937" y="29"/>
                </a:lnTo>
                <a:lnTo>
                  <a:pt x="941" y="33"/>
                </a:lnTo>
                <a:lnTo>
                  <a:pt x="949" y="41"/>
                </a:lnTo>
                <a:lnTo>
                  <a:pt x="952" y="48"/>
                </a:lnTo>
                <a:lnTo>
                  <a:pt x="956" y="56"/>
                </a:lnTo>
                <a:lnTo>
                  <a:pt x="958" y="62"/>
                </a:lnTo>
                <a:lnTo>
                  <a:pt x="958" y="68"/>
                </a:lnTo>
                <a:lnTo>
                  <a:pt x="958" y="73"/>
                </a:lnTo>
                <a:lnTo>
                  <a:pt x="958" y="77"/>
                </a:lnTo>
                <a:lnTo>
                  <a:pt x="956" y="81"/>
                </a:lnTo>
                <a:lnTo>
                  <a:pt x="954" y="85"/>
                </a:lnTo>
                <a:lnTo>
                  <a:pt x="952" y="89"/>
                </a:lnTo>
                <a:lnTo>
                  <a:pt x="949" y="93"/>
                </a:lnTo>
                <a:lnTo>
                  <a:pt x="943" y="98"/>
                </a:lnTo>
                <a:lnTo>
                  <a:pt x="933" y="102"/>
                </a:lnTo>
                <a:lnTo>
                  <a:pt x="924" y="106"/>
                </a:lnTo>
                <a:lnTo>
                  <a:pt x="912" y="108"/>
                </a:lnTo>
                <a:lnTo>
                  <a:pt x="899" y="108"/>
                </a:lnTo>
                <a:lnTo>
                  <a:pt x="889" y="108"/>
                </a:lnTo>
                <a:lnTo>
                  <a:pt x="880" y="110"/>
                </a:lnTo>
                <a:lnTo>
                  <a:pt x="870" y="110"/>
                </a:lnTo>
                <a:lnTo>
                  <a:pt x="858" y="110"/>
                </a:lnTo>
                <a:lnTo>
                  <a:pt x="847" y="112"/>
                </a:lnTo>
                <a:lnTo>
                  <a:pt x="833" y="114"/>
                </a:lnTo>
                <a:lnTo>
                  <a:pt x="822" y="116"/>
                </a:lnTo>
                <a:lnTo>
                  <a:pt x="807" y="118"/>
                </a:lnTo>
                <a:lnTo>
                  <a:pt x="793" y="120"/>
                </a:lnTo>
                <a:lnTo>
                  <a:pt x="778" y="121"/>
                </a:lnTo>
                <a:lnTo>
                  <a:pt x="762" y="123"/>
                </a:lnTo>
                <a:lnTo>
                  <a:pt x="745" y="125"/>
                </a:lnTo>
                <a:lnTo>
                  <a:pt x="728" y="127"/>
                </a:lnTo>
                <a:lnTo>
                  <a:pt x="709" y="131"/>
                </a:lnTo>
                <a:lnTo>
                  <a:pt x="691" y="133"/>
                </a:lnTo>
                <a:lnTo>
                  <a:pt x="670" y="135"/>
                </a:lnTo>
                <a:lnTo>
                  <a:pt x="590" y="156"/>
                </a:lnTo>
                <a:lnTo>
                  <a:pt x="509" y="175"/>
                </a:lnTo>
                <a:lnTo>
                  <a:pt x="428" y="196"/>
                </a:lnTo>
                <a:lnTo>
                  <a:pt x="348" y="217"/>
                </a:lnTo>
                <a:lnTo>
                  <a:pt x="327" y="221"/>
                </a:lnTo>
                <a:lnTo>
                  <a:pt x="309" y="227"/>
                </a:lnTo>
                <a:lnTo>
                  <a:pt x="290" y="231"/>
                </a:lnTo>
                <a:lnTo>
                  <a:pt x="273" y="235"/>
                </a:lnTo>
                <a:lnTo>
                  <a:pt x="258" y="239"/>
                </a:lnTo>
                <a:lnTo>
                  <a:pt x="242" y="242"/>
                </a:lnTo>
                <a:lnTo>
                  <a:pt x="229" y="244"/>
                </a:lnTo>
                <a:lnTo>
                  <a:pt x="215" y="248"/>
                </a:lnTo>
                <a:lnTo>
                  <a:pt x="204" y="250"/>
                </a:lnTo>
                <a:lnTo>
                  <a:pt x="192" y="252"/>
                </a:lnTo>
                <a:lnTo>
                  <a:pt x="183" y="254"/>
                </a:lnTo>
                <a:lnTo>
                  <a:pt x="175" y="254"/>
                </a:lnTo>
                <a:lnTo>
                  <a:pt x="167" y="256"/>
                </a:lnTo>
                <a:lnTo>
                  <a:pt x="164" y="256"/>
                </a:lnTo>
                <a:lnTo>
                  <a:pt x="158" y="258"/>
                </a:lnTo>
                <a:lnTo>
                  <a:pt x="156" y="2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33"/>
          <p:cNvSpPr/>
          <p:nvPr/>
        </p:nvSpPr>
        <p:spPr>
          <a:xfrm>
            <a:off x="7026120" y="3335400"/>
            <a:ext cx="86040" cy="288720"/>
          </a:xfrm>
          <a:custGeom>
            <a:avLst/>
            <a:gdLst/>
            <a:ahLst/>
            <a:rect l="l" t="t" r="r" b="b"/>
            <a:pathLst>
              <a:path w="107" h="362">
                <a:moveTo>
                  <a:pt x="107" y="0"/>
                </a:moveTo>
                <a:lnTo>
                  <a:pt x="107" y="174"/>
                </a:lnTo>
                <a:lnTo>
                  <a:pt x="107" y="349"/>
                </a:lnTo>
                <a:lnTo>
                  <a:pt x="54" y="357"/>
                </a:lnTo>
                <a:lnTo>
                  <a:pt x="0" y="362"/>
                </a:lnTo>
                <a:lnTo>
                  <a:pt x="0" y="0"/>
                </a:lnTo>
                <a:lnTo>
                  <a:pt x="54" y="0"/>
                </a:lnTo>
                <a:lnTo>
                  <a:pt x="107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34"/>
          <p:cNvSpPr/>
          <p:nvPr/>
        </p:nvSpPr>
        <p:spPr>
          <a:xfrm>
            <a:off x="6864480" y="3259080"/>
            <a:ext cx="434880" cy="173160"/>
          </a:xfrm>
          <a:custGeom>
            <a:avLst/>
            <a:gdLst/>
            <a:ahLst/>
            <a:rect l="l" t="t" r="r" b="b"/>
            <a:pathLst>
              <a:path w="547" h="216">
                <a:moveTo>
                  <a:pt x="540" y="96"/>
                </a:moveTo>
                <a:lnTo>
                  <a:pt x="538" y="96"/>
                </a:lnTo>
                <a:lnTo>
                  <a:pt x="534" y="97"/>
                </a:lnTo>
                <a:lnTo>
                  <a:pt x="530" y="99"/>
                </a:lnTo>
                <a:lnTo>
                  <a:pt x="526" y="101"/>
                </a:lnTo>
                <a:lnTo>
                  <a:pt x="521" y="103"/>
                </a:lnTo>
                <a:lnTo>
                  <a:pt x="515" y="105"/>
                </a:lnTo>
                <a:lnTo>
                  <a:pt x="507" y="107"/>
                </a:lnTo>
                <a:lnTo>
                  <a:pt x="497" y="109"/>
                </a:lnTo>
                <a:lnTo>
                  <a:pt x="488" y="113"/>
                </a:lnTo>
                <a:lnTo>
                  <a:pt x="478" y="115"/>
                </a:lnTo>
                <a:lnTo>
                  <a:pt x="467" y="119"/>
                </a:lnTo>
                <a:lnTo>
                  <a:pt x="455" y="120"/>
                </a:lnTo>
                <a:lnTo>
                  <a:pt x="442" y="124"/>
                </a:lnTo>
                <a:lnTo>
                  <a:pt x="426" y="128"/>
                </a:lnTo>
                <a:lnTo>
                  <a:pt x="411" y="130"/>
                </a:lnTo>
                <a:lnTo>
                  <a:pt x="396" y="134"/>
                </a:lnTo>
                <a:lnTo>
                  <a:pt x="378" y="138"/>
                </a:lnTo>
                <a:lnTo>
                  <a:pt x="359" y="142"/>
                </a:lnTo>
                <a:lnTo>
                  <a:pt x="340" y="147"/>
                </a:lnTo>
                <a:lnTo>
                  <a:pt x="319" y="151"/>
                </a:lnTo>
                <a:lnTo>
                  <a:pt x="298" y="155"/>
                </a:lnTo>
                <a:lnTo>
                  <a:pt x="277" y="161"/>
                </a:lnTo>
                <a:lnTo>
                  <a:pt x="254" y="165"/>
                </a:lnTo>
                <a:lnTo>
                  <a:pt x="229" y="170"/>
                </a:lnTo>
                <a:lnTo>
                  <a:pt x="204" y="174"/>
                </a:lnTo>
                <a:lnTo>
                  <a:pt x="177" y="180"/>
                </a:lnTo>
                <a:lnTo>
                  <a:pt x="150" y="186"/>
                </a:lnTo>
                <a:lnTo>
                  <a:pt x="121" y="191"/>
                </a:lnTo>
                <a:lnTo>
                  <a:pt x="92" y="197"/>
                </a:lnTo>
                <a:lnTo>
                  <a:pt x="62" y="203"/>
                </a:lnTo>
                <a:lnTo>
                  <a:pt x="31" y="209"/>
                </a:lnTo>
                <a:lnTo>
                  <a:pt x="0" y="216"/>
                </a:lnTo>
                <a:lnTo>
                  <a:pt x="0" y="109"/>
                </a:lnTo>
                <a:lnTo>
                  <a:pt x="31" y="103"/>
                </a:lnTo>
                <a:lnTo>
                  <a:pt x="64" y="96"/>
                </a:lnTo>
                <a:lnTo>
                  <a:pt x="98" y="88"/>
                </a:lnTo>
                <a:lnTo>
                  <a:pt x="133" y="80"/>
                </a:lnTo>
                <a:lnTo>
                  <a:pt x="167" y="71"/>
                </a:lnTo>
                <a:lnTo>
                  <a:pt x="204" y="61"/>
                </a:lnTo>
                <a:lnTo>
                  <a:pt x="275" y="40"/>
                </a:lnTo>
                <a:lnTo>
                  <a:pt x="292" y="36"/>
                </a:lnTo>
                <a:lnTo>
                  <a:pt x="309" y="30"/>
                </a:lnTo>
                <a:lnTo>
                  <a:pt x="325" y="26"/>
                </a:lnTo>
                <a:lnTo>
                  <a:pt x="340" y="23"/>
                </a:lnTo>
                <a:lnTo>
                  <a:pt x="354" y="19"/>
                </a:lnTo>
                <a:lnTo>
                  <a:pt x="367" y="15"/>
                </a:lnTo>
                <a:lnTo>
                  <a:pt x="380" y="13"/>
                </a:lnTo>
                <a:lnTo>
                  <a:pt x="392" y="9"/>
                </a:lnTo>
                <a:lnTo>
                  <a:pt x="403" y="7"/>
                </a:lnTo>
                <a:lnTo>
                  <a:pt x="413" y="5"/>
                </a:lnTo>
                <a:lnTo>
                  <a:pt x="423" y="3"/>
                </a:lnTo>
                <a:lnTo>
                  <a:pt x="430" y="3"/>
                </a:lnTo>
                <a:lnTo>
                  <a:pt x="438" y="1"/>
                </a:lnTo>
                <a:lnTo>
                  <a:pt x="444" y="1"/>
                </a:lnTo>
                <a:lnTo>
                  <a:pt x="449" y="0"/>
                </a:lnTo>
                <a:lnTo>
                  <a:pt x="455" y="0"/>
                </a:lnTo>
                <a:lnTo>
                  <a:pt x="459" y="1"/>
                </a:lnTo>
                <a:lnTo>
                  <a:pt x="467" y="1"/>
                </a:lnTo>
                <a:lnTo>
                  <a:pt x="473" y="5"/>
                </a:lnTo>
                <a:lnTo>
                  <a:pt x="482" y="9"/>
                </a:lnTo>
                <a:lnTo>
                  <a:pt x="492" y="13"/>
                </a:lnTo>
                <a:lnTo>
                  <a:pt x="501" y="17"/>
                </a:lnTo>
                <a:lnTo>
                  <a:pt x="515" y="23"/>
                </a:lnTo>
                <a:lnTo>
                  <a:pt x="526" y="26"/>
                </a:lnTo>
                <a:lnTo>
                  <a:pt x="530" y="32"/>
                </a:lnTo>
                <a:lnTo>
                  <a:pt x="534" y="38"/>
                </a:lnTo>
                <a:lnTo>
                  <a:pt x="538" y="42"/>
                </a:lnTo>
                <a:lnTo>
                  <a:pt x="540" y="48"/>
                </a:lnTo>
                <a:lnTo>
                  <a:pt x="544" y="51"/>
                </a:lnTo>
                <a:lnTo>
                  <a:pt x="544" y="57"/>
                </a:lnTo>
                <a:lnTo>
                  <a:pt x="545" y="67"/>
                </a:lnTo>
                <a:lnTo>
                  <a:pt x="547" y="74"/>
                </a:lnTo>
                <a:lnTo>
                  <a:pt x="545" y="82"/>
                </a:lnTo>
                <a:lnTo>
                  <a:pt x="544" y="90"/>
                </a:lnTo>
                <a:lnTo>
                  <a:pt x="540" y="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35"/>
          <p:cNvSpPr/>
          <p:nvPr/>
        </p:nvSpPr>
        <p:spPr>
          <a:xfrm>
            <a:off x="6730920" y="2938320"/>
            <a:ext cx="655560" cy="211320"/>
          </a:xfrm>
          <a:custGeom>
            <a:avLst/>
            <a:gdLst/>
            <a:ahLst/>
            <a:rect l="l" t="t" r="r" b="b"/>
            <a:pathLst>
              <a:path w="828" h="266">
                <a:moveTo>
                  <a:pt x="432" y="82"/>
                </a:moveTo>
                <a:lnTo>
                  <a:pt x="461" y="71"/>
                </a:lnTo>
                <a:lnTo>
                  <a:pt x="488" y="61"/>
                </a:lnTo>
                <a:lnTo>
                  <a:pt x="515" y="53"/>
                </a:lnTo>
                <a:lnTo>
                  <a:pt x="540" y="46"/>
                </a:lnTo>
                <a:lnTo>
                  <a:pt x="565" y="38"/>
                </a:lnTo>
                <a:lnTo>
                  <a:pt x="588" y="32"/>
                </a:lnTo>
                <a:lnTo>
                  <a:pt x="609" y="24"/>
                </a:lnTo>
                <a:lnTo>
                  <a:pt x="630" y="21"/>
                </a:lnTo>
                <a:lnTo>
                  <a:pt x="649" y="15"/>
                </a:lnTo>
                <a:lnTo>
                  <a:pt x="668" y="11"/>
                </a:lnTo>
                <a:lnTo>
                  <a:pt x="686" y="7"/>
                </a:lnTo>
                <a:lnTo>
                  <a:pt x="701" y="5"/>
                </a:lnTo>
                <a:lnTo>
                  <a:pt x="716" y="3"/>
                </a:lnTo>
                <a:lnTo>
                  <a:pt x="732" y="1"/>
                </a:lnTo>
                <a:lnTo>
                  <a:pt x="743" y="0"/>
                </a:lnTo>
                <a:lnTo>
                  <a:pt x="757" y="0"/>
                </a:lnTo>
                <a:lnTo>
                  <a:pt x="764" y="3"/>
                </a:lnTo>
                <a:lnTo>
                  <a:pt x="772" y="5"/>
                </a:lnTo>
                <a:lnTo>
                  <a:pt x="780" y="7"/>
                </a:lnTo>
                <a:lnTo>
                  <a:pt x="787" y="11"/>
                </a:lnTo>
                <a:lnTo>
                  <a:pt x="793" y="13"/>
                </a:lnTo>
                <a:lnTo>
                  <a:pt x="799" y="15"/>
                </a:lnTo>
                <a:lnTo>
                  <a:pt x="805" y="19"/>
                </a:lnTo>
                <a:lnTo>
                  <a:pt x="810" y="21"/>
                </a:lnTo>
                <a:lnTo>
                  <a:pt x="814" y="23"/>
                </a:lnTo>
                <a:lnTo>
                  <a:pt x="818" y="24"/>
                </a:lnTo>
                <a:lnTo>
                  <a:pt x="820" y="28"/>
                </a:lnTo>
                <a:lnTo>
                  <a:pt x="824" y="30"/>
                </a:lnTo>
                <a:lnTo>
                  <a:pt x="826" y="32"/>
                </a:lnTo>
                <a:lnTo>
                  <a:pt x="826" y="36"/>
                </a:lnTo>
                <a:lnTo>
                  <a:pt x="828" y="38"/>
                </a:lnTo>
                <a:lnTo>
                  <a:pt x="828" y="40"/>
                </a:lnTo>
                <a:lnTo>
                  <a:pt x="828" y="46"/>
                </a:lnTo>
                <a:lnTo>
                  <a:pt x="826" y="51"/>
                </a:lnTo>
                <a:lnTo>
                  <a:pt x="822" y="57"/>
                </a:lnTo>
                <a:lnTo>
                  <a:pt x="818" y="63"/>
                </a:lnTo>
                <a:lnTo>
                  <a:pt x="812" y="69"/>
                </a:lnTo>
                <a:lnTo>
                  <a:pt x="807" y="76"/>
                </a:lnTo>
                <a:lnTo>
                  <a:pt x="799" y="82"/>
                </a:lnTo>
                <a:lnTo>
                  <a:pt x="789" y="90"/>
                </a:lnTo>
                <a:lnTo>
                  <a:pt x="780" y="96"/>
                </a:lnTo>
                <a:lnTo>
                  <a:pt x="768" y="103"/>
                </a:lnTo>
                <a:lnTo>
                  <a:pt x="755" y="111"/>
                </a:lnTo>
                <a:lnTo>
                  <a:pt x="741" y="119"/>
                </a:lnTo>
                <a:lnTo>
                  <a:pt x="726" y="126"/>
                </a:lnTo>
                <a:lnTo>
                  <a:pt x="709" y="134"/>
                </a:lnTo>
                <a:lnTo>
                  <a:pt x="691" y="142"/>
                </a:lnTo>
                <a:lnTo>
                  <a:pt x="672" y="149"/>
                </a:lnTo>
                <a:lnTo>
                  <a:pt x="632" y="165"/>
                </a:lnTo>
                <a:lnTo>
                  <a:pt x="592" y="178"/>
                </a:lnTo>
                <a:lnTo>
                  <a:pt x="549" y="193"/>
                </a:lnTo>
                <a:lnTo>
                  <a:pt x="507" y="207"/>
                </a:lnTo>
                <a:lnTo>
                  <a:pt x="463" y="218"/>
                </a:lnTo>
                <a:lnTo>
                  <a:pt x="419" y="228"/>
                </a:lnTo>
                <a:lnTo>
                  <a:pt x="396" y="232"/>
                </a:lnTo>
                <a:lnTo>
                  <a:pt x="373" y="238"/>
                </a:lnTo>
                <a:lnTo>
                  <a:pt x="350" y="239"/>
                </a:lnTo>
                <a:lnTo>
                  <a:pt x="325" y="243"/>
                </a:lnTo>
                <a:lnTo>
                  <a:pt x="300" y="247"/>
                </a:lnTo>
                <a:lnTo>
                  <a:pt x="277" y="253"/>
                </a:lnTo>
                <a:lnTo>
                  <a:pt x="256" y="255"/>
                </a:lnTo>
                <a:lnTo>
                  <a:pt x="235" y="259"/>
                </a:lnTo>
                <a:lnTo>
                  <a:pt x="215" y="261"/>
                </a:lnTo>
                <a:lnTo>
                  <a:pt x="196" y="262"/>
                </a:lnTo>
                <a:lnTo>
                  <a:pt x="179" y="264"/>
                </a:lnTo>
                <a:lnTo>
                  <a:pt x="162" y="264"/>
                </a:lnTo>
                <a:lnTo>
                  <a:pt x="146" y="266"/>
                </a:lnTo>
                <a:lnTo>
                  <a:pt x="133" y="266"/>
                </a:lnTo>
                <a:lnTo>
                  <a:pt x="119" y="264"/>
                </a:lnTo>
                <a:lnTo>
                  <a:pt x="108" y="264"/>
                </a:lnTo>
                <a:lnTo>
                  <a:pt x="98" y="262"/>
                </a:lnTo>
                <a:lnTo>
                  <a:pt x="89" y="261"/>
                </a:lnTo>
                <a:lnTo>
                  <a:pt x="79" y="259"/>
                </a:lnTo>
                <a:lnTo>
                  <a:pt x="73" y="257"/>
                </a:lnTo>
                <a:lnTo>
                  <a:pt x="64" y="253"/>
                </a:lnTo>
                <a:lnTo>
                  <a:pt x="56" y="251"/>
                </a:lnTo>
                <a:lnTo>
                  <a:pt x="48" y="249"/>
                </a:lnTo>
                <a:lnTo>
                  <a:pt x="41" y="247"/>
                </a:lnTo>
                <a:lnTo>
                  <a:pt x="35" y="243"/>
                </a:lnTo>
                <a:lnTo>
                  <a:pt x="29" y="241"/>
                </a:lnTo>
                <a:lnTo>
                  <a:pt x="23" y="239"/>
                </a:lnTo>
                <a:lnTo>
                  <a:pt x="18" y="236"/>
                </a:lnTo>
                <a:lnTo>
                  <a:pt x="14" y="234"/>
                </a:lnTo>
                <a:lnTo>
                  <a:pt x="10" y="232"/>
                </a:lnTo>
                <a:lnTo>
                  <a:pt x="8" y="228"/>
                </a:lnTo>
                <a:lnTo>
                  <a:pt x="4" y="226"/>
                </a:lnTo>
                <a:lnTo>
                  <a:pt x="2" y="224"/>
                </a:lnTo>
                <a:lnTo>
                  <a:pt x="2" y="220"/>
                </a:lnTo>
                <a:lnTo>
                  <a:pt x="0" y="218"/>
                </a:lnTo>
                <a:lnTo>
                  <a:pt x="0" y="216"/>
                </a:lnTo>
                <a:lnTo>
                  <a:pt x="0" y="213"/>
                </a:lnTo>
                <a:lnTo>
                  <a:pt x="2" y="211"/>
                </a:lnTo>
                <a:lnTo>
                  <a:pt x="4" y="209"/>
                </a:lnTo>
                <a:lnTo>
                  <a:pt x="6" y="207"/>
                </a:lnTo>
                <a:lnTo>
                  <a:pt x="10" y="203"/>
                </a:lnTo>
                <a:lnTo>
                  <a:pt x="16" y="201"/>
                </a:lnTo>
                <a:lnTo>
                  <a:pt x="20" y="199"/>
                </a:lnTo>
                <a:lnTo>
                  <a:pt x="25" y="195"/>
                </a:lnTo>
                <a:lnTo>
                  <a:pt x="33" y="193"/>
                </a:lnTo>
                <a:lnTo>
                  <a:pt x="39" y="191"/>
                </a:lnTo>
                <a:lnTo>
                  <a:pt x="48" y="188"/>
                </a:lnTo>
                <a:lnTo>
                  <a:pt x="56" y="186"/>
                </a:lnTo>
                <a:lnTo>
                  <a:pt x="66" y="184"/>
                </a:lnTo>
                <a:lnTo>
                  <a:pt x="75" y="180"/>
                </a:lnTo>
                <a:lnTo>
                  <a:pt x="85" y="178"/>
                </a:lnTo>
                <a:lnTo>
                  <a:pt x="96" y="176"/>
                </a:lnTo>
                <a:lnTo>
                  <a:pt x="108" y="172"/>
                </a:lnTo>
                <a:lnTo>
                  <a:pt x="121" y="170"/>
                </a:lnTo>
                <a:lnTo>
                  <a:pt x="137" y="167"/>
                </a:lnTo>
                <a:lnTo>
                  <a:pt x="152" y="163"/>
                </a:lnTo>
                <a:lnTo>
                  <a:pt x="169" y="159"/>
                </a:lnTo>
                <a:lnTo>
                  <a:pt x="189" y="155"/>
                </a:lnTo>
                <a:lnTo>
                  <a:pt x="208" y="149"/>
                </a:lnTo>
                <a:lnTo>
                  <a:pt x="229" y="143"/>
                </a:lnTo>
                <a:lnTo>
                  <a:pt x="250" y="138"/>
                </a:lnTo>
                <a:lnTo>
                  <a:pt x="273" y="132"/>
                </a:lnTo>
                <a:lnTo>
                  <a:pt x="298" y="124"/>
                </a:lnTo>
                <a:lnTo>
                  <a:pt x="323" y="117"/>
                </a:lnTo>
                <a:lnTo>
                  <a:pt x="348" y="109"/>
                </a:lnTo>
                <a:lnTo>
                  <a:pt x="377" y="101"/>
                </a:lnTo>
                <a:lnTo>
                  <a:pt x="404" y="92"/>
                </a:lnTo>
                <a:lnTo>
                  <a:pt x="432" y="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36"/>
          <p:cNvSpPr/>
          <p:nvPr/>
        </p:nvSpPr>
        <p:spPr>
          <a:xfrm>
            <a:off x="5865840" y="3795840"/>
            <a:ext cx="398520" cy="1199880"/>
          </a:xfrm>
          <a:custGeom>
            <a:avLst/>
            <a:gdLst/>
            <a:ahLst/>
            <a:rect l="l" t="t" r="r" b="b"/>
            <a:pathLst>
              <a:path w="503" h="1513">
                <a:moveTo>
                  <a:pt x="407" y="1419"/>
                </a:moveTo>
                <a:lnTo>
                  <a:pt x="401" y="1430"/>
                </a:lnTo>
                <a:lnTo>
                  <a:pt x="394" y="1442"/>
                </a:lnTo>
                <a:lnTo>
                  <a:pt x="388" y="1451"/>
                </a:lnTo>
                <a:lnTo>
                  <a:pt x="382" y="1461"/>
                </a:lnTo>
                <a:lnTo>
                  <a:pt x="376" y="1471"/>
                </a:lnTo>
                <a:lnTo>
                  <a:pt x="371" y="1478"/>
                </a:lnTo>
                <a:lnTo>
                  <a:pt x="367" y="1484"/>
                </a:lnTo>
                <a:lnTo>
                  <a:pt x="361" y="1490"/>
                </a:lnTo>
                <a:lnTo>
                  <a:pt x="355" y="1495"/>
                </a:lnTo>
                <a:lnTo>
                  <a:pt x="351" y="1499"/>
                </a:lnTo>
                <a:lnTo>
                  <a:pt x="346" y="1503"/>
                </a:lnTo>
                <a:lnTo>
                  <a:pt x="342" y="1507"/>
                </a:lnTo>
                <a:lnTo>
                  <a:pt x="336" y="1509"/>
                </a:lnTo>
                <a:lnTo>
                  <a:pt x="332" y="1511"/>
                </a:lnTo>
                <a:lnTo>
                  <a:pt x="328" y="1513"/>
                </a:lnTo>
                <a:lnTo>
                  <a:pt x="323" y="1513"/>
                </a:lnTo>
                <a:lnTo>
                  <a:pt x="317" y="1513"/>
                </a:lnTo>
                <a:lnTo>
                  <a:pt x="311" y="1511"/>
                </a:lnTo>
                <a:lnTo>
                  <a:pt x="305" y="1511"/>
                </a:lnTo>
                <a:lnTo>
                  <a:pt x="302" y="1509"/>
                </a:lnTo>
                <a:lnTo>
                  <a:pt x="296" y="1507"/>
                </a:lnTo>
                <a:lnTo>
                  <a:pt x="294" y="1505"/>
                </a:lnTo>
                <a:lnTo>
                  <a:pt x="290" y="1503"/>
                </a:lnTo>
                <a:lnTo>
                  <a:pt x="288" y="1499"/>
                </a:lnTo>
                <a:lnTo>
                  <a:pt x="286" y="1495"/>
                </a:lnTo>
                <a:lnTo>
                  <a:pt x="284" y="1490"/>
                </a:lnTo>
                <a:lnTo>
                  <a:pt x="282" y="1484"/>
                </a:lnTo>
                <a:lnTo>
                  <a:pt x="282" y="1478"/>
                </a:lnTo>
                <a:lnTo>
                  <a:pt x="282" y="1471"/>
                </a:lnTo>
                <a:lnTo>
                  <a:pt x="284" y="1463"/>
                </a:lnTo>
                <a:lnTo>
                  <a:pt x="286" y="1455"/>
                </a:lnTo>
                <a:lnTo>
                  <a:pt x="288" y="1446"/>
                </a:lnTo>
                <a:lnTo>
                  <a:pt x="286" y="1438"/>
                </a:lnTo>
                <a:lnTo>
                  <a:pt x="286" y="1430"/>
                </a:lnTo>
                <a:lnTo>
                  <a:pt x="284" y="1423"/>
                </a:lnTo>
                <a:lnTo>
                  <a:pt x="282" y="1415"/>
                </a:lnTo>
                <a:lnTo>
                  <a:pt x="280" y="1407"/>
                </a:lnTo>
                <a:lnTo>
                  <a:pt x="277" y="1399"/>
                </a:lnTo>
                <a:lnTo>
                  <a:pt x="273" y="1390"/>
                </a:lnTo>
                <a:lnTo>
                  <a:pt x="269" y="1382"/>
                </a:lnTo>
                <a:lnTo>
                  <a:pt x="265" y="1375"/>
                </a:lnTo>
                <a:lnTo>
                  <a:pt x="259" y="1365"/>
                </a:lnTo>
                <a:lnTo>
                  <a:pt x="254" y="1357"/>
                </a:lnTo>
                <a:lnTo>
                  <a:pt x="246" y="1348"/>
                </a:lnTo>
                <a:lnTo>
                  <a:pt x="240" y="1338"/>
                </a:lnTo>
                <a:lnTo>
                  <a:pt x="232" y="1330"/>
                </a:lnTo>
                <a:lnTo>
                  <a:pt x="225" y="1319"/>
                </a:lnTo>
                <a:lnTo>
                  <a:pt x="215" y="1309"/>
                </a:lnTo>
                <a:lnTo>
                  <a:pt x="204" y="1302"/>
                </a:lnTo>
                <a:lnTo>
                  <a:pt x="194" y="1294"/>
                </a:lnTo>
                <a:lnTo>
                  <a:pt x="184" y="1286"/>
                </a:lnTo>
                <a:lnTo>
                  <a:pt x="177" y="1279"/>
                </a:lnTo>
                <a:lnTo>
                  <a:pt x="169" y="1273"/>
                </a:lnTo>
                <a:lnTo>
                  <a:pt x="163" y="1265"/>
                </a:lnTo>
                <a:lnTo>
                  <a:pt x="156" y="1259"/>
                </a:lnTo>
                <a:lnTo>
                  <a:pt x="152" y="1252"/>
                </a:lnTo>
                <a:lnTo>
                  <a:pt x="146" y="1246"/>
                </a:lnTo>
                <a:lnTo>
                  <a:pt x="142" y="1240"/>
                </a:lnTo>
                <a:lnTo>
                  <a:pt x="138" y="1234"/>
                </a:lnTo>
                <a:lnTo>
                  <a:pt x="136" y="1231"/>
                </a:lnTo>
                <a:lnTo>
                  <a:pt x="135" y="1225"/>
                </a:lnTo>
                <a:lnTo>
                  <a:pt x="133" y="1221"/>
                </a:lnTo>
                <a:lnTo>
                  <a:pt x="133" y="1217"/>
                </a:lnTo>
                <a:lnTo>
                  <a:pt x="133" y="1215"/>
                </a:lnTo>
                <a:lnTo>
                  <a:pt x="133" y="1213"/>
                </a:lnTo>
                <a:lnTo>
                  <a:pt x="133" y="1211"/>
                </a:lnTo>
                <a:lnTo>
                  <a:pt x="135" y="1209"/>
                </a:lnTo>
                <a:lnTo>
                  <a:pt x="136" y="1208"/>
                </a:lnTo>
                <a:lnTo>
                  <a:pt x="138" y="1206"/>
                </a:lnTo>
                <a:lnTo>
                  <a:pt x="142" y="1206"/>
                </a:lnTo>
                <a:lnTo>
                  <a:pt x="146" y="1206"/>
                </a:lnTo>
                <a:lnTo>
                  <a:pt x="152" y="1206"/>
                </a:lnTo>
                <a:lnTo>
                  <a:pt x="156" y="1206"/>
                </a:lnTo>
                <a:lnTo>
                  <a:pt x="163" y="1206"/>
                </a:lnTo>
                <a:lnTo>
                  <a:pt x="169" y="1206"/>
                </a:lnTo>
                <a:lnTo>
                  <a:pt x="177" y="1208"/>
                </a:lnTo>
                <a:lnTo>
                  <a:pt x="184" y="1209"/>
                </a:lnTo>
                <a:lnTo>
                  <a:pt x="194" y="1211"/>
                </a:lnTo>
                <a:lnTo>
                  <a:pt x="204" y="1213"/>
                </a:lnTo>
                <a:lnTo>
                  <a:pt x="215" y="1215"/>
                </a:lnTo>
                <a:lnTo>
                  <a:pt x="227" y="1217"/>
                </a:lnTo>
                <a:lnTo>
                  <a:pt x="236" y="1219"/>
                </a:lnTo>
                <a:lnTo>
                  <a:pt x="246" y="1221"/>
                </a:lnTo>
                <a:lnTo>
                  <a:pt x="255" y="1223"/>
                </a:lnTo>
                <a:lnTo>
                  <a:pt x="265" y="1223"/>
                </a:lnTo>
                <a:lnTo>
                  <a:pt x="273" y="1225"/>
                </a:lnTo>
                <a:lnTo>
                  <a:pt x="280" y="1225"/>
                </a:lnTo>
                <a:lnTo>
                  <a:pt x="288" y="1223"/>
                </a:lnTo>
                <a:lnTo>
                  <a:pt x="294" y="1223"/>
                </a:lnTo>
                <a:lnTo>
                  <a:pt x="300" y="1221"/>
                </a:lnTo>
                <a:lnTo>
                  <a:pt x="305" y="1219"/>
                </a:lnTo>
                <a:lnTo>
                  <a:pt x="309" y="1217"/>
                </a:lnTo>
                <a:lnTo>
                  <a:pt x="315" y="1213"/>
                </a:lnTo>
                <a:lnTo>
                  <a:pt x="317" y="1211"/>
                </a:lnTo>
                <a:lnTo>
                  <a:pt x="321" y="1206"/>
                </a:lnTo>
                <a:lnTo>
                  <a:pt x="323" y="1202"/>
                </a:lnTo>
                <a:lnTo>
                  <a:pt x="325" y="1200"/>
                </a:lnTo>
                <a:lnTo>
                  <a:pt x="325" y="1198"/>
                </a:lnTo>
                <a:lnTo>
                  <a:pt x="326" y="1196"/>
                </a:lnTo>
                <a:lnTo>
                  <a:pt x="328" y="1192"/>
                </a:lnTo>
                <a:lnTo>
                  <a:pt x="328" y="1188"/>
                </a:lnTo>
                <a:lnTo>
                  <a:pt x="330" y="1185"/>
                </a:lnTo>
                <a:lnTo>
                  <a:pt x="330" y="1179"/>
                </a:lnTo>
                <a:lnTo>
                  <a:pt x="332" y="1175"/>
                </a:lnTo>
                <a:lnTo>
                  <a:pt x="332" y="1169"/>
                </a:lnTo>
                <a:lnTo>
                  <a:pt x="334" y="1161"/>
                </a:lnTo>
                <a:lnTo>
                  <a:pt x="334" y="1156"/>
                </a:lnTo>
                <a:lnTo>
                  <a:pt x="336" y="1148"/>
                </a:lnTo>
                <a:lnTo>
                  <a:pt x="336" y="1140"/>
                </a:lnTo>
                <a:lnTo>
                  <a:pt x="338" y="1133"/>
                </a:lnTo>
                <a:lnTo>
                  <a:pt x="338" y="1123"/>
                </a:lnTo>
                <a:lnTo>
                  <a:pt x="340" y="1113"/>
                </a:lnTo>
                <a:lnTo>
                  <a:pt x="342" y="1094"/>
                </a:lnTo>
                <a:lnTo>
                  <a:pt x="342" y="1071"/>
                </a:lnTo>
                <a:lnTo>
                  <a:pt x="344" y="1048"/>
                </a:lnTo>
                <a:lnTo>
                  <a:pt x="346" y="1023"/>
                </a:lnTo>
                <a:lnTo>
                  <a:pt x="346" y="996"/>
                </a:lnTo>
                <a:lnTo>
                  <a:pt x="346" y="968"/>
                </a:lnTo>
                <a:lnTo>
                  <a:pt x="348" y="937"/>
                </a:lnTo>
                <a:lnTo>
                  <a:pt x="348" y="904"/>
                </a:lnTo>
                <a:lnTo>
                  <a:pt x="348" y="839"/>
                </a:lnTo>
                <a:lnTo>
                  <a:pt x="348" y="776"/>
                </a:lnTo>
                <a:lnTo>
                  <a:pt x="348" y="712"/>
                </a:lnTo>
                <a:lnTo>
                  <a:pt x="348" y="649"/>
                </a:lnTo>
                <a:lnTo>
                  <a:pt x="348" y="588"/>
                </a:lnTo>
                <a:lnTo>
                  <a:pt x="348" y="526"/>
                </a:lnTo>
                <a:lnTo>
                  <a:pt x="348" y="405"/>
                </a:lnTo>
                <a:lnTo>
                  <a:pt x="346" y="378"/>
                </a:lnTo>
                <a:lnTo>
                  <a:pt x="342" y="353"/>
                </a:lnTo>
                <a:lnTo>
                  <a:pt x="340" y="328"/>
                </a:lnTo>
                <a:lnTo>
                  <a:pt x="338" y="307"/>
                </a:lnTo>
                <a:lnTo>
                  <a:pt x="336" y="286"/>
                </a:lnTo>
                <a:lnTo>
                  <a:pt x="332" y="267"/>
                </a:lnTo>
                <a:lnTo>
                  <a:pt x="330" y="250"/>
                </a:lnTo>
                <a:lnTo>
                  <a:pt x="326" y="232"/>
                </a:lnTo>
                <a:lnTo>
                  <a:pt x="323" y="219"/>
                </a:lnTo>
                <a:lnTo>
                  <a:pt x="319" y="206"/>
                </a:lnTo>
                <a:lnTo>
                  <a:pt x="315" y="194"/>
                </a:lnTo>
                <a:lnTo>
                  <a:pt x="309" y="184"/>
                </a:lnTo>
                <a:lnTo>
                  <a:pt x="305" y="177"/>
                </a:lnTo>
                <a:lnTo>
                  <a:pt x="300" y="171"/>
                </a:lnTo>
                <a:lnTo>
                  <a:pt x="294" y="165"/>
                </a:lnTo>
                <a:lnTo>
                  <a:pt x="288" y="161"/>
                </a:lnTo>
                <a:lnTo>
                  <a:pt x="280" y="160"/>
                </a:lnTo>
                <a:lnTo>
                  <a:pt x="271" y="158"/>
                </a:lnTo>
                <a:lnTo>
                  <a:pt x="261" y="158"/>
                </a:lnTo>
                <a:lnTo>
                  <a:pt x="250" y="158"/>
                </a:lnTo>
                <a:lnTo>
                  <a:pt x="236" y="158"/>
                </a:lnTo>
                <a:lnTo>
                  <a:pt x="221" y="158"/>
                </a:lnTo>
                <a:lnTo>
                  <a:pt x="206" y="160"/>
                </a:lnTo>
                <a:lnTo>
                  <a:pt x="188" y="161"/>
                </a:lnTo>
                <a:lnTo>
                  <a:pt x="169" y="165"/>
                </a:lnTo>
                <a:lnTo>
                  <a:pt x="150" y="169"/>
                </a:lnTo>
                <a:lnTo>
                  <a:pt x="129" y="173"/>
                </a:lnTo>
                <a:lnTo>
                  <a:pt x="106" y="177"/>
                </a:lnTo>
                <a:lnTo>
                  <a:pt x="81" y="183"/>
                </a:lnTo>
                <a:lnTo>
                  <a:pt x="56" y="188"/>
                </a:lnTo>
                <a:lnTo>
                  <a:pt x="29" y="196"/>
                </a:lnTo>
                <a:lnTo>
                  <a:pt x="0" y="204"/>
                </a:lnTo>
                <a:lnTo>
                  <a:pt x="6" y="156"/>
                </a:lnTo>
                <a:lnTo>
                  <a:pt x="12" y="108"/>
                </a:lnTo>
                <a:lnTo>
                  <a:pt x="35" y="108"/>
                </a:lnTo>
                <a:lnTo>
                  <a:pt x="56" y="106"/>
                </a:lnTo>
                <a:lnTo>
                  <a:pt x="79" y="104"/>
                </a:lnTo>
                <a:lnTo>
                  <a:pt x="100" y="100"/>
                </a:lnTo>
                <a:lnTo>
                  <a:pt x="121" y="96"/>
                </a:lnTo>
                <a:lnTo>
                  <a:pt x="142" y="90"/>
                </a:lnTo>
                <a:lnTo>
                  <a:pt x="161" y="87"/>
                </a:lnTo>
                <a:lnTo>
                  <a:pt x="181" y="81"/>
                </a:lnTo>
                <a:lnTo>
                  <a:pt x="198" y="75"/>
                </a:lnTo>
                <a:lnTo>
                  <a:pt x="213" y="71"/>
                </a:lnTo>
                <a:lnTo>
                  <a:pt x="229" y="65"/>
                </a:lnTo>
                <a:lnTo>
                  <a:pt x="240" y="60"/>
                </a:lnTo>
                <a:lnTo>
                  <a:pt x="252" y="52"/>
                </a:lnTo>
                <a:lnTo>
                  <a:pt x="257" y="48"/>
                </a:lnTo>
                <a:lnTo>
                  <a:pt x="261" y="44"/>
                </a:lnTo>
                <a:lnTo>
                  <a:pt x="267" y="41"/>
                </a:lnTo>
                <a:lnTo>
                  <a:pt x="269" y="37"/>
                </a:lnTo>
                <a:lnTo>
                  <a:pt x="273" y="33"/>
                </a:lnTo>
                <a:lnTo>
                  <a:pt x="275" y="27"/>
                </a:lnTo>
                <a:lnTo>
                  <a:pt x="280" y="21"/>
                </a:lnTo>
                <a:lnTo>
                  <a:pt x="286" y="17"/>
                </a:lnTo>
                <a:lnTo>
                  <a:pt x="292" y="14"/>
                </a:lnTo>
                <a:lnTo>
                  <a:pt x="300" y="8"/>
                </a:lnTo>
                <a:lnTo>
                  <a:pt x="305" y="6"/>
                </a:lnTo>
                <a:lnTo>
                  <a:pt x="313" y="2"/>
                </a:lnTo>
                <a:lnTo>
                  <a:pt x="319" y="0"/>
                </a:lnTo>
                <a:lnTo>
                  <a:pt x="323" y="0"/>
                </a:lnTo>
                <a:lnTo>
                  <a:pt x="326" y="0"/>
                </a:lnTo>
                <a:lnTo>
                  <a:pt x="328" y="0"/>
                </a:lnTo>
                <a:lnTo>
                  <a:pt x="332" y="2"/>
                </a:lnTo>
                <a:lnTo>
                  <a:pt x="336" y="2"/>
                </a:lnTo>
                <a:lnTo>
                  <a:pt x="342" y="4"/>
                </a:lnTo>
                <a:lnTo>
                  <a:pt x="346" y="6"/>
                </a:lnTo>
                <a:lnTo>
                  <a:pt x="357" y="10"/>
                </a:lnTo>
                <a:lnTo>
                  <a:pt x="371" y="16"/>
                </a:lnTo>
                <a:lnTo>
                  <a:pt x="386" y="23"/>
                </a:lnTo>
                <a:lnTo>
                  <a:pt x="401" y="31"/>
                </a:lnTo>
                <a:lnTo>
                  <a:pt x="419" y="41"/>
                </a:lnTo>
                <a:lnTo>
                  <a:pt x="428" y="48"/>
                </a:lnTo>
                <a:lnTo>
                  <a:pt x="436" y="56"/>
                </a:lnTo>
                <a:lnTo>
                  <a:pt x="444" y="62"/>
                </a:lnTo>
                <a:lnTo>
                  <a:pt x="451" y="69"/>
                </a:lnTo>
                <a:lnTo>
                  <a:pt x="463" y="81"/>
                </a:lnTo>
                <a:lnTo>
                  <a:pt x="474" y="90"/>
                </a:lnTo>
                <a:lnTo>
                  <a:pt x="484" y="100"/>
                </a:lnTo>
                <a:lnTo>
                  <a:pt x="492" y="110"/>
                </a:lnTo>
                <a:lnTo>
                  <a:pt x="497" y="115"/>
                </a:lnTo>
                <a:lnTo>
                  <a:pt x="503" y="121"/>
                </a:lnTo>
                <a:lnTo>
                  <a:pt x="503" y="127"/>
                </a:lnTo>
                <a:lnTo>
                  <a:pt x="501" y="135"/>
                </a:lnTo>
                <a:lnTo>
                  <a:pt x="499" y="140"/>
                </a:lnTo>
                <a:lnTo>
                  <a:pt x="495" y="148"/>
                </a:lnTo>
                <a:lnTo>
                  <a:pt x="492" y="156"/>
                </a:lnTo>
                <a:lnTo>
                  <a:pt x="488" y="163"/>
                </a:lnTo>
                <a:lnTo>
                  <a:pt x="484" y="169"/>
                </a:lnTo>
                <a:lnTo>
                  <a:pt x="480" y="175"/>
                </a:lnTo>
                <a:lnTo>
                  <a:pt x="476" y="177"/>
                </a:lnTo>
                <a:lnTo>
                  <a:pt x="474" y="179"/>
                </a:lnTo>
                <a:lnTo>
                  <a:pt x="472" y="183"/>
                </a:lnTo>
                <a:lnTo>
                  <a:pt x="470" y="186"/>
                </a:lnTo>
                <a:lnTo>
                  <a:pt x="470" y="190"/>
                </a:lnTo>
                <a:lnTo>
                  <a:pt x="469" y="194"/>
                </a:lnTo>
                <a:lnTo>
                  <a:pt x="467" y="200"/>
                </a:lnTo>
                <a:lnTo>
                  <a:pt x="465" y="206"/>
                </a:lnTo>
                <a:lnTo>
                  <a:pt x="465" y="213"/>
                </a:lnTo>
                <a:lnTo>
                  <a:pt x="463" y="219"/>
                </a:lnTo>
                <a:lnTo>
                  <a:pt x="463" y="227"/>
                </a:lnTo>
                <a:lnTo>
                  <a:pt x="461" y="236"/>
                </a:lnTo>
                <a:lnTo>
                  <a:pt x="461" y="244"/>
                </a:lnTo>
                <a:lnTo>
                  <a:pt x="461" y="254"/>
                </a:lnTo>
                <a:lnTo>
                  <a:pt x="461" y="265"/>
                </a:lnTo>
                <a:lnTo>
                  <a:pt x="459" y="275"/>
                </a:lnTo>
                <a:lnTo>
                  <a:pt x="459" y="286"/>
                </a:lnTo>
                <a:lnTo>
                  <a:pt x="459" y="298"/>
                </a:lnTo>
                <a:lnTo>
                  <a:pt x="459" y="311"/>
                </a:lnTo>
                <a:lnTo>
                  <a:pt x="459" y="325"/>
                </a:lnTo>
                <a:lnTo>
                  <a:pt x="459" y="338"/>
                </a:lnTo>
                <a:lnTo>
                  <a:pt x="461" y="351"/>
                </a:lnTo>
                <a:lnTo>
                  <a:pt x="461" y="367"/>
                </a:lnTo>
                <a:lnTo>
                  <a:pt x="461" y="382"/>
                </a:lnTo>
                <a:lnTo>
                  <a:pt x="461" y="399"/>
                </a:lnTo>
                <a:lnTo>
                  <a:pt x="463" y="415"/>
                </a:lnTo>
                <a:lnTo>
                  <a:pt x="463" y="432"/>
                </a:lnTo>
                <a:lnTo>
                  <a:pt x="463" y="449"/>
                </a:lnTo>
                <a:lnTo>
                  <a:pt x="465" y="469"/>
                </a:lnTo>
                <a:lnTo>
                  <a:pt x="465" y="488"/>
                </a:lnTo>
                <a:lnTo>
                  <a:pt x="467" y="507"/>
                </a:lnTo>
                <a:lnTo>
                  <a:pt x="467" y="526"/>
                </a:lnTo>
                <a:lnTo>
                  <a:pt x="469" y="568"/>
                </a:lnTo>
                <a:lnTo>
                  <a:pt x="470" y="611"/>
                </a:lnTo>
                <a:lnTo>
                  <a:pt x="472" y="651"/>
                </a:lnTo>
                <a:lnTo>
                  <a:pt x="474" y="689"/>
                </a:lnTo>
                <a:lnTo>
                  <a:pt x="474" y="728"/>
                </a:lnTo>
                <a:lnTo>
                  <a:pt x="476" y="764"/>
                </a:lnTo>
                <a:lnTo>
                  <a:pt x="476" y="799"/>
                </a:lnTo>
                <a:lnTo>
                  <a:pt x="478" y="833"/>
                </a:lnTo>
                <a:lnTo>
                  <a:pt x="478" y="868"/>
                </a:lnTo>
                <a:lnTo>
                  <a:pt x="478" y="900"/>
                </a:lnTo>
                <a:lnTo>
                  <a:pt x="478" y="933"/>
                </a:lnTo>
                <a:lnTo>
                  <a:pt x="478" y="964"/>
                </a:lnTo>
                <a:lnTo>
                  <a:pt x="478" y="993"/>
                </a:lnTo>
                <a:lnTo>
                  <a:pt x="480" y="1023"/>
                </a:lnTo>
                <a:lnTo>
                  <a:pt x="480" y="1052"/>
                </a:lnTo>
                <a:lnTo>
                  <a:pt x="480" y="1081"/>
                </a:lnTo>
                <a:lnTo>
                  <a:pt x="476" y="1108"/>
                </a:lnTo>
                <a:lnTo>
                  <a:pt x="474" y="1135"/>
                </a:lnTo>
                <a:lnTo>
                  <a:pt x="470" y="1160"/>
                </a:lnTo>
                <a:lnTo>
                  <a:pt x="469" y="1186"/>
                </a:lnTo>
                <a:lnTo>
                  <a:pt x="465" y="1211"/>
                </a:lnTo>
                <a:lnTo>
                  <a:pt x="461" y="1234"/>
                </a:lnTo>
                <a:lnTo>
                  <a:pt x="457" y="1257"/>
                </a:lnTo>
                <a:lnTo>
                  <a:pt x="451" y="1279"/>
                </a:lnTo>
                <a:lnTo>
                  <a:pt x="447" y="1300"/>
                </a:lnTo>
                <a:lnTo>
                  <a:pt x="442" y="1321"/>
                </a:lnTo>
                <a:lnTo>
                  <a:pt x="438" y="1340"/>
                </a:lnTo>
                <a:lnTo>
                  <a:pt x="432" y="1357"/>
                </a:lnTo>
                <a:lnTo>
                  <a:pt x="426" y="1375"/>
                </a:lnTo>
                <a:lnTo>
                  <a:pt x="421" y="1390"/>
                </a:lnTo>
                <a:lnTo>
                  <a:pt x="413" y="1405"/>
                </a:lnTo>
                <a:lnTo>
                  <a:pt x="407" y="14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37"/>
          <p:cNvSpPr/>
          <p:nvPr/>
        </p:nvSpPr>
        <p:spPr>
          <a:xfrm>
            <a:off x="5730840" y="3855960"/>
            <a:ext cx="173160" cy="1055880"/>
          </a:xfrm>
          <a:custGeom>
            <a:avLst/>
            <a:gdLst/>
            <a:ahLst/>
            <a:rect l="l" t="t" r="r" b="b"/>
            <a:pathLst>
              <a:path w="217" h="1330">
                <a:moveTo>
                  <a:pt x="96" y="142"/>
                </a:moveTo>
                <a:lnTo>
                  <a:pt x="98" y="117"/>
                </a:lnTo>
                <a:lnTo>
                  <a:pt x="98" y="94"/>
                </a:lnTo>
                <a:lnTo>
                  <a:pt x="100" y="83"/>
                </a:lnTo>
                <a:lnTo>
                  <a:pt x="102" y="73"/>
                </a:lnTo>
                <a:lnTo>
                  <a:pt x="102" y="63"/>
                </a:lnTo>
                <a:lnTo>
                  <a:pt x="104" y="54"/>
                </a:lnTo>
                <a:lnTo>
                  <a:pt x="106" y="44"/>
                </a:lnTo>
                <a:lnTo>
                  <a:pt x="108" y="37"/>
                </a:lnTo>
                <a:lnTo>
                  <a:pt x="110" y="29"/>
                </a:lnTo>
                <a:lnTo>
                  <a:pt x="112" y="23"/>
                </a:lnTo>
                <a:lnTo>
                  <a:pt x="113" y="17"/>
                </a:lnTo>
                <a:lnTo>
                  <a:pt x="115" y="13"/>
                </a:lnTo>
                <a:lnTo>
                  <a:pt x="119" y="10"/>
                </a:lnTo>
                <a:lnTo>
                  <a:pt x="121" y="6"/>
                </a:lnTo>
                <a:lnTo>
                  <a:pt x="123" y="4"/>
                </a:lnTo>
                <a:lnTo>
                  <a:pt x="127" y="2"/>
                </a:lnTo>
                <a:lnTo>
                  <a:pt x="131" y="2"/>
                </a:lnTo>
                <a:lnTo>
                  <a:pt x="135" y="0"/>
                </a:lnTo>
                <a:lnTo>
                  <a:pt x="138" y="0"/>
                </a:lnTo>
                <a:lnTo>
                  <a:pt x="144" y="2"/>
                </a:lnTo>
                <a:lnTo>
                  <a:pt x="150" y="2"/>
                </a:lnTo>
                <a:lnTo>
                  <a:pt x="156" y="4"/>
                </a:lnTo>
                <a:lnTo>
                  <a:pt x="169" y="10"/>
                </a:lnTo>
                <a:lnTo>
                  <a:pt x="183" y="15"/>
                </a:lnTo>
                <a:lnTo>
                  <a:pt x="200" y="23"/>
                </a:lnTo>
                <a:lnTo>
                  <a:pt x="217" y="33"/>
                </a:lnTo>
                <a:lnTo>
                  <a:pt x="213" y="85"/>
                </a:lnTo>
                <a:lnTo>
                  <a:pt x="209" y="134"/>
                </a:lnTo>
                <a:lnTo>
                  <a:pt x="208" y="184"/>
                </a:lnTo>
                <a:lnTo>
                  <a:pt x="204" y="230"/>
                </a:lnTo>
                <a:lnTo>
                  <a:pt x="200" y="278"/>
                </a:lnTo>
                <a:lnTo>
                  <a:pt x="198" y="323"/>
                </a:lnTo>
                <a:lnTo>
                  <a:pt x="194" y="367"/>
                </a:lnTo>
                <a:lnTo>
                  <a:pt x="192" y="411"/>
                </a:lnTo>
                <a:lnTo>
                  <a:pt x="188" y="451"/>
                </a:lnTo>
                <a:lnTo>
                  <a:pt x="186" y="493"/>
                </a:lnTo>
                <a:lnTo>
                  <a:pt x="183" y="532"/>
                </a:lnTo>
                <a:lnTo>
                  <a:pt x="181" y="570"/>
                </a:lnTo>
                <a:lnTo>
                  <a:pt x="179" y="607"/>
                </a:lnTo>
                <a:lnTo>
                  <a:pt x="175" y="643"/>
                </a:lnTo>
                <a:lnTo>
                  <a:pt x="173" y="678"/>
                </a:lnTo>
                <a:lnTo>
                  <a:pt x="171" y="712"/>
                </a:lnTo>
                <a:lnTo>
                  <a:pt x="167" y="743"/>
                </a:lnTo>
                <a:lnTo>
                  <a:pt x="165" y="776"/>
                </a:lnTo>
                <a:lnTo>
                  <a:pt x="163" y="804"/>
                </a:lnTo>
                <a:lnTo>
                  <a:pt x="160" y="833"/>
                </a:lnTo>
                <a:lnTo>
                  <a:pt x="158" y="862"/>
                </a:lnTo>
                <a:lnTo>
                  <a:pt x="156" y="887"/>
                </a:lnTo>
                <a:lnTo>
                  <a:pt x="154" y="914"/>
                </a:lnTo>
                <a:lnTo>
                  <a:pt x="150" y="937"/>
                </a:lnTo>
                <a:lnTo>
                  <a:pt x="148" y="960"/>
                </a:lnTo>
                <a:lnTo>
                  <a:pt x="146" y="981"/>
                </a:lnTo>
                <a:lnTo>
                  <a:pt x="144" y="1002"/>
                </a:lnTo>
                <a:lnTo>
                  <a:pt x="142" y="1021"/>
                </a:lnTo>
                <a:lnTo>
                  <a:pt x="138" y="1038"/>
                </a:lnTo>
                <a:lnTo>
                  <a:pt x="137" y="1056"/>
                </a:lnTo>
                <a:lnTo>
                  <a:pt x="135" y="1071"/>
                </a:lnTo>
                <a:lnTo>
                  <a:pt x="133" y="1086"/>
                </a:lnTo>
                <a:lnTo>
                  <a:pt x="129" y="1115"/>
                </a:lnTo>
                <a:lnTo>
                  <a:pt x="123" y="1142"/>
                </a:lnTo>
                <a:lnTo>
                  <a:pt x="119" y="1169"/>
                </a:lnTo>
                <a:lnTo>
                  <a:pt x="115" y="1192"/>
                </a:lnTo>
                <a:lnTo>
                  <a:pt x="112" y="1215"/>
                </a:lnTo>
                <a:lnTo>
                  <a:pt x="106" y="1234"/>
                </a:lnTo>
                <a:lnTo>
                  <a:pt x="102" y="1252"/>
                </a:lnTo>
                <a:lnTo>
                  <a:pt x="98" y="1269"/>
                </a:lnTo>
                <a:lnTo>
                  <a:pt x="94" y="1282"/>
                </a:lnTo>
                <a:lnTo>
                  <a:pt x="90" y="1296"/>
                </a:lnTo>
                <a:lnTo>
                  <a:pt x="87" y="1305"/>
                </a:lnTo>
                <a:lnTo>
                  <a:pt x="85" y="1315"/>
                </a:lnTo>
                <a:lnTo>
                  <a:pt x="81" y="1321"/>
                </a:lnTo>
                <a:lnTo>
                  <a:pt x="77" y="1326"/>
                </a:lnTo>
                <a:lnTo>
                  <a:pt x="75" y="1328"/>
                </a:lnTo>
                <a:lnTo>
                  <a:pt x="73" y="1330"/>
                </a:lnTo>
                <a:lnTo>
                  <a:pt x="71" y="1328"/>
                </a:lnTo>
                <a:lnTo>
                  <a:pt x="67" y="1328"/>
                </a:lnTo>
                <a:lnTo>
                  <a:pt x="66" y="1326"/>
                </a:lnTo>
                <a:lnTo>
                  <a:pt x="62" y="1324"/>
                </a:lnTo>
                <a:lnTo>
                  <a:pt x="58" y="1321"/>
                </a:lnTo>
                <a:lnTo>
                  <a:pt x="56" y="1319"/>
                </a:lnTo>
                <a:lnTo>
                  <a:pt x="52" y="1313"/>
                </a:lnTo>
                <a:lnTo>
                  <a:pt x="48" y="1309"/>
                </a:lnTo>
                <a:lnTo>
                  <a:pt x="46" y="1303"/>
                </a:lnTo>
                <a:lnTo>
                  <a:pt x="42" y="1298"/>
                </a:lnTo>
                <a:lnTo>
                  <a:pt x="39" y="1290"/>
                </a:lnTo>
                <a:lnTo>
                  <a:pt x="35" y="1284"/>
                </a:lnTo>
                <a:lnTo>
                  <a:pt x="33" y="1277"/>
                </a:lnTo>
                <a:lnTo>
                  <a:pt x="29" y="1267"/>
                </a:lnTo>
                <a:lnTo>
                  <a:pt x="27" y="1257"/>
                </a:lnTo>
                <a:lnTo>
                  <a:pt x="25" y="1248"/>
                </a:lnTo>
                <a:lnTo>
                  <a:pt x="19" y="1232"/>
                </a:lnTo>
                <a:lnTo>
                  <a:pt x="16" y="1219"/>
                </a:lnTo>
                <a:lnTo>
                  <a:pt x="12" y="1204"/>
                </a:lnTo>
                <a:lnTo>
                  <a:pt x="8" y="1190"/>
                </a:lnTo>
                <a:lnTo>
                  <a:pt x="6" y="1179"/>
                </a:lnTo>
                <a:lnTo>
                  <a:pt x="2" y="1169"/>
                </a:lnTo>
                <a:lnTo>
                  <a:pt x="2" y="1163"/>
                </a:lnTo>
                <a:lnTo>
                  <a:pt x="2" y="1159"/>
                </a:lnTo>
                <a:lnTo>
                  <a:pt x="0" y="1156"/>
                </a:lnTo>
                <a:lnTo>
                  <a:pt x="0" y="1154"/>
                </a:lnTo>
                <a:lnTo>
                  <a:pt x="0" y="1152"/>
                </a:lnTo>
                <a:lnTo>
                  <a:pt x="2" y="1148"/>
                </a:lnTo>
                <a:lnTo>
                  <a:pt x="2" y="1144"/>
                </a:lnTo>
                <a:lnTo>
                  <a:pt x="2" y="1138"/>
                </a:lnTo>
                <a:lnTo>
                  <a:pt x="4" y="1133"/>
                </a:lnTo>
                <a:lnTo>
                  <a:pt x="6" y="1127"/>
                </a:lnTo>
                <a:lnTo>
                  <a:pt x="6" y="1119"/>
                </a:lnTo>
                <a:lnTo>
                  <a:pt x="8" y="1111"/>
                </a:lnTo>
                <a:lnTo>
                  <a:pt x="10" y="1104"/>
                </a:lnTo>
                <a:lnTo>
                  <a:pt x="12" y="1094"/>
                </a:lnTo>
                <a:lnTo>
                  <a:pt x="14" y="1083"/>
                </a:lnTo>
                <a:lnTo>
                  <a:pt x="16" y="1071"/>
                </a:lnTo>
                <a:lnTo>
                  <a:pt x="18" y="1060"/>
                </a:lnTo>
                <a:lnTo>
                  <a:pt x="19" y="1048"/>
                </a:lnTo>
                <a:lnTo>
                  <a:pt x="23" y="1033"/>
                </a:lnTo>
                <a:lnTo>
                  <a:pt x="25" y="1019"/>
                </a:lnTo>
                <a:lnTo>
                  <a:pt x="27" y="1002"/>
                </a:lnTo>
                <a:lnTo>
                  <a:pt x="29" y="985"/>
                </a:lnTo>
                <a:lnTo>
                  <a:pt x="33" y="966"/>
                </a:lnTo>
                <a:lnTo>
                  <a:pt x="35" y="944"/>
                </a:lnTo>
                <a:lnTo>
                  <a:pt x="39" y="923"/>
                </a:lnTo>
                <a:lnTo>
                  <a:pt x="42" y="898"/>
                </a:lnTo>
                <a:lnTo>
                  <a:pt x="44" y="873"/>
                </a:lnTo>
                <a:lnTo>
                  <a:pt x="48" y="847"/>
                </a:lnTo>
                <a:lnTo>
                  <a:pt x="52" y="818"/>
                </a:lnTo>
                <a:lnTo>
                  <a:pt x="56" y="787"/>
                </a:lnTo>
                <a:lnTo>
                  <a:pt x="58" y="756"/>
                </a:lnTo>
                <a:lnTo>
                  <a:pt x="62" y="722"/>
                </a:lnTo>
                <a:lnTo>
                  <a:pt x="66" y="687"/>
                </a:lnTo>
                <a:lnTo>
                  <a:pt x="67" y="651"/>
                </a:lnTo>
                <a:lnTo>
                  <a:pt x="71" y="612"/>
                </a:lnTo>
                <a:lnTo>
                  <a:pt x="73" y="574"/>
                </a:lnTo>
                <a:lnTo>
                  <a:pt x="75" y="534"/>
                </a:lnTo>
                <a:lnTo>
                  <a:pt x="77" y="495"/>
                </a:lnTo>
                <a:lnTo>
                  <a:pt x="79" y="459"/>
                </a:lnTo>
                <a:lnTo>
                  <a:pt x="81" y="424"/>
                </a:lnTo>
                <a:lnTo>
                  <a:pt x="83" y="392"/>
                </a:lnTo>
                <a:lnTo>
                  <a:pt x="85" y="359"/>
                </a:lnTo>
                <a:lnTo>
                  <a:pt x="87" y="330"/>
                </a:lnTo>
                <a:lnTo>
                  <a:pt x="89" y="301"/>
                </a:lnTo>
                <a:lnTo>
                  <a:pt x="90" y="275"/>
                </a:lnTo>
                <a:lnTo>
                  <a:pt x="92" y="250"/>
                </a:lnTo>
                <a:lnTo>
                  <a:pt x="94" y="228"/>
                </a:lnTo>
                <a:lnTo>
                  <a:pt x="94" y="207"/>
                </a:lnTo>
                <a:lnTo>
                  <a:pt x="96" y="188"/>
                </a:lnTo>
                <a:lnTo>
                  <a:pt x="96" y="171"/>
                </a:lnTo>
                <a:lnTo>
                  <a:pt x="96" y="156"/>
                </a:lnTo>
                <a:lnTo>
                  <a:pt x="96" y="14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38"/>
          <p:cNvSpPr/>
          <p:nvPr/>
        </p:nvSpPr>
        <p:spPr>
          <a:xfrm>
            <a:off x="5845320" y="4106880"/>
            <a:ext cx="199800" cy="85680"/>
          </a:xfrm>
          <a:custGeom>
            <a:avLst/>
            <a:gdLst/>
            <a:ahLst/>
            <a:rect l="l" t="t" r="r" b="b"/>
            <a:pathLst>
              <a:path w="252" h="107">
                <a:moveTo>
                  <a:pt x="0" y="0"/>
                </a:moveTo>
                <a:lnTo>
                  <a:pt x="16" y="0"/>
                </a:lnTo>
                <a:lnTo>
                  <a:pt x="31" y="0"/>
                </a:lnTo>
                <a:lnTo>
                  <a:pt x="46" y="0"/>
                </a:lnTo>
                <a:lnTo>
                  <a:pt x="60" y="0"/>
                </a:lnTo>
                <a:lnTo>
                  <a:pt x="73" y="2"/>
                </a:lnTo>
                <a:lnTo>
                  <a:pt x="87" y="2"/>
                </a:lnTo>
                <a:lnTo>
                  <a:pt x="98" y="2"/>
                </a:lnTo>
                <a:lnTo>
                  <a:pt x="112" y="2"/>
                </a:lnTo>
                <a:lnTo>
                  <a:pt x="123" y="4"/>
                </a:lnTo>
                <a:lnTo>
                  <a:pt x="133" y="4"/>
                </a:lnTo>
                <a:lnTo>
                  <a:pt x="144" y="4"/>
                </a:lnTo>
                <a:lnTo>
                  <a:pt x="154" y="6"/>
                </a:lnTo>
                <a:lnTo>
                  <a:pt x="163" y="6"/>
                </a:lnTo>
                <a:lnTo>
                  <a:pt x="173" y="6"/>
                </a:lnTo>
                <a:lnTo>
                  <a:pt x="181" y="7"/>
                </a:lnTo>
                <a:lnTo>
                  <a:pt x="190" y="7"/>
                </a:lnTo>
                <a:lnTo>
                  <a:pt x="198" y="9"/>
                </a:lnTo>
                <a:lnTo>
                  <a:pt x="204" y="9"/>
                </a:lnTo>
                <a:lnTo>
                  <a:pt x="211" y="11"/>
                </a:lnTo>
                <a:lnTo>
                  <a:pt x="217" y="13"/>
                </a:lnTo>
                <a:lnTo>
                  <a:pt x="223" y="13"/>
                </a:lnTo>
                <a:lnTo>
                  <a:pt x="229" y="15"/>
                </a:lnTo>
                <a:lnTo>
                  <a:pt x="232" y="15"/>
                </a:lnTo>
                <a:lnTo>
                  <a:pt x="236" y="17"/>
                </a:lnTo>
                <a:lnTo>
                  <a:pt x="240" y="19"/>
                </a:lnTo>
                <a:lnTo>
                  <a:pt x="244" y="19"/>
                </a:lnTo>
                <a:lnTo>
                  <a:pt x="246" y="21"/>
                </a:lnTo>
                <a:lnTo>
                  <a:pt x="248" y="21"/>
                </a:lnTo>
                <a:lnTo>
                  <a:pt x="250" y="23"/>
                </a:lnTo>
                <a:lnTo>
                  <a:pt x="252" y="25"/>
                </a:lnTo>
                <a:lnTo>
                  <a:pt x="252" y="27"/>
                </a:lnTo>
                <a:lnTo>
                  <a:pt x="252" y="36"/>
                </a:lnTo>
                <a:lnTo>
                  <a:pt x="250" y="44"/>
                </a:lnTo>
                <a:lnTo>
                  <a:pt x="246" y="52"/>
                </a:lnTo>
                <a:lnTo>
                  <a:pt x="242" y="59"/>
                </a:lnTo>
                <a:lnTo>
                  <a:pt x="234" y="65"/>
                </a:lnTo>
                <a:lnTo>
                  <a:pt x="231" y="67"/>
                </a:lnTo>
                <a:lnTo>
                  <a:pt x="227" y="71"/>
                </a:lnTo>
                <a:lnTo>
                  <a:pt x="223" y="73"/>
                </a:lnTo>
                <a:lnTo>
                  <a:pt x="217" y="75"/>
                </a:lnTo>
                <a:lnTo>
                  <a:pt x="211" y="78"/>
                </a:lnTo>
                <a:lnTo>
                  <a:pt x="206" y="80"/>
                </a:lnTo>
                <a:lnTo>
                  <a:pt x="198" y="82"/>
                </a:lnTo>
                <a:lnTo>
                  <a:pt x="190" y="86"/>
                </a:lnTo>
                <a:lnTo>
                  <a:pt x="183" y="88"/>
                </a:lnTo>
                <a:lnTo>
                  <a:pt x="173" y="90"/>
                </a:lnTo>
                <a:lnTo>
                  <a:pt x="163" y="94"/>
                </a:lnTo>
                <a:lnTo>
                  <a:pt x="152" y="96"/>
                </a:lnTo>
                <a:lnTo>
                  <a:pt x="142" y="98"/>
                </a:lnTo>
                <a:lnTo>
                  <a:pt x="129" y="100"/>
                </a:lnTo>
                <a:lnTo>
                  <a:pt x="117" y="101"/>
                </a:lnTo>
                <a:lnTo>
                  <a:pt x="104" y="103"/>
                </a:lnTo>
                <a:lnTo>
                  <a:pt x="88" y="103"/>
                </a:lnTo>
                <a:lnTo>
                  <a:pt x="73" y="105"/>
                </a:lnTo>
                <a:lnTo>
                  <a:pt x="56" y="107"/>
                </a:lnTo>
                <a:lnTo>
                  <a:pt x="39" y="107"/>
                </a:lnTo>
                <a:lnTo>
                  <a:pt x="21" y="107"/>
                </a:lnTo>
                <a:lnTo>
                  <a:pt x="0" y="10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39"/>
          <p:cNvSpPr/>
          <p:nvPr/>
        </p:nvSpPr>
        <p:spPr>
          <a:xfrm>
            <a:off x="5818320" y="4363920"/>
            <a:ext cx="226800" cy="96840"/>
          </a:xfrm>
          <a:custGeom>
            <a:avLst/>
            <a:gdLst/>
            <a:ahLst/>
            <a:rect l="l" t="t" r="r" b="b"/>
            <a:pathLst>
              <a:path w="286" h="121">
                <a:moveTo>
                  <a:pt x="0" y="40"/>
                </a:moveTo>
                <a:lnTo>
                  <a:pt x="13" y="39"/>
                </a:lnTo>
                <a:lnTo>
                  <a:pt x="27" y="39"/>
                </a:lnTo>
                <a:lnTo>
                  <a:pt x="40" y="35"/>
                </a:lnTo>
                <a:lnTo>
                  <a:pt x="53" y="31"/>
                </a:lnTo>
                <a:lnTo>
                  <a:pt x="67" y="27"/>
                </a:lnTo>
                <a:lnTo>
                  <a:pt x="80" y="23"/>
                </a:lnTo>
                <a:lnTo>
                  <a:pt x="107" y="14"/>
                </a:lnTo>
                <a:lnTo>
                  <a:pt x="121" y="8"/>
                </a:lnTo>
                <a:lnTo>
                  <a:pt x="132" y="6"/>
                </a:lnTo>
                <a:lnTo>
                  <a:pt x="142" y="2"/>
                </a:lnTo>
                <a:lnTo>
                  <a:pt x="151" y="2"/>
                </a:lnTo>
                <a:lnTo>
                  <a:pt x="161" y="0"/>
                </a:lnTo>
                <a:lnTo>
                  <a:pt x="167" y="0"/>
                </a:lnTo>
                <a:lnTo>
                  <a:pt x="174" y="0"/>
                </a:lnTo>
                <a:lnTo>
                  <a:pt x="178" y="0"/>
                </a:lnTo>
                <a:lnTo>
                  <a:pt x="184" y="0"/>
                </a:lnTo>
                <a:lnTo>
                  <a:pt x="188" y="0"/>
                </a:lnTo>
                <a:lnTo>
                  <a:pt x="194" y="0"/>
                </a:lnTo>
                <a:lnTo>
                  <a:pt x="199" y="2"/>
                </a:lnTo>
                <a:lnTo>
                  <a:pt x="207" y="2"/>
                </a:lnTo>
                <a:lnTo>
                  <a:pt x="217" y="6"/>
                </a:lnTo>
                <a:lnTo>
                  <a:pt x="220" y="6"/>
                </a:lnTo>
                <a:lnTo>
                  <a:pt x="226" y="8"/>
                </a:lnTo>
                <a:lnTo>
                  <a:pt x="232" y="10"/>
                </a:lnTo>
                <a:lnTo>
                  <a:pt x="240" y="14"/>
                </a:lnTo>
                <a:lnTo>
                  <a:pt x="245" y="16"/>
                </a:lnTo>
                <a:lnTo>
                  <a:pt x="251" y="17"/>
                </a:lnTo>
                <a:lnTo>
                  <a:pt x="257" y="21"/>
                </a:lnTo>
                <a:lnTo>
                  <a:pt x="261" y="23"/>
                </a:lnTo>
                <a:lnTo>
                  <a:pt x="265" y="25"/>
                </a:lnTo>
                <a:lnTo>
                  <a:pt x="268" y="29"/>
                </a:lnTo>
                <a:lnTo>
                  <a:pt x="276" y="33"/>
                </a:lnTo>
                <a:lnTo>
                  <a:pt x="280" y="39"/>
                </a:lnTo>
                <a:lnTo>
                  <a:pt x="284" y="44"/>
                </a:lnTo>
                <a:lnTo>
                  <a:pt x="286" y="48"/>
                </a:lnTo>
                <a:lnTo>
                  <a:pt x="286" y="54"/>
                </a:lnTo>
                <a:lnTo>
                  <a:pt x="286" y="58"/>
                </a:lnTo>
                <a:lnTo>
                  <a:pt x="284" y="63"/>
                </a:lnTo>
                <a:lnTo>
                  <a:pt x="280" y="69"/>
                </a:lnTo>
                <a:lnTo>
                  <a:pt x="276" y="73"/>
                </a:lnTo>
                <a:lnTo>
                  <a:pt x="268" y="79"/>
                </a:lnTo>
                <a:lnTo>
                  <a:pt x="265" y="81"/>
                </a:lnTo>
                <a:lnTo>
                  <a:pt x="261" y="85"/>
                </a:lnTo>
                <a:lnTo>
                  <a:pt x="257" y="87"/>
                </a:lnTo>
                <a:lnTo>
                  <a:pt x="251" y="88"/>
                </a:lnTo>
                <a:lnTo>
                  <a:pt x="245" y="92"/>
                </a:lnTo>
                <a:lnTo>
                  <a:pt x="240" y="94"/>
                </a:lnTo>
                <a:lnTo>
                  <a:pt x="232" y="96"/>
                </a:lnTo>
                <a:lnTo>
                  <a:pt x="224" y="100"/>
                </a:lnTo>
                <a:lnTo>
                  <a:pt x="215" y="102"/>
                </a:lnTo>
                <a:lnTo>
                  <a:pt x="205" y="104"/>
                </a:lnTo>
                <a:lnTo>
                  <a:pt x="194" y="106"/>
                </a:lnTo>
                <a:lnTo>
                  <a:pt x="182" y="110"/>
                </a:lnTo>
                <a:lnTo>
                  <a:pt x="169" y="111"/>
                </a:lnTo>
                <a:lnTo>
                  <a:pt x="155" y="113"/>
                </a:lnTo>
                <a:lnTo>
                  <a:pt x="140" y="115"/>
                </a:lnTo>
                <a:lnTo>
                  <a:pt x="122" y="115"/>
                </a:lnTo>
                <a:lnTo>
                  <a:pt x="105" y="117"/>
                </a:lnTo>
                <a:lnTo>
                  <a:pt x="86" y="119"/>
                </a:lnTo>
                <a:lnTo>
                  <a:pt x="67" y="119"/>
                </a:lnTo>
                <a:lnTo>
                  <a:pt x="46" y="121"/>
                </a:lnTo>
                <a:lnTo>
                  <a:pt x="23" y="121"/>
                </a:lnTo>
                <a:lnTo>
                  <a:pt x="0" y="121"/>
                </a:lnTo>
                <a:lnTo>
                  <a:pt x="0" y="81"/>
                </a:lnTo>
                <a:lnTo>
                  <a:pt x="0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40"/>
          <p:cNvSpPr/>
          <p:nvPr/>
        </p:nvSpPr>
        <p:spPr>
          <a:xfrm>
            <a:off x="5665680" y="3506760"/>
            <a:ext cx="836640" cy="312840"/>
          </a:xfrm>
          <a:custGeom>
            <a:avLst/>
            <a:gdLst/>
            <a:ahLst/>
            <a:rect l="l" t="t" r="r" b="b"/>
            <a:pathLst>
              <a:path w="1053" h="396">
                <a:moveTo>
                  <a:pt x="875" y="325"/>
                </a:moveTo>
                <a:lnTo>
                  <a:pt x="865" y="334"/>
                </a:lnTo>
                <a:lnTo>
                  <a:pt x="858" y="344"/>
                </a:lnTo>
                <a:lnTo>
                  <a:pt x="850" y="352"/>
                </a:lnTo>
                <a:lnTo>
                  <a:pt x="842" y="359"/>
                </a:lnTo>
                <a:lnTo>
                  <a:pt x="837" y="367"/>
                </a:lnTo>
                <a:lnTo>
                  <a:pt x="829" y="373"/>
                </a:lnTo>
                <a:lnTo>
                  <a:pt x="823" y="379"/>
                </a:lnTo>
                <a:lnTo>
                  <a:pt x="819" y="384"/>
                </a:lnTo>
                <a:lnTo>
                  <a:pt x="814" y="388"/>
                </a:lnTo>
                <a:lnTo>
                  <a:pt x="810" y="390"/>
                </a:lnTo>
                <a:lnTo>
                  <a:pt x="806" y="394"/>
                </a:lnTo>
                <a:lnTo>
                  <a:pt x="802" y="394"/>
                </a:lnTo>
                <a:lnTo>
                  <a:pt x="798" y="396"/>
                </a:lnTo>
                <a:lnTo>
                  <a:pt x="794" y="396"/>
                </a:lnTo>
                <a:lnTo>
                  <a:pt x="792" y="394"/>
                </a:lnTo>
                <a:lnTo>
                  <a:pt x="791" y="392"/>
                </a:lnTo>
                <a:lnTo>
                  <a:pt x="787" y="386"/>
                </a:lnTo>
                <a:lnTo>
                  <a:pt x="783" y="379"/>
                </a:lnTo>
                <a:lnTo>
                  <a:pt x="783" y="375"/>
                </a:lnTo>
                <a:lnTo>
                  <a:pt x="783" y="369"/>
                </a:lnTo>
                <a:lnTo>
                  <a:pt x="783" y="365"/>
                </a:lnTo>
                <a:lnTo>
                  <a:pt x="783" y="358"/>
                </a:lnTo>
                <a:lnTo>
                  <a:pt x="783" y="352"/>
                </a:lnTo>
                <a:lnTo>
                  <a:pt x="785" y="344"/>
                </a:lnTo>
                <a:lnTo>
                  <a:pt x="787" y="336"/>
                </a:lnTo>
                <a:lnTo>
                  <a:pt x="789" y="327"/>
                </a:lnTo>
                <a:lnTo>
                  <a:pt x="791" y="317"/>
                </a:lnTo>
                <a:lnTo>
                  <a:pt x="794" y="308"/>
                </a:lnTo>
                <a:lnTo>
                  <a:pt x="798" y="296"/>
                </a:lnTo>
                <a:lnTo>
                  <a:pt x="802" y="285"/>
                </a:lnTo>
                <a:lnTo>
                  <a:pt x="804" y="271"/>
                </a:lnTo>
                <a:lnTo>
                  <a:pt x="806" y="262"/>
                </a:lnTo>
                <a:lnTo>
                  <a:pt x="808" y="250"/>
                </a:lnTo>
                <a:lnTo>
                  <a:pt x="812" y="240"/>
                </a:lnTo>
                <a:lnTo>
                  <a:pt x="812" y="233"/>
                </a:lnTo>
                <a:lnTo>
                  <a:pt x="814" y="223"/>
                </a:lnTo>
                <a:lnTo>
                  <a:pt x="815" y="217"/>
                </a:lnTo>
                <a:lnTo>
                  <a:pt x="817" y="210"/>
                </a:lnTo>
                <a:lnTo>
                  <a:pt x="817" y="204"/>
                </a:lnTo>
                <a:lnTo>
                  <a:pt x="819" y="198"/>
                </a:lnTo>
                <a:lnTo>
                  <a:pt x="819" y="194"/>
                </a:lnTo>
                <a:lnTo>
                  <a:pt x="819" y="189"/>
                </a:lnTo>
                <a:lnTo>
                  <a:pt x="819" y="185"/>
                </a:lnTo>
                <a:lnTo>
                  <a:pt x="817" y="183"/>
                </a:lnTo>
                <a:lnTo>
                  <a:pt x="815" y="179"/>
                </a:lnTo>
                <a:lnTo>
                  <a:pt x="814" y="177"/>
                </a:lnTo>
                <a:lnTo>
                  <a:pt x="810" y="171"/>
                </a:lnTo>
                <a:lnTo>
                  <a:pt x="804" y="167"/>
                </a:lnTo>
                <a:lnTo>
                  <a:pt x="800" y="166"/>
                </a:lnTo>
                <a:lnTo>
                  <a:pt x="792" y="164"/>
                </a:lnTo>
                <a:lnTo>
                  <a:pt x="787" y="164"/>
                </a:lnTo>
                <a:lnTo>
                  <a:pt x="777" y="164"/>
                </a:lnTo>
                <a:lnTo>
                  <a:pt x="771" y="164"/>
                </a:lnTo>
                <a:lnTo>
                  <a:pt x="766" y="164"/>
                </a:lnTo>
                <a:lnTo>
                  <a:pt x="760" y="164"/>
                </a:lnTo>
                <a:lnTo>
                  <a:pt x="754" y="164"/>
                </a:lnTo>
                <a:lnTo>
                  <a:pt x="746" y="164"/>
                </a:lnTo>
                <a:lnTo>
                  <a:pt x="737" y="164"/>
                </a:lnTo>
                <a:lnTo>
                  <a:pt x="725" y="166"/>
                </a:lnTo>
                <a:lnTo>
                  <a:pt x="714" y="167"/>
                </a:lnTo>
                <a:lnTo>
                  <a:pt x="698" y="169"/>
                </a:lnTo>
                <a:lnTo>
                  <a:pt x="683" y="173"/>
                </a:lnTo>
                <a:lnTo>
                  <a:pt x="664" y="177"/>
                </a:lnTo>
                <a:lnTo>
                  <a:pt x="645" y="181"/>
                </a:lnTo>
                <a:lnTo>
                  <a:pt x="624" y="185"/>
                </a:lnTo>
                <a:lnTo>
                  <a:pt x="599" y="191"/>
                </a:lnTo>
                <a:lnTo>
                  <a:pt x="574" y="196"/>
                </a:lnTo>
                <a:lnTo>
                  <a:pt x="547" y="202"/>
                </a:lnTo>
                <a:lnTo>
                  <a:pt x="518" y="208"/>
                </a:lnTo>
                <a:lnTo>
                  <a:pt x="503" y="212"/>
                </a:lnTo>
                <a:lnTo>
                  <a:pt x="487" y="215"/>
                </a:lnTo>
                <a:lnTo>
                  <a:pt x="470" y="219"/>
                </a:lnTo>
                <a:lnTo>
                  <a:pt x="453" y="223"/>
                </a:lnTo>
                <a:lnTo>
                  <a:pt x="435" y="227"/>
                </a:lnTo>
                <a:lnTo>
                  <a:pt x="418" y="231"/>
                </a:lnTo>
                <a:lnTo>
                  <a:pt x="384" y="237"/>
                </a:lnTo>
                <a:lnTo>
                  <a:pt x="349" y="244"/>
                </a:lnTo>
                <a:lnTo>
                  <a:pt x="316" y="252"/>
                </a:lnTo>
                <a:lnTo>
                  <a:pt x="284" y="258"/>
                </a:lnTo>
                <a:lnTo>
                  <a:pt x="253" y="263"/>
                </a:lnTo>
                <a:lnTo>
                  <a:pt x="224" y="269"/>
                </a:lnTo>
                <a:lnTo>
                  <a:pt x="195" y="275"/>
                </a:lnTo>
                <a:lnTo>
                  <a:pt x="169" y="279"/>
                </a:lnTo>
                <a:lnTo>
                  <a:pt x="142" y="283"/>
                </a:lnTo>
                <a:lnTo>
                  <a:pt x="119" y="286"/>
                </a:lnTo>
                <a:lnTo>
                  <a:pt x="96" y="290"/>
                </a:lnTo>
                <a:lnTo>
                  <a:pt x="73" y="292"/>
                </a:lnTo>
                <a:lnTo>
                  <a:pt x="52" y="294"/>
                </a:lnTo>
                <a:lnTo>
                  <a:pt x="32" y="296"/>
                </a:lnTo>
                <a:lnTo>
                  <a:pt x="15" y="298"/>
                </a:lnTo>
                <a:lnTo>
                  <a:pt x="0" y="298"/>
                </a:lnTo>
                <a:lnTo>
                  <a:pt x="0" y="258"/>
                </a:lnTo>
                <a:lnTo>
                  <a:pt x="0" y="217"/>
                </a:lnTo>
                <a:lnTo>
                  <a:pt x="15" y="215"/>
                </a:lnTo>
                <a:lnTo>
                  <a:pt x="32" y="215"/>
                </a:lnTo>
                <a:lnTo>
                  <a:pt x="50" y="215"/>
                </a:lnTo>
                <a:lnTo>
                  <a:pt x="69" y="214"/>
                </a:lnTo>
                <a:lnTo>
                  <a:pt x="88" y="212"/>
                </a:lnTo>
                <a:lnTo>
                  <a:pt x="109" y="210"/>
                </a:lnTo>
                <a:lnTo>
                  <a:pt x="130" y="208"/>
                </a:lnTo>
                <a:lnTo>
                  <a:pt x="151" y="206"/>
                </a:lnTo>
                <a:lnTo>
                  <a:pt x="174" y="202"/>
                </a:lnTo>
                <a:lnTo>
                  <a:pt x="199" y="198"/>
                </a:lnTo>
                <a:lnTo>
                  <a:pt x="222" y="194"/>
                </a:lnTo>
                <a:lnTo>
                  <a:pt x="249" y="189"/>
                </a:lnTo>
                <a:lnTo>
                  <a:pt x="274" y="183"/>
                </a:lnTo>
                <a:lnTo>
                  <a:pt x="301" y="177"/>
                </a:lnTo>
                <a:lnTo>
                  <a:pt x="330" y="169"/>
                </a:lnTo>
                <a:lnTo>
                  <a:pt x="359" y="164"/>
                </a:lnTo>
                <a:lnTo>
                  <a:pt x="386" y="156"/>
                </a:lnTo>
                <a:lnTo>
                  <a:pt x="410" y="148"/>
                </a:lnTo>
                <a:lnTo>
                  <a:pt x="435" y="141"/>
                </a:lnTo>
                <a:lnTo>
                  <a:pt x="460" y="135"/>
                </a:lnTo>
                <a:lnTo>
                  <a:pt x="481" y="129"/>
                </a:lnTo>
                <a:lnTo>
                  <a:pt x="505" y="123"/>
                </a:lnTo>
                <a:lnTo>
                  <a:pt x="526" y="118"/>
                </a:lnTo>
                <a:lnTo>
                  <a:pt x="545" y="112"/>
                </a:lnTo>
                <a:lnTo>
                  <a:pt x="564" y="106"/>
                </a:lnTo>
                <a:lnTo>
                  <a:pt x="583" y="102"/>
                </a:lnTo>
                <a:lnTo>
                  <a:pt x="601" y="98"/>
                </a:lnTo>
                <a:lnTo>
                  <a:pt x="616" y="95"/>
                </a:lnTo>
                <a:lnTo>
                  <a:pt x="631" y="91"/>
                </a:lnTo>
                <a:lnTo>
                  <a:pt x="645" y="87"/>
                </a:lnTo>
                <a:lnTo>
                  <a:pt x="658" y="85"/>
                </a:lnTo>
                <a:lnTo>
                  <a:pt x="670" y="81"/>
                </a:lnTo>
                <a:lnTo>
                  <a:pt x="693" y="75"/>
                </a:lnTo>
                <a:lnTo>
                  <a:pt x="712" y="70"/>
                </a:lnTo>
                <a:lnTo>
                  <a:pt x="731" y="62"/>
                </a:lnTo>
                <a:lnTo>
                  <a:pt x="750" y="54"/>
                </a:lnTo>
                <a:lnTo>
                  <a:pt x="766" y="47"/>
                </a:lnTo>
                <a:lnTo>
                  <a:pt x="773" y="43"/>
                </a:lnTo>
                <a:lnTo>
                  <a:pt x="779" y="39"/>
                </a:lnTo>
                <a:lnTo>
                  <a:pt x="787" y="37"/>
                </a:lnTo>
                <a:lnTo>
                  <a:pt x="792" y="33"/>
                </a:lnTo>
                <a:lnTo>
                  <a:pt x="798" y="29"/>
                </a:lnTo>
                <a:lnTo>
                  <a:pt x="802" y="27"/>
                </a:lnTo>
                <a:lnTo>
                  <a:pt x="808" y="22"/>
                </a:lnTo>
                <a:lnTo>
                  <a:pt x="814" y="18"/>
                </a:lnTo>
                <a:lnTo>
                  <a:pt x="819" y="14"/>
                </a:lnTo>
                <a:lnTo>
                  <a:pt x="827" y="8"/>
                </a:lnTo>
                <a:lnTo>
                  <a:pt x="837" y="6"/>
                </a:lnTo>
                <a:lnTo>
                  <a:pt x="844" y="2"/>
                </a:lnTo>
                <a:lnTo>
                  <a:pt x="854" y="0"/>
                </a:lnTo>
                <a:lnTo>
                  <a:pt x="862" y="0"/>
                </a:lnTo>
                <a:lnTo>
                  <a:pt x="865" y="2"/>
                </a:lnTo>
                <a:lnTo>
                  <a:pt x="867" y="6"/>
                </a:lnTo>
                <a:lnTo>
                  <a:pt x="871" y="10"/>
                </a:lnTo>
                <a:lnTo>
                  <a:pt x="875" y="14"/>
                </a:lnTo>
                <a:lnTo>
                  <a:pt x="881" y="18"/>
                </a:lnTo>
                <a:lnTo>
                  <a:pt x="887" y="22"/>
                </a:lnTo>
                <a:lnTo>
                  <a:pt x="892" y="25"/>
                </a:lnTo>
                <a:lnTo>
                  <a:pt x="898" y="31"/>
                </a:lnTo>
                <a:lnTo>
                  <a:pt x="906" y="35"/>
                </a:lnTo>
                <a:lnTo>
                  <a:pt x="913" y="41"/>
                </a:lnTo>
                <a:lnTo>
                  <a:pt x="921" y="47"/>
                </a:lnTo>
                <a:lnTo>
                  <a:pt x="931" y="54"/>
                </a:lnTo>
                <a:lnTo>
                  <a:pt x="938" y="60"/>
                </a:lnTo>
                <a:lnTo>
                  <a:pt x="948" y="68"/>
                </a:lnTo>
                <a:lnTo>
                  <a:pt x="959" y="73"/>
                </a:lnTo>
                <a:lnTo>
                  <a:pt x="971" y="81"/>
                </a:lnTo>
                <a:lnTo>
                  <a:pt x="981" y="89"/>
                </a:lnTo>
                <a:lnTo>
                  <a:pt x="990" y="96"/>
                </a:lnTo>
                <a:lnTo>
                  <a:pt x="1000" y="104"/>
                </a:lnTo>
                <a:lnTo>
                  <a:pt x="1007" y="112"/>
                </a:lnTo>
                <a:lnTo>
                  <a:pt x="1015" y="120"/>
                </a:lnTo>
                <a:lnTo>
                  <a:pt x="1023" y="125"/>
                </a:lnTo>
                <a:lnTo>
                  <a:pt x="1029" y="133"/>
                </a:lnTo>
                <a:lnTo>
                  <a:pt x="1034" y="139"/>
                </a:lnTo>
                <a:lnTo>
                  <a:pt x="1038" y="144"/>
                </a:lnTo>
                <a:lnTo>
                  <a:pt x="1044" y="150"/>
                </a:lnTo>
                <a:lnTo>
                  <a:pt x="1046" y="156"/>
                </a:lnTo>
                <a:lnTo>
                  <a:pt x="1050" y="162"/>
                </a:lnTo>
                <a:lnTo>
                  <a:pt x="1052" y="166"/>
                </a:lnTo>
                <a:lnTo>
                  <a:pt x="1053" y="169"/>
                </a:lnTo>
                <a:lnTo>
                  <a:pt x="1053" y="173"/>
                </a:lnTo>
                <a:lnTo>
                  <a:pt x="1053" y="177"/>
                </a:lnTo>
                <a:lnTo>
                  <a:pt x="1053" y="185"/>
                </a:lnTo>
                <a:lnTo>
                  <a:pt x="1052" y="194"/>
                </a:lnTo>
                <a:lnTo>
                  <a:pt x="1048" y="200"/>
                </a:lnTo>
                <a:lnTo>
                  <a:pt x="1044" y="206"/>
                </a:lnTo>
                <a:lnTo>
                  <a:pt x="1036" y="212"/>
                </a:lnTo>
                <a:lnTo>
                  <a:pt x="1032" y="212"/>
                </a:lnTo>
                <a:lnTo>
                  <a:pt x="1029" y="214"/>
                </a:lnTo>
                <a:lnTo>
                  <a:pt x="1025" y="215"/>
                </a:lnTo>
                <a:lnTo>
                  <a:pt x="1019" y="215"/>
                </a:lnTo>
                <a:lnTo>
                  <a:pt x="1013" y="215"/>
                </a:lnTo>
                <a:lnTo>
                  <a:pt x="1006" y="217"/>
                </a:lnTo>
                <a:lnTo>
                  <a:pt x="992" y="223"/>
                </a:lnTo>
                <a:lnTo>
                  <a:pt x="977" y="229"/>
                </a:lnTo>
                <a:lnTo>
                  <a:pt x="969" y="235"/>
                </a:lnTo>
                <a:lnTo>
                  <a:pt x="961" y="239"/>
                </a:lnTo>
                <a:lnTo>
                  <a:pt x="952" y="244"/>
                </a:lnTo>
                <a:lnTo>
                  <a:pt x="944" y="250"/>
                </a:lnTo>
                <a:lnTo>
                  <a:pt x="936" y="258"/>
                </a:lnTo>
                <a:lnTo>
                  <a:pt x="927" y="263"/>
                </a:lnTo>
                <a:lnTo>
                  <a:pt x="919" y="273"/>
                </a:lnTo>
                <a:lnTo>
                  <a:pt x="910" y="281"/>
                </a:lnTo>
                <a:lnTo>
                  <a:pt x="900" y="290"/>
                </a:lnTo>
                <a:lnTo>
                  <a:pt x="892" y="302"/>
                </a:lnTo>
                <a:lnTo>
                  <a:pt x="883" y="311"/>
                </a:lnTo>
                <a:lnTo>
                  <a:pt x="875" y="3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41"/>
          <p:cNvSpPr/>
          <p:nvPr/>
        </p:nvSpPr>
        <p:spPr>
          <a:xfrm>
            <a:off x="5516640" y="3624120"/>
            <a:ext cx="187200" cy="482760"/>
          </a:xfrm>
          <a:custGeom>
            <a:avLst/>
            <a:gdLst/>
            <a:ahLst/>
            <a:rect l="l" t="t" r="r" b="b"/>
            <a:pathLst>
              <a:path w="236" h="609">
                <a:moveTo>
                  <a:pt x="163" y="0"/>
                </a:moveTo>
                <a:lnTo>
                  <a:pt x="169" y="6"/>
                </a:lnTo>
                <a:lnTo>
                  <a:pt x="176" y="12"/>
                </a:lnTo>
                <a:lnTo>
                  <a:pt x="182" y="19"/>
                </a:lnTo>
                <a:lnTo>
                  <a:pt x="188" y="27"/>
                </a:lnTo>
                <a:lnTo>
                  <a:pt x="193" y="35"/>
                </a:lnTo>
                <a:lnTo>
                  <a:pt x="199" y="43"/>
                </a:lnTo>
                <a:lnTo>
                  <a:pt x="203" y="52"/>
                </a:lnTo>
                <a:lnTo>
                  <a:pt x="209" y="62"/>
                </a:lnTo>
                <a:lnTo>
                  <a:pt x="213" y="71"/>
                </a:lnTo>
                <a:lnTo>
                  <a:pt x="216" y="83"/>
                </a:lnTo>
                <a:lnTo>
                  <a:pt x="220" y="94"/>
                </a:lnTo>
                <a:lnTo>
                  <a:pt x="224" y="108"/>
                </a:lnTo>
                <a:lnTo>
                  <a:pt x="226" y="121"/>
                </a:lnTo>
                <a:lnTo>
                  <a:pt x="230" y="135"/>
                </a:lnTo>
                <a:lnTo>
                  <a:pt x="232" y="148"/>
                </a:lnTo>
                <a:lnTo>
                  <a:pt x="236" y="163"/>
                </a:lnTo>
                <a:lnTo>
                  <a:pt x="234" y="179"/>
                </a:lnTo>
                <a:lnTo>
                  <a:pt x="234" y="194"/>
                </a:lnTo>
                <a:lnTo>
                  <a:pt x="232" y="210"/>
                </a:lnTo>
                <a:lnTo>
                  <a:pt x="230" y="227"/>
                </a:lnTo>
                <a:lnTo>
                  <a:pt x="228" y="242"/>
                </a:lnTo>
                <a:lnTo>
                  <a:pt x="226" y="259"/>
                </a:lnTo>
                <a:lnTo>
                  <a:pt x="218" y="294"/>
                </a:lnTo>
                <a:lnTo>
                  <a:pt x="209" y="330"/>
                </a:lnTo>
                <a:lnTo>
                  <a:pt x="199" y="369"/>
                </a:lnTo>
                <a:lnTo>
                  <a:pt x="188" y="407"/>
                </a:lnTo>
                <a:lnTo>
                  <a:pt x="174" y="448"/>
                </a:lnTo>
                <a:lnTo>
                  <a:pt x="167" y="467"/>
                </a:lnTo>
                <a:lnTo>
                  <a:pt x="157" y="484"/>
                </a:lnTo>
                <a:lnTo>
                  <a:pt x="149" y="501"/>
                </a:lnTo>
                <a:lnTo>
                  <a:pt x="142" y="519"/>
                </a:lnTo>
                <a:lnTo>
                  <a:pt x="134" y="532"/>
                </a:lnTo>
                <a:lnTo>
                  <a:pt x="126" y="545"/>
                </a:lnTo>
                <a:lnTo>
                  <a:pt x="119" y="557"/>
                </a:lnTo>
                <a:lnTo>
                  <a:pt x="113" y="568"/>
                </a:lnTo>
                <a:lnTo>
                  <a:pt x="105" y="578"/>
                </a:lnTo>
                <a:lnTo>
                  <a:pt x="99" y="586"/>
                </a:lnTo>
                <a:lnTo>
                  <a:pt x="94" y="593"/>
                </a:lnTo>
                <a:lnTo>
                  <a:pt x="88" y="599"/>
                </a:lnTo>
                <a:lnTo>
                  <a:pt x="82" y="603"/>
                </a:lnTo>
                <a:lnTo>
                  <a:pt x="76" y="607"/>
                </a:lnTo>
                <a:lnTo>
                  <a:pt x="71" y="609"/>
                </a:lnTo>
                <a:lnTo>
                  <a:pt x="67" y="609"/>
                </a:lnTo>
                <a:lnTo>
                  <a:pt x="63" y="609"/>
                </a:lnTo>
                <a:lnTo>
                  <a:pt x="57" y="607"/>
                </a:lnTo>
                <a:lnTo>
                  <a:pt x="53" y="605"/>
                </a:lnTo>
                <a:lnTo>
                  <a:pt x="50" y="603"/>
                </a:lnTo>
                <a:lnTo>
                  <a:pt x="44" y="601"/>
                </a:lnTo>
                <a:lnTo>
                  <a:pt x="40" y="597"/>
                </a:lnTo>
                <a:lnTo>
                  <a:pt x="36" y="591"/>
                </a:lnTo>
                <a:lnTo>
                  <a:pt x="32" y="588"/>
                </a:lnTo>
                <a:lnTo>
                  <a:pt x="28" y="580"/>
                </a:lnTo>
                <a:lnTo>
                  <a:pt x="25" y="574"/>
                </a:lnTo>
                <a:lnTo>
                  <a:pt x="21" y="567"/>
                </a:lnTo>
                <a:lnTo>
                  <a:pt x="19" y="557"/>
                </a:lnTo>
                <a:lnTo>
                  <a:pt x="15" y="547"/>
                </a:lnTo>
                <a:lnTo>
                  <a:pt x="11" y="538"/>
                </a:lnTo>
                <a:lnTo>
                  <a:pt x="9" y="526"/>
                </a:lnTo>
                <a:lnTo>
                  <a:pt x="7" y="515"/>
                </a:lnTo>
                <a:lnTo>
                  <a:pt x="3" y="490"/>
                </a:lnTo>
                <a:lnTo>
                  <a:pt x="2" y="467"/>
                </a:lnTo>
                <a:lnTo>
                  <a:pt x="0" y="455"/>
                </a:lnTo>
                <a:lnTo>
                  <a:pt x="0" y="444"/>
                </a:lnTo>
                <a:lnTo>
                  <a:pt x="0" y="434"/>
                </a:lnTo>
                <a:lnTo>
                  <a:pt x="2" y="423"/>
                </a:lnTo>
                <a:lnTo>
                  <a:pt x="3" y="413"/>
                </a:lnTo>
                <a:lnTo>
                  <a:pt x="5" y="403"/>
                </a:lnTo>
                <a:lnTo>
                  <a:pt x="7" y="394"/>
                </a:lnTo>
                <a:lnTo>
                  <a:pt x="11" y="384"/>
                </a:lnTo>
                <a:lnTo>
                  <a:pt x="15" y="377"/>
                </a:lnTo>
                <a:lnTo>
                  <a:pt x="19" y="369"/>
                </a:lnTo>
                <a:lnTo>
                  <a:pt x="25" y="359"/>
                </a:lnTo>
                <a:lnTo>
                  <a:pt x="30" y="352"/>
                </a:lnTo>
                <a:lnTo>
                  <a:pt x="36" y="344"/>
                </a:lnTo>
                <a:lnTo>
                  <a:pt x="42" y="332"/>
                </a:lnTo>
                <a:lnTo>
                  <a:pt x="48" y="321"/>
                </a:lnTo>
                <a:lnTo>
                  <a:pt x="53" y="307"/>
                </a:lnTo>
                <a:lnTo>
                  <a:pt x="61" y="290"/>
                </a:lnTo>
                <a:lnTo>
                  <a:pt x="67" y="273"/>
                </a:lnTo>
                <a:lnTo>
                  <a:pt x="76" y="254"/>
                </a:lnTo>
                <a:lnTo>
                  <a:pt x="84" y="233"/>
                </a:lnTo>
                <a:lnTo>
                  <a:pt x="92" y="210"/>
                </a:lnTo>
                <a:lnTo>
                  <a:pt x="101" y="185"/>
                </a:lnTo>
                <a:lnTo>
                  <a:pt x="111" y="158"/>
                </a:lnTo>
                <a:lnTo>
                  <a:pt x="121" y="131"/>
                </a:lnTo>
                <a:lnTo>
                  <a:pt x="130" y="100"/>
                </a:lnTo>
                <a:lnTo>
                  <a:pt x="142" y="69"/>
                </a:lnTo>
                <a:lnTo>
                  <a:pt x="151" y="35"/>
                </a:lnTo>
                <a:lnTo>
                  <a:pt x="163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42"/>
          <p:cNvSpPr/>
          <p:nvPr/>
        </p:nvSpPr>
        <p:spPr>
          <a:xfrm>
            <a:off x="5797440" y="2906640"/>
            <a:ext cx="581040" cy="695520"/>
          </a:xfrm>
          <a:custGeom>
            <a:avLst/>
            <a:gdLst/>
            <a:ahLst/>
            <a:rect l="l" t="t" r="r" b="b"/>
            <a:pathLst>
              <a:path w="731" h="877">
                <a:moveTo>
                  <a:pt x="731" y="150"/>
                </a:moveTo>
                <a:lnTo>
                  <a:pt x="731" y="154"/>
                </a:lnTo>
                <a:lnTo>
                  <a:pt x="729" y="161"/>
                </a:lnTo>
                <a:lnTo>
                  <a:pt x="725" y="169"/>
                </a:lnTo>
                <a:lnTo>
                  <a:pt x="721" y="177"/>
                </a:lnTo>
                <a:lnTo>
                  <a:pt x="718" y="183"/>
                </a:lnTo>
                <a:lnTo>
                  <a:pt x="710" y="190"/>
                </a:lnTo>
                <a:lnTo>
                  <a:pt x="704" y="198"/>
                </a:lnTo>
                <a:lnTo>
                  <a:pt x="695" y="204"/>
                </a:lnTo>
                <a:lnTo>
                  <a:pt x="693" y="206"/>
                </a:lnTo>
                <a:lnTo>
                  <a:pt x="691" y="208"/>
                </a:lnTo>
                <a:lnTo>
                  <a:pt x="687" y="213"/>
                </a:lnTo>
                <a:lnTo>
                  <a:pt x="685" y="217"/>
                </a:lnTo>
                <a:lnTo>
                  <a:pt x="681" y="225"/>
                </a:lnTo>
                <a:lnTo>
                  <a:pt x="677" y="232"/>
                </a:lnTo>
                <a:lnTo>
                  <a:pt x="673" y="242"/>
                </a:lnTo>
                <a:lnTo>
                  <a:pt x="670" y="254"/>
                </a:lnTo>
                <a:lnTo>
                  <a:pt x="666" y="265"/>
                </a:lnTo>
                <a:lnTo>
                  <a:pt x="662" y="279"/>
                </a:lnTo>
                <a:lnTo>
                  <a:pt x="658" y="292"/>
                </a:lnTo>
                <a:lnTo>
                  <a:pt x="652" y="309"/>
                </a:lnTo>
                <a:lnTo>
                  <a:pt x="647" y="325"/>
                </a:lnTo>
                <a:lnTo>
                  <a:pt x="643" y="344"/>
                </a:lnTo>
                <a:lnTo>
                  <a:pt x="637" y="363"/>
                </a:lnTo>
                <a:lnTo>
                  <a:pt x="631" y="384"/>
                </a:lnTo>
                <a:lnTo>
                  <a:pt x="625" y="405"/>
                </a:lnTo>
                <a:lnTo>
                  <a:pt x="620" y="428"/>
                </a:lnTo>
                <a:lnTo>
                  <a:pt x="614" y="453"/>
                </a:lnTo>
                <a:lnTo>
                  <a:pt x="606" y="478"/>
                </a:lnTo>
                <a:lnTo>
                  <a:pt x="600" y="505"/>
                </a:lnTo>
                <a:lnTo>
                  <a:pt x="593" y="532"/>
                </a:lnTo>
                <a:lnTo>
                  <a:pt x="587" y="563"/>
                </a:lnTo>
                <a:lnTo>
                  <a:pt x="579" y="591"/>
                </a:lnTo>
                <a:lnTo>
                  <a:pt x="572" y="624"/>
                </a:lnTo>
                <a:lnTo>
                  <a:pt x="564" y="657"/>
                </a:lnTo>
                <a:lnTo>
                  <a:pt x="556" y="689"/>
                </a:lnTo>
                <a:lnTo>
                  <a:pt x="549" y="726"/>
                </a:lnTo>
                <a:lnTo>
                  <a:pt x="541" y="762"/>
                </a:lnTo>
                <a:lnTo>
                  <a:pt x="533" y="799"/>
                </a:lnTo>
                <a:lnTo>
                  <a:pt x="524" y="837"/>
                </a:lnTo>
                <a:lnTo>
                  <a:pt x="516" y="877"/>
                </a:lnTo>
                <a:lnTo>
                  <a:pt x="443" y="877"/>
                </a:lnTo>
                <a:lnTo>
                  <a:pt x="447" y="847"/>
                </a:lnTo>
                <a:lnTo>
                  <a:pt x="449" y="816"/>
                </a:lnTo>
                <a:lnTo>
                  <a:pt x="453" y="787"/>
                </a:lnTo>
                <a:lnTo>
                  <a:pt x="457" y="758"/>
                </a:lnTo>
                <a:lnTo>
                  <a:pt x="458" y="730"/>
                </a:lnTo>
                <a:lnTo>
                  <a:pt x="462" y="703"/>
                </a:lnTo>
                <a:lnTo>
                  <a:pt x="464" y="676"/>
                </a:lnTo>
                <a:lnTo>
                  <a:pt x="468" y="651"/>
                </a:lnTo>
                <a:lnTo>
                  <a:pt x="470" y="626"/>
                </a:lnTo>
                <a:lnTo>
                  <a:pt x="474" y="601"/>
                </a:lnTo>
                <a:lnTo>
                  <a:pt x="476" y="578"/>
                </a:lnTo>
                <a:lnTo>
                  <a:pt x="478" y="555"/>
                </a:lnTo>
                <a:lnTo>
                  <a:pt x="481" y="534"/>
                </a:lnTo>
                <a:lnTo>
                  <a:pt x="483" y="513"/>
                </a:lnTo>
                <a:lnTo>
                  <a:pt x="485" y="492"/>
                </a:lnTo>
                <a:lnTo>
                  <a:pt x="487" y="472"/>
                </a:lnTo>
                <a:lnTo>
                  <a:pt x="491" y="455"/>
                </a:lnTo>
                <a:lnTo>
                  <a:pt x="493" y="436"/>
                </a:lnTo>
                <a:lnTo>
                  <a:pt x="495" y="421"/>
                </a:lnTo>
                <a:lnTo>
                  <a:pt x="497" y="403"/>
                </a:lnTo>
                <a:lnTo>
                  <a:pt x="499" y="388"/>
                </a:lnTo>
                <a:lnTo>
                  <a:pt x="501" y="373"/>
                </a:lnTo>
                <a:lnTo>
                  <a:pt x="503" y="359"/>
                </a:lnTo>
                <a:lnTo>
                  <a:pt x="505" y="346"/>
                </a:lnTo>
                <a:lnTo>
                  <a:pt x="506" y="334"/>
                </a:lnTo>
                <a:lnTo>
                  <a:pt x="506" y="323"/>
                </a:lnTo>
                <a:lnTo>
                  <a:pt x="508" y="311"/>
                </a:lnTo>
                <a:lnTo>
                  <a:pt x="510" y="302"/>
                </a:lnTo>
                <a:lnTo>
                  <a:pt x="512" y="294"/>
                </a:lnTo>
                <a:lnTo>
                  <a:pt x="512" y="284"/>
                </a:lnTo>
                <a:lnTo>
                  <a:pt x="514" y="277"/>
                </a:lnTo>
                <a:lnTo>
                  <a:pt x="516" y="271"/>
                </a:lnTo>
                <a:lnTo>
                  <a:pt x="516" y="252"/>
                </a:lnTo>
                <a:lnTo>
                  <a:pt x="514" y="232"/>
                </a:lnTo>
                <a:lnTo>
                  <a:pt x="514" y="217"/>
                </a:lnTo>
                <a:lnTo>
                  <a:pt x="514" y="202"/>
                </a:lnTo>
                <a:lnTo>
                  <a:pt x="512" y="194"/>
                </a:lnTo>
                <a:lnTo>
                  <a:pt x="512" y="188"/>
                </a:lnTo>
                <a:lnTo>
                  <a:pt x="510" y="183"/>
                </a:lnTo>
                <a:lnTo>
                  <a:pt x="510" y="177"/>
                </a:lnTo>
                <a:lnTo>
                  <a:pt x="508" y="173"/>
                </a:lnTo>
                <a:lnTo>
                  <a:pt x="506" y="169"/>
                </a:lnTo>
                <a:lnTo>
                  <a:pt x="505" y="165"/>
                </a:lnTo>
                <a:lnTo>
                  <a:pt x="503" y="163"/>
                </a:lnTo>
                <a:lnTo>
                  <a:pt x="501" y="160"/>
                </a:lnTo>
                <a:lnTo>
                  <a:pt x="495" y="160"/>
                </a:lnTo>
                <a:lnTo>
                  <a:pt x="489" y="158"/>
                </a:lnTo>
                <a:lnTo>
                  <a:pt x="483" y="158"/>
                </a:lnTo>
                <a:lnTo>
                  <a:pt x="474" y="158"/>
                </a:lnTo>
                <a:lnTo>
                  <a:pt x="464" y="158"/>
                </a:lnTo>
                <a:lnTo>
                  <a:pt x="453" y="160"/>
                </a:lnTo>
                <a:lnTo>
                  <a:pt x="439" y="161"/>
                </a:lnTo>
                <a:lnTo>
                  <a:pt x="426" y="163"/>
                </a:lnTo>
                <a:lnTo>
                  <a:pt x="410" y="165"/>
                </a:lnTo>
                <a:lnTo>
                  <a:pt x="393" y="169"/>
                </a:lnTo>
                <a:lnTo>
                  <a:pt x="374" y="171"/>
                </a:lnTo>
                <a:lnTo>
                  <a:pt x="355" y="175"/>
                </a:lnTo>
                <a:lnTo>
                  <a:pt x="334" y="181"/>
                </a:lnTo>
                <a:lnTo>
                  <a:pt x="311" y="184"/>
                </a:lnTo>
                <a:lnTo>
                  <a:pt x="288" y="190"/>
                </a:lnTo>
                <a:lnTo>
                  <a:pt x="263" y="194"/>
                </a:lnTo>
                <a:lnTo>
                  <a:pt x="240" y="200"/>
                </a:lnTo>
                <a:lnTo>
                  <a:pt x="217" y="204"/>
                </a:lnTo>
                <a:lnTo>
                  <a:pt x="195" y="208"/>
                </a:lnTo>
                <a:lnTo>
                  <a:pt x="174" y="211"/>
                </a:lnTo>
                <a:lnTo>
                  <a:pt x="155" y="215"/>
                </a:lnTo>
                <a:lnTo>
                  <a:pt x="136" y="217"/>
                </a:lnTo>
                <a:lnTo>
                  <a:pt x="117" y="221"/>
                </a:lnTo>
                <a:lnTo>
                  <a:pt x="100" y="223"/>
                </a:lnTo>
                <a:lnTo>
                  <a:pt x="82" y="225"/>
                </a:lnTo>
                <a:lnTo>
                  <a:pt x="67" y="227"/>
                </a:lnTo>
                <a:lnTo>
                  <a:pt x="52" y="227"/>
                </a:lnTo>
                <a:lnTo>
                  <a:pt x="38" y="229"/>
                </a:lnTo>
                <a:lnTo>
                  <a:pt x="25" y="229"/>
                </a:lnTo>
                <a:lnTo>
                  <a:pt x="11" y="231"/>
                </a:lnTo>
                <a:lnTo>
                  <a:pt x="0" y="231"/>
                </a:lnTo>
                <a:lnTo>
                  <a:pt x="0" y="190"/>
                </a:lnTo>
                <a:lnTo>
                  <a:pt x="0" y="150"/>
                </a:lnTo>
                <a:lnTo>
                  <a:pt x="7" y="148"/>
                </a:lnTo>
                <a:lnTo>
                  <a:pt x="15" y="148"/>
                </a:lnTo>
                <a:lnTo>
                  <a:pt x="25" y="148"/>
                </a:lnTo>
                <a:lnTo>
                  <a:pt x="36" y="146"/>
                </a:lnTo>
                <a:lnTo>
                  <a:pt x="48" y="146"/>
                </a:lnTo>
                <a:lnTo>
                  <a:pt x="61" y="144"/>
                </a:lnTo>
                <a:lnTo>
                  <a:pt x="75" y="142"/>
                </a:lnTo>
                <a:lnTo>
                  <a:pt x="90" y="138"/>
                </a:lnTo>
                <a:lnTo>
                  <a:pt x="105" y="137"/>
                </a:lnTo>
                <a:lnTo>
                  <a:pt x="123" y="133"/>
                </a:lnTo>
                <a:lnTo>
                  <a:pt x="142" y="131"/>
                </a:lnTo>
                <a:lnTo>
                  <a:pt x="161" y="127"/>
                </a:lnTo>
                <a:lnTo>
                  <a:pt x="182" y="123"/>
                </a:lnTo>
                <a:lnTo>
                  <a:pt x="205" y="119"/>
                </a:lnTo>
                <a:lnTo>
                  <a:pt x="228" y="113"/>
                </a:lnTo>
                <a:lnTo>
                  <a:pt x="251" y="110"/>
                </a:lnTo>
                <a:lnTo>
                  <a:pt x="274" y="104"/>
                </a:lnTo>
                <a:lnTo>
                  <a:pt x="293" y="98"/>
                </a:lnTo>
                <a:lnTo>
                  <a:pt x="314" y="92"/>
                </a:lnTo>
                <a:lnTo>
                  <a:pt x="332" y="89"/>
                </a:lnTo>
                <a:lnTo>
                  <a:pt x="349" y="83"/>
                </a:lnTo>
                <a:lnTo>
                  <a:pt x="366" y="79"/>
                </a:lnTo>
                <a:lnTo>
                  <a:pt x="382" y="73"/>
                </a:lnTo>
                <a:lnTo>
                  <a:pt x="395" y="67"/>
                </a:lnTo>
                <a:lnTo>
                  <a:pt x="409" y="64"/>
                </a:lnTo>
                <a:lnTo>
                  <a:pt x="420" y="58"/>
                </a:lnTo>
                <a:lnTo>
                  <a:pt x="432" y="52"/>
                </a:lnTo>
                <a:lnTo>
                  <a:pt x="441" y="48"/>
                </a:lnTo>
                <a:lnTo>
                  <a:pt x="449" y="42"/>
                </a:lnTo>
                <a:lnTo>
                  <a:pt x="457" y="39"/>
                </a:lnTo>
                <a:lnTo>
                  <a:pt x="462" y="33"/>
                </a:lnTo>
                <a:lnTo>
                  <a:pt x="468" y="27"/>
                </a:lnTo>
                <a:lnTo>
                  <a:pt x="472" y="23"/>
                </a:lnTo>
                <a:lnTo>
                  <a:pt x="478" y="17"/>
                </a:lnTo>
                <a:lnTo>
                  <a:pt x="485" y="14"/>
                </a:lnTo>
                <a:lnTo>
                  <a:pt x="491" y="8"/>
                </a:lnTo>
                <a:lnTo>
                  <a:pt x="499" y="6"/>
                </a:lnTo>
                <a:lnTo>
                  <a:pt x="505" y="2"/>
                </a:lnTo>
                <a:lnTo>
                  <a:pt x="510" y="0"/>
                </a:lnTo>
                <a:lnTo>
                  <a:pt x="516" y="0"/>
                </a:lnTo>
                <a:lnTo>
                  <a:pt x="518" y="0"/>
                </a:lnTo>
                <a:lnTo>
                  <a:pt x="522" y="0"/>
                </a:lnTo>
                <a:lnTo>
                  <a:pt x="526" y="2"/>
                </a:lnTo>
                <a:lnTo>
                  <a:pt x="531" y="2"/>
                </a:lnTo>
                <a:lnTo>
                  <a:pt x="537" y="4"/>
                </a:lnTo>
                <a:lnTo>
                  <a:pt x="543" y="6"/>
                </a:lnTo>
                <a:lnTo>
                  <a:pt x="551" y="10"/>
                </a:lnTo>
                <a:lnTo>
                  <a:pt x="556" y="12"/>
                </a:lnTo>
                <a:lnTo>
                  <a:pt x="566" y="16"/>
                </a:lnTo>
                <a:lnTo>
                  <a:pt x="574" y="19"/>
                </a:lnTo>
                <a:lnTo>
                  <a:pt x="583" y="23"/>
                </a:lnTo>
                <a:lnTo>
                  <a:pt x="593" y="29"/>
                </a:lnTo>
                <a:lnTo>
                  <a:pt x="602" y="35"/>
                </a:lnTo>
                <a:lnTo>
                  <a:pt x="614" y="41"/>
                </a:lnTo>
                <a:lnTo>
                  <a:pt x="624" y="46"/>
                </a:lnTo>
                <a:lnTo>
                  <a:pt x="635" y="54"/>
                </a:lnTo>
                <a:lnTo>
                  <a:pt x="647" y="62"/>
                </a:lnTo>
                <a:lnTo>
                  <a:pt x="656" y="69"/>
                </a:lnTo>
                <a:lnTo>
                  <a:pt x="666" y="77"/>
                </a:lnTo>
                <a:lnTo>
                  <a:pt x="675" y="83"/>
                </a:lnTo>
                <a:lnTo>
                  <a:pt x="683" y="89"/>
                </a:lnTo>
                <a:lnTo>
                  <a:pt x="691" y="96"/>
                </a:lnTo>
                <a:lnTo>
                  <a:pt x="698" y="102"/>
                </a:lnTo>
                <a:lnTo>
                  <a:pt x="706" y="108"/>
                </a:lnTo>
                <a:lnTo>
                  <a:pt x="712" y="113"/>
                </a:lnTo>
                <a:lnTo>
                  <a:pt x="716" y="117"/>
                </a:lnTo>
                <a:lnTo>
                  <a:pt x="721" y="123"/>
                </a:lnTo>
                <a:lnTo>
                  <a:pt x="725" y="129"/>
                </a:lnTo>
                <a:lnTo>
                  <a:pt x="727" y="135"/>
                </a:lnTo>
                <a:lnTo>
                  <a:pt x="729" y="138"/>
                </a:lnTo>
                <a:lnTo>
                  <a:pt x="731" y="144"/>
                </a:lnTo>
                <a:lnTo>
                  <a:pt x="731" y="15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43"/>
          <p:cNvSpPr/>
          <p:nvPr/>
        </p:nvSpPr>
        <p:spPr>
          <a:xfrm>
            <a:off x="5818320" y="3209760"/>
            <a:ext cx="284040" cy="447840"/>
          </a:xfrm>
          <a:custGeom>
            <a:avLst/>
            <a:gdLst/>
            <a:ahLst/>
            <a:rect l="l" t="t" r="r" b="b"/>
            <a:pathLst>
              <a:path w="359" h="565">
                <a:moveTo>
                  <a:pt x="178" y="565"/>
                </a:moveTo>
                <a:lnTo>
                  <a:pt x="180" y="543"/>
                </a:lnTo>
                <a:lnTo>
                  <a:pt x="180" y="524"/>
                </a:lnTo>
                <a:lnTo>
                  <a:pt x="182" y="505"/>
                </a:lnTo>
                <a:lnTo>
                  <a:pt x="182" y="488"/>
                </a:lnTo>
                <a:lnTo>
                  <a:pt x="184" y="469"/>
                </a:lnTo>
                <a:lnTo>
                  <a:pt x="184" y="451"/>
                </a:lnTo>
                <a:lnTo>
                  <a:pt x="184" y="436"/>
                </a:lnTo>
                <a:lnTo>
                  <a:pt x="186" y="419"/>
                </a:lnTo>
                <a:lnTo>
                  <a:pt x="186" y="403"/>
                </a:lnTo>
                <a:lnTo>
                  <a:pt x="186" y="388"/>
                </a:lnTo>
                <a:lnTo>
                  <a:pt x="188" y="374"/>
                </a:lnTo>
                <a:lnTo>
                  <a:pt x="188" y="359"/>
                </a:lnTo>
                <a:lnTo>
                  <a:pt x="188" y="346"/>
                </a:lnTo>
                <a:lnTo>
                  <a:pt x="188" y="334"/>
                </a:lnTo>
                <a:lnTo>
                  <a:pt x="188" y="321"/>
                </a:lnTo>
                <a:lnTo>
                  <a:pt x="190" y="309"/>
                </a:lnTo>
                <a:lnTo>
                  <a:pt x="190" y="298"/>
                </a:lnTo>
                <a:lnTo>
                  <a:pt x="190" y="286"/>
                </a:lnTo>
                <a:lnTo>
                  <a:pt x="190" y="277"/>
                </a:lnTo>
                <a:lnTo>
                  <a:pt x="190" y="267"/>
                </a:lnTo>
                <a:lnTo>
                  <a:pt x="190" y="257"/>
                </a:lnTo>
                <a:lnTo>
                  <a:pt x="190" y="248"/>
                </a:lnTo>
                <a:lnTo>
                  <a:pt x="190" y="240"/>
                </a:lnTo>
                <a:lnTo>
                  <a:pt x="190" y="231"/>
                </a:lnTo>
                <a:lnTo>
                  <a:pt x="190" y="225"/>
                </a:lnTo>
                <a:lnTo>
                  <a:pt x="190" y="217"/>
                </a:lnTo>
                <a:lnTo>
                  <a:pt x="190" y="211"/>
                </a:lnTo>
                <a:lnTo>
                  <a:pt x="190" y="204"/>
                </a:lnTo>
                <a:lnTo>
                  <a:pt x="192" y="200"/>
                </a:lnTo>
                <a:lnTo>
                  <a:pt x="192" y="194"/>
                </a:lnTo>
                <a:lnTo>
                  <a:pt x="192" y="186"/>
                </a:lnTo>
                <a:lnTo>
                  <a:pt x="188" y="181"/>
                </a:lnTo>
                <a:lnTo>
                  <a:pt x="184" y="177"/>
                </a:lnTo>
                <a:lnTo>
                  <a:pt x="178" y="173"/>
                </a:lnTo>
                <a:lnTo>
                  <a:pt x="172" y="171"/>
                </a:lnTo>
                <a:lnTo>
                  <a:pt x="165" y="167"/>
                </a:lnTo>
                <a:lnTo>
                  <a:pt x="157" y="165"/>
                </a:lnTo>
                <a:lnTo>
                  <a:pt x="146" y="165"/>
                </a:lnTo>
                <a:lnTo>
                  <a:pt x="136" y="163"/>
                </a:lnTo>
                <a:lnTo>
                  <a:pt x="122" y="163"/>
                </a:lnTo>
                <a:lnTo>
                  <a:pt x="109" y="163"/>
                </a:lnTo>
                <a:lnTo>
                  <a:pt x="94" y="163"/>
                </a:lnTo>
                <a:lnTo>
                  <a:pt x="78" y="165"/>
                </a:lnTo>
                <a:lnTo>
                  <a:pt x="59" y="165"/>
                </a:lnTo>
                <a:lnTo>
                  <a:pt x="42" y="167"/>
                </a:lnTo>
                <a:lnTo>
                  <a:pt x="21" y="169"/>
                </a:lnTo>
                <a:lnTo>
                  <a:pt x="0" y="173"/>
                </a:lnTo>
                <a:lnTo>
                  <a:pt x="0" y="125"/>
                </a:lnTo>
                <a:lnTo>
                  <a:pt x="0" y="77"/>
                </a:lnTo>
                <a:lnTo>
                  <a:pt x="21" y="77"/>
                </a:lnTo>
                <a:lnTo>
                  <a:pt x="42" y="77"/>
                </a:lnTo>
                <a:lnTo>
                  <a:pt x="61" y="77"/>
                </a:lnTo>
                <a:lnTo>
                  <a:pt x="80" y="75"/>
                </a:lnTo>
                <a:lnTo>
                  <a:pt x="98" y="75"/>
                </a:lnTo>
                <a:lnTo>
                  <a:pt x="113" y="71"/>
                </a:lnTo>
                <a:lnTo>
                  <a:pt x="128" y="69"/>
                </a:lnTo>
                <a:lnTo>
                  <a:pt x="144" y="64"/>
                </a:lnTo>
                <a:lnTo>
                  <a:pt x="155" y="60"/>
                </a:lnTo>
                <a:lnTo>
                  <a:pt x="167" y="54"/>
                </a:lnTo>
                <a:lnTo>
                  <a:pt x="178" y="48"/>
                </a:lnTo>
                <a:lnTo>
                  <a:pt x="188" y="42"/>
                </a:lnTo>
                <a:lnTo>
                  <a:pt x="195" y="35"/>
                </a:lnTo>
                <a:lnTo>
                  <a:pt x="203" y="27"/>
                </a:lnTo>
                <a:lnTo>
                  <a:pt x="209" y="19"/>
                </a:lnTo>
                <a:lnTo>
                  <a:pt x="215" y="10"/>
                </a:lnTo>
                <a:lnTo>
                  <a:pt x="220" y="6"/>
                </a:lnTo>
                <a:lnTo>
                  <a:pt x="226" y="2"/>
                </a:lnTo>
                <a:lnTo>
                  <a:pt x="234" y="0"/>
                </a:lnTo>
                <a:lnTo>
                  <a:pt x="242" y="0"/>
                </a:lnTo>
                <a:lnTo>
                  <a:pt x="251" y="0"/>
                </a:lnTo>
                <a:lnTo>
                  <a:pt x="261" y="2"/>
                </a:lnTo>
                <a:lnTo>
                  <a:pt x="274" y="6"/>
                </a:lnTo>
                <a:lnTo>
                  <a:pt x="286" y="10"/>
                </a:lnTo>
                <a:lnTo>
                  <a:pt x="299" y="19"/>
                </a:lnTo>
                <a:lnTo>
                  <a:pt x="311" y="31"/>
                </a:lnTo>
                <a:lnTo>
                  <a:pt x="322" y="41"/>
                </a:lnTo>
                <a:lnTo>
                  <a:pt x="332" y="48"/>
                </a:lnTo>
                <a:lnTo>
                  <a:pt x="339" y="58"/>
                </a:lnTo>
                <a:lnTo>
                  <a:pt x="347" y="65"/>
                </a:lnTo>
                <a:lnTo>
                  <a:pt x="353" y="71"/>
                </a:lnTo>
                <a:lnTo>
                  <a:pt x="359" y="77"/>
                </a:lnTo>
                <a:lnTo>
                  <a:pt x="357" y="83"/>
                </a:lnTo>
                <a:lnTo>
                  <a:pt x="357" y="90"/>
                </a:lnTo>
                <a:lnTo>
                  <a:pt x="353" y="96"/>
                </a:lnTo>
                <a:lnTo>
                  <a:pt x="351" y="104"/>
                </a:lnTo>
                <a:lnTo>
                  <a:pt x="347" y="112"/>
                </a:lnTo>
                <a:lnTo>
                  <a:pt x="343" y="119"/>
                </a:lnTo>
                <a:lnTo>
                  <a:pt x="339" y="127"/>
                </a:lnTo>
                <a:lnTo>
                  <a:pt x="334" y="133"/>
                </a:lnTo>
                <a:lnTo>
                  <a:pt x="332" y="133"/>
                </a:lnTo>
                <a:lnTo>
                  <a:pt x="330" y="136"/>
                </a:lnTo>
                <a:lnTo>
                  <a:pt x="328" y="138"/>
                </a:lnTo>
                <a:lnTo>
                  <a:pt x="326" y="142"/>
                </a:lnTo>
                <a:lnTo>
                  <a:pt x="322" y="148"/>
                </a:lnTo>
                <a:lnTo>
                  <a:pt x="320" y="154"/>
                </a:lnTo>
                <a:lnTo>
                  <a:pt x="318" y="160"/>
                </a:lnTo>
                <a:lnTo>
                  <a:pt x="316" y="167"/>
                </a:lnTo>
                <a:lnTo>
                  <a:pt x="314" y="175"/>
                </a:lnTo>
                <a:lnTo>
                  <a:pt x="311" y="183"/>
                </a:lnTo>
                <a:lnTo>
                  <a:pt x="309" y="192"/>
                </a:lnTo>
                <a:lnTo>
                  <a:pt x="307" y="202"/>
                </a:lnTo>
                <a:lnTo>
                  <a:pt x="305" y="213"/>
                </a:lnTo>
                <a:lnTo>
                  <a:pt x="301" y="225"/>
                </a:lnTo>
                <a:lnTo>
                  <a:pt x="299" y="236"/>
                </a:lnTo>
                <a:lnTo>
                  <a:pt x="297" y="250"/>
                </a:lnTo>
                <a:lnTo>
                  <a:pt x="293" y="263"/>
                </a:lnTo>
                <a:lnTo>
                  <a:pt x="291" y="279"/>
                </a:lnTo>
                <a:lnTo>
                  <a:pt x="289" y="292"/>
                </a:lnTo>
                <a:lnTo>
                  <a:pt x="286" y="309"/>
                </a:lnTo>
                <a:lnTo>
                  <a:pt x="284" y="325"/>
                </a:lnTo>
                <a:lnTo>
                  <a:pt x="280" y="342"/>
                </a:lnTo>
                <a:lnTo>
                  <a:pt x="278" y="359"/>
                </a:lnTo>
                <a:lnTo>
                  <a:pt x="276" y="378"/>
                </a:lnTo>
                <a:lnTo>
                  <a:pt x="272" y="398"/>
                </a:lnTo>
                <a:lnTo>
                  <a:pt x="270" y="417"/>
                </a:lnTo>
                <a:lnTo>
                  <a:pt x="266" y="438"/>
                </a:lnTo>
                <a:lnTo>
                  <a:pt x="263" y="459"/>
                </a:lnTo>
                <a:lnTo>
                  <a:pt x="261" y="480"/>
                </a:lnTo>
                <a:lnTo>
                  <a:pt x="257" y="503"/>
                </a:lnTo>
                <a:lnTo>
                  <a:pt x="253" y="526"/>
                </a:lnTo>
                <a:lnTo>
                  <a:pt x="251" y="551"/>
                </a:lnTo>
                <a:lnTo>
                  <a:pt x="215" y="557"/>
                </a:lnTo>
                <a:lnTo>
                  <a:pt x="178" y="56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44"/>
          <p:cNvSpPr/>
          <p:nvPr/>
        </p:nvSpPr>
        <p:spPr>
          <a:xfrm>
            <a:off x="5735520" y="2987640"/>
            <a:ext cx="109800" cy="712800"/>
          </a:xfrm>
          <a:custGeom>
            <a:avLst/>
            <a:gdLst/>
            <a:ahLst/>
            <a:rect l="l" t="t" r="r" b="b"/>
            <a:pathLst>
              <a:path w="138" h="896">
                <a:moveTo>
                  <a:pt x="56" y="896"/>
                </a:moveTo>
                <a:lnTo>
                  <a:pt x="56" y="866"/>
                </a:lnTo>
                <a:lnTo>
                  <a:pt x="54" y="835"/>
                </a:lnTo>
                <a:lnTo>
                  <a:pt x="54" y="806"/>
                </a:lnTo>
                <a:lnTo>
                  <a:pt x="54" y="779"/>
                </a:lnTo>
                <a:lnTo>
                  <a:pt x="54" y="750"/>
                </a:lnTo>
                <a:lnTo>
                  <a:pt x="54" y="724"/>
                </a:lnTo>
                <a:lnTo>
                  <a:pt x="54" y="697"/>
                </a:lnTo>
                <a:lnTo>
                  <a:pt x="52" y="670"/>
                </a:lnTo>
                <a:lnTo>
                  <a:pt x="52" y="645"/>
                </a:lnTo>
                <a:lnTo>
                  <a:pt x="52" y="620"/>
                </a:lnTo>
                <a:lnTo>
                  <a:pt x="50" y="595"/>
                </a:lnTo>
                <a:lnTo>
                  <a:pt x="50" y="572"/>
                </a:lnTo>
                <a:lnTo>
                  <a:pt x="48" y="549"/>
                </a:lnTo>
                <a:lnTo>
                  <a:pt x="48" y="526"/>
                </a:lnTo>
                <a:lnTo>
                  <a:pt x="46" y="503"/>
                </a:lnTo>
                <a:lnTo>
                  <a:pt x="46" y="482"/>
                </a:lnTo>
                <a:lnTo>
                  <a:pt x="44" y="461"/>
                </a:lnTo>
                <a:lnTo>
                  <a:pt x="42" y="441"/>
                </a:lnTo>
                <a:lnTo>
                  <a:pt x="42" y="420"/>
                </a:lnTo>
                <a:lnTo>
                  <a:pt x="40" y="403"/>
                </a:lnTo>
                <a:lnTo>
                  <a:pt x="38" y="384"/>
                </a:lnTo>
                <a:lnTo>
                  <a:pt x="38" y="366"/>
                </a:lnTo>
                <a:lnTo>
                  <a:pt x="36" y="349"/>
                </a:lnTo>
                <a:lnTo>
                  <a:pt x="35" y="332"/>
                </a:lnTo>
                <a:lnTo>
                  <a:pt x="33" y="317"/>
                </a:lnTo>
                <a:lnTo>
                  <a:pt x="31" y="299"/>
                </a:lnTo>
                <a:lnTo>
                  <a:pt x="29" y="286"/>
                </a:lnTo>
                <a:lnTo>
                  <a:pt x="27" y="271"/>
                </a:lnTo>
                <a:lnTo>
                  <a:pt x="25" y="257"/>
                </a:lnTo>
                <a:lnTo>
                  <a:pt x="23" y="246"/>
                </a:lnTo>
                <a:lnTo>
                  <a:pt x="21" y="232"/>
                </a:lnTo>
                <a:lnTo>
                  <a:pt x="19" y="221"/>
                </a:lnTo>
                <a:lnTo>
                  <a:pt x="15" y="198"/>
                </a:lnTo>
                <a:lnTo>
                  <a:pt x="12" y="178"/>
                </a:lnTo>
                <a:lnTo>
                  <a:pt x="8" y="157"/>
                </a:lnTo>
                <a:lnTo>
                  <a:pt x="6" y="140"/>
                </a:lnTo>
                <a:lnTo>
                  <a:pt x="4" y="123"/>
                </a:lnTo>
                <a:lnTo>
                  <a:pt x="2" y="105"/>
                </a:lnTo>
                <a:lnTo>
                  <a:pt x="0" y="90"/>
                </a:lnTo>
                <a:lnTo>
                  <a:pt x="0" y="77"/>
                </a:lnTo>
                <a:lnTo>
                  <a:pt x="0" y="65"/>
                </a:lnTo>
                <a:lnTo>
                  <a:pt x="0" y="54"/>
                </a:lnTo>
                <a:lnTo>
                  <a:pt x="0" y="42"/>
                </a:lnTo>
                <a:lnTo>
                  <a:pt x="0" y="33"/>
                </a:lnTo>
                <a:lnTo>
                  <a:pt x="2" y="25"/>
                </a:lnTo>
                <a:lnTo>
                  <a:pt x="2" y="17"/>
                </a:lnTo>
                <a:lnTo>
                  <a:pt x="4" y="9"/>
                </a:lnTo>
                <a:lnTo>
                  <a:pt x="8" y="6"/>
                </a:lnTo>
                <a:lnTo>
                  <a:pt x="10" y="2"/>
                </a:lnTo>
                <a:lnTo>
                  <a:pt x="13" y="0"/>
                </a:lnTo>
                <a:lnTo>
                  <a:pt x="17" y="0"/>
                </a:lnTo>
                <a:lnTo>
                  <a:pt x="23" y="0"/>
                </a:lnTo>
                <a:lnTo>
                  <a:pt x="29" y="0"/>
                </a:lnTo>
                <a:lnTo>
                  <a:pt x="35" y="0"/>
                </a:lnTo>
                <a:lnTo>
                  <a:pt x="42" y="2"/>
                </a:lnTo>
                <a:lnTo>
                  <a:pt x="50" y="4"/>
                </a:lnTo>
                <a:lnTo>
                  <a:pt x="60" y="8"/>
                </a:lnTo>
                <a:lnTo>
                  <a:pt x="69" y="11"/>
                </a:lnTo>
                <a:lnTo>
                  <a:pt x="79" y="15"/>
                </a:lnTo>
                <a:lnTo>
                  <a:pt x="90" y="19"/>
                </a:lnTo>
                <a:lnTo>
                  <a:pt x="102" y="25"/>
                </a:lnTo>
                <a:lnTo>
                  <a:pt x="113" y="31"/>
                </a:lnTo>
                <a:lnTo>
                  <a:pt x="125" y="38"/>
                </a:lnTo>
                <a:lnTo>
                  <a:pt x="138" y="46"/>
                </a:lnTo>
                <a:lnTo>
                  <a:pt x="138" y="470"/>
                </a:lnTo>
                <a:lnTo>
                  <a:pt x="138" y="896"/>
                </a:lnTo>
                <a:lnTo>
                  <a:pt x="96" y="896"/>
                </a:lnTo>
                <a:lnTo>
                  <a:pt x="56" y="8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哮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9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90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91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组合 8"/>
          <p:cNvGrpSpPr/>
          <p:nvPr/>
        </p:nvGrpSpPr>
        <p:grpSpPr>
          <a:xfrm>
            <a:off x="1390680" y="3975120"/>
            <a:ext cx="2863800" cy="1572120"/>
            <a:chOff x="1390680" y="3975120"/>
            <a:chExt cx="2863800" cy="1572120"/>
          </a:xfrm>
        </p:grpSpPr>
        <p:pic>
          <p:nvPicPr>
            <p:cNvPr id="195" name="图示 4" descr=""/>
            <p:cNvPicPr/>
            <p:nvPr/>
          </p:nvPicPr>
          <p:blipFill>
            <a:blip r:embed="rId3"/>
            <a:stretch/>
          </p:blipFill>
          <p:spPr>
            <a:xfrm>
              <a:off x="1390680" y="3975120"/>
              <a:ext cx="2863800" cy="15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矩形 2"/>
            <p:cNvSpPr/>
            <p:nvPr/>
          </p:nvSpPr>
          <p:spPr>
            <a:xfrm>
              <a:off x="1435680" y="4588200"/>
              <a:ext cx="279576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口”居左上，“ 孝”的撇宜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矩形 3"/>
          <p:cNvSpPr/>
          <p:nvPr/>
        </p:nvSpPr>
        <p:spPr>
          <a:xfrm>
            <a:off x="2052720" y="1868400"/>
            <a:ext cx="146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xià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24"/>
          <p:cNvSpPr/>
          <p:nvPr/>
        </p:nvSpPr>
        <p:spPr>
          <a:xfrm>
            <a:off x="6512040" y="4110120"/>
            <a:ext cx="407880" cy="946080"/>
          </a:xfrm>
          <a:custGeom>
            <a:avLst/>
            <a:gdLst/>
            <a:ahLst/>
            <a:rect l="l" t="t" r="r" b="b"/>
            <a:pathLst>
              <a:path w="514" h="1192">
                <a:moveTo>
                  <a:pt x="255" y="108"/>
                </a:moveTo>
                <a:lnTo>
                  <a:pt x="249" y="100"/>
                </a:lnTo>
                <a:lnTo>
                  <a:pt x="242" y="94"/>
                </a:lnTo>
                <a:lnTo>
                  <a:pt x="236" y="86"/>
                </a:lnTo>
                <a:lnTo>
                  <a:pt x="232" y="81"/>
                </a:lnTo>
                <a:lnTo>
                  <a:pt x="226" y="73"/>
                </a:lnTo>
                <a:lnTo>
                  <a:pt x="223" y="67"/>
                </a:lnTo>
                <a:lnTo>
                  <a:pt x="217" y="56"/>
                </a:lnTo>
                <a:lnTo>
                  <a:pt x="211" y="46"/>
                </a:lnTo>
                <a:lnTo>
                  <a:pt x="207" y="36"/>
                </a:lnTo>
                <a:lnTo>
                  <a:pt x="207" y="33"/>
                </a:lnTo>
                <a:lnTo>
                  <a:pt x="205" y="29"/>
                </a:lnTo>
                <a:lnTo>
                  <a:pt x="205" y="27"/>
                </a:lnTo>
                <a:lnTo>
                  <a:pt x="205" y="25"/>
                </a:lnTo>
                <a:lnTo>
                  <a:pt x="205" y="21"/>
                </a:lnTo>
                <a:lnTo>
                  <a:pt x="205" y="19"/>
                </a:lnTo>
                <a:lnTo>
                  <a:pt x="207" y="17"/>
                </a:lnTo>
                <a:lnTo>
                  <a:pt x="209" y="15"/>
                </a:lnTo>
                <a:lnTo>
                  <a:pt x="211" y="13"/>
                </a:lnTo>
                <a:lnTo>
                  <a:pt x="215" y="12"/>
                </a:lnTo>
                <a:lnTo>
                  <a:pt x="219" y="10"/>
                </a:lnTo>
                <a:lnTo>
                  <a:pt x="223" y="8"/>
                </a:lnTo>
                <a:lnTo>
                  <a:pt x="232" y="4"/>
                </a:lnTo>
                <a:lnTo>
                  <a:pt x="242" y="2"/>
                </a:lnTo>
                <a:lnTo>
                  <a:pt x="255" y="2"/>
                </a:lnTo>
                <a:lnTo>
                  <a:pt x="269" y="0"/>
                </a:lnTo>
                <a:lnTo>
                  <a:pt x="282" y="6"/>
                </a:lnTo>
                <a:lnTo>
                  <a:pt x="299" y="10"/>
                </a:lnTo>
                <a:lnTo>
                  <a:pt x="315" y="13"/>
                </a:lnTo>
                <a:lnTo>
                  <a:pt x="332" y="19"/>
                </a:lnTo>
                <a:lnTo>
                  <a:pt x="349" y="25"/>
                </a:lnTo>
                <a:lnTo>
                  <a:pt x="365" y="33"/>
                </a:lnTo>
                <a:lnTo>
                  <a:pt x="380" y="38"/>
                </a:lnTo>
                <a:lnTo>
                  <a:pt x="395" y="48"/>
                </a:lnTo>
                <a:lnTo>
                  <a:pt x="409" y="61"/>
                </a:lnTo>
                <a:lnTo>
                  <a:pt x="420" y="77"/>
                </a:lnTo>
                <a:lnTo>
                  <a:pt x="432" y="92"/>
                </a:lnTo>
                <a:lnTo>
                  <a:pt x="443" y="111"/>
                </a:lnTo>
                <a:lnTo>
                  <a:pt x="451" y="131"/>
                </a:lnTo>
                <a:lnTo>
                  <a:pt x="455" y="140"/>
                </a:lnTo>
                <a:lnTo>
                  <a:pt x="459" y="152"/>
                </a:lnTo>
                <a:lnTo>
                  <a:pt x="462" y="163"/>
                </a:lnTo>
                <a:lnTo>
                  <a:pt x="466" y="175"/>
                </a:lnTo>
                <a:lnTo>
                  <a:pt x="468" y="188"/>
                </a:lnTo>
                <a:lnTo>
                  <a:pt x="472" y="202"/>
                </a:lnTo>
                <a:lnTo>
                  <a:pt x="474" y="215"/>
                </a:lnTo>
                <a:lnTo>
                  <a:pt x="476" y="230"/>
                </a:lnTo>
                <a:lnTo>
                  <a:pt x="478" y="248"/>
                </a:lnTo>
                <a:lnTo>
                  <a:pt x="480" y="265"/>
                </a:lnTo>
                <a:lnTo>
                  <a:pt x="484" y="284"/>
                </a:lnTo>
                <a:lnTo>
                  <a:pt x="486" y="305"/>
                </a:lnTo>
                <a:lnTo>
                  <a:pt x="487" y="328"/>
                </a:lnTo>
                <a:lnTo>
                  <a:pt x="489" y="351"/>
                </a:lnTo>
                <a:lnTo>
                  <a:pt x="493" y="376"/>
                </a:lnTo>
                <a:lnTo>
                  <a:pt x="495" y="403"/>
                </a:lnTo>
                <a:lnTo>
                  <a:pt x="497" y="430"/>
                </a:lnTo>
                <a:lnTo>
                  <a:pt x="499" y="459"/>
                </a:lnTo>
                <a:lnTo>
                  <a:pt x="503" y="490"/>
                </a:lnTo>
                <a:lnTo>
                  <a:pt x="505" y="522"/>
                </a:lnTo>
                <a:lnTo>
                  <a:pt x="507" y="555"/>
                </a:lnTo>
                <a:lnTo>
                  <a:pt x="509" y="589"/>
                </a:lnTo>
                <a:lnTo>
                  <a:pt x="510" y="624"/>
                </a:lnTo>
                <a:lnTo>
                  <a:pt x="512" y="658"/>
                </a:lnTo>
                <a:lnTo>
                  <a:pt x="514" y="689"/>
                </a:lnTo>
                <a:lnTo>
                  <a:pt x="514" y="720"/>
                </a:lnTo>
                <a:lnTo>
                  <a:pt x="514" y="751"/>
                </a:lnTo>
                <a:lnTo>
                  <a:pt x="514" y="777"/>
                </a:lnTo>
                <a:lnTo>
                  <a:pt x="512" y="804"/>
                </a:lnTo>
                <a:lnTo>
                  <a:pt x="512" y="829"/>
                </a:lnTo>
                <a:lnTo>
                  <a:pt x="510" y="852"/>
                </a:lnTo>
                <a:lnTo>
                  <a:pt x="509" y="875"/>
                </a:lnTo>
                <a:lnTo>
                  <a:pt x="507" y="896"/>
                </a:lnTo>
                <a:lnTo>
                  <a:pt x="505" y="916"/>
                </a:lnTo>
                <a:lnTo>
                  <a:pt x="503" y="933"/>
                </a:lnTo>
                <a:lnTo>
                  <a:pt x="501" y="950"/>
                </a:lnTo>
                <a:lnTo>
                  <a:pt x="499" y="966"/>
                </a:lnTo>
                <a:lnTo>
                  <a:pt x="497" y="979"/>
                </a:lnTo>
                <a:lnTo>
                  <a:pt x="487" y="1002"/>
                </a:lnTo>
                <a:lnTo>
                  <a:pt x="478" y="1023"/>
                </a:lnTo>
                <a:lnTo>
                  <a:pt x="468" y="1044"/>
                </a:lnTo>
                <a:lnTo>
                  <a:pt x="457" y="1065"/>
                </a:lnTo>
                <a:lnTo>
                  <a:pt x="445" y="1085"/>
                </a:lnTo>
                <a:lnTo>
                  <a:pt x="434" y="1102"/>
                </a:lnTo>
                <a:lnTo>
                  <a:pt x="422" y="1117"/>
                </a:lnTo>
                <a:lnTo>
                  <a:pt x="414" y="1125"/>
                </a:lnTo>
                <a:lnTo>
                  <a:pt x="409" y="1133"/>
                </a:lnTo>
                <a:lnTo>
                  <a:pt x="393" y="1146"/>
                </a:lnTo>
                <a:lnTo>
                  <a:pt x="380" y="1157"/>
                </a:lnTo>
                <a:lnTo>
                  <a:pt x="367" y="1167"/>
                </a:lnTo>
                <a:lnTo>
                  <a:pt x="353" y="1175"/>
                </a:lnTo>
                <a:lnTo>
                  <a:pt x="340" y="1182"/>
                </a:lnTo>
                <a:lnTo>
                  <a:pt x="334" y="1184"/>
                </a:lnTo>
                <a:lnTo>
                  <a:pt x="328" y="1188"/>
                </a:lnTo>
                <a:lnTo>
                  <a:pt x="322" y="1190"/>
                </a:lnTo>
                <a:lnTo>
                  <a:pt x="317" y="1190"/>
                </a:lnTo>
                <a:lnTo>
                  <a:pt x="311" y="1192"/>
                </a:lnTo>
                <a:lnTo>
                  <a:pt x="307" y="1192"/>
                </a:lnTo>
                <a:lnTo>
                  <a:pt x="299" y="1192"/>
                </a:lnTo>
                <a:lnTo>
                  <a:pt x="294" y="1190"/>
                </a:lnTo>
                <a:lnTo>
                  <a:pt x="288" y="1188"/>
                </a:lnTo>
                <a:lnTo>
                  <a:pt x="282" y="1186"/>
                </a:lnTo>
                <a:lnTo>
                  <a:pt x="278" y="1184"/>
                </a:lnTo>
                <a:lnTo>
                  <a:pt x="274" y="1182"/>
                </a:lnTo>
                <a:lnTo>
                  <a:pt x="271" y="1179"/>
                </a:lnTo>
                <a:lnTo>
                  <a:pt x="267" y="1175"/>
                </a:lnTo>
                <a:lnTo>
                  <a:pt x="265" y="1169"/>
                </a:lnTo>
                <a:lnTo>
                  <a:pt x="261" y="1163"/>
                </a:lnTo>
                <a:lnTo>
                  <a:pt x="259" y="1157"/>
                </a:lnTo>
                <a:lnTo>
                  <a:pt x="259" y="1152"/>
                </a:lnTo>
                <a:lnTo>
                  <a:pt x="257" y="1144"/>
                </a:lnTo>
                <a:lnTo>
                  <a:pt x="257" y="1136"/>
                </a:lnTo>
                <a:lnTo>
                  <a:pt x="255" y="1129"/>
                </a:lnTo>
                <a:lnTo>
                  <a:pt x="255" y="1121"/>
                </a:lnTo>
                <a:lnTo>
                  <a:pt x="255" y="1110"/>
                </a:lnTo>
                <a:lnTo>
                  <a:pt x="253" y="1100"/>
                </a:lnTo>
                <a:lnTo>
                  <a:pt x="251" y="1088"/>
                </a:lnTo>
                <a:lnTo>
                  <a:pt x="248" y="1079"/>
                </a:lnTo>
                <a:lnTo>
                  <a:pt x="244" y="1069"/>
                </a:lnTo>
                <a:lnTo>
                  <a:pt x="240" y="1060"/>
                </a:lnTo>
                <a:lnTo>
                  <a:pt x="232" y="1050"/>
                </a:lnTo>
                <a:lnTo>
                  <a:pt x="226" y="1040"/>
                </a:lnTo>
                <a:lnTo>
                  <a:pt x="217" y="1031"/>
                </a:lnTo>
                <a:lnTo>
                  <a:pt x="207" y="1021"/>
                </a:lnTo>
                <a:lnTo>
                  <a:pt x="198" y="1012"/>
                </a:lnTo>
                <a:lnTo>
                  <a:pt x="186" y="1004"/>
                </a:lnTo>
                <a:lnTo>
                  <a:pt x="173" y="994"/>
                </a:lnTo>
                <a:lnTo>
                  <a:pt x="159" y="985"/>
                </a:lnTo>
                <a:lnTo>
                  <a:pt x="146" y="977"/>
                </a:lnTo>
                <a:lnTo>
                  <a:pt x="129" y="967"/>
                </a:lnTo>
                <a:lnTo>
                  <a:pt x="113" y="958"/>
                </a:lnTo>
                <a:lnTo>
                  <a:pt x="98" y="950"/>
                </a:lnTo>
                <a:lnTo>
                  <a:pt x="84" y="943"/>
                </a:lnTo>
                <a:lnTo>
                  <a:pt x="71" y="935"/>
                </a:lnTo>
                <a:lnTo>
                  <a:pt x="57" y="927"/>
                </a:lnTo>
                <a:lnTo>
                  <a:pt x="46" y="919"/>
                </a:lnTo>
                <a:lnTo>
                  <a:pt x="36" y="914"/>
                </a:lnTo>
                <a:lnTo>
                  <a:pt x="29" y="906"/>
                </a:lnTo>
                <a:lnTo>
                  <a:pt x="21" y="900"/>
                </a:lnTo>
                <a:lnTo>
                  <a:pt x="13" y="896"/>
                </a:lnTo>
                <a:lnTo>
                  <a:pt x="8" y="891"/>
                </a:lnTo>
                <a:lnTo>
                  <a:pt x="4" y="887"/>
                </a:lnTo>
                <a:lnTo>
                  <a:pt x="2" y="881"/>
                </a:lnTo>
                <a:lnTo>
                  <a:pt x="0" y="879"/>
                </a:lnTo>
                <a:lnTo>
                  <a:pt x="0" y="875"/>
                </a:lnTo>
                <a:lnTo>
                  <a:pt x="2" y="873"/>
                </a:lnTo>
                <a:lnTo>
                  <a:pt x="4" y="871"/>
                </a:lnTo>
                <a:lnTo>
                  <a:pt x="4" y="870"/>
                </a:lnTo>
                <a:lnTo>
                  <a:pt x="8" y="868"/>
                </a:lnTo>
                <a:lnTo>
                  <a:pt x="11" y="866"/>
                </a:lnTo>
                <a:lnTo>
                  <a:pt x="17" y="866"/>
                </a:lnTo>
                <a:lnTo>
                  <a:pt x="23" y="864"/>
                </a:lnTo>
                <a:lnTo>
                  <a:pt x="31" y="864"/>
                </a:lnTo>
                <a:lnTo>
                  <a:pt x="38" y="864"/>
                </a:lnTo>
                <a:lnTo>
                  <a:pt x="48" y="864"/>
                </a:lnTo>
                <a:lnTo>
                  <a:pt x="59" y="864"/>
                </a:lnTo>
                <a:lnTo>
                  <a:pt x="71" y="866"/>
                </a:lnTo>
                <a:lnTo>
                  <a:pt x="82" y="866"/>
                </a:lnTo>
                <a:lnTo>
                  <a:pt x="96" y="868"/>
                </a:lnTo>
                <a:lnTo>
                  <a:pt x="109" y="870"/>
                </a:lnTo>
                <a:lnTo>
                  <a:pt x="125" y="871"/>
                </a:lnTo>
                <a:lnTo>
                  <a:pt x="142" y="873"/>
                </a:lnTo>
                <a:lnTo>
                  <a:pt x="157" y="875"/>
                </a:lnTo>
                <a:lnTo>
                  <a:pt x="173" y="877"/>
                </a:lnTo>
                <a:lnTo>
                  <a:pt x="188" y="877"/>
                </a:lnTo>
                <a:lnTo>
                  <a:pt x="201" y="877"/>
                </a:lnTo>
                <a:lnTo>
                  <a:pt x="215" y="877"/>
                </a:lnTo>
                <a:lnTo>
                  <a:pt x="226" y="877"/>
                </a:lnTo>
                <a:lnTo>
                  <a:pt x="238" y="877"/>
                </a:lnTo>
                <a:lnTo>
                  <a:pt x="248" y="875"/>
                </a:lnTo>
                <a:lnTo>
                  <a:pt x="257" y="875"/>
                </a:lnTo>
                <a:lnTo>
                  <a:pt x="267" y="873"/>
                </a:lnTo>
                <a:lnTo>
                  <a:pt x="274" y="871"/>
                </a:lnTo>
                <a:lnTo>
                  <a:pt x="282" y="870"/>
                </a:lnTo>
                <a:lnTo>
                  <a:pt x="290" y="868"/>
                </a:lnTo>
                <a:lnTo>
                  <a:pt x="295" y="866"/>
                </a:lnTo>
                <a:lnTo>
                  <a:pt x="301" y="864"/>
                </a:lnTo>
                <a:lnTo>
                  <a:pt x="307" y="862"/>
                </a:lnTo>
                <a:lnTo>
                  <a:pt x="309" y="858"/>
                </a:lnTo>
                <a:lnTo>
                  <a:pt x="311" y="856"/>
                </a:lnTo>
                <a:lnTo>
                  <a:pt x="313" y="852"/>
                </a:lnTo>
                <a:lnTo>
                  <a:pt x="317" y="848"/>
                </a:lnTo>
                <a:lnTo>
                  <a:pt x="319" y="843"/>
                </a:lnTo>
                <a:lnTo>
                  <a:pt x="320" y="839"/>
                </a:lnTo>
                <a:lnTo>
                  <a:pt x="322" y="833"/>
                </a:lnTo>
                <a:lnTo>
                  <a:pt x="326" y="825"/>
                </a:lnTo>
                <a:lnTo>
                  <a:pt x="328" y="820"/>
                </a:lnTo>
                <a:lnTo>
                  <a:pt x="330" y="812"/>
                </a:lnTo>
                <a:lnTo>
                  <a:pt x="332" y="804"/>
                </a:lnTo>
                <a:lnTo>
                  <a:pt x="336" y="795"/>
                </a:lnTo>
                <a:lnTo>
                  <a:pt x="338" y="785"/>
                </a:lnTo>
                <a:lnTo>
                  <a:pt x="340" y="776"/>
                </a:lnTo>
                <a:lnTo>
                  <a:pt x="342" y="766"/>
                </a:lnTo>
                <a:lnTo>
                  <a:pt x="345" y="754"/>
                </a:lnTo>
                <a:lnTo>
                  <a:pt x="349" y="733"/>
                </a:lnTo>
                <a:lnTo>
                  <a:pt x="351" y="710"/>
                </a:lnTo>
                <a:lnTo>
                  <a:pt x="353" y="687"/>
                </a:lnTo>
                <a:lnTo>
                  <a:pt x="355" y="664"/>
                </a:lnTo>
                <a:lnTo>
                  <a:pt x="357" y="639"/>
                </a:lnTo>
                <a:lnTo>
                  <a:pt x="357" y="612"/>
                </a:lnTo>
                <a:lnTo>
                  <a:pt x="357" y="599"/>
                </a:lnTo>
                <a:lnTo>
                  <a:pt x="357" y="585"/>
                </a:lnTo>
                <a:lnTo>
                  <a:pt x="357" y="570"/>
                </a:lnTo>
                <a:lnTo>
                  <a:pt x="357" y="555"/>
                </a:lnTo>
                <a:lnTo>
                  <a:pt x="357" y="493"/>
                </a:lnTo>
                <a:lnTo>
                  <a:pt x="357" y="461"/>
                </a:lnTo>
                <a:lnTo>
                  <a:pt x="355" y="430"/>
                </a:lnTo>
                <a:lnTo>
                  <a:pt x="353" y="397"/>
                </a:lnTo>
                <a:lnTo>
                  <a:pt x="351" y="365"/>
                </a:lnTo>
                <a:lnTo>
                  <a:pt x="349" y="330"/>
                </a:lnTo>
                <a:lnTo>
                  <a:pt x="345" y="296"/>
                </a:lnTo>
                <a:lnTo>
                  <a:pt x="342" y="278"/>
                </a:lnTo>
                <a:lnTo>
                  <a:pt x="338" y="261"/>
                </a:lnTo>
                <a:lnTo>
                  <a:pt x="336" y="246"/>
                </a:lnTo>
                <a:lnTo>
                  <a:pt x="330" y="230"/>
                </a:lnTo>
                <a:lnTo>
                  <a:pt x="326" y="217"/>
                </a:lnTo>
                <a:lnTo>
                  <a:pt x="320" y="203"/>
                </a:lnTo>
                <a:lnTo>
                  <a:pt x="315" y="190"/>
                </a:lnTo>
                <a:lnTo>
                  <a:pt x="309" y="179"/>
                </a:lnTo>
                <a:lnTo>
                  <a:pt x="303" y="167"/>
                </a:lnTo>
                <a:lnTo>
                  <a:pt x="297" y="157"/>
                </a:lnTo>
                <a:lnTo>
                  <a:pt x="290" y="148"/>
                </a:lnTo>
                <a:lnTo>
                  <a:pt x="284" y="138"/>
                </a:lnTo>
                <a:lnTo>
                  <a:pt x="276" y="129"/>
                </a:lnTo>
                <a:lnTo>
                  <a:pt x="271" y="121"/>
                </a:lnTo>
                <a:lnTo>
                  <a:pt x="263" y="113"/>
                </a:lnTo>
                <a:lnTo>
                  <a:pt x="255" y="10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25"/>
          <p:cNvSpPr/>
          <p:nvPr/>
        </p:nvSpPr>
        <p:spPr>
          <a:xfrm>
            <a:off x="6130800" y="4203720"/>
            <a:ext cx="1368720" cy="252360"/>
          </a:xfrm>
          <a:custGeom>
            <a:avLst/>
            <a:gdLst/>
            <a:ahLst/>
            <a:rect l="l" t="t" r="r" b="b"/>
            <a:pathLst>
              <a:path w="1724" h="319">
                <a:moveTo>
                  <a:pt x="1724" y="106"/>
                </a:moveTo>
                <a:lnTo>
                  <a:pt x="1724" y="109"/>
                </a:lnTo>
                <a:lnTo>
                  <a:pt x="1722" y="115"/>
                </a:lnTo>
                <a:lnTo>
                  <a:pt x="1718" y="119"/>
                </a:lnTo>
                <a:lnTo>
                  <a:pt x="1712" y="123"/>
                </a:lnTo>
                <a:lnTo>
                  <a:pt x="1706" y="127"/>
                </a:lnTo>
                <a:lnTo>
                  <a:pt x="1703" y="129"/>
                </a:lnTo>
                <a:lnTo>
                  <a:pt x="1697" y="132"/>
                </a:lnTo>
                <a:lnTo>
                  <a:pt x="1693" y="134"/>
                </a:lnTo>
                <a:lnTo>
                  <a:pt x="1687" y="136"/>
                </a:lnTo>
                <a:lnTo>
                  <a:pt x="1680" y="138"/>
                </a:lnTo>
                <a:lnTo>
                  <a:pt x="1674" y="140"/>
                </a:lnTo>
                <a:lnTo>
                  <a:pt x="1670" y="142"/>
                </a:lnTo>
                <a:lnTo>
                  <a:pt x="1666" y="142"/>
                </a:lnTo>
                <a:lnTo>
                  <a:pt x="1660" y="144"/>
                </a:lnTo>
                <a:lnTo>
                  <a:pt x="1655" y="144"/>
                </a:lnTo>
                <a:lnTo>
                  <a:pt x="1649" y="146"/>
                </a:lnTo>
                <a:lnTo>
                  <a:pt x="1643" y="146"/>
                </a:lnTo>
                <a:lnTo>
                  <a:pt x="1635" y="148"/>
                </a:lnTo>
                <a:lnTo>
                  <a:pt x="1628" y="148"/>
                </a:lnTo>
                <a:lnTo>
                  <a:pt x="1620" y="148"/>
                </a:lnTo>
                <a:lnTo>
                  <a:pt x="1612" y="148"/>
                </a:lnTo>
                <a:lnTo>
                  <a:pt x="1603" y="150"/>
                </a:lnTo>
                <a:lnTo>
                  <a:pt x="1593" y="150"/>
                </a:lnTo>
                <a:lnTo>
                  <a:pt x="1584" y="150"/>
                </a:lnTo>
                <a:lnTo>
                  <a:pt x="1572" y="150"/>
                </a:lnTo>
                <a:lnTo>
                  <a:pt x="1562" y="152"/>
                </a:lnTo>
                <a:lnTo>
                  <a:pt x="1549" y="152"/>
                </a:lnTo>
                <a:lnTo>
                  <a:pt x="1538" y="152"/>
                </a:lnTo>
                <a:lnTo>
                  <a:pt x="1526" y="152"/>
                </a:lnTo>
                <a:lnTo>
                  <a:pt x="1513" y="152"/>
                </a:lnTo>
                <a:lnTo>
                  <a:pt x="1499" y="152"/>
                </a:lnTo>
                <a:lnTo>
                  <a:pt x="1484" y="152"/>
                </a:lnTo>
                <a:lnTo>
                  <a:pt x="1468" y="152"/>
                </a:lnTo>
                <a:lnTo>
                  <a:pt x="1455" y="152"/>
                </a:lnTo>
                <a:lnTo>
                  <a:pt x="1438" y="152"/>
                </a:lnTo>
                <a:lnTo>
                  <a:pt x="1422" y="152"/>
                </a:lnTo>
                <a:lnTo>
                  <a:pt x="1405" y="152"/>
                </a:lnTo>
                <a:lnTo>
                  <a:pt x="1388" y="152"/>
                </a:lnTo>
                <a:lnTo>
                  <a:pt x="1371" y="154"/>
                </a:lnTo>
                <a:lnTo>
                  <a:pt x="1351" y="154"/>
                </a:lnTo>
                <a:lnTo>
                  <a:pt x="1332" y="154"/>
                </a:lnTo>
                <a:lnTo>
                  <a:pt x="1313" y="154"/>
                </a:lnTo>
                <a:lnTo>
                  <a:pt x="1294" y="154"/>
                </a:lnTo>
                <a:lnTo>
                  <a:pt x="1250" y="154"/>
                </a:lnTo>
                <a:lnTo>
                  <a:pt x="1207" y="154"/>
                </a:lnTo>
                <a:lnTo>
                  <a:pt x="1165" y="156"/>
                </a:lnTo>
                <a:lnTo>
                  <a:pt x="1121" y="157"/>
                </a:lnTo>
                <a:lnTo>
                  <a:pt x="1079" y="159"/>
                </a:lnTo>
                <a:lnTo>
                  <a:pt x="1037" y="163"/>
                </a:lnTo>
                <a:lnTo>
                  <a:pt x="992" y="167"/>
                </a:lnTo>
                <a:lnTo>
                  <a:pt x="950" y="171"/>
                </a:lnTo>
                <a:lnTo>
                  <a:pt x="906" y="177"/>
                </a:lnTo>
                <a:lnTo>
                  <a:pt x="862" y="182"/>
                </a:lnTo>
                <a:lnTo>
                  <a:pt x="818" y="190"/>
                </a:lnTo>
                <a:lnTo>
                  <a:pt x="774" y="198"/>
                </a:lnTo>
                <a:lnTo>
                  <a:pt x="729" y="205"/>
                </a:lnTo>
                <a:lnTo>
                  <a:pt x="685" y="215"/>
                </a:lnTo>
                <a:lnTo>
                  <a:pt x="641" y="225"/>
                </a:lnTo>
                <a:lnTo>
                  <a:pt x="597" y="236"/>
                </a:lnTo>
                <a:lnTo>
                  <a:pt x="574" y="240"/>
                </a:lnTo>
                <a:lnTo>
                  <a:pt x="553" y="246"/>
                </a:lnTo>
                <a:lnTo>
                  <a:pt x="532" y="251"/>
                </a:lnTo>
                <a:lnTo>
                  <a:pt x="511" y="255"/>
                </a:lnTo>
                <a:lnTo>
                  <a:pt x="491" y="261"/>
                </a:lnTo>
                <a:lnTo>
                  <a:pt x="472" y="265"/>
                </a:lnTo>
                <a:lnTo>
                  <a:pt x="455" y="269"/>
                </a:lnTo>
                <a:lnTo>
                  <a:pt x="436" y="273"/>
                </a:lnTo>
                <a:lnTo>
                  <a:pt x="420" y="276"/>
                </a:lnTo>
                <a:lnTo>
                  <a:pt x="403" y="280"/>
                </a:lnTo>
                <a:lnTo>
                  <a:pt x="388" y="284"/>
                </a:lnTo>
                <a:lnTo>
                  <a:pt x="372" y="288"/>
                </a:lnTo>
                <a:lnTo>
                  <a:pt x="357" y="290"/>
                </a:lnTo>
                <a:lnTo>
                  <a:pt x="344" y="294"/>
                </a:lnTo>
                <a:lnTo>
                  <a:pt x="330" y="296"/>
                </a:lnTo>
                <a:lnTo>
                  <a:pt x="317" y="299"/>
                </a:lnTo>
                <a:lnTo>
                  <a:pt x="305" y="301"/>
                </a:lnTo>
                <a:lnTo>
                  <a:pt x="294" y="303"/>
                </a:lnTo>
                <a:lnTo>
                  <a:pt x="282" y="305"/>
                </a:lnTo>
                <a:lnTo>
                  <a:pt x="273" y="307"/>
                </a:lnTo>
                <a:lnTo>
                  <a:pt x="263" y="309"/>
                </a:lnTo>
                <a:lnTo>
                  <a:pt x="253" y="311"/>
                </a:lnTo>
                <a:lnTo>
                  <a:pt x="244" y="313"/>
                </a:lnTo>
                <a:lnTo>
                  <a:pt x="236" y="313"/>
                </a:lnTo>
                <a:lnTo>
                  <a:pt x="228" y="315"/>
                </a:lnTo>
                <a:lnTo>
                  <a:pt x="221" y="315"/>
                </a:lnTo>
                <a:lnTo>
                  <a:pt x="215" y="317"/>
                </a:lnTo>
                <a:lnTo>
                  <a:pt x="209" y="317"/>
                </a:lnTo>
                <a:lnTo>
                  <a:pt x="204" y="317"/>
                </a:lnTo>
                <a:lnTo>
                  <a:pt x="200" y="317"/>
                </a:lnTo>
                <a:lnTo>
                  <a:pt x="194" y="317"/>
                </a:lnTo>
                <a:lnTo>
                  <a:pt x="190" y="319"/>
                </a:lnTo>
                <a:lnTo>
                  <a:pt x="177" y="317"/>
                </a:lnTo>
                <a:lnTo>
                  <a:pt x="161" y="315"/>
                </a:lnTo>
                <a:lnTo>
                  <a:pt x="148" y="313"/>
                </a:lnTo>
                <a:lnTo>
                  <a:pt x="134" y="307"/>
                </a:lnTo>
                <a:lnTo>
                  <a:pt x="119" y="301"/>
                </a:lnTo>
                <a:lnTo>
                  <a:pt x="111" y="298"/>
                </a:lnTo>
                <a:lnTo>
                  <a:pt x="106" y="294"/>
                </a:lnTo>
                <a:lnTo>
                  <a:pt x="98" y="288"/>
                </a:lnTo>
                <a:lnTo>
                  <a:pt x="90" y="282"/>
                </a:lnTo>
                <a:lnTo>
                  <a:pt x="85" y="276"/>
                </a:lnTo>
                <a:lnTo>
                  <a:pt x="77" y="271"/>
                </a:lnTo>
                <a:lnTo>
                  <a:pt x="67" y="265"/>
                </a:lnTo>
                <a:lnTo>
                  <a:pt x="60" y="257"/>
                </a:lnTo>
                <a:lnTo>
                  <a:pt x="52" y="251"/>
                </a:lnTo>
                <a:lnTo>
                  <a:pt x="44" y="246"/>
                </a:lnTo>
                <a:lnTo>
                  <a:pt x="37" y="240"/>
                </a:lnTo>
                <a:lnTo>
                  <a:pt x="31" y="234"/>
                </a:lnTo>
                <a:lnTo>
                  <a:pt x="25" y="230"/>
                </a:lnTo>
                <a:lnTo>
                  <a:pt x="19" y="225"/>
                </a:lnTo>
                <a:lnTo>
                  <a:pt x="15" y="221"/>
                </a:lnTo>
                <a:lnTo>
                  <a:pt x="12" y="215"/>
                </a:lnTo>
                <a:lnTo>
                  <a:pt x="8" y="211"/>
                </a:lnTo>
                <a:lnTo>
                  <a:pt x="6" y="205"/>
                </a:lnTo>
                <a:lnTo>
                  <a:pt x="4" y="202"/>
                </a:lnTo>
                <a:lnTo>
                  <a:pt x="2" y="198"/>
                </a:lnTo>
                <a:lnTo>
                  <a:pt x="0" y="192"/>
                </a:lnTo>
                <a:lnTo>
                  <a:pt x="0" y="188"/>
                </a:lnTo>
                <a:lnTo>
                  <a:pt x="35" y="188"/>
                </a:lnTo>
                <a:lnTo>
                  <a:pt x="69" y="186"/>
                </a:lnTo>
                <a:lnTo>
                  <a:pt x="106" y="184"/>
                </a:lnTo>
                <a:lnTo>
                  <a:pt x="142" y="180"/>
                </a:lnTo>
                <a:lnTo>
                  <a:pt x="179" y="177"/>
                </a:lnTo>
                <a:lnTo>
                  <a:pt x="217" y="173"/>
                </a:lnTo>
                <a:lnTo>
                  <a:pt x="292" y="165"/>
                </a:lnTo>
                <a:lnTo>
                  <a:pt x="309" y="161"/>
                </a:lnTo>
                <a:lnTo>
                  <a:pt x="326" y="159"/>
                </a:lnTo>
                <a:lnTo>
                  <a:pt x="346" y="156"/>
                </a:lnTo>
                <a:lnTo>
                  <a:pt x="365" y="154"/>
                </a:lnTo>
                <a:lnTo>
                  <a:pt x="386" y="150"/>
                </a:lnTo>
                <a:lnTo>
                  <a:pt x="407" y="146"/>
                </a:lnTo>
                <a:lnTo>
                  <a:pt x="428" y="144"/>
                </a:lnTo>
                <a:lnTo>
                  <a:pt x="451" y="140"/>
                </a:lnTo>
                <a:lnTo>
                  <a:pt x="474" y="136"/>
                </a:lnTo>
                <a:lnTo>
                  <a:pt x="497" y="132"/>
                </a:lnTo>
                <a:lnTo>
                  <a:pt x="520" y="127"/>
                </a:lnTo>
                <a:lnTo>
                  <a:pt x="545" y="123"/>
                </a:lnTo>
                <a:lnTo>
                  <a:pt x="595" y="115"/>
                </a:lnTo>
                <a:lnTo>
                  <a:pt x="647" y="106"/>
                </a:lnTo>
                <a:lnTo>
                  <a:pt x="699" y="96"/>
                </a:lnTo>
                <a:lnTo>
                  <a:pt x="752" y="88"/>
                </a:lnTo>
                <a:lnTo>
                  <a:pt x="804" y="79"/>
                </a:lnTo>
                <a:lnTo>
                  <a:pt x="860" y="69"/>
                </a:lnTo>
                <a:lnTo>
                  <a:pt x="914" y="61"/>
                </a:lnTo>
                <a:lnTo>
                  <a:pt x="971" y="52"/>
                </a:lnTo>
                <a:lnTo>
                  <a:pt x="1000" y="48"/>
                </a:lnTo>
                <a:lnTo>
                  <a:pt x="1029" y="44"/>
                </a:lnTo>
                <a:lnTo>
                  <a:pt x="1060" y="38"/>
                </a:lnTo>
                <a:lnTo>
                  <a:pt x="1090" y="35"/>
                </a:lnTo>
                <a:lnTo>
                  <a:pt x="1119" y="31"/>
                </a:lnTo>
                <a:lnTo>
                  <a:pt x="1146" y="27"/>
                </a:lnTo>
                <a:lnTo>
                  <a:pt x="1173" y="23"/>
                </a:lnTo>
                <a:lnTo>
                  <a:pt x="1200" y="19"/>
                </a:lnTo>
                <a:lnTo>
                  <a:pt x="1225" y="15"/>
                </a:lnTo>
                <a:lnTo>
                  <a:pt x="1250" y="13"/>
                </a:lnTo>
                <a:lnTo>
                  <a:pt x="1275" y="10"/>
                </a:lnTo>
                <a:lnTo>
                  <a:pt x="1298" y="8"/>
                </a:lnTo>
                <a:lnTo>
                  <a:pt x="1321" y="6"/>
                </a:lnTo>
                <a:lnTo>
                  <a:pt x="1344" y="4"/>
                </a:lnTo>
                <a:lnTo>
                  <a:pt x="1365" y="2"/>
                </a:lnTo>
                <a:lnTo>
                  <a:pt x="1384" y="2"/>
                </a:lnTo>
                <a:lnTo>
                  <a:pt x="1403" y="0"/>
                </a:lnTo>
                <a:lnTo>
                  <a:pt x="1422" y="0"/>
                </a:lnTo>
                <a:lnTo>
                  <a:pt x="1442" y="0"/>
                </a:lnTo>
                <a:lnTo>
                  <a:pt x="1459" y="0"/>
                </a:lnTo>
                <a:lnTo>
                  <a:pt x="1474" y="0"/>
                </a:lnTo>
                <a:lnTo>
                  <a:pt x="1490" y="0"/>
                </a:lnTo>
                <a:lnTo>
                  <a:pt x="1505" y="0"/>
                </a:lnTo>
                <a:lnTo>
                  <a:pt x="1520" y="2"/>
                </a:lnTo>
                <a:lnTo>
                  <a:pt x="1534" y="2"/>
                </a:lnTo>
                <a:lnTo>
                  <a:pt x="1547" y="4"/>
                </a:lnTo>
                <a:lnTo>
                  <a:pt x="1561" y="6"/>
                </a:lnTo>
                <a:lnTo>
                  <a:pt x="1574" y="8"/>
                </a:lnTo>
                <a:lnTo>
                  <a:pt x="1597" y="13"/>
                </a:lnTo>
                <a:lnTo>
                  <a:pt x="1620" y="19"/>
                </a:lnTo>
                <a:lnTo>
                  <a:pt x="1641" y="27"/>
                </a:lnTo>
                <a:lnTo>
                  <a:pt x="1660" y="35"/>
                </a:lnTo>
                <a:lnTo>
                  <a:pt x="1674" y="48"/>
                </a:lnTo>
                <a:lnTo>
                  <a:pt x="1687" y="60"/>
                </a:lnTo>
                <a:lnTo>
                  <a:pt x="1697" y="69"/>
                </a:lnTo>
                <a:lnTo>
                  <a:pt x="1706" y="79"/>
                </a:lnTo>
                <a:lnTo>
                  <a:pt x="1710" y="83"/>
                </a:lnTo>
                <a:lnTo>
                  <a:pt x="1714" y="88"/>
                </a:lnTo>
                <a:lnTo>
                  <a:pt x="1718" y="90"/>
                </a:lnTo>
                <a:lnTo>
                  <a:pt x="1720" y="94"/>
                </a:lnTo>
                <a:lnTo>
                  <a:pt x="1722" y="98"/>
                </a:lnTo>
                <a:lnTo>
                  <a:pt x="1724" y="100"/>
                </a:lnTo>
                <a:lnTo>
                  <a:pt x="1724" y="104"/>
                </a:lnTo>
                <a:lnTo>
                  <a:pt x="1724" y="10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26"/>
          <p:cNvSpPr/>
          <p:nvPr/>
        </p:nvSpPr>
        <p:spPr>
          <a:xfrm>
            <a:off x="6342120" y="3790800"/>
            <a:ext cx="885600" cy="412920"/>
          </a:xfrm>
          <a:custGeom>
            <a:avLst/>
            <a:gdLst/>
            <a:ahLst/>
            <a:rect l="l" t="t" r="r" b="b"/>
            <a:pathLst>
              <a:path w="1115" h="520">
                <a:moveTo>
                  <a:pt x="1013" y="82"/>
                </a:moveTo>
                <a:lnTo>
                  <a:pt x="1025" y="90"/>
                </a:lnTo>
                <a:lnTo>
                  <a:pt x="1036" y="96"/>
                </a:lnTo>
                <a:lnTo>
                  <a:pt x="1046" y="103"/>
                </a:lnTo>
                <a:lnTo>
                  <a:pt x="1056" y="109"/>
                </a:lnTo>
                <a:lnTo>
                  <a:pt x="1065" y="115"/>
                </a:lnTo>
                <a:lnTo>
                  <a:pt x="1073" y="123"/>
                </a:lnTo>
                <a:lnTo>
                  <a:pt x="1080" y="128"/>
                </a:lnTo>
                <a:lnTo>
                  <a:pt x="1088" y="134"/>
                </a:lnTo>
                <a:lnTo>
                  <a:pt x="1094" y="138"/>
                </a:lnTo>
                <a:lnTo>
                  <a:pt x="1100" y="144"/>
                </a:lnTo>
                <a:lnTo>
                  <a:pt x="1104" y="148"/>
                </a:lnTo>
                <a:lnTo>
                  <a:pt x="1107" y="153"/>
                </a:lnTo>
                <a:lnTo>
                  <a:pt x="1111" y="157"/>
                </a:lnTo>
                <a:lnTo>
                  <a:pt x="1113" y="159"/>
                </a:lnTo>
                <a:lnTo>
                  <a:pt x="1115" y="163"/>
                </a:lnTo>
                <a:lnTo>
                  <a:pt x="1115" y="165"/>
                </a:lnTo>
                <a:lnTo>
                  <a:pt x="1115" y="169"/>
                </a:lnTo>
                <a:lnTo>
                  <a:pt x="1113" y="175"/>
                </a:lnTo>
                <a:lnTo>
                  <a:pt x="1113" y="178"/>
                </a:lnTo>
                <a:lnTo>
                  <a:pt x="1111" y="180"/>
                </a:lnTo>
                <a:lnTo>
                  <a:pt x="1107" y="184"/>
                </a:lnTo>
                <a:lnTo>
                  <a:pt x="1105" y="188"/>
                </a:lnTo>
                <a:lnTo>
                  <a:pt x="1102" y="190"/>
                </a:lnTo>
                <a:lnTo>
                  <a:pt x="1098" y="194"/>
                </a:lnTo>
                <a:lnTo>
                  <a:pt x="1088" y="199"/>
                </a:lnTo>
                <a:lnTo>
                  <a:pt x="1079" y="203"/>
                </a:lnTo>
                <a:lnTo>
                  <a:pt x="1065" y="207"/>
                </a:lnTo>
                <a:lnTo>
                  <a:pt x="1052" y="213"/>
                </a:lnTo>
                <a:lnTo>
                  <a:pt x="1046" y="213"/>
                </a:lnTo>
                <a:lnTo>
                  <a:pt x="1040" y="215"/>
                </a:lnTo>
                <a:lnTo>
                  <a:pt x="1034" y="219"/>
                </a:lnTo>
                <a:lnTo>
                  <a:pt x="1029" y="221"/>
                </a:lnTo>
                <a:lnTo>
                  <a:pt x="1021" y="224"/>
                </a:lnTo>
                <a:lnTo>
                  <a:pt x="1011" y="228"/>
                </a:lnTo>
                <a:lnTo>
                  <a:pt x="1004" y="232"/>
                </a:lnTo>
                <a:lnTo>
                  <a:pt x="994" y="236"/>
                </a:lnTo>
                <a:lnTo>
                  <a:pt x="985" y="242"/>
                </a:lnTo>
                <a:lnTo>
                  <a:pt x="973" y="247"/>
                </a:lnTo>
                <a:lnTo>
                  <a:pt x="961" y="255"/>
                </a:lnTo>
                <a:lnTo>
                  <a:pt x="950" y="261"/>
                </a:lnTo>
                <a:lnTo>
                  <a:pt x="938" y="269"/>
                </a:lnTo>
                <a:lnTo>
                  <a:pt x="925" y="276"/>
                </a:lnTo>
                <a:lnTo>
                  <a:pt x="912" y="286"/>
                </a:lnTo>
                <a:lnTo>
                  <a:pt x="898" y="294"/>
                </a:lnTo>
                <a:lnTo>
                  <a:pt x="883" y="303"/>
                </a:lnTo>
                <a:lnTo>
                  <a:pt x="867" y="315"/>
                </a:lnTo>
                <a:lnTo>
                  <a:pt x="850" y="324"/>
                </a:lnTo>
                <a:lnTo>
                  <a:pt x="833" y="336"/>
                </a:lnTo>
                <a:lnTo>
                  <a:pt x="816" y="347"/>
                </a:lnTo>
                <a:lnTo>
                  <a:pt x="798" y="361"/>
                </a:lnTo>
                <a:lnTo>
                  <a:pt x="779" y="374"/>
                </a:lnTo>
                <a:lnTo>
                  <a:pt x="760" y="388"/>
                </a:lnTo>
                <a:lnTo>
                  <a:pt x="741" y="401"/>
                </a:lnTo>
                <a:lnTo>
                  <a:pt x="720" y="416"/>
                </a:lnTo>
                <a:lnTo>
                  <a:pt x="699" y="432"/>
                </a:lnTo>
                <a:lnTo>
                  <a:pt x="677" y="449"/>
                </a:lnTo>
                <a:lnTo>
                  <a:pt x="654" y="464"/>
                </a:lnTo>
                <a:lnTo>
                  <a:pt x="631" y="482"/>
                </a:lnTo>
                <a:lnTo>
                  <a:pt x="606" y="501"/>
                </a:lnTo>
                <a:lnTo>
                  <a:pt x="583" y="520"/>
                </a:lnTo>
                <a:lnTo>
                  <a:pt x="564" y="484"/>
                </a:lnTo>
                <a:lnTo>
                  <a:pt x="545" y="449"/>
                </a:lnTo>
                <a:lnTo>
                  <a:pt x="560" y="432"/>
                </a:lnTo>
                <a:lnTo>
                  <a:pt x="576" y="416"/>
                </a:lnTo>
                <a:lnTo>
                  <a:pt x="591" y="401"/>
                </a:lnTo>
                <a:lnTo>
                  <a:pt x="606" y="386"/>
                </a:lnTo>
                <a:lnTo>
                  <a:pt x="620" y="370"/>
                </a:lnTo>
                <a:lnTo>
                  <a:pt x="635" y="357"/>
                </a:lnTo>
                <a:lnTo>
                  <a:pt x="647" y="342"/>
                </a:lnTo>
                <a:lnTo>
                  <a:pt x="660" y="328"/>
                </a:lnTo>
                <a:lnTo>
                  <a:pt x="672" y="317"/>
                </a:lnTo>
                <a:lnTo>
                  <a:pt x="683" y="303"/>
                </a:lnTo>
                <a:lnTo>
                  <a:pt x="695" y="292"/>
                </a:lnTo>
                <a:lnTo>
                  <a:pt x="706" y="280"/>
                </a:lnTo>
                <a:lnTo>
                  <a:pt x="716" y="269"/>
                </a:lnTo>
                <a:lnTo>
                  <a:pt x="725" y="259"/>
                </a:lnTo>
                <a:lnTo>
                  <a:pt x="733" y="247"/>
                </a:lnTo>
                <a:lnTo>
                  <a:pt x="743" y="238"/>
                </a:lnTo>
                <a:lnTo>
                  <a:pt x="750" y="230"/>
                </a:lnTo>
                <a:lnTo>
                  <a:pt x="756" y="221"/>
                </a:lnTo>
                <a:lnTo>
                  <a:pt x="764" y="213"/>
                </a:lnTo>
                <a:lnTo>
                  <a:pt x="770" y="205"/>
                </a:lnTo>
                <a:lnTo>
                  <a:pt x="775" y="198"/>
                </a:lnTo>
                <a:lnTo>
                  <a:pt x="781" y="192"/>
                </a:lnTo>
                <a:lnTo>
                  <a:pt x="785" y="186"/>
                </a:lnTo>
                <a:lnTo>
                  <a:pt x="789" y="180"/>
                </a:lnTo>
                <a:lnTo>
                  <a:pt x="793" y="175"/>
                </a:lnTo>
                <a:lnTo>
                  <a:pt x="794" y="171"/>
                </a:lnTo>
                <a:lnTo>
                  <a:pt x="796" y="167"/>
                </a:lnTo>
                <a:lnTo>
                  <a:pt x="798" y="163"/>
                </a:lnTo>
                <a:lnTo>
                  <a:pt x="798" y="159"/>
                </a:lnTo>
                <a:lnTo>
                  <a:pt x="798" y="157"/>
                </a:lnTo>
                <a:lnTo>
                  <a:pt x="798" y="155"/>
                </a:lnTo>
                <a:lnTo>
                  <a:pt x="798" y="153"/>
                </a:lnTo>
                <a:lnTo>
                  <a:pt x="796" y="153"/>
                </a:lnTo>
                <a:lnTo>
                  <a:pt x="794" y="151"/>
                </a:lnTo>
                <a:lnTo>
                  <a:pt x="793" y="151"/>
                </a:lnTo>
                <a:lnTo>
                  <a:pt x="789" y="151"/>
                </a:lnTo>
                <a:lnTo>
                  <a:pt x="785" y="151"/>
                </a:lnTo>
                <a:lnTo>
                  <a:pt x="781" y="151"/>
                </a:lnTo>
                <a:lnTo>
                  <a:pt x="777" y="151"/>
                </a:lnTo>
                <a:lnTo>
                  <a:pt x="771" y="151"/>
                </a:lnTo>
                <a:lnTo>
                  <a:pt x="766" y="151"/>
                </a:lnTo>
                <a:lnTo>
                  <a:pt x="760" y="153"/>
                </a:lnTo>
                <a:lnTo>
                  <a:pt x="752" y="153"/>
                </a:lnTo>
                <a:lnTo>
                  <a:pt x="745" y="155"/>
                </a:lnTo>
                <a:lnTo>
                  <a:pt x="737" y="157"/>
                </a:lnTo>
                <a:lnTo>
                  <a:pt x="727" y="159"/>
                </a:lnTo>
                <a:lnTo>
                  <a:pt x="720" y="161"/>
                </a:lnTo>
                <a:lnTo>
                  <a:pt x="710" y="163"/>
                </a:lnTo>
                <a:lnTo>
                  <a:pt x="699" y="165"/>
                </a:lnTo>
                <a:lnTo>
                  <a:pt x="687" y="167"/>
                </a:lnTo>
                <a:lnTo>
                  <a:pt x="675" y="169"/>
                </a:lnTo>
                <a:lnTo>
                  <a:pt x="664" y="173"/>
                </a:lnTo>
                <a:lnTo>
                  <a:pt x="651" y="176"/>
                </a:lnTo>
                <a:lnTo>
                  <a:pt x="637" y="178"/>
                </a:lnTo>
                <a:lnTo>
                  <a:pt x="624" y="182"/>
                </a:lnTo>
                <a:lnTo>
                  <a:pt x="608" y="186"/>
                </a:lnTo>
                <a:lnTo>
                  <a:pt x="593" y="190"/>
                </a:lnTo>
                <a:lnTo>
                  <a:pt x="578" y="194"/>
                </a:lnTo>
                <a:lnTo>
                  <a:pt x="560" y="199"/>
                </a:lnTo>
                <a:lnTo>
                  <a:pt x="545" y="203"/>
                </a:lnTo>
                <a:lnTo>
                  <a:pt x="526" y="209"/>
                </a:lnTo>
                <a:lnTo>
                  <a:pt x="508" y="213"/>
                </a:lnTo>
                <a:lnTo>
                  <a:pt x="489" y="219"/>
                </a:lnTo>
                <a:lnTo>
                  <a:pt x="468" y="224"/>
                </a:lnTo>
                <a:lnTo>
                  <a:pt x="449" y="230"/>
                </a:lnTo>
                <a:lnTo>
                  <a:pt x="430" y="236"/>
                </a:lnTo>
                <a:lnTo>
                  <a:pt x="411" y="240"/>
                </a:lnTo>
                <a:lnTo>
                  <a:pt x="391" y="246"/>
                </a:lnTo>
                <a:lnTo>
                  <a:pt x="374" y="249"/>
                </a:lnTo>
                <a:lnTo>
                  <a:pt x="357" y="255"/>
                </a:lnTo>
                <a:lnTo>
                  <a:pt x="340" y="259"/>
                </a:lnTo>
                <a:lnTo>
                  <a:pt x="324" y="263"/>
                </a:lnTo>
                <a:lnTo>
                  <a:pt x="309" y="267"/>
                </a:lnTo>
                <a:lnTo>
                  <a:pt x="294" y="270"/>
                </a:lnTo>
                <a:lnTo>
                  <a:pt x="278" y="272"/>
                </a:lnTo>
                <a:lnTo>
                  <a:pt x="265" y="276"/>
                </a:lnTo>
                <a:lnTo>
                  <a:pt x="249" y="278"/>
                </a:lnTo>
                <a:lnTo>
                  <a:pt x="238" y="282"/>
                </a:lnTo>
                <a:lnTo>
                  <a:pt x="224" y="284"/>
                </a:lnTo>
                <a:lnTo>
                  <a:pt x="213" y="286"/>
                </a:lnTo>
                <a:lnTo>
                  <a:pt x="201" y="288"/>
                </a:lnTo>
                <a:lnTo>
                  <a:pt x="190" y="290"/>
                </a:lnTo>
                <a:lnTo>
                  <a:pt x="178" y="290"/>
                </a:lnTo>
                <a:lnTo>
                  <a:pt x="169" y="292"/>
                </a:lnTo>
                <a:lnTo>
                  <a:pt x="159" y="292"/>
                </a:lnTo>
                <a:lnTo>
                  <a:pt x="150" y="292"/>
                </a:lnTo>
                <a:lnTo>
                  <a:pt x="142" y="294"/>
                </a:lnTo>
                <a:lnTo>
                  <a:pt x="134" y="294"/>
                </a:lnTo>
                <a:lnTo>
                  <a:pt x="127" y="294"/>
                </a:lnTo>
                <a:lnTo>
                  <a:pt x="119" y="292"/>
                </a:lnTo>
                <a:lnTo>
                  <a:pt x="113" y="292"/>
                </a:lnTo>
                <a:lnTo>
                  <a:pt x="107" y="290"/>
                </a:lnTo>
                <a:lnTo>
                  <a:pt x="102" y="290"/>
                </a:lnTo>
                <a:lnTo>
                  <a:pt x="96" y="288"/>
                </a:lnTo>
                <a:lnTo>
                  <a:pt x="92" y="286"/>
                </a:lnTo>
                <a:lnTo>
                  <a:pt x="88" y="284"/>
                </a:lnTo>
                <a:lnTo>
                  <a:pt x="82" y="280"/>
                </a:lnTo>
                <a:lnTo>
                  <a:pt x="75" y="278"/>
                </a:lnTo>
                <a:lnTo>
                  <a:pt x="69" y="274"/>
                </a:lnTo>
                <a:lnTo>
                  <a:pt x="63" y="270"/>
                </a:lnTo>
                <a:lnTo>
                  <a:pt x="56" y="265"/>
                </a:lnTo>
                <a:lnTo>
                  <a:pt x="50" y="261"/>
                </a:lnTo>
                <a:lnTo>
                  <a:pt x="44" y="255"/>
                </a:lnTo>
                <a:lnTo>
                  <a:pt x="40" y="247"/>
                </a:lnTo>
                <a:lnTo>
                  <a:pt x="34" y="242"/>
                </a:lnTo>
                <a:lnTo>
                  <a:pt x="29" y="234"/>
                </a:lnTo>
                <a:lnTo>
                  <a:pt x="25" y="226"/>
                </a:lnTo>
                <a:lnTo>
                  <a:pt x="19" y="217"/>
                </a:lnTo>
                <a:lnTo>
                  <a:pt x="13" y="209"/>
                </a:lnTo>
                <a:lnTo>
                  <a:pt x="9" y="198"/>
                </a:lnTo>
                <a:lnTo>
                  <a:pt x="4" y="188"/>
                </a:lnTo>
                <a:lnTo>
                  <a:pt x="0" y="178"/>
                </a:lnTo>
                <a:lnTo>
                  <a:pt x="11" y="175"/>
                </a:lnTo>
                <a:lnTo>
                  <a:pt x="25" y="173"/>
                </a:lnTo>
                <a:lnTo>
                  <a:pt x="38" y="173"/>
                </a:lnTo>
                <a:lnTo>
                  <a:pt x="52" y="171"/>
                </a:lnTo>
                <a:lnTo>
                  <a:pt x="80" y="169"/>
                </a:lnTo>
                <a:lnTo>
                  <a:pt x="111" y="165"/>
                </a:lnTo>
                <a:lnTo>
                  <a:pt x="142" y="163"/>
                </a:lnTo>
                <a:lnTo>
                  <a:pt x="175" y="161"/>
                </a:lnTo>
                <a:lnTo>
                  <a:pt x="207" y="157"/>
                </a:lnTo>
                <a:lnTo>
                  <a:pt x="242" y="153"/>
                </a:lnTo>
                <a:lnTo>
                  <a:pt x="307" y="144"/>
                </a:lnTo>
                <a:lnTo>
                  <a:pt x="340" y="140"/>
                </a:lnTo>
                <a:lnTo>
                  <a:pt x="374" y="134"/>
                </a:lnTo>
                <a:lnTo>
                  <a:pt x="407" y="128"/>
                </a:lnTo>
                <a:lnTo>
                  <a:pt x="439" y="123"/>
                </a:lnTo>
                <a:lnTo>
                  <a:pt x="474" y="115"/>
                </a:lnTo>
                <a:lnTo>
                  <a:pt x="507" y="107"/>
                </a:lnTo>
                <a:lnTo>
                  <a:pt x="524" y="103"/>
                </a:lnTo>
                <a:lnTo>
                  <a:pt x="539" y="102"/>
                </a:lnTo>
                <a:lnTo>
                  <a:pt x="555" y="98"/>
                </a:lnTo>
                <a:lnTo>
                  <a:pt x="568" y="96"/>
                </a:lnTo>
                <a:lnTo>
                  <a:pt x="597" y="90"/>
                </a:lnTo>
                <a:lnTo>
                  <a:pt x="624" y="82"/>
                </a:lnTo>
                <a:lnTo>
                  <a:pt x="649" y="77"/>
                </a:lnTo>
                <a:lnTo>
                  <a:pt x="674" y="71"/>
                </a:lnTo>
                <a:lnTo>
                  <a:pt x="699" y="65"/>
                </a:lnTo>
                <a:lnTo>
                  <a:pt x="722" y="59"/>
                </a:lnTo>
                <a:lnTo>
                  <a:pt x="741" y="56"/>
                </a:lnTo>
                <a:lnTo>
                  <a:pt x="758" y="50"/>
                </a:lnTo>
                <a:lnTo>
                  <a:pt x="773" y="46"/>
                </a:lnTo>
                <a:lnTo>
                  <a:pt x="789" y="42"/>
                </a:lnTo>
                <a:lnTo>
                  <a:pt x="802" y="36"/>
                </a:lnTo>
                <a:lnTo>
                  <a:pt x="816" y="32"/>
                </a:lnTo>
                <a:lnTo>
                  <a:pt x="825" y="29"/>
                </a:lnTo>
                <a:lnTo>
                  <a:pt x="837" y="25"/>
                </a:lnTo>
                <a:lnTo>
                  <a:pt x="842" y="19"/>
                </a:lnTo>
                <a:lnTo>
                  <a:pt x="848" y="15"/>
                </a:lnTo>
                <a:lnTo>
                  <a:pt x="856" y="11"/>
                </a:lnTo>
                <a:lnTo>
                  <a:pt x="864" y="8"/>
                </a:lnTo>
                <a:lnTo>
                  <a:pt x="871" y="4"/>
                </a:lnTo>
                <a:lnTo>
                  <a:pt x="881" y="2"/>
                </a:lnTo>
                <a:lnTo>
                  <a:pt x="890" y="2"/>
                </a:lnTo>
                <a:lnTo>
                  <a:pt x="900" y="0"/>
                </a:lnTo>
                <a:lnTo>
                  <a:pt x="902" y="4"/>
                </a:lnTo>
                <a:lnTo>
                  <a:pt x="906" y="6"/>
                </a:lnTo>
                <a:lnTo>
                  <a:pt x="910" y="8"/>
                </a:lnTo>
                <a:lnTo>
                  <a:pt x="913" y="11"/>
                </a:lnTo>
                <a:lnTo>
                  <a:pt x="919" y="15"/>
                </a:lnTo>
                <a:lnTo>
                  <a:pt x="925" y="19"/>
                </a:lnTo>
                <a:lnTo>
                  <a:pt x="931" y="23"/>
                </a:lnTo>
                <a:lnTo>
                  <a:pt x="938" y="29"/>
                </a:lnTo>
                <a:lnTo>
                  <a:pt x="944" y="34"/>
                </a:lnTo>
                <a:lnTo>
                  <a:pt x="954" y="38"/>
                </a:lnTo>
                <a:lnTo>
                  <a:pt x="961" y="46"/>
                </a:lnTo>
                <a:lnTo>
                  <a:pt x="971" y="52"/>
                </a:lnTo>
                <a:lnTo>
                  <a:pt x="981" y="59"/>
                </a:lnTo>
                <a:lnTo>
                  <a:pt x="990" y="67"/>
                </a:lnTo>
                <a:lnTo>
                  <a:pt x="1002" y="75"/>
                </a:lnTo>
                <a:lnTo>
                  <a:pt x="1013" y="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27"/>
          <p:cNvSpPr/>
          <p:nvPr/>
        </p:nvSpPr>
        <p:spPr>
          <a:xfrm>
            <a:off x="5586480" y="2981160"/>
            <a:ext cx="1741320" cy="1598760"/>
          </a:xfrm>
          <a:custGeom>
            <a:avLst/>
            <a:gdLst/>
            <a:ahLst/>
            <a:rect l="l" t="t" r="r" b="b"/>
            <a:pathLst>
              <a:path w="2194" h="2013">
                <a:moveTo>
                  <a:pt x="1915" y="230"/>
                </a:moveTo>
                <a:lnTo>
                  <a:pt x="1921" y="215"/>
                </a:lnTo>
                <a:lnTo>
                  <a:pt x="1929" y="199"/>
                </a:lnTo>
                <a:lnTo>
                  <a:pt x="1935" y="186"/>
                </a:lnTo>
                <a:lnTo>
                  <a:pt x="1940" y="172"/>
                </a:lnTo>
                <a:lnTo>
                  <a:pt x="1946" y="159"/>
                </a:lnTo>
                <a:lnTo>
                  <a:pt x="1950" y="145"/>
                </a:lnTo>
                <a:lnTo>
                  <a:pt x="1956" y="134"/>
                </a:lnTo>
                <a:lnTo>
                  <a:pt x="1960" y="122"/>
                </a:lnTo>
                <a:lnTo>
                  <a:pt x="1961" y="113"/>
                </a:lnTo>
                <a:lnTo>
                  <a:pt x="1965" y="101"/>
                </a:lnTo>
                <a:lnTo>
                  <a:pt x="1967" y="92"/>
                </a:lnTo>
                <a:lnTo>
                  <a:pt x="1967" y="84"/>
                </a:lnTo>
                <a:lnTo>
                  <a:pt x="1969" y="74"/>
                </a:lnTo>
                <a:lnTo>
                  <a:pt x="1969" y="67"/>
                </a:lnTo>
                <a:lnTo>
                  <a:pt x="1967" y="59"/>
                </a:lnTo>
                <a:lnTo>
                  <a:pt x="1965" y="53"/>
                </a:lnTo>
                <a:lnTo>
                  <a:pt x="1961" y="44"/>
                </a:lnTo>
                <a:lnTo>
                  <a:pt x="1958" y="36"/>
                </a:lnTo>
                <a:lnTo>
                  <a:pt x="1958" y="30"/>
                </a:lnTo>
                <a:lnTo>
                  <a:pt x="1958" y="25"/>
                </a:lnTo>
                <a:lnTo>
                  <a:pt x="1958" y="23"/>
                </a:lnTo>
                <a:lnTo>
                  <a:pt x="1960" y="19"/>
                </a:lnTo>
                <a:lnTo>
                  <a:pt x="1961" y="17"/>
                </a:lnTo>
                <a:lnTo>
                  <a:pt x="1963" y="15"/>
                </a:lnTo>
                <a:lnTo>
                  <a:pt x="1967" y="13"/>
                </a:lnTo>
                <a:lnTo>
                  <a:pt x="1969" y="9"/>
                </a:lnTo>
                <a:lnTo>
                  <a:pt x="1973" y="7"/>
                </a:lnTo>
                <a:lnTo>
                  <a:pt x="1979" y="5"/>
                </a:lnTo>
                <a:lnTo>
                  <a:pt x="1981" y="3"/>
                </a:lnTo>
                <a:lnTo>
                  <a:pt x="1984" y="1"/>
                </a:lnTo>
                <a:lnTo>
                  <a:pt x="1986" y="1"/>
                </a:lnTo>
                <a:lnTo>
                  <a:pt x="1990" y="0"/>
                </a:lnTo>
                <a:lnTo>
                  <a:pt x="1998" y="1"/>
                </a:lnTo>
                <a:lnTo>
                  <a:pt x="2008" y="1"/>
                </a:lnTo>
                <a:lnTo>
                  <a:pt x="2017" y="5"/>
                </a:lnTo>
                <a:lnTo>
                  <a:pt x="2029" y="9"/>
                </a:lnTo>
                <a:lnTo>
                  <a:pt x="2040" y="13"/>
                </a:lnTo>
                <a:lnTo>
                  <a:pt x="2054" y="17"/>
                </a:lnTo>
                <a:lnTo>
                  <a:pt x="2067" y="23"/>
                </a:lnTo>
                <a:lnTo>
                  <a:pt x="2080" y="28"/>
                </a:lnTo>
                <a:lnTo>
                  <a:pt x="2094" y="34"/>
                </a:lnTo>
                <a:lnTo>
                  <a:pt x="2105" y="42"/>
                </a:lnTo>
                <a:lnTo>
                  <a:pt x="2117" y="49"/>
                </a:lnTo>
                <a:lnTo>
                  <a:pt x="2128" y="59"/>
                </a:lnTo>
                <a:lnTo>
                  <a:pt x="2142" y="67"/>
                </a:lnTo>
                <a:lnTo>
                  <a:pt x="2155" y="76"/>
                </a:lnTo>
                <a:lnTo>
                  <a:pt x="2165" y="88"/>
                </a:lnTo>
                <a:lnTo>
                  <a:pt x="2173" y="101"/>
                </a:lnTo>
                <a:lnTo>
                  <a:pt x="2178" y="111"/>
                </a:lnTo>
                <a:lnTo>
                  <a:pt x="2184" y="122"/>
                </a:lnTo>
                <a:lnTo>
                  <a:pt x="2188" y="132"/>
                </a:lnTo>
                <a:lnTo>
                  <a:pt x="2192" y="140"/>
                </a:lnTo>
                <a:lnTo>
                  <a:pt x="2194" y="149"/>
                </a:lnTo>
                <a:lnTo>
                  <a:pt x="2194" y="159"/>
                </a:lnTo>
                <a:lnTo>
                  <a:pt x="2194" y="163"/>
                </a:lnTo>
                <a:lnTo>
                  <a:pt x="2192" y="168"/>
                </a:lnTo>
                <a:lnTo>
                  <a:pt x="2190" y="176"/>
                </a:lnTo>
                <a:lnTo>
                  <a:pt x="2186" y="182"/>
                </a:lnTo>
                <a:lnTo>
                  <a:pt x="2182" y="192"/>
                </a:lnTo>
                <a:lnTo>
                  <a:pt x="2176" y="201"/>
                </a:lnTo>
                <a:lnTo>
                  <a:pt x="2171" y="211"/>
                </a:lnTo>
                <a:lnTo>
                  <a:pt x="2165" y="222"/>
                </a:lnTo>
                <a:lnTo>
                  <a:pt x="2157" y="234"/>
                </a:lnTo>
                <a:lnTo>
                  <a:pt x="2148" y="247"/>
                </a:lnTo>
                <a:lnTo>
                  <a:pt x="2140" y="261"/>
                </a:lnTo>
                <a:lnTo>
                  <a:pt x="2128" y="276"/>
                </a:lnTo>
                <a:lnTo>
                  <a:pt x="2117" y="291"/>
                </a:lnTo>
                <a:lnTo>
                  <a:pt x="2105" y="309"/>
                </a:lnTo>
                <a:lnTo>
                  <a:pt x="2094" y="328"/>
                </a:lnTo>
                <a:lnTo>
                  <a:pt x="2080" y="347"/>
                </a:lnTo>
                <a:lnTo>
                  <a:pt x="2065" y="368"/>
                </a:lnTo>
                <a:lnTo>
                  <a:pt x="2048" y="389"/>
                </a:lnTo>
                <a:lnTo>
                  <a:pt x="2029" y="414"/>
                </a:lnTo>
                <a:lnTo>
                  <a:pt x="2009" y="437"/>
                </a:lnTo>
                <a:lnTo>
                  <a:pt x="1986" y="464"/>
                </a:lnTo>
                <a:lnTo>
                  <a:pt x="1963" y="493"/>
                </a:lnTo>
                <a:lnTo>
                  <a:pt x="1937" y="522"/>
                </a:lnTo>
                <a:lnTo>
                  <a:pt x="1910" y="552"/>
                </a:lnTo>
                <a:lnTo>
                  <a:pt x="1881" y="585"/>
                </a:lnTo>
                <a:lnTo>
                  <a:pt x="1850" y="620"/>
                </a:lnTo>
                <a:lnTo>
                  <a:pt x="1818" y="656"/>
                </a:lnTo>
                <a:lnTo>
                  <a:pt x="1785" y="694"/>
                </a:lnTo>
                <a:lnTo>
                  <a:pt x="1750" y="735"/>
                </a:lnTo>
                <a:lnTo>
                  <a:pt x="1731" y="756"/>
                </a:lnTo>
                <a:lnTo>
                  <a:pt x="1714" y="777"/>
                </a:lnTo>
                <a:lnTo>
                  <a:pt x="1695" y="798"/>
                </a:lnTo>
                <a:lnTo>
                  <a:pt x="1675" y="821"/>
                </a:lnTo>
                <a:lnTo>
                  <a:pt x="1656" y="842"/>
                </a:lnTo>
                <a:lnTo>
                  <a:pt x="1637" y="867"/>
                </a:lnTo>
                <a:lnTo>
                  <a:pt x="1595" y="913"/>
                </a:lnTo>
                <a:lnTo>
                  <a:pt x="1553" y="957"/>
                </a:lnTo>
                <a:lnTo>
                  <a:pt x="1510" y="1000"/>
                </a:lnTo>
                <a:lnTo>
                  <a:pt x="1468" y="1042"/>
                </a:lnTo>
                <a:lnTo>
                  <a:pt x="1428" y="1082"/>
                </a:lnTo>
                <a:lnTo>
                  <a:pt x="1386" y="1121"/>
                </a:lnTo>
                <a:lnTo>
                  <a:pt x="1345" y="1159"/>
                </a:lnTo>
                <a:lnTo>
                  <a:pt x="1305" y="1195"/>
                </a:lnTo>
                <a:lnTo>
                  <a:pt x="1265" y="1232"/>
                </a:lnTo>
                <a:lnTo>
                  <a:pt x="1226" y="1266"/>
                </a:lnTo>
                <a:lnTo>
                  <a:pt x="1188" y="1301"/>
                </a:lnTo>
                <a:lnTo>
                  <a:pt x="1150" y="1334"/>
                </a:lnTo>
                <a:lnTo>
                  <a:pt x="1111" y="1364"/>
                </a:lnTo>
                <a:lnTo>
                  <a:pt x="1075" y="1395"/>
                </a:lnTo>
                <a:lnTo>
                  <a:pt x="1038" y="1426"/>
                </a:lnTo>
                <a:lnTo>
                  <a:pt x="1004" y="1456"/>
                </a:lnTo>
                <a:lnTo>
                  <a:pt x="965" y="1483"/>
                </a:lnTo>
                <a:lnTo>
                  <a:pt x="929" y="1512"/>
                </a:lnTo>
                <a:lnTo>
                  <a:pt x="894" y="1537"/>
                </a:lnTo>
                <a:lnTo>
                  <a:pt x="862" y="1562"/>
                </a:lnTo>
                <a:lnTo>
                  <a:pt x="829" y="1587"/>
                </a:lnTo>
                <a:lnTo>
                  <a:pt x="796" y="1608"/>
                </a:lnTo>
                <a:lnTo>
                  <a:pt x="768" y="1631"/>
                </a:lnTo>
                <a:lnTo>
                  <a:pt x="739" y="1650"/>
                </a:lnTo>
                <a:lnTo>
                  <a:pt x="712" y="1670"/>
                </a:lnTo>
                <a:lnTo>
                  <a:pt x="685" y="1689"/>
                </a:lnTo>
                <a:lnTo>
                  <a:pt x="660" y="1704"/>
                </a:lnTo>
                <a:lnTo>
                  <a:pt x="637" y="1721"/>
                </a:lnTo>
                <a:lnTo>
                  <a:pt x="616" y="1737"/>
                </a:lnTo>
                <a:lnTo>
                  <a:pt x="595" y="1750"/>
                </a:lnTo>
                <a:lnTo>
                  <a:pt x="576" y="1762"/>
                </a:lnTo>
                <a:lnTo>
                  <a:pt x="558" y="1775"/>
                </a:lnTo>
                <a:lnTo>
                  <a:pt x="520" y="1796"/>
                </a:lnTo>
                <a:lnTo>
                  <a:pt x="482" y="1819"/>
                </a:lnTo>
                <a:lnTo>
                  <a:pt x="439" y="1840"/>
                </a:lnTo>
                <a:lnTo>
                  <a:pt x="397" y="1863"/>
                </a:lnTo>
                <a:lnTo>
                  <a:pt x="353" y="1885"/>
                </a:lnTo>
                <a:lnTo>
                  <a:pt x="309" y="1906"/>
                </a:lnTo>
                <a:lnTo>
                  <a:pt x="263" y="1929"/>
                </a:lnTo>
                <a:lnTo>
                  <a:pt x="217" y="1952"/>
                </a:lnTo>
                <a:lnTo>
                  <a:pt x="192" y="1961"/>
                </a:lnTo>
                <a:lnTo>
                  <a:pt x="169" y="1971"/>
                </a:lnTo>
                <a:lnTo>
                  <a:pt x="146" y="1979"/>
                </a:lnTo>
                <a:lnTo>
                  <a:pt x="126" y="1986"/>
                </a:lnTo>
                <a:lnTo>
                  <a:pt x="107" y="1994"/>
                </a:lnTo>
                <a:lnTo>
                  <a:pt x="92" y="2000"/>
                </a:lnTo>
                <a:lnTo>
                  <a:pt x="77" y="2004"/>
                </a:lnTo>
                <a:lnTo>
                  <a:pt x="61" y="2007"/>
                </a:lnTo>
                <a:lnTo>
                  <a:pt x="50" y="2009"/>
                </a:lnTo>
                <a:lnTo>
                  <a:pt x="38" y="2013"/>
                </a:lnTo>
                <a:lnTo>
                  <a:pt x="29" y="2013"/>
                </a:lnTo>
                <a:lnTo>
                  <a:pt x="21" y="2013"/>
                </a:lnTo>
                <a:lnTo>
                  <a:pt x="13" y="2013"/>
                </a:lnTo>
                <a:lnTo>
                  <a:pt x="9" y="2013"/>
                </a:lnTo>
                <a:lnTo>
                  <a:pt x="4" y="2011"/>
                </a:lnTo>
                <a:lnTo>
                  <a:pt x="2" y="2009"/>
                </a:lnTo>
                <a:lnTo>
                  <a:pt x="0" y="2007"/>
                </a:lnTo>
                <a:lnTo>
                  <a:pt x="0" y="2004"/>
                </a:lnTo>
                <a:lnTo>
                  <a:pt x="2" y="2000"/>
                </a:lnTo>
                <a:lnTo>
                  <a:pt x="4" y="1994"/>
                </a:lnTo>
                <a:lnTo>
                  <a:pt x="9" y="1988"/>
                </a:lnTo>
                <a:lnTo>
                  <a:pt x="15" y="1982"/>
                </a:lnTo>
                <a:lnTo>
                  <a:pt x="23" y="1975"/>
                </a:lnTo>
                <a:lnTo>
                  <a:pt x="32" y="1967"/>
                </a:lnTo>
                <a:lnTo>
                  <a:pt x="42" y="1959"/>
                </a:lnTo>
                <a:lnTo>
                  <a:pt x="55" y="1950"/>
                </a:lnTo>
                <a:lnTo>
                  <a:pt x="69" y="1940"/>
                </a:lnTo>
                <a:lnTo>
                  <a:pt x="86" y="1929"/>
                </a:lnTo>
                <a:lnTo>
                  <a:pt x="103" y="1917"/>
                </a:lnTo>
                <a:lnTo>
                  <a:pt x="123" y="1906"/>
                </a:lnTo>
                <a:lnTo>
                  <a:pt x="144" y="1894"/>
                </a:lnTo>
                <a:lnTo>
                  <a:pt x="167" y="1881"/>
                </a:lnTo>
                <a:lnTo>
                  <a:pt x="190" y="1869"/>
                </a:lnTo>
                <a:lnTo>
                  <a:pt x="215" y="1856"/>
                </a:lnTo>
                <a:lnTo>
                  <a:pt x="242" y="1842"/>
                </a:lnTo>
                <a:lnTo>
                  <a:pt x="269" y="1827"/>
                </a:lnTo>
                <a:lnTo>
                  <a:pt x="295" y="1812"/>
                </a:lnTo>
                <a:lnTo>
                  <a:pt x="324" y="1794"/>
                </a:lnTo>
                <a:lnTo>
                  <a:pt x="353" y="1777"/>
                </a:lnTo>
                <a:lnTo>
                  <a:pt x="384" y="1758"/>
                </a:lnTo>
                <a:lnTo>
                  <a:pt x="414" y="1739"/>
                </a:lnTo>
                <a:lnTo>
                  <a:pt x="445" y="1718"/>
                </a:lnTo>
                <a:lnTo>
                  <a:pt x="478" y="1696"/>
                </a:lnTo>
                <a:lnTo>
                  <a:pt x="510" y="1673"/>
                </a:lnTo>
                <a:lnTo>
                  <a:pt x="545" y="1650"/>
                </a:lnTo>
                <a:lnTo>
                  <a:pt x="578" y="1625"/>
                </a:lnTo>
                <a:lnTo>
                  <a:pt x="612" y="1600"/>
                </a:lnTo>
                <a:lnTo>
                  <a:pt x="649" y="1574"/>
                </a:lnTo>
                <a:lnTo>
                  <a:pt x="683" y="1549"/>
                </a:lnTo>
                <a:lnTo>
                  <a:pt x="718" y="1524"/>
                </a:lnTo>
                <a:lnTo>
                  <a:pt x="752" y="1501"/>
                </a:lnTo>
                <a:lnTo>
                  <a:pt x="785" y="1476"/>
                </a:lnTo>
                <a:lnTo>
                  <a:pt x="817" y="1451"/>
                </a:lnTo>
                <a:lnTo>
                  <a:pt x="850" y="1428"/>
                </a:lnTo>
                <a:lnTo>
                  <a:pt x="883" y="1403"/>
                </a:lnTo>
                <a:lnTo>
                  <a:pt x="913" y="1380"/>
                </a:lnTo>
                <a:lnTo>
                  <a:pt x="944" y="1355"/>
                </a:lnTo>
                <a:lnTo>
                  <a:pt x="975" y="1330"/>
                </a:lnTo>
                <a:lnTo>
                  <a:pt x="1004" y="1307"/>
                </a:lnTo>
                <a:lnTo>
                  <a:pt x="1032" y="1282"/>
                </a:lnTo>
                <a:lnTo>
                  <a:pt x="1061" y="1257"/>
                </a:lnTo>
                <a:lnTo>
                  <a:pt x="1088" y="1234"/>
                </a:lnTo>
                <a:lnTo>
                  <a:pt x="1115" y="1209"/>
                </a:lnTo>
                <a:lnTo>
                  <a:pt x="1142" y="1184"/>
                </a:lnTo>
                <a:lnTo>
                  <a:pt x="1169" y="1159"/>
                </a:lnTo>
                <a:lnTo>
                  <a:pt x="1194" y="1134"/>
                </a:lnTo>
                <a:lnTo>
                  <a:pt x="1221" y="1107"/>
                </a:lnTo>
                <a:lnTo>
                  <a:pt x="1249" y="1080"/>
                </a:lnTo>
                <a:lnTo>
                  <a:pt x="1276" y="1051"/>
                </a:lnTo>
                <a:lnTo>
                  <a:pt x="1305" y="1023"/>
                </a:lnTo>
                <a:lnTo>
                  <a:pt x="1334" y="992"/>
                </a:lnTo>
                <a:lnTo>
                  <a:pt x="1363" y="961"/>
                </a:lnTo>
                <a:lnTo>
                  <a:pt x="1391" y="929"/>
                </a:lnTo>
                <a:lnTo>
                  <a:pt x="1422" y="894"/>
                </a:lnTo>
                <a:lnTo>
                  <a:pt x="1453" y="860"/>
                </a:lnTo>
                <a:lnTo>
                  <a:pt x="1484" y="823"/>
                </a:lnTo>
                <a:lnTo>
                  <a:pt x="1514" y="787"/>
                </a:lnTo>
                <a:lnTo>
                  <a:pt x="1547" y="748"/>
                </a:lnTo>
                <a:lnTo>
                  <a:pt x="1578" y="708"/>
                </a:lnTo>
                <a:lnTo>
                  <a:pt x="1610" y="666"/>
                </a:lnTo>
                <a:lnTo>
                  <a:pt x="1641" y="627"/>
                </a:lnTo>
                <a:lnTo>
                  <a:pt x="1670" y="589"/>
                </a:lnTo>
                <a:lnTo>
                  <a:pt x="1697" y="552"/>
                </a:lnTo>
                <a:lnTo>
                  <a:pt x="1722" y="520"/>
                </a:lnTo>
                <a:lnTo>
                  <a:pt x="1746" y="487"/>
                </a:lnTo>
                <a:lnTo>
                  <a:pt x="1770" y="455"/>
                </a:lnTo>
                <a:lnTo>
                  <a:pt x="1791" y="426"/>
                </a:lnTo>
                <a:lnTo>
                  <a:pt x="1810" y="399"/>
                </a:lnTo>
                <a:lnTo>
                  <a:pt x="1829" y="372"/>
                </a:lnTo>
                <a:lnTo>
                  <a:pt x="1844" y="347"/>
                </a:lnTo>
                <a:lnTo>
                  <a:pt x="1860" y="324"/>
                </a:lnTo>
                <a:lnTo>
                  <a:pt x="1875" y="303"/>
                </a:lnTo>
                <a:lnTo>
                  <a:pt x="1887" y="282"/>
                </a:lnTo>
                <a:lnTo>
                  <a:pt x="1898" y="263"/>
                </a:lnTo>
                <a:lnTo>
                  <a:pt x="1908" y="245"/>
                </a:lnTo>
                <a:lnTo>
                  <a:pt x="1915" y="2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28"/>
          <p:cNvSpPr/>
          <p:nvPr/>
        </p:nvSpPr>
        <p:spPr>
          <a:xfrm>
            <a:off x="6021360" y="3432240"/>
            <a:ext cx="1679760" cy="299880"/>
          </a:xfrm>
          <a:custGeom>
            <a:avLst/>
            <a:gdLst/>
            <a:ahLst/>
            <a:rect l="l" t="t" r="r" b="b"/>
            <a:pathLst>
              <a:path w="2115" h="378">
                <a:moveTo>
                  <a:pt x="2040" y="180"/>
                </a:moveTo>
                <a:lnTo>
                  <a:pt x="2029" y="182"/>
                </a:lnTo>
                <a:lnTo>
                  <a:pt x="2017" y="184"/>
                </a:lnTo>
                <a:lnTo>
                  <a:pt x="2004" y="186"/>
                </a:lnTo>
                <a:lnTo>
                  <a:pt x="1986" y="188"/>
                </a:lnTo>
                <a:lnTo>
                  <a:pt x="1969" y="188"/>
                </a:lnTo>
                <a:lnTo>
                  <a:pt x="1950" y="190"/>
                </a:lnTo>
                <a:lnTo>
                  <a:pt x="1929" y="190"/>
                </a:lnTo>
                <a:lnTo>
                  <a:pt x="1906" y="190"/>
                </a:lnTo>
                <a:lnTo>
                  <a:pt x="1881" y="192"/>
                </a:lnTo>
                <a:lnTo>
                  <a:pt x="1856" y="192"/>
                </a:lnTo>
                <a:lnTo>
                  <a:pt x="1827" y="192"/>
                </a:lnTo>
                <a:lnTo>
                  <a:pt x="1796" y="192"/>
                </a:lnTo>
                <a:lnTo>
                  <a:pt x="1766" y="192"/>
                </a:lnTo>
                <a:lnTo>
                  <a:pt x="1731" y="192"/>
                </a:lnTo>
                <a:lnTo>
                  <a:pt x="1697" y="192"/>
                </a:lnTo>
                <a:lnTo>
                  <a:pt x="1660" y="192"/>
                </a:lnTo>
                <a:lnTo>
                  <a:pt x="1583" y="192"/>
                </a:lnTo>
                <a:lnTo>
                  <a:pt x="1507" y="194"/>
                </a:lnTo>
                <a:lnTo>
                  <a:pt x="1430" y="197"/>
                </a:lnTo>
                <a:lnTo>
                  <a:pt x="1353" y="201"/>
                </a:lnTo>
                <a:lnTo>
                  <a:pt x="1276" y="209"/>
                </a:lnTo>
                <a:lnTo>
                  <a:pt x="1238" y="213"/>
                </a:lnTo>
                <a:lnTo>
                  <a:pt x="1198" y="217"/>
                </a:lnTo>
                <a:lnTo>
                  <a:pt x="1159" y="222"/>
                </a:lnTo>
                <a:lnTo>
                  <a:pt x="1119" y="226"/>
                </a:lnTo>
                <a:lnTo>
                  <a:pt x="1079" y="232"/>
                </a:lnTo>
                <a:lnTo>
                  <a:pt x="1038" y="240"/>
                </a:lnTo>
                <a:lnTo>
                  <a:pt x="958" y="253"/>
                </a:lnTo>
                <a:lnTo>
                  <a:pt x="879" y="267"/>
                </a:lnTo>
                <a:lnTo>
                  <a:pt x="802" y="280"/>
                </a:lnTo>
                <a:lnTo>
                  <a:pt x="725" y="292"/>
                </a:lnTo>
                <a:lnTo>
                  <a:pt x="649" y="305"/>
                </a:lnTo>
                <a:lnTo>
                  <a:pt x="576" y="318"/>
                </a:lnTo>
                <a:lnTo>
                  <a:pt x="503" y="332"/>
                </a:lnTo>
                <a:lnTo>
                  <a:pt x="430" y="345"/>
                </a:lnTo>
                <a:lnTo>
                  <a:pt x="395" y="351"/>
                </a:lnTo>
                <a:lnTo>
                  <a:pt x="363" y="357"/>
                </a:lnTo>
                <a:lnTo>
                  <a:pt x="330" y="363"/>
                </a:lnTo>
                <a:lnTo>
                  <a:pt x="299" y="368"/>
                </a:lnTo>
                <a:lnTo>
                  <a:pt x="270" y="370"/>
                </a:lnTo>
                <a:lnTo>
                  <a:pt x="244" y="374"/>
                </a:lnTo>
                <a:lnTo>
                  <a:pt x="219" y="376"/>
                </a:lnTo>
                <a:lnTo>
                  <a:pt x="196" y="378"/>
                </a:lnTo>
                <a:lnTo>
                  <a:pt x="175" y="378"/>
                </a:lnTo>
                <a:lnTo>
                  <a:pt x="153" y="378"/>
                </a:lnTo>
                <a:lnTo>
                  <a:pt x="136" y="378"/>
                </a:lnTo>
                <a:lnTo>
                  <a:pt x="128" y="376"/>
                </a:lnTo>
                <a:lnTo>
                  <a:pt x="121" y="376"/>
                </a:lnTo>
                <a:lnTo>
                  <a:pt x="113" y="374"/>
                </a:lnTo>
                <a:lnTo>
                  <a:pt x="105" y="372"/>
                </a:lnTo>
                <a:lnTo>
                  <a:pt x="100" y="370"/>
                </a:lnTo>
                <a:lnTo>
                  <a:pt x="94" y="368"/>
                </a:lnTo>
                <a:lnTo>
                  <a:pt x="88" y="366"/>
                </a:lnTo>
                <a:lnTo>
                  <a:pt x="84" y="363"/>
                </a:lnTo>
                <a:lnTo>
                  <a:pt x="79" y="361"/>
                </a:lnTo>
                <a:lnTo>
                  <a:pt x="75" y="357"/>
                </a:lnTo>
                <a:lnTo>
                  <a:pt x="67" y="351"/>
                </a:lnTo>
                <a:lnTo>
                  <a:pt x="57" y="345"/>
                </a:lnTo>
                <a:lnTo>
                  <a:pt x="50" y="340"/>
                </a:lnTo>
                <a:lnTo>
                  <a:pt x="42" y="334"/>
                </a:lnTo>
                <a:lnTo>
                  <a:pt x="34" y="330"/>
                </a:lnTo>
                <a:lnTo>
                  <a:pt x="29" y="326"/>
                </a:lnTo>
                <a:lnTo>
                  <a:pt x="23" y="322"/>
                </a:lnTo>
                <a:lnTo>
                  <a:pt x="19" y="318"/>
                </a:lnTo>
                <a:lnTo>
                  <a:pt x="13" y="315"/>
                </a:lnTo>
                <a:lnTo>
                  <a:pt x="9" y="313"/>
                </a:lnTo>
                <a:lnTo>
                  <a:pt x="8" y="311"/>
                </a:lnTo>
                <a:lnTo>
                  <a:pt x="4" y="307"/>
                </a:lnTo>
                <a:lnTo>
                  <a:pt x="2" y="305"/>
                </a:lnTo>
                <a:lnTo>
                  <a:pt x="0" y="303"/>
                </a:lnTo>
                <a:lnTo>
                  <a:pt x="0" y="301"/>
                </a:lnTo>
                <a:lnTo>
                  <a:pt x="0" y="299"/>
                </a:lnTo>
                <a:lnTo>
                  <a:pt x="0" y="293"/>
                </a:lnTo>
                <a:lnTo>
                  <a:pt x="2" y="292"/>
                </a:lnTo>
                <a:lnTo>
                  <a:pt x="4" y="290"/>
                </a:lnTo>
                <a:lnTo>
                  <a:pt x="8" y="288"/>
                </a:lnTo>
                <a:lnTo>
                  <a:pt x="11" y="288"/>
                </a:lnTo>
                <a:lnTo>
                  <a:pt x="15" y="286"/>
                </a:lnTo>
                <a:lnTo>
                  <a:pt x="25" y="286"/>
                </a:lnTo>
                <a:lnTo>
                  <a:pt x="29" y="286"/>
                </a:lnTo>
                <a:lnTo>
                  <a:pt x="32" y="286"/>
                </a:lnTo>
                <a:lnTo>
                  <a:pt x="38" y="286"/>
                </a:lnTo>
                <a:lnTo>
                  <a:pt x="46" y="284"/>
                </a:lnTo>
                <a:lnTo>
                  <a:pt x="56" y="282"/>
                </a:lnTo>
                <a:lnTo>
                  <a:pt x="67" y="282"/>
                </a:lnTo>
                <a:lnTo>
                  <a:pt x="80" y="280"/>
                </a:lnTo>
                <a:lnTo>
                  <a:pt x="94" y="278"/>
                </a:lnTo>
                <a:lnTo>
                  <a:pt x="111" y="274"/>
                </a:lnTo>
                <a:lnTo>
                  <a:pt x="128" y="272"/>
                </a:lnTo>
                <a:lnTo>
                  <a:pt x="150" y="270"/>
                </a:lnTo>
                <a:lnTo>
                  <a:pt x="159" y="268"/>
                </a:lnTo>
                <a:lnTo>
                  <a:pt x="171" y="267"/>
                </a:lnTo>
                <a:lnTo>
                  <a:pt x="182" y="265"/>
                </a:lnTo>
                <a:lnTo>
                  <a:pt x="196" y="263"/>
                </a:lnTo>
                <a:lnTo>
                  <a:pt x="207" y="261"/>
                </a:lnTo>
                <a:lnTo>
                  <a:pt x="221" y="259"/>
                </a:lnTo>
                <a:lnTo>
                  <a:pt x="234" y="257"/>
                </a:lnTo>
                <a:lnTo>
                  <a:pt x="247" y="255"/>
                </a:lnTo>
                <a:lnTo>
                  <a:pt x="263" y="253"/>
                </a:lnTo>
                <a:lnTo>
                  <a:pt x="278" y="251"/>
                </a:lnTo>
                <a:lnTo>
                  <a:pt x="294" y="249"/>
                </a:lnTo>
                <a:lnTo>
                  <a:pt x="309" y="245"/>
                </a:lnTo>
                <a:lnTo>
                  <a:pt x="324" y="244"/>
                </a:lnTo>
                <a:lnTo>
                  <a:pt x="342" y="242"/>
                </a:lnTo>
                <a:lnTo>
                  <a:pt x="359" y="238"/>
                </a:lnTo>
                <a:lnTo>
                  <a:pt x="376" y="236"/>
                </a:lnTo>
                <a:lnTo>
                  <a:pt x="395" y="232"/>
                </a:lnTo>
                <a:lnTo>
                  <a:pt x="414" y="228"/>
                </a:lnTo>
                <a:lnTo>
                  <a:pt x="434" y="226"/>
                </a:lnTo>
                <a:lnTo>
                  <a:pt x="455" y="222"/>
                </a:lnTo>
                <a:lnTo>
                  <a:pt x="476" y="219"/>
                </a:lnTo>
                <a:lnTo>
                  <a:pt x="499" y="215"/>
                </a:lnTo>
                <a:lnTo>
                  <a:pt x="520" y="211"/>
                </a:lnTo>
                <a:lnTo>
                  <a:pt x="545" y="207"/>
                </a:lnTo>
                <a:lnTo>
                  <a:pt x="568" y="203"/>
                </a:lnTo>
                <a:lnTo>
                  <a:pt x="593" y="199"/>
                </a:lnTo>
                <a:lnTo>
                  <a:pt x="620" y="196"/>
                </a:lnTo>
                <a:lnTo>
                  <a:pt x="645" y="192"/>
                </a:lnTo>
                <a:lnTo>
                  <a:pt x="672" y="186"/>
                </a:lnTo>
                <a:lnTo>
                  <a:pt x="700" y="182"/>
                </a:lnTo>
                <a:lnTo>
                  <a:pt x="729" y="178"/>
                </a:lnTo>
                <a:lnTo>
                  <a:pt x="758" y="173"/>
                </a:lnTo>
                <a:lnTo>
                  <a:pt x="787" y="169"/>
                </a:lnTo>
                <a:lnTo>
                  <a:pt x="818" y="163"/>
                </a:lnTo>
                <a:lnTo>
                  <a:pt x="850" y="159"/>
                </a:lnTo>
                <a:lnTo>
                  <a:pt x="881" y="153"/>
                </a:lnTo>
                <a:lnTo>
                  <a:pt x="913" y="148"/>
                </a:lnTo>
                <a:lnTo>
                  <a:pt x="948" y="144"/>
                </a:lnTo>
                <a:lnTo>
                  <a:pt x="983" y="138"/>
                </a:lnTo>
                <a:lnTo>
                  <a:pt x="1017" y="132"/>
                </a:lnTo>
                <a:lnTo>
                  <a:pt x="1054" y="126"/>
                </a:lnTo>
                <a:lnTo>
                  <a:pt x="1090" y="121"/>
                </a:lnTo>
                <a:lnTo>
                  <a:pt x="1125" y="115"/>
                </a:lnTo>
                <a:lnTo>
                  <a:pt x="1159" y="109"/>
                </a:lnTo>
                <a:lnTo>
                  <a:pt x="1192" y="105"/>
                </a:lnTo>
                <a:lnTo>
                  <a:pt x="1224" y="100"/>
                </a:lnTo>
                <a:lnTo>
                  <a:pt x="1257" y="94"/>
                </a:lnTo>
                <a:lnTo>
                  <a:pt x="1288" y="90"/>
                </a:lnTo>
                <a:lnTo>
                  <a:pt x="1317" y="84"/>
                </a:lnTo>
                <a:lnTo>
                  <a:pt x="1345" y="78"/>
                </a:lnTo>
                <a:lnTo>
                  <a:pt x="1374" y="75"/>
                </a:lnTo>
                <a:lnTo>
                  <a:pt x="1401" y="69"/>
                </a:lnTo>
                <a:lnTo>
                  <a:pt x="1428" y="65"/>
                </a:lnTo>
                <a:lnTo>
                  <a:pt x="1453" y="61"/>
                </a:lnTo>
                <a:lnTo>
                  <a:pt x="1478" y="55"/>
                </a:lnTo>
                <a:lnTo>
                  <a:pt x="1501" y="52"/>
                </a:lnTo>
                <a:lnTo>
                  <a:pt x="1524" y="48"/>
                </a:lnTo>
                <a:lnTo>
                  <a:pt x="1547" y="44"/>
                </a:lnTo>
                <a:lnTo>
                  <a:pt x="1568" y="40"/>
                </a:lnTo>
                <a:lnTo>
                  <a:pt x="1589" y="36"/>
                </a:lnTo>
                <a:lnTo>
                  <a:pt x="1608" y="32"/>
                </a:lnTo>
                <a:lnTo>
                  <a:pt x="1628" y="30"/>
                </a:lnTo>
                <a:lnTo>
                  <a:pt x="1645" y="27"/>
                </a:lnTo>
                <a:lnTo>
                  <a:pt x="1662" y="25"/>
                </a:lnTo>
                <a:lnTo>
                  <a:pt x="1677" y="21"/>
                </a:lnTo>
                <a:lnTo>
                  <a:pt x="1693" y="19"/>
                </a:lnTo>
                <a:lnTo>
                  <a:pt x="1708" y="15"/>
                </a:lnTo>
                <a:lnTo>
                  <a:pt x="1722" y="13"/>
                </a:lnTo>
                <a:lnTo>
                  <a:pt x="1735" y="11"/>
                </a:lnTo>
                <a:lnTo>
                  <a:pt x="1747" y="9"/>
                </a:lnTo>
                <a:lnTo>
                  <a:pt x="1758" y="7"/>
                </a:lnTo>
                <a:lnTo>
                  <a:pt x="1768" y="6"/>
                </a:lnTo>
                <a:lnTo>
                  <a:pt x="1777" y="4"/>
                </a:lnTo>
                <a:lnTo>
                  <a:pt x="1787" y="4"/>
                </a:lnTo>
                <a:lnTo>
                  <a:pt x="1802" y="2"/>
                </a:lnTo>
                <a:lnTo>
                  <a:pt x="1819" y="0"/>
                </a:lnTo>
                <a:lnTo>
                  <a:pt x="1835" y="0"/>
                </a:lnTo>
                <a:lnTo>
                  <a:pt x="1850" y="0"/>
                </a:lnTo>
                <a:lnTo>
                  <a:pt x="1866" y="2"/>
                </a:lnTo>
                <a:lnTo>
                  <a:pt x="1881" y="4"/>
                </a:lnTo>
                <a:lnTo>
                  <a:pt x="1894" y="6"/>
                </a:lnTo>
                <a:lnTo>
                  <a:pt x="1910" y="9"/>
                </a:lnTo>
                <a:lnTo>
                  <a:pt x="1923" y="13"/>
                </a:lnTo>
                <a:lnTo>
                  <a:pt x="1938" y="17"/>
                </a:lnTo>
                <a:lnTo>
                  <a:pt x="1952" y="21"/>
                </a:lnTo>
                <a:lnTo>
                  <a:pt x="1965" y="27"/>
                </a:lnTo>
                <a:lnTo>
                  <a:pt x="1990" y="38"/>
                </a:lnTo>
                <a:lnTo>
                  <a:pt x="2015" y="52"/>
                </a:lnTo>
                <a:lnTo>
                  <a:pt x="2027" y="57"/>
                </a:lnTo>
                <a:lnTo>
                  <a:pt x="2036" y="63"/>
                </a:lnTo>
                <a:lnTo>
                  <a:pt x="2048" y="71"/>
                </a:lnTo>
                <a:lnTo>
                  <a:pt x="2057" y="77"/>
                </a:lnTo>
                <a:lnTo>
                  <a:pt x="2065" y="82"/>
                </a:lnTo>
                <a:lnTo>
                  <a:pt x="2075" y="90"/>
                </a:lnTo>
                <a:lnTo>
                  <a:pt x="2082" y="96"/>
                </a:lnTo>
                <a:lnTo>
                  <a:pt x="2088" y="101"/>
                </a:lnTo>
                <a:lnTo>
                  <a:pt x="2094" y="105"/>
                </a:lnTo>
                <a:lnTo>
                  <a:pt x="2100" y="111"/>
                </a:lnTo>
                <a:lnTo>
                  <a:pt x="2105" y="117"/>
                </a:lnTo>
                <a:lnTo>
                  <a:pt x="2109" y="121"/>
                </a:lnTo>
                <a:lnTo>
                  <a:pt x="2111" y="125"/>
                </a:lnTo>
                <a:lnTo>
                  <a:pt x="2113" y="128"/>
                </a:lnTo>
                <a:lnTo>
                  <a:pt x="2115" y="130"/>
                </a:lnTo>
                <a:lnTo>
                  <a:pt x="2115" y="134"/>
                </a:lnTo>
                <a:lnTo>
                  <a:pt x="2115" y="138"/>
                </a:lnTo>
                <a:lnTo>
                  <a:pt x="2115" y="142"/>
                </a:lnTo>
                <a:lnTo>
                  <a:pt x="2113" y="146"/>
                </a:lnTo>
                <a:lnTo>
                  <a:pt x="2111" y="149"/>
                </a:lnTo>
                <a:lnTo>
                  <a:pt x="2107" y="151"/>
                </a:lnTo>
                <a:lnTo>
                  <a:pt x="2105" y="155"/>
                </a:lnTo>
                <a:lnTo>
                  <a:pt x="2102" y="159"/>
                </a:lnTo>
                <a:lnTo>
                  <a:pt x="2096" y="161"/>
                </a:lnTo>
                <a:lnTo>
                  <a:pt x="2092" y="163"/>
                </a:lnTo>
                <a:lnTo>
                  <a:pt x="2086" y="167"/>
                </a:lnTo>
                <a:lnTo>
                  <a:pt x="2079" y="169"/>
                </a:lnTo>
                <a:lnTo>
                  <a:pt x="2073" y="171"/>
                </a:lnTo>
                <a:lnTo>
                  <a:pt x="2065" y="173"/>
                </a:lnTo>
                <a:lnTo>
                  <a:pt x="2057" y="176"/>
                </a:lnTo>
                <a:lnTo>
                  <a:pt x="2048" y="178"/>
                </a:lnTo>
                <a:lnTo>
                  <a:pt x="2040" y="18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29"/>
          <p:cNvSpPr/>
          <p:nvPr/>
        </p:nvSpPr>
        <p:spPr>
          <a:xfrm>
            <a:off x="6546960" y="2774880"/>
            <a:ext cx="242640" cy="830160"/>
          </a:xfrm>
          <a:custGeom>
            <a:avLst/>
            <a:gdLst/>
            <a:ahLst/>
            <a:rect l="l" t="t" r="r" b="b"/>
            <a:pathLst>
              <a:path w="305" h="1046">
                <a:moveTo>
                  <a:pt x="148" y="19"/>
                </a:moveTo>
                <a:lnTo>
                  <a:pt x="163" y="21"/>
                </a:lnTo>
                <a:lnTo>
                  <a:pt x="175" y="24"/>
                </a:lnTo>
                <a:lnTo>
                  <a:pt x="188" y="26"/>
                </a:lnTo>
                <a:lnTo>
                  <a:pt x="200" y="30"/>
                </a:lnTo>
                <a:lnTo>
                  <a:pt x="211" y="32"/>
                </a:lnTo>
                <a:lnTo>
                  <a:pt x="223" y="36"/>
                </a:lnTo>
                <a:lnTo>
                  <a:pt x="232" y="40"/>
                </a:lnTo>
                <a:lnTo>
                  <a:pt x="242" y="44"/>
                </a:lnTo>
                <a:lnTo>
                  <a:pt x="250" y="48"/>
                </a:lnTo>
                <a:lnTo>
                  <a:pt x="257" y="51"/>
                </a:lnTo>
                <a:lnTo>
                  <a:pt x="265" y="55"/>
                </a:lnTo>
                <a:lnTo>
                  <a:pt x="271" y="59"/>
                </a:lnTo>
                <a:lnTo>
                  <a:pt x="276" y="65"/>
                </a:lnTo>
                <a:lnTo>
                  <a:pt x="280" y="69"/>
                </a:lnTo>
                <a:lnTo>
                  <a:pt x="284" y="72"/>
                </a:lnTo>
                <a:lnTo>
                  <a:pt x="288" y="78"/>
                </a:lnTo>
                <a:lnTo>
                  <a:pt x="292" y="90"/>
                </a:lnTo>
                <a:lnTo>
                  <a:pt x="296" y="101"/>
                </a:lnTo>
                <a:lnTo>
                  <a:pt x="299" y="113"/>
                </a:lnTo>
                <a:lnTo>
                  <a:pt x="303" y="124"/>
                </a:lnTo>
                <a:lnTo>
                  <a:pt x="305" y="136"/>
                </a:lnTo>
                <a:lnTo>
                  <a:pt x="305" y="147"/>
                </a:lnTo>
                <a:lnTo>
                  <a:pt x="305" y="153"/>
                </a:lnTo>
                <a:lnTo>
                  <a:pt x="303" y="159"/>
                </a:lnTo>
                <a:lnTo>
                  <a:pt x="303" y="165"/>
                </a:lnTo>
                <a:lnTo>
                  <a:pt x="301" y="172"/>
                </a:lnTo>
                <a:lnTo>
                  <a:pt x="298" y="178"/>
                </a:lnTo>
                <a:lnTo>
                  <a:pt x="296" y="186"/>
                </a:lnTo>
                <a:lnTo>
                  <a:pt x="294" y="195"/>
                </a:lnTo>
                <a:lnTo>
                  <a:pt x="292" y="203"/>
                </a:lnTo>
                <a:lnTo>
                  <a:pt x="288" y="213"/>
                </a:lnTo>
                <a:lnTo>
                  <a:pt x="286" y="222"/>
                </a:lnTo>
                <a:lnTo>
                  <a:pt x="284" y="234"/>
                </a:lnTo>
                <a:lnTo>
                  <a:pt x="282" y="245"/>
                </a:lnTo>
                <a:lnTo>
                  <a:pt x="278" y="259"/>
                </a:lnTo>
                <a:lnTo>
                  <a:pt x="276" y="272"/>
                </a:lnTo>
                <a:lnTo>
                  <a:pt x="275" y="286"/>
                </a:lnTo>
                <a:lnTo>
                  <a:pt x="273" y="301"/>
                </a:lnTo>
                <a:lnTo>
                  <a:pt x="269" y="318"/>
                </a:lnTo>
                <a:lnTo>
                  <a:pt x="267" y="335"/>
                </a:lnTo>
                <a:lnTo>
                  <a:pt x="265" y="353"/>
                </a:lnTo>
                <a:lnTo>
                  <a:pt x="263" y="372"/>
                </a:lnTo>
                <a:lnTo>
                  <a:pt x="261" y="383"/>
                </a:lnTo>
                <a:lnTo>
                  <a:pt x="261" y="393"/>
                </a:lnTo>
                <a:lnTo>
                  <a:pt x="259" y="405"/>
                </a:lnTo>
                <a:lnTo>
                  <a:pt x="257" y="418"/>
                </a:lnTo>
                <a:lnTo>
                  <a:pt x="257" y="431"/>
                </a:lnTo>
                <a:lnTo>
                  <a:pt x="255" y="445"/>
                </a:lnTo>
                <a:lnTo>
                  <a:pt x="253" y="458"/>
                </a:lnTo>
                <a:lnTo>
                  <a:pt x="253" y="474"/>
                </a:lnTo>
                <a:lnTo>
                  <a:pt x="251" y="489"/>
                </a:lnTo>
                <a:lnTo>
                  <a:pt x="251" y="506"/>
                </a:lnTo>
                <a:lnTo>
                  <a:pt x="250" y="524"/>
                </a:lnTo>
                <a:lnTo>
                  <a:pt x="248" y="541"/>
                </a:lnTo>
                <a:lnTo>
                  <a:pt x="248" y="560"/>
                </a:lnTo>
                <a:lnTo>
                  <a:pt x="246" y="579"/>
                </a:lnTo>
                <a:lnTo>
                  <a:pt x="244" y="600"/>
                </a:lnTo>
                <a:lnTo>
                  <a:pt x="244" y="620"/>
                </a:lnTo>
                <a:lnTo>
                  <a:pt x="242" y="641"/>
                </a:lnTo>
                <a:lnTo>
                  <a:pt x="242" y="664"/>
                </a:lnTo>
                <a:lnTo>
                  <a:pt x="240" y="687"/>
                </a:lnTo>
                <a:lnTo>
                  <a:pt x="238" y="710"/>
                </a:lnTo>
                <a:lnTo>
                  <a:pt x="238" y="735"/>
                </a:lnTo>
                <a:lnTo>
                  <a:pt x="236" y="758"/>
                </a:lnTo>
                <a:lnTo>
                  <a:pt x="234" y="785"/>
                </a:lnTo>
                <a:lnTo>
                  <a:pt x="234" y="810"/>
                </a:lnTo>
                <a:lnTo>
                  <a:pt x="232" y="836"/>
                </a:lnTo>
                <a:lnTo>
                  <a:pt x="230" y="865"/>
                </a:lnTo>
                <a:lnTo>
                  <a:pt x="230" y="892"/>
                </a:lnTo>
                <a:lnTo>
                  <a:pt x="228" y="923"/>
                </a:lnTo>
                <a:lnTo>
                  <a:pt x="228" y="952"/>
                </a:lnTo>
                <a:lnTo>
                  <a:pt x="227" y="982"/>
                </a:lnTo>
                <a:lnTo>
                  <a:pt x="225" y="1013"/>
                </a:lnTo>
                <a:lnTo>
                  <a:pt x="225" y="1046"/>
                </a:lnTo>
                <a:lnTo>
                  <a:pt x="156" y="1046"/>
                </a:lnTo>
                <a:lnTo>
                  <a:pt x="85" y="1046"/>
                </a:lnTo>
                <a:lnTo>
                  <a:pt x="86" y="1002"/>
                </a:lnTo>
                <a:lnTo>
                  <a:pt x="86" y="961"/>
                </a:lnTo>
                <a:lnTo>
                  <a:pt x="88" y="921"/>
                </a:lnTo>
                <a:lnTo>
                  <a:pt x="88" y="881"/>
                </a:lnTo>
                <a:lnTo>
                  <a:pt x="90" y="842"/>
                </a:lnTo>
                <a:lnTo>
                  <a:pt x="90" y="804"/>
                </a:lnTo>
                <a:lnTo>
                  <a:pt x="92" y="769"/>
                </a:lnTo>
                <a:lnTo>
                  <a:pt x="92" y="733"/>
                </a:lnTo>
                <a:lnTo>
                  <a:pt x="92" y="698"/>
                </a:lnTo>
                <a:lnTo>
                  <a:pt x="92" y="666"/>
                </a:lnTo>
                <a:lnTo>
                  <a:pt x="94" y="633"/>
                </a:lnTo>
                <a:lnTo>
                  <a:pt x="94" y="602"/>
                </a:lnTo>
                <a:lnTo>
                  <a:pt x="94" y="573"/>
                </a:lnTo>
                <a:lnTo>
                  <a:pt x="94" y="545"/>
                </a:lnTo>
                <a:lnTo>
                  <a:pt x="94" y="516"/>
                </a:lnTo>
                <a:lnTo>
                  <a:pt x="94" y="491"/>
                </a:lnTo>
                <a:lnTo>
                  <a:pt x="94" y="464"/>
                </a:lnTo>
                <a:lnTo>
                  <a:pt x="94" y="441"/>
                </a:lnTo>
                <a:lnTo>
                  <a:pt x="94" y="418"/>
                </a:lnTo>
                <a:lnTo>
                  <a:pt x="94" y="395"/>
                </a:lnTo>
                <a:lnTo>
                  <a:pt x="94" y="374"/>
                </a:lnTo>
                <a:lnTo>
                  <a:pt x="92" y="355"/>
                </a:lnTo>
                <a:lnTo>
                  <a:pt x="92" y="335"/>
                </a:lnTo>
                <a:lnTo>
                  <a:pt x="92" y="318"/>
                </a:lnTo>
                <a:lnTo>
                  <a:pt x="92" y="301"/>
                </a:lnTo>
                <a:lnTo>
                  <a:pt x="90" y="286"/>
                </a:lnTo>
                <a:lnTo>
                  <a:pt x="90" y="272"/>
                </a:lnTo>
                <a:lnTo>
                  <a:pt x="88" y="259"/>
                </a:lnTo>
                <a:lnTo>
                  <a:pt x="88" y="247"/>
                </a:lnTo>
                <a:lnTo>
                  <a:pt x="86" y="238"/>
                </a:lnTo>
                <a:lnTo>
                  <a:pt x="86" y="228"/>
                </a:lnTo>
                <a:lnTo>
                  <a:pt x="85" y="218"/>
                </a:lnTo>
                <a:lnTo>
                  <a:pt x="83" y="203"/>
                </a:lnTo>
                <a:lnTo>
                  <a:pt x="81" y="190"/>
                </a:lnTo>
                <a:lnTo>
                  <a:pt x="77" y="174"/>
                </a:lnTo>
                <a:lnTo>
                  <a:pt x="73" y="161"/>
                </a:lnTo>
                <a:lnTo>
                  <a:pt x="69" y="149"/>
                </a:lnTo>
                <a:lnTo>
                  <a:pt x="65" y="136"/>
                </a:lnTo>
                <a:lnTo>
                  <a:pt x="61" y="124"/>
                </a:lnTo>
                <a:lnTo>
                  <a:pt x="58" y="115"/>
                </a:lnTo>
                <a:lnTo>
                  <a:pt x="54" y="105"/>
                </a:lnTo>
                <a:lnTo>
                  <a:pt x="50" y="95"/>
                </a:lnTo>
                <a:lnTo>
                  <a:pt x="44" y="86"/>
                </a:lnTo>
                <a:lnTo>
                  <a:pt x="40" y="78"/>
                </a:lnTo>
                <a:lnTo>
                  <a:pt x="37" y="71"/>
                </a:lnTo>
                <a:lnTo>
                  <a:pt x="31" y="65"/>
                </a:lnTo>
                <a:lnTo>
                  <a:pt x="27" y="59"/>
                </a:lnTo>
                <a:lnTo>
                  <a:pt x="21" y="53"/>
                </a:lnTo>
                <a:lnTo>
                  <a:pt x="17" y="51"/>
                </a:lnTo>
                <a:lnTo>
                  <a:pt x="13" y="49"/>
                </a:lnTo>
                <a:lnTo>
                  <a:pt x="10" y="46"/>
                </a:lnTo>
                <a:lnTo>
                  <a:pt x="8" y="44"/>
                </a:lnTo>
                <a:lnTo>
                  <a:pt x="6" y="40"/>
                </a:lnTo>
                <a:lnTo>
                  <a:pt x="4" y="36"/>
                </a:lnTo>
                <a:lnTo>
                  <a:pt x="2" y="34"/>
                </a:lnTo>
                <a:lnTo>
                  <a:pt x="0" y="30"/>
                </a:lnTo>
                <a:lnTo>
                  <a:pt x="0" y="24"/>
                </a:lnTo>
                <a:lnTo>
                  <a:pt x="2" y="17"/>
                </a:lnTo>
                <a:lnTo>
                  <a:pt x="4" y="11"/>
                </a:lnTo>
                <a:lnTo>
                  <a:pt x="10" y="7"/>
                </a:lnTo>
                <a:lnTo>
                  <a:pt x="12" y="5"/>
                </a:lnTo>
                <a:lnTo>
                  <a:pt x="15" y="3"/>
                </a:lnTo>
                <a:lnTo>
                  <a:pt x="19" y="1"/>
                </a:lnTo>
                <a:lnTo>
                  <a:pt x="25" y="0"/>
                </a:lnTo>
                <a:lnTo>
                  <a:pt x="31" y="0"/>
                </a:lnTo>
                <a:lnTo>
                  <a:pt x="38" y="0"/>
                </a:lnTo>
                <a:lnTo>
                  <a:pt x="46" y="0"/>
                </a:lnTo>
                <a:lnTo>
                  <a:pt x="56" y="0"/>
                </a:lnTo>
                <a:lnTo>
                  <a:pt x="63" y="0"/>
                </a:lnTo>
                <a:lnTo>
                  <a:pt x="75" y="1"/>
                </a:lnTo>
                <a:lnTo>
                  <a:pt x="85" y="3"/>
                </a:lnTo>
                <a:lnTo>
                  <a:pt x="96" y="5"/>
                </a:lnTo>
                <a:lnTo>
                  <a:pt x="108" y="7"/>
                </a:lnTo>
                <a:lnTo>
                  <a:pt x="121" y="11"/>
                </a:lnTo>
                <a:lnTo>
                  <a:pt x="134" y="15"/>
                </a:lnTo>
                <a:lnTo>
                  <a:pt x="148" y="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30"/>
          <p:cNvSpPr/>
          <p:nvPr/>
        </p:nvSpPr>
        <p:spPr>
          <a:xfrm>
            <a:off x="6337440" y="3182760"/>
            <a:ext cx="658800" cy="187560"/>
          </a:xfrm>
          <a:custGeom>
            <a:avLst/>
            <a:gdLst/>
            <a:ahLst/>
            <a:rect l="l" t="t" r="r" b="b"/>
            <a:pathLst>
              <a:path w="831" h="236">
                <a:moveTo>
                  <a:pt x="33" y="202"/>
                </a:moveTo>
                <a:lnTo>
                  <a:pt x="27" y="194"/>
                </a:lnTo>
                <a:lnTo>
                  <a:pt x="21" y="188"/>
                </a:lnTo>
                <a:lnTo>
                  <a:pt x="16" y="182"/>
                </a:lnTo>
                <a:lnTo>
                  <a:pt x="12" y="178"/>
                </a:lnTo>
                <a:lnTo>
                  <a:pt x="8" y="173"/>
                </a:lnTo>
                <a:lnTo>
                  <a:pt x="6" y="169"/>
                </a:lnTo>
                <a:lnTo>
                  <a:pt x="4" y="165"/>
                </a:lnTo>
                <a:lnTo>
                  <a:pt x="2" y="161"/>
                </a:lnTo>
                <a:lnTo>
                  <a:pt x="0" y="159"/>
                </a:lnTo>
                <a:lnTo>
                  <a:pt x="0" y="155"/>
                </a:lnTo>
                <a:lnTo>
                  <a:pt x="0" y="154"/>
                </a:lnTo>
                <a:lnTo>
                  <a:pt x="2" y="150"/>
                </a:lnTo>
                <a:lnTo>
                  <a:pt x="4" y="146"/>
                </a:lnTo>
                <a:lnTo>
                  <a:pt x="8" y="142"/>
                </a:lnTo>
                <a:lnTo>
                  <a:pt x="10" y="142"/>
                </a:lnTo>
                <a:lnTo>
                  <a:pt x="12" y="142"/>
                </a:lnTo>
                <a:lnTo>
                  <a:pt x="14" y="140"/>
                </a:lnTo>
                <a:lnTo>
                  <a:pt x="17" y="140"/>
                </a:lnTo>
                <a:lnTo>
                  <a:pt x="21" y="140"/>
                </a:lnTo>
                <a:lnTo>
                  <a:pt x="25" y="138"/>
                </a:lnTo>
                <a:lnTo>
                  <a:pt x="31" y="138"/>
                </a:lnTo>
                <a:lnTo>
                  <a:pt x="37" y="138"/>
                </a:lnTo>
                <a:lnTo>
                  <a:pt x="42" y="136"/>
                </a:lnTo>
                <a:lnTo>
                  <a:pt x="48" y="134"/>
                </a:lnTo>
                <a:lnTo>
                  <a:pt x="56" y="132"/>
                </a:lnTo>
                <a:lnTo>
                  <a:pt x="64" y="132"/>
                </a:lnTo>
                <a:lnTo>
                  <a:pt x="73" y="130"/>
                </a:lnTo>
                <a:lnTo>
                  <a:pt x="81" y="129"/>
                </a:lnTo>
                <a:lnTo>
                  <a:pt x="90" y="127"/>
                </a:lnTo>
                <a:lnTo>
                  <a:pt x="102" y="125"/>
                </a:lnTo>
                <a:lnTo>
                  <a:pt x="111" y="121"/>
                </a:lnTo>
                <a:lnTo>
                  <a:pt x="123" y="119"/>
                </a:lnTo>
                <a:lnTo>
                  <a:pt x="135" y="117"/>
                </a:lnTo>
                <a:lnTo>
                  <a:pt x="148" y="113"/>
                </a:lnTo>
                <a:lnTo>
                  <a:pt x="159" y="111"/>
                </a:lnTo>
                <a:lnTo>
                  <a:pt x="173" y="107"/>
                </a:lnTo>
                <a:lnTo>
                  <a:pt x="188" y="106"/>
                </a:lnTo>
                <a:lnTo>
                  <a:pt x="202" y="102"/>
                </a:lnTo>
                <a:lnTo>
                  <a:pt x="217" y="98"/>
                </a:lnTo>
                <a:lnTo>
                  <a:pt x="232" y="94"/>
                </a:lnTo>
                <a:lnTo>
                  <a:pt x="248" y="92"/>
                </a:lnTo>
                <a:lnTo>
                  <a:pt x="265" y="88"/>
                </a:lnTo>
                <a:lnTo>
                  <a:pt x="282" y="82"/>
                </a:lnTo>
                <a:lnTo>
                  <a:pt x="300" y="79"/>
                </a:lnTo>
                <a:lnTo>
                  <a:pt x="319" y="75"/>
                </a:lnTo>
                <a:lnTo>
                  <a:pt x="338" y="71"/>
                </a:lnTo>
                <a:lnTo>
                  <a:pt x="373" y="61"/>
                </a:lnTo>
                <a:lnTo>
                  <a:pt x="405" y="54"/>
                </a:lnTo>
                <a:lnTo>
                  <a:pt x="436" y="46"/>
                </a:lnTo>
                <a:lnTo>
                  <a:pt x="465" y="38"/>
                </a:lnTo>
                <a:lnTo>
                  <a:pt x="493" y="33"/>
                </a:lnTo>
                <a:lnTo>
                  <a:pt x="518" y="27"/>
                </a:lnTo>
                <a:lnTo>
                  <a:pt x="543" y="21"/>
                </a:lnTo>
                <a:lnTo>
                  <a:pt x="564" y="17"/>
                </a:lnTo>
                <a:lnTo>
                  <a:pt x="586" y="13"/>
                </a:lnTo>
                <a:lnTo>
                  <a:pt x="605" y="10"/>
                </a:lnTo>
                <a:lnTo>
                  <a:pt x="622" y="8"/>
                </a:lnTo>
                <a:lnTo>
                  <a:pt x="637" y="4"/>
                </a:lnTo>
                <a:lnTo>
                  <a:pt x="649" y="2"/>
                </a:lnTo>
                <a:lnTo>
                  <a:pt x="662" y="2"/>
                </a:lnTo>
                <a:lnTo>
                  <a:pt x="672" y="0"/>
                </a:lnTo>
                <a:lnTo>
                  <a:pt x="680" y="0"/>
                </a:lnTo>
                <a:lnTo>
                  <a:pt x="693" y="0"/>
                </a:lnTo>
                <a:lnTo>
                  <a:pt x="707" y="2"/>
                </a:lnTo>
                <a:lnTo>
                  <a:pt x="718" y="4"/>
                </a:lnTo>
                <a:lnTo>
                  <a:pt x="730" y="8"/>
                </a:lnTo>
                <a:lnTo>
                  <a:pt x="743" y="11"/>
                </a:lnTo>
                <a:lnTo>
                  <a:pt x="754" y="15"/>
                </a:lnTo>
                <a:lnTo>
                  <a:pt x="768" y="19"/>
                </a:lnTo>
                <a:lnTo>
                  <a:pt x="781" y="23"/>
                </a:lnTo>
                <a:lnTo>
                  <a:pt x="787" y="27"/>
                </a:lnTo>
                <a:lnTo>
                  <a:pt x="795" y="29"/>
                </a:lnTo>
                <a:lnTo>
                  <a:pt x="801" y="31"/>
                </a:lnTo>
                <a:lnTo>
                  <a:pt x="804" y="35"/>
                </a:lnTo>
                <a:lnTo>
                  <a:pt x="810" y="38"/>
                </a:lnTo>
                <a:lnTo>
                  <a:pt x="814" y="40"/>
                </a:lnTo>
                <a:lnTo>
                  <a:pt x="818" y="44"/>
                </a:lnTo>
                <a:lnTo>
                  <a:pt x="820" y="48"/>
                </a:lnTo>
                <a:lnTo>
                  <a:pt x="826" y="54"/>
                </a:lnTo>
                <a:lnTo>
                  <a:pt x="829" y="59"/>
                </a:lnTo>
                <a:lnTo>
                  <a:pt x="831" y="65"/>
                </a:lnTo>
                <a:lnTo>
                  <a:pt x="831" y="71"/>
                </a:lnTo>
                <a:lnTo>
                  <a:pt x="831" y="75"/>
                </a:lnTo>
                <a:lnTo>
                  <a:pt x="829" y="79"/>
                </a:lnTo>
                <a:lnTo>
                  <a:pt x="826" y="84"/>
                </a:lnTo>
                <a:lnTo>
                  <a:pt x="822" y="88"/>
                </a:lnTo>
                <a:lnTo>
                  <a:pt x="816" y="92"/>
                </a:lnTo>
                <a:lnTo>
                  <a:pt x="810" y="96"/>
                </a:lnTo>
                <a:lnTo>
                  <a:pt x="802" y="100"/>
                </a:lnTo>
                <a:lnTo>
                  <a:pt x="793" y="104"/>
                </a:lnTo>
                <a:lnTo>
                  <a:pt x="783" y="107"/>
                </a:lnTo>
                <a:lnTo>
                  <a:pt x="772" y="111"/>
                </a:lnTo>
                <a:lnTo>
                  <a:pt x="760" y="115"/>
                </a:lnTo>
                <a:lnTo>
                  <a:pt x="747" y="119"/>
                </a:lnTo>
                <a:lnTo>
                  <a:pt x="731" y="121"/>
                </a:lnTo>
                <a:lnTo>
                  <a:pt x="714" y="125"/>
                </a:lnTo>
                <a:lnTo>
                  <a:pt x="697" y="127"/>
                </a:lnTo>
                <a:lnTo>
                  <a:pt x="680" y="130"/>
                </a:lnTo>
                <a:lnTo>
                  <a:pt x="603" y="148"/>
                </a:lnTo>
                <a:lnTo>
                  <a:pt x="564" y="155"/>
                </a:lnTo>
                <a:lnTo>
                  <a:pt x="526" y="165"/>
                </a:lnTo>
                <a:lnTo>
                  <a:pt x="486" y="175"/>
                </a:lnTo>
                <a:lnTo>
                  <a:pt x="445" y="182"/>
                </a:lnTo>
                <a:lnTo>
                  <a:pt x="405" y="192"/>
                </a:lnTo>
                <a:lnTo>
                  <a:pt x="363" y="202"/>
                </a:lnTo>
                <a:lnTo>
                  <a:pt x="342" y="205"/>
                </a:lnTo>
                <a:lnTo>
                  <a:pt x="321" y="209"/>
                </a:lnTo>
                <a:lnTo>
                  <a:pt x="303" y="213"/>
                </a:lnTo>
                <a:lnTo>
                  <a:pt x="284" y="217"/>
                </a:lnTo>
                <a:lnTo>
                  <a:pt x="267" y="219"/>
                </a:lnTo>
                <a:lnTo>
                  <a:pt x="250" y="223"/>
                </a:lnTo>
                <a:lnTo>
                  <a:pt x="234" y="225"/>
                </a:lnTo>
                <a:lnTo>
                  <a:pt x="221" y="226"/>
                </a:lnTo>
                <a:lnTo>
                  <a:pt x="206" y="228"/>
                </a:lnTo>
                <a:lnTo>
                  <a:pt x="194" y="230"/>
                </a:lnTo>
                <a:lnTo>
                  <a:pt x="181" y="232"/>
                </a:lnTo>
                <a:lnTo>
                  <a:pt x="171" y="234"/>
                </a:lnTo>
                <a:lnTo>
                  <a:pt x="159" y="234"/>
                </a:lnTo>
                <a:lnTo>
                  <a:pt x="150" y="234"/>
                </a:lnTo>
                <a:lnTo>
                  <a:pt x="142" y="236"/>
                </a:lnTo>
                <a:lnTo>
                  <a:pt x="135" y="236"/>
                </a:lnTo>
                <a:lnTo>
                  <a:pt x="121" y="234"/>
                </a:lnTo>
                <a:lnTo>
                  <a:pt x="108" y="234"/>
                </a:lnTo>
                <a:lnTo>
                  <a:pt x="96" y="230"/>
                </a:lnTo>
                <a:lnTo>
                  <a:pt x="85" y="226"/>
                </a:lnTo>
                <a:lnTo>
                  <a:pt x="71" y="223"/>
                </a:lnTo>
                <a:lnTo>
                  <a:pt x="60" y="217"/>
                </a:lnTo>
                <a:lnTo>
                  <a:pt x="46" y="209"/>
                </a:lnTo>
                <a:lnTo>
                  <a:pt x="33" y="20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31"/>
          <p:cNvSpPr/>
          <p:nvPr/>
        </p:nvSpPr>
        <p:spPr>
          <a:xfrm>
            <a:off x="5557680" y="3754440"/>
            <a:ext cx="412920" cy="149400"/>
          </a:xfrm>
          <a:custGeom>
            <a:avLst/>
            <a:gdLst/>
            <a:ahLst/>
            <a:rect l="l" t="t" r="r" b="b"/>
            <a:pathLst>
              <a:path w="521" h="188">
                <a:moveTo>
                  <a:pt x="0" y="94"/>
                </a:moveTo>
                <a:lnTo>
                  <a:pt x="23" y="88"/>
                </a:lnTo>
                <a:lnTo>
                  <a:pt x="46" y="82"/>
                </a:lnTo>
                <a:lnTo>
                  <a:pt x="69" y="77"/>
                </a:lnTo>
                <a:lnTo>
                  <a:pt x="91" y="73"/>
                </a:lnTo>
                <a:lnTo>
                  <a:pt x="112" y="67"/>
                </a:lnTo>
                <a:lnTo>
                  <a:pt x="131" y="63"/>
                </a:lnTo>
                <a:lnTo>
                  <a:pt x="150" y="57"/>
                </a:lnTo>
                <a:lnTo>
                  <a:pt x="169" y="54"/>
                </a:lnTo>
                <a:lnTo>
                  <a:pt x="187" y="50"/>
                </a:lnTo>
                <a:lnTo>
                  <a:pt x="204" y="46"/>
                </a:lnTo>
                <a:lnTo>
                  <a:pt x="221" y="42"/>
                </a:lnTo>
                <a:lnTo>
                  <a:pt x="238" y="38"/>
                </a:lnTo>
                <a:lnTo>
                  <a:pt x="254" y="34"/>
                </a:lnTo>
                <a:lnTo>
                  <a:pt x="267" y="30"/>
                </a:lnTo>
                <a:lnTo>
                  <a:pt x="282" y="27"/>
                </a:lnTo>
                <a:lnTo>
                  <a:pt x="296" y="25"/>
                </a:lnTo>
                <a:lnTo>
                  <a:pt x="307" y="21"/>
                </a:lnTo>
                <a:lnTo>
                  <a:pt x="319" y="19"/>
                </a:lnTo>
                <a:lnTo>
                  <a:pt x="330" y="15"/>
                </a:lnTo>
                <a:lnTo>
                  <a:pt x="342" y="13"/>
                </a:lnTo>
                <a:lnTo>
                  <a:pt x="352" y="11"/>
                </a:lnTo>
                <a:lnTo>
                  <a:pt x="361" y="9"/>
                </a:lnTo>
                <a:lnTo>
                  <a:pt x="371" y="7"/>
                </a:lnTo>
                <a:lnTo>
                  <a:pt x="378" y="6"/>
                </a:lnTo>
                <a:lnTo>
                  <a:pt x="386" y="4"/>
                </a:lnTo>
                <a:lnTo>
                  <a:pt x="392" y="4"/>
                </a:lnTo>
                <a:lnTo>
                  <a:pt x="398" y="2"/>
                </a:lnTo>
                <a:lnTo>
                  <a:pt x="403" y="2"/>
                </a:lnTo>
                <a:lnTo>
                  <a:pt x="409" y="0"/>
                </a:lnTo>
                <a:lnTo>
                  <a:pt x="413" y="0"/>
                </a:lnTo>
                <a:lnTo>
                  <a:pt x="417" y="0"/>
                </a:lnTo>
                <a:lnTo>
                  <a:pt x="419" y="0"/>
                </a:lnTo>
                <a:lnTo>
                  <a:pt x="425" y="0"/>
                </a:lnTo>
                <a:lnTo>
                  <a:pt x="430" y="0"/>
                </a:lnTo>
                <a:lnTo>
                  <a:pt x="438" y="0"/>
                </a:lnTo>
                <a:lnTo>
                  <a:pt x="446" y="0"/>
                </a:lnTo>
                <a:lnTo>
                  <a:pt x="453" y="2"/>
                </a:lnTo>
                <a:lnTo>
                  <a:pt x="463" y="4"/>
                </a:lnTo>
                <a:lnTo>
                  <a:pt x="473" y="7"/>
                </a:lnTo>
                <a:lnTo>
                  <a:pt x="482" y="11"/>
                </a:lnTo>
                <a:lnTo>
                  <a:pt x="492" y="15"/>
                </a:lnTo>
                <a:lnTo>
                  <a:pt x="499" y="23"/>
                </a:lnTo>
                <a:lnTo>
                  <a:pt x="505" y="29"/>
                </a:lnTo>
                <a:lnTo>
                  <a:pt x="511" y="38"/>
                </a:lnTo>
                <a:lnTo>
                  <a:pt x="515" y="48"/>
                </a:lnTo>
                <a:lnTo>
                  <a:pt x="519" y="57"/>
                </a:lnTo>
                <a:lnTo>
                  <a:pt x="519" y="69"/>
                </a:lnTo>
                <a:lnTo>
                  <a:pt x="521" y="82"/>
                </a:lnTo>
                <a:lnTo>
                  <a:pt x="521" y="86"/>
                </a:lnTo>
                <a:lnTo>
                  <a:pt x="519" y="88"/>
                </a:lnTo>
                <a:lnTo>
                  <a:pt x="515" y="92"/>
                </a:lnTo>
                <a:lnTo>
                  <a:pt x="511" y="96"/>
                </a:lnTo>
                <a:lnTo>
                  <a:pt x="507" y="98"/>
                </a:lnTo>
                <a:lnTo>
                  <a:pt x="501" y="102"/>
                </a:lnTo>
                <a:lnTo>
                  <a:pt x="496" y="105"/>
                </a:lnTo>
                <a:lnTo>
                  <a:pt x="488" y="109"/>
                </a:lnTo>
                <a:lnTo>
                  <a:pt x="478" y="111"/>
                </a:lnTo>
                <a:lnTo>
                  <a:pt x="469" y="115"/>
                </a:lnTo>
                <a:lnTo>
                  <a:pt x="457" y="119"/>
                </a:lnTo>
                <a:lnTo>
                  <a:pt x="446" y="121"/>
                </a:lnTo>
                <a:lnTo>
                  <a:pt x="432" y="125"/>
                </a:lnTo>
                <a:lnTo>
                  <a:pt x="419" y="128"/>
                </a:lnTo>
                <a:lnTo>
                  <a:pt x="403" y="132"/>
                </a:lnTo>
                <a:lnTo>
                  <a:pt x="388" y="134"/>
                </a:lnTo>
                <a:lnTo>
                  <a:pt x="371" y="138"/>
                </a:lnTo>
                <a:lnTo>
                  <a:pt x="354" y="142"/>
                </a:lnTo>
                <a:lnTo>
                  <a:pt x="334" y="144"/>
                </a:lnTo>
                <a:lnTo>
                  <a:pt x="315" y="148"/>
                </a:lnTo>
                <a:lnTo>
                  <a:pt x="294" y="151"/>
                </a:lnTo>
                <a:lnTo>
                  <a:pt x="273" y="155"/>
                </a:lnTo>
                <a:lnTo>
                  <a:pt x="250" y="157"/>
                </a:lnTo>
                <a:lnTo>
                  <a:pt x="227" y="161"/>
                </a:lnTo>
                <a:lnTo>
                  <a:pt x="202" y="165"/>
                </a:lnTo>
                <a:lnTo>
                  <a:pt x="175" y="169"/>
                </a:lnTo>
                <a:lnTo>
                  <a:pt x="148" y="171"/>
                </a:lnTo>
                <a:lnTo>
                  <a:pt x="121" y="174"/>
                </a:lnTo>
                <a:lnTo>
                  <a:pt x="92" y="178"/>
                </a:lnTo>
                <a:lnTo>
                  <a:pt x="62" y="182"/>
                </a:lnTo>
                <a:lnTo>
                  <a:pt x="31" y="184"/>
                </a:lnTo>
                <a:lnTo>
                  <a:pt x="0" y="188"/>
                </a:lnTo>
                <a:lnTo>
                  <a:pt x="0" y="140"/>
                </a:lnTo>
                <a:lnTo>
                  <a:pt x="0" y="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32"/>
          <p:cNvSpPr/>
          <p:nvPr/>
        </p:nvSpPr>
        <p:spPr>
          <a:xfrm>
            <a:off x="5518080" y="3267000"/>
            <a:ext cx="561960" cy="534960"/>
          </a:xfrm>
          <a:custGeom>
            <a:avLst/>
            <a:gdLst/>
            <a:ahLst/>
            <a:rect l="l" t="t" r="r" b="b"/>
            <a:pathLst>
              <a:path w="709" h="673">
                <a:moveTo>
                  <a:pt x="419" y="36"/>
                </a:moveTo>
                <a:lnTo>
                  <a:pt x="423" y="26"/>
                </a:lnTo>
                <a:lnTo>
                  <a:pt x="430" y="21"/>
                </a:lnTo>
                <a:lnTo>
                  <a:pt x="436" y="13"/>
                </a:lnTo>
                <a:lnTo>
                  <a:pt x="444" y="9"/>
                </a:lnTo>
                <a:lnTo>
                  <a:pt x="453" y="5"/>
                </a:lnTo>
                <a:lnTo>
                  <a:pt x="463" y="1"/>
                </a:lnTo>
                <a:lnTo>
                  <a:pt x="473" y="1"/>
                </a:lnTo>
                <a:lnTo>
                  <a:pt x="482" y="0"/>
                </a:lnTo>
                <a:lnTo>
                  <a:pt x="486" y="1"/>
                </a:lnTo>
                <a:lnTo>
                  <a:pt x="492" y="5"/>
                </a:lnTo>
                <a:lnTo>
                  <a:pt x="498" y="7"/>
                </a:lnTo>
                <a:lnTo>
                  <a:pt x="505" y="9"/>
                </a:lnTo>
                <a:lnTo>
                  <a:pt x="513" y="11"/>
                </a:lnTo>
                <a:lnTo>
                  <a:pt x="521" y="15"/>
                </a:lnTo>
                <a:lnTo>
                  <a:pt x="536" y="21"/>
                </a:lnTo>
                <a:lnTo>
                  <a:pt x="555" y="28"/>
                </a:lnTo>
                <a:lnTo>
                  <a:pt x="576" y="36"/>
                </a:lnTo>
                <a:lnTo>
                  <a:pt x="586" y="42"/>
                </a:lnTo>
                <a:lnTo>
                  <a:pt x="597" y="48"/>
                </a:lnTo>
                <a:lnTo>
                  <a:pt x="609" y="53"/>
                </a:lnTo>
                <a:lnTo>
                  <a:pt x="620" y="59"/>
                </a:lnTo>
                <a:lnTo>
                  <a:pt x="632" y="67"/>
                </a:lnTo>
                <a:lnTo>
                  <a:pt x="642" y="72"/>
                </a:lnTo>
                <a:lnTo>
                  <a:pt x="653" y="78"/>
                </a:lnTo>
                <a:lnTo>
                  <a:pt x="661" y="86"/>
                </a:lnTo>
                <a:lnTo>
                  <a:pt x="668" y="92"/>
                </a:lnTo>
                <a:lnTo>
                  <a:pt x="676" y="97"/>
                </a:lnTo>
                <a:lnTo>
                  <a:pt x="684" y="103"/>
                </a:lnTo>
                <a:lnTo>
                  <a:pt x="690" y="109"/>
                </a:lnTo>
                <a:lnTo>
                  <a:pt x="693" y="115"/>
                </a:lnTo>
                <a:lnTo>
                  <a:pt x="697" y="120"/>
                </a:lnTo>
                <a:lnTo>
                  <a:pt x="701" y="124"/>
                </a:lnTo>
                <a:lnTo>
                  <a:pt x="705" y="128"/>
                </a:lnTo>
                <a:lnTo>
                  <a:pt x="707" y="132"/>
                </a:lnTo>
                <a:lnTo>
                  <a:pt x="709" y="136"/>
                </a:lnTo>
                <a:lnTo>
                  <a:pt x="709" y="140"/>
                </a:lnTo>
                <a:lnTo>
                  <a:pt x="709" y="142"/>
                </a:lnTo>
                <a:lnTo>
                  <a:pt x="709" y="151"/>
                </a:lnTo>
                <a:lnTo>
                  <a:pt x="707" y="159"/>
                </a:lnTo>
                <a:lnTo>
                  <a:pt x="705" y="167"/>
                </a:lnTo>
                <a:lnTo>
                  <a:pt x="699" y="176"/>
                </a:lnTo>
                <a:lnTo>
                  <a:pt x="695" y="184"/>
                </a:lnTo>
                <a:lnTo>
                  <a:pt x="688" y="190"/>
                </a:lnTo>
                <a:lnTo>
                  <a:pt x="680" y="195"/>
                </a:lnTo>
                <a:lnTo>
                  <a:pt x="672" y="201"/>
                </a:lnTo>
                <a:lnTo>
                  <a:pt x="666" y="203"/>
                </a:lnTo>
                <a:lnTo>
                  <a:pt x="663" y="207"/>
                </a:lnTo>
                <a:lnTo>
                  <a:pt x="657" y="213"/>
                </a:lnTo>
                <a:lnTo>
                  <a:pt x="653" y="218"/>
                </a:lnTo>
                <a:lnTo>
                  <a:pt x="647" y="226"/>
                </a:lnTo>
                <a:lnTo>
                  <a:pt x="643" y="234"/>
                </a:lnTo>
                <a:lnTo>
                  <a:pt x="638" y="243"/>
                </a:lnTo>
                <a:lnTo>
                  <a:pt x="634" y="253"/>
                </a:lnTo>
                <a:lnTo>
                  <a:pt x="628" y="264"/>
                </a:lnTo>
                <a:lnTo>
                  <a:pt x="624" y="278"/>
                </a:lnTo>
                <a:lnTo>
                  <a:pt x="618" y="291"/>
                </a:lnTo>
                <a:lnTo>
                  <a:pt x="615" y="307"/>
                </a:lnTo>
                <a:lnTo>
                  <a:pt x="609" y="322"/>
                </a:lnTo>
                <a:lnTo>
                  <a:pt x="605" y="339"/>
                </a:lnTo>
                <a:lnTo>
                  <a:pt x="599" y="358"/>
                </a:lnTo>
                <a:lnTo>
                  <a:pt x="595" y="378"/>
                </a:lnTo>
                <a:lnTo>
                  <a:pt x="590" y="397"/>
                </a:lnTo>
                <a:lnTo>
                  <a:pt x="582" y="416"/>
                </a:lnTo>
                <a:lnTo>
                  <a:pt x="576" y="435"/>
                </a:lnTo>
                <a:lnTo>
                  <a:pt x="572" y="454"/>
                </a:lnTo>
                <a:lnTo>
                  <a:pt x="563" y="493"/>
                </a:lnTo>
                <a:lnTo>
                  <a:pt x="555" y="529"/>
                </a:lnTo>
                <a:lnTo>
                  <a:pt x="547" y="566"/>
                </a:lnTo>
                <a:lnTo>
                  <a:pt x="542" y="602"/>
                </a:lnTo>
                <a:lnTo>
                  <a:pt x="536" y="637"/>
                </a:lnTo>
                <a:lnTo>
                  <a:pt x="532" y="673"/>
                </a:lnTo>
                <a:lnTo>
                  <a:pt x="475" y="666"/>
                </a:lnTo>
                <a:lnTo>
                  <a:pt x="419" y="660"/>
                </a:lnTo>
                <a:lnTo>
                  <a:pt x="419" y="631"/>
                </a:lnTo>
                <a:lnTo>
                  <a:pt x="419" y="604"/>
                </a:lnTo>
                <a:lnTo>
                  <a:pt x="419" y="577"/>
                </a:lnTo>
                <a:lnTo>
                  <a:pt x="421" y="550"/>
                </a:lnTo>
                <a:lnTo>
                  <a:pt x="421" y="524"/>
                </a:lnTo>
                <a:lnTo>
                  <a:pt x="423" y="499"/>
                </a:lnTo>
                <a:lnTo>
                  <a:pt x="425" y="476"/>
                </a:lnTo>
                <a:lnTo>
                  <a:pt x="427" y="451"/>
                </a:lnTo>
                <a:lnTo>
                  <a:pt x="428" y="428"/>
                </a:lnTo>
                <a:lnTo>
                  <a:pt x="430" y="406"/>
                </a:lnTo>
                <a:lnTo>
                  <a:pt x="432" y="385"/>
                </a:lnTo>
                <a:lnTo>
                  <a:pt x="434" y="364"/>
                </a:lnTo>
                <a:lnTo>
                  <a:pt x="436" y="345"/>
                </a:lnTo>
                <a:lnTo>
                  <a:pt x="438" y="328"/>
                </a:lnTo>
                <a:lnTo>
                  <a:pt x="442" y="310"/>
                </a:lnTo>
                <a:lnTo>
                  <a:pt x="444" y="295"/>
                </a:lnTo>
                <a:lnTo>
                  <a:pt x="446" y="280"/>
                </a:lnTo>
                <a:lnTo>
                  <a:pt x="448" y="266"/>
                </a:lnTo>
                <a:lnTo>
                  <a:pt x="450" y="253"/>
                </a:lnTo>
                <a:lnTo>
                  <a:pt x="450" y="241"/>
                </a:lnTo>
                <a:lnTo>
                  <a:pt x="452" y="230"/>
                </a:lnTo>
                <a:lnTo>
                  <a:pt x="452" y="220"/>
                </a:lnTo>
                <a:lnTo>
                  <a:pt x="450" y="211"/>
                </a:lnTo>
                <a:lnTo>
                  <a:pt x="450" y="203"/>
                </a:lnTo>
                <a:lnTo>
                  <a:pt x="448" y="195"/>
                </a:lnTo>
                <a:lnTo>
                  <a:pt x="446" y="190"/>
                </a:lnTo>
                <a:lnTo>
                  <a:pt x="444" y="184"/>
                </a:lnTo>
                <a:lnTo>
                  <a:pt x="440" y="178"/>
                </a:lnTo>
                <a:lnTo>
                  <a:pt x="436" y="174"/>
                </a:lnTo>
                <a:lnTo>
                  <a:pt x="430" y="170"/>
                </a:lnTo>
                <a:lnTo>
                  <a:pt x="425" y="168"/>
                </a:lnTo>
                <a:lnTo>
                  <a:pt x="419" y="165"/>
                </a:lnTo>
                <a:lnTo>
                  <a:pt x="411" y="165"/>
                </a:lnTo>
                <a:lnTo>
                  <a:pt x="404" y="165"/>
                </a:lnTo>
                <a:lnTo>
                  <a:pt x="394" y="165"/>
                </a:lnTo>
                <a:lnTo>
                  <a:pt x="384" y="165"/>
                </a:lnTo>
                <a:lnTo>
                  <a:pt x="365" y="167"/>
                </a:lnTo>
                <a:lnTo>
                  <a:pt x="346" y="167"/>
                </a:lnTo>
                <a:lnTo>
                  <a:pt x="323" y="168"/>
                </a:lnTo>
                <a:lnTo>
                  <a:pt x="300" y="170"/>
                </a:lnTo>
                <a:lnTo>
                  <a:pt x="277" y="172"/>
                </a:lnTo>
                <a:lnTo>
                  <a:pt x="254" y="178"/>
                </a:lnTo>
                <a:lnTo>
                  <a:pt x="225" y="182"/>
                </a:lnTo>
                <a:lnTo>
                  <a:pt x="194" y="186"/>
                </a:lnTo>
                <a:lnTo>
                  <a:pt x="164" y="190"/>
                </a:lnTo>
                <a:lnTo>
                  <a:pt x="131" y="193"/>
                </a:lnTo>
                <a:lnTo>
                  <a:pt x="98" y="197"/>
                </a:lnTo>
                <a:lnTo>
                  <a:pt x="66" y="199"/>
                </a:lnTo>
                <a:lnTo>
                  <a:pt x="33" y="201"/>
                </a:lnTo>
                <a:lnTo>
                  <a:pt x="0" y="201"/>
                </a:lnTo>
                <a:lnTo>
                  <a:pt x="0" y="142"/>
                </a:lnTo>
                <a:lnTo>
                  <a:pt x="25" y="136"/>
                </a:lnTo>
                <a:lnTo>
                  <a:pt x="48" y="130"/>
                </a:lnTo>
                <a:lnTo>
                  <a:pt x="71" y="126"/>
                </a:lnTo>
                <a:lnTo>
                  <a:pt x="94" y="120"/>
                </a:lnTo>
                <a:lnTo>
                  <a:pt x="116" y="115"/>
                </a:lnTo>
                <a:lnTo>
                  <a:pt x="137" y="111"/>
                </a:lnTo>
                <a:lnTo>
                  <a:pt x="156" y="105"/>
                </a:lnTo>
                <a:lnTo>
                  <a:pt x="175" y="101"/>
                </a:lnTo>
                <a:lnTo>
                  <a:pt x="194" y="97"/>
                </a:lnTo>
                <a:lnTo>
                  <a:pt x="212" y="94"/>
                </a:lnTo>
                <a:lnTo>
                  <a:pt x="229" y="88"/>
                </a:lnTo>
                <a:lnTo>
                  <a:pt x="246" y="84"/>
                </a:lnTo>
                <a:lnTo>
                  <a:pt x="261" y="80"/>
                </a:lnTo>
                <a:lnTo>
                  <a:pt x="277" y="78"/>
                </a:lnTo>
                <a:lnTo>
                  <a:pt x="290" y="74"/>
                </a:lnTo>
                <a:lnTo>
                  <a:pt x="304" y="71"/>
                </a:lnTo>
                <a:lnTo>
                  <a:pt x="317" y="67"/>
                </a:lnTo>
                <a:lnTo>
                  <a:pt x="329" y="65"/>
                </a:lnTo>
                <a:lnTo>
                  <a:pt x="340" y="61"/>
                </a:lnTo>
                <a:lnTo>
                  <a:pt x="350" y="59"/>
                </a:lnTo>
                <a:lnTo>
                  <a:pt x="359" y="55"/>
                </a:lnTo>
                <a:lnTo>
                  <a:pt x="369" y="53"/>
                </a:lnTo>
                <a:lnTo>
                  <a:pt x="377" y="51"/>
                </a:lnTo>
                <a:lnTo>
                  <a:pt x="384" y="49"/>
                </a:lnTo>
                <a:lnTo>
                  <a:pt x="392" y="46"/>
                </a:lnTo>
                <a:lnTo>
                  <a:pt x="398" y="44"/>
                </a:lnTo>
                <a:lnTo>
                  <a:pt x="404" y="42"/>
                </a:lnTo>
                <a:lnTo>
                  <a:pt x="407" y="42"/>
                </a:lnTo>
                <a:lnTo>
                  <a:pt x="411" y="40"/>
                </a:lnTo>
                <a:lnTo>
                  <a:pt x="415" y="38"/>
                </a:lnTo>
                <a:lnTo>
                  <a:pt x="417" y="36"/>
                </a:lnTo>
                <a:lnTo>
                  <a:pt x="419" y="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33"/>
          <p:cNvSpPr/>
          <p:nvPr/>
        </p:nvSpPr>
        <p:spPr>
          <a:xfrm>
            <a:off x="5421240" y="3338640"/>
            <a:ext cx="190440" cy="714240"/>
          </a:xfrm>
          <a:custGeom>
            <a:avLst/>
            <a:gdLst/>
            <a:ahLst/>
            <a:rect l="l" t="t" r="r" b="b"/>
            <a:pathLst>
              <a:path w="240" h="900">
                <a:moveTo>
                  <a:pt x="21" y="123"/>
                </a:moveTo>
                <a:lnTo>
                  <a:pt x="15" y="109"/>
                </a:lnTo>
                <a:lnTo>
                  <a:pt x="11" y="98"/>
                </a:lnTo>
                <a:lnTo>
                  <a:pt x="9" y="86"/>
                </a:lnTo>
                <a:lnTo>
                  <a:pt x="5" y="75"/>
                </a:lnTo>
                <a:lnTo>
                  <a:pt x="3" y="65"/>
                </a:lnTo>
                <a:lnTo>
                  <a:pt x="2" y="57"/>
                </a:lnTo>
                <a:lnTo>
                  <a:pt x="2" y="48"/>
                </a:lnTo>
                <a:lnTo>
                  <a:pt x="0" y="42"/>
                </a:lnTo>
                <a:lnTo>
                  <a:pt x="0" y="34"/>
                </a:lnTo>
                <a:lnTo>
                  <a:pt x="0" y="29"/>
                </a:lnTo>
                <a:lnTo>
                  <a:pt x="0" y="23"/>
                </a:lnTo>
                <a:lnTo>
                  <a:pt x="2" y="17"/>
                </a:lnTo>
                <a:lnTo>
                  <a:pt x="2" y="13"/>
                </a:lnTo>
                <a:lnTo>
                  <a:pt x="3" y="9"/>
                </a:lnTo>
                <a:lnTo>
                  <a:pt x="5" y="7"/>
                </a:lnTo>
                <a:lnTo>
                  <a:pt x="7" y="6"/>
                </a:lnTo>
                <a:lnTo>
                  <a:pt x="11" y="2"/>
                </a:lnTo>
                <a:lnTo>
                  <a:pt x="15" y="2"/>
                </a:lnTo>
                <a:lnTo>
                  <a:pt x="21" y="0"/>
                </a:lnTo>
                <a:lnTo>
                  <a:pt x="26" y="0"/>
                </a:lnTo>
                <a:lnTo>
                  <a:pt x="34" y="0"/>
                </a:lnTo>
                <a:lnTo>
                  <a:pt x="44" y="0"/>
                </a:lnTo>
                <a:lnTo>
                  <a:pt x="53" y="2"/>
                </a:lnTo>
                <a:lnTo>
                  <a:pt x="65" y="4"/>
                </a:lnTo>
                <a:lnTo>
                  <a:pt x="76" y="6"/>
                </a:lnTo>
                <a:lnTo>
                  <a:pt x="92" y="7"/>
                </a:lnTo>
                <a:lnTo>
                  <a:pt x="105" y="9"/>
                </a:lnTo>
                <a:lnTo>
                  <a:pt x="122" y="13"/>
                </a:lnTo>
                <a:lnTo>
                  <a:pt x="140" y="15"/>
                </a:lnTo>
                <a:lnTo>
                  <a:pt x="157" y="19"/>
                </a:lnTo>
                <a:lnTo>
                  <a:pt x="176" y="25"/>
                </a:lnTo>
                <a:lnTo>
                  <a:pt x="197" y="29"/>
                </a:lnTo>
                <a:lnTo>
                  <a:pt x="201" y="77"/>
                </a:lnTo>
                <a:lnTo>
                  <a:pt x="205" y="123"/>
                </a:lnTo>
                <a:lnTo>
                  <a:pt x="207" y="167"/>
                </a:lnTo>
                <a:lnTo>
                  <a:pt x="211" y="211"/>
                </a:lnTo>
                <a:lnTo>
                  <a:pt x="213" y="253"/>
                </a:lnTo>
                <a:lnTo>
                  <a:pt x="216" y="293"/>
                </a:lnTo>
                <a:lnTo>
                  <a:pt x="218" y="334"/>
                </a:lnTo>
                <a:lnTo>
                  <a:pt x="220" y="370"/>
                </a:lnTo>
                <a:lnTo>
                  <a:pt x="224" y="407"/>
                </a:lnTo>
                <a:lnTo>
                  <a:pt x="226" y="443"/>
                </a:lnTo>
                <a:lnTo>
                  <a:pt x="228" y="476"/>
                </a:lnTo>
                <a:lnTo>
                  <a:pt x="230" y="508"/>
                </a:lnTo>
                <a:lnTo>
                  <a:pt x="232" y="539"/>
                </a:lnTo>
                <a:lnTo>
                  <a:pt x="234" y="568"/>
                </a:lnTo>
                <a:lnTo>
                  <a:pt x="234" y="595"/>
                </a:lnTo>
                <a:lnTo>
                  <a:pt x="236" y="622"/>
                </a:lnTo>
                <a:lnTo>
                  <a:pt x="236" y="647"/>
                </a:lnTo>
                <a:lnTo>
                  <a:pt x="238" y="670"/>
                </a:lnTo>
                <a:lnTo>
                  <a:pt x="238" y="693"/>
                </a:lnTo>
                <a:lnTo>
                  <a:pt x="240" y="714"/>
                </a:lnTo>
                <a:lnTo>
                  <a:pt x="240" y="733"/>
                </a:lnTo>
                <a:lnTo>
                  <a:pt x="240" y="750"/>
                </a:lnTo>
                <a:lnTo>
                  <a:pt x="240" y="768"/>
                </a:lnTo>
                <a:lnTo>
                  <a:pt x="240" y="783"/>
                </a:lnTo>
                <a:lnTo>
                  <a:pt x="240" y="796"/>
                </a:lnTo>
                <a:lnTo>
                  <a:pt x="240" y="808"/>
                </a:lnTo>
                <a:lnTo>
                  <a:pt x="240" y="819"/>
                </a:lnTo>
                <a:lnTo>
                  <a:pt x="240" y="829"/>
                </a:lnTo>
                <a:lnTo>
                  <a:pt x="240" y="837"/>
                </a:lnTo>
                <a:lnTo>
                  <a:pt x="238" y="844"/>
                </a:lnTo>
                <a:lnTo>
                  <a:pt x="238" y="850"/>
                </a:lnTo>
                <a:lnTo>
                  <a:pt x="236" y="854"/>
                </a:lnTo>
                <a:lnTo>
                  <a:pt x="234" y="860"/>
                </a:lnTo>
                <a:lnTo>
                  <a:pt x="230" y="865"/>
                </a:lnTo>
                <a:lnTo>
                  <a:pt x="228" y="871"/>
                </a:lnTo>
                <a:lnTo>
                  <a:pt x="224" y="875"/>
                </a:lnTo>
                <a:lnTo>
                  <a:pt x="220" y="881"/>
                </a:lnTo>
                <a:lnTo>
                  <a:pt x="218" y="885"/>
                </a:lnTo>
                <a:lnTo>
                  <a:pt x="211" y="890"/>
                </a:lnTo>
                <a:lnTo>
                  <a:pt x="203" y="894"/>
                </a:lnTo>
                <a:lnTo>
                  <a:pt x="197" y="898"/>
                </a:lnTo>
                <a:lnTo>
                  <a:pt x="190" y="900"/>
                </a:lnTo>
                <a:lnTo>
                  <a:pt x="186" y="900"/>
                </a:lnTo>
                <a:lnTo>
                  <a:pt x="180" y="900"/>
                </a:lnTo>
                <a:lnTo>
                  <a:pt x="176" y="898"/>
                </a:lnTo>
                <a:lnTo>
                  <a:pt x="170" y="894"/>
                </a:lnTo>
                <a:lnTo>
                  <a:pt x="167" y="890"/>
                </a:lnTo>
                <a:lnTo>
                  <a:pt x="161" y="885"/>
                </a:lnTo>
                <a:lnTo>
                  <a:pt x="159" y="881"/>
                </a:lnTo>
                <a:lnTo>
                  <a:pt x="157" y="875"/>
                </a:lnTo>
                <a:lnTo>
                  <a:pt x="153" y="871"/>
                </a:lnTo>
                <a:lnTo>
                  <a:pt x="151" y="865"/>
                </a:lnTo>
                <a:lnTo>
                  <a:pt x="149" y="860"/>
                </a:lnTo>
                <a:lnTo>
                  <a:pt x="147" y="854"/>
                </a:lnTo>
                <a:lnTo>
                  <a:pt x="145" y="846"/>
                </a:lnTo>
                <a:lnTo>
                  <a:pt x="142" y="837"/>
                </a:lnTo>
                <a:lnTo>
                  <a:pt x="140" y="825"/>
                </a:lnTo>
                <a:lnTo>
                  <a:pt x="138" y="814"/>
                </a:lnTo>
                <a:lnTo>
                  <a:pt x="134" y="798"/>
                </a:lnTo>
                <a:lnTo>
                  <a:pt x="132" y="783"/>
                </a:lnTo>
                <a:lnTo>
                  <a:pt x="130" y="764"/>
                </a:lnTo>
                <a:lnTo>
                  <a:pt x="128" y="754"/>
                </a:lnTo>
                <a:lnTo>
                  <a:pt x="126" y="745"/>
                </a:lnTo>
                <a:lnTo>
                  <a:pt x="124" y="733"/>
                </a:lnTo>
                <a:lnTo>
                  <a:pt x="122" y="721"/>
                </a:lnTo>
                <a:lnTo>
                  <a:pt x="122" y="710"/>
                </a:lnTo>
                <a:lnTo>
                  <a:pt x="121" y="698"/>
                </a:lnTo>
                <a:lnTo>
                  <a:pt x="119" y="685"/>
                </a:lnTo>
                <a:lnTo>
                  <a:pt x="117" y="672"/>
                </a:lnTo>
                <a:lnTo>
                  <a:pt x="115" y="658"/>
                </a:lnTo>
                <a:lnTo>
                  <a:pt x="113" y="645"/>
                </a:lnTo>
                <a:lnTo>
                  <a:pt x="111" y="629"/>
                </a:lnTo>
                <a:lnTo>
                  <a:pt x="109" y="614"/>
                </a:lnTo>
                <a:lnTo>
                  <a:pt x="107" y="599"/>
                </a:lnTo>
                <a:lnTo>
                  <a:pt x="105" y="581"/>
                </a:lnTo>
                <a:lnTo>
                  <a:pt x="103" y="566"/>
                </a:lnTo>
                <a:lnTo>
                  <a:pt x="101" y="549"/>
                </a:lnTo>
                <a:lnTo>
                  <a:pt x="99" y="530"/>
                </a:lnTo>
                <a:lnTo>
                  <a:pt x="97" y="512"/>
                </a:lnTo>
                <a:lnTo>
                  <a:pt x="92" y="474"/>
                </a:lnTo>
                <a:lnTo>
                  <a:pt x="88" y="439"/>
                </a:lnTo>
                <a:lnTo>
                  <a:pt x="82" y="407"/>
                </a:lnTo>
                <a:lnTo>
                  <a:pt x="78" y="374"/>
                </a:lnTo>
                <a:lnTo>
                  <a:pt x="73" y="343"/>
                </a:lnTo>
                <a:lnTo>
                  <a:pt x="69" y="316"/>
                </a:lnTo>
                <a:lnTo>
                  <a:pt x="63" y="290"/>
                </a:lnTo>
                <a:lnTo>
                  <a:pt x="59" y="263"/>
                </a:lnTo>
                <a:lnTo>
                  <a:pt x="53" y="240"/>
                </a:lnTo>
                <a:lnTo>
                  <a:pt x="50" y="219"/>
                </a:lnTo>
                <a:lnTo>
                  <a:pt x="44" y="197"/>
                </a:lnTo>
                <a:lnTo>
                  <a:pt x="40" y="180"/>
                </a:lnTo>
                <a:lnTo>
                  <a:pt x="34" y="163"/>
                </a:lnTo>
                <a:lnTo>
                  <a:pt x="30" y="148"/>
                </a:lnTo>
                <a:lnTo>
                  <a:pt x="25" y="134"/>
                </a:lnTo>
                <a:lnTo>
                  <a:pt x="21" y="1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援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0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11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12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3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组合 8"/>
          <p:cNvGrpSpPr/>
          <p:nvPr/>
        </p:nvGrpSpPr>
        <p:grpSpPr>
          <a:xfrm>
            <a:off x="1390680" y="3975120"/>
            <a:ext cx="2863800" cy="1572120"/>
            <a:chOff x="1390680" y="3975120"/>
            <a:chExt cx="2863800" cy="1572120"/>
          </a:xfrm>
        </p:grpSpPr>
        <p:pic>
          <p:nvPicPr>
            <p:cNvPr id="216" name="图示 4" descr=""/>
            <p:cNvPicPr/>
            <p:nvPr/>
          </p:nvPicPr>
          <p:blipFill>
            <a:blip r:embed="rId3"/>
            <a:stretch/>
          </p:blipFill>
          <p:spPr>
            <a:xfrm>
              <a:off x="1390680" y="3975120"/>
              <a:ext cx="2863800" cy="15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矩形 2"/>
            <p:cNvSpPr/>
            <p:nvPr/>
          </p:nvSpPr>
          <p:spPr>
            <a:xfrm>
              <a:off x="1435680" y="4588200"/>
              <a:ext cx="279576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爰”第一横较短，第二横较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矩形 3"/>
          <p:cNvSpPr/>
          <p:nvPr/>
        </p:nvSpPr>
        <p:spPr>
          <a:xfrm>
            <a:off x="1969920" y="1868400"/>
            <a:ext cx="167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uá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24"/>
          <p:cNvSpPr/>
          <p:nvPr/>
        </p:nvSpPr>
        <p:spPr>
          <a:xfrm>
            <a:off x="6654960" y="4290840"/>
            <a:ext cx="1060200" cy="684360"/>
          </a:xfrm>
          <a:custGeom>
            <a:avLst/>
            <a:gdLst/>
            <a:ahLst/>
            <a:rect l="l" t="t" r="r" b="b"/>
            <a:pathLst>
              <a:path w="1336" h="861">
                <a:moveTo>
                  <a:pt x="148" y="180"/>
                </a:moveTo>
                <a:lnTo>
                  <a:pt x="131" y="163"/>
                </a:lnTo>
                <a:lnTo>
                  <a:pt x="113" y="145"/>
                </a:lnTo>
                <a:lnTo>
                  <a:pt x="96" y="132"/>
                </a:lnTo>
                <a:lnTo>
                  <a:pt x="83" y="117"/>
                </a:lnTo>
                <a:lnTo>
                  <a:pt x="69" y="103"/>
                </a:lnTo>
                <a:lnTo>
                  <a:pt x="56" y="90"/>
                </a:lnTo>
                <a:lnTo>
                  <a:pt x="46" y="76"/>
                </a:lnTo>
                <a:lnTo>
                  <a:pt x="37" y="65"/>
                </a:lnTo>
                <a:lnTo>
                  <a:pt x="27" y="53"/>
                </a:lnTo>
                <a:lnTo>
                  <a:pt x="19" y="44"/>
                </a:lnTo>
                <a:lnTo>
                  <a:pt x="14" y="34"/>
                </a:lnTo>
                <a:lnTo>
                  <a:pt x="8" y="26"/>
                </a:lnTo>
                <a:lnTo>
                  <a:pt x="4" y="19"/>
                </a:lnTo>
                <a:lnTo>
                  <a:pt x="2" y="11"/>
                </a:lnTo>
                <a:lnTo>
                  <a:pt x="0" y="5"/>
                </a:lnTo>
                <a:lnTo>
                  <a:pt x="0" y="0"/>
                </a:lnTo>
                <a:lnTo>
                  <a:pt x="12" y="1"/>
                </a:lnTo>
                <a:lnTo>
                  <a:pt x="25" y="1"/>
                </a:lnTo>
                <a:lnTo>
                  <a:pt x="38" y="5"/>
                </a:lnTo>
                <a:lnTo>
                  <a:pt x="52" y="7"/>
                </a:lnTo>
                <a:lnTo>
                  <a:pt x="63" y="11"/>
                </a:lnTo>
                <a:lnTo>
                  <a:pt x="77" y="17"/>
                </a:lnTo>
                <a:lnTo>
                  <a:pt x="102" y="26"/>
                </a:lnTo>
                <a:lnTo>
                  <a:pt x="106" y="28"/>
                </a:lnTo>
                <a:lnTo>
                  <a:pt x="110" y="32"/>
                </a:lnTo>
                <a:lnTo>
                  <a:pt x="115" y="34"/>
                </a:lnTo>
                <a:lnTo>
                  <a:pt x="119" y="38"/>
                </a:lnTo>
                <a:lnTo>
                  <a:pt x="125" y="44"/>
                </a:lnTo>
                <a:lnTo>
                  <a:pt x="131" y="48"/>
                </a:lnTo>
                <a:lnTo>
                  <a:pt x="138" y="53"/>
                </a:lnTo>
                <a:lnTo>
                  <a:pt x="146" y="59"/>
                </a:lnTo>
                <a:lnTo>
                  <a:pt x="154" y="65"/>
                </a:lnTo>
                <a:lnTo>
                  <a:pt x="161" y="71"/>
                </a:lnTo>
                <a:lnTo>
                  <a:pt x="171" y="78"/>
                </a:lnTo>
                <a:lnTo>
                  <a:pt x="181" y="86"/>
                </a:lnTo>
                <a:lnTo>
                  <a:pt x="190" y="94"/>
                </a:lnTo>
                <a:lnTo>
                  <a:pt x="202" y="101"/>
                </a:lnTo>
                <a:lnTo>
                  <a:pt x="213" y="111"/>
                </a:lnTo>
                <a:lnTo>
                  <a:pt x="225" y="119"/>
                </a:lnTo>
                <a:lnTo>
                  <a:pt x="236" y="128"/>
                </a:lnTo>
                <a:lnTo>
                  <a:pt x="250" y="138"/>
                </a:lnTo>
                <a:lnTo>
                  <a:pt x="263" y="149"/>
                </a:lnTo>
                <a:lnTo>
                  <a:pt x="276" y="159"/>
                </a:lnTo>
                <a:lnTo>
                  <a:pt x="292" y="170"/>
                </a:lnTo>
                <a:lnTo>
                  <a:pt x="307" y="182"/>
                </a:lnTo>
                <a:lnTo>
                  <a:pt x="323" y="193"/>
                </a:lnTo>
                <a:lnTo>
                  <a:pt x="340" y="207"/>
                </a:lnTo>
                <a:lnTo>
                  <a:pt x="355" y="218"/>
                </a:lnTo>
                <a:lnTo>
                  <a:pt x="374" y="232"/>
                </a:lnTo>
                <a:lnTo>
                  <a:pt x="392" y="245"/>
                </a:lnTo>
                <a:lnTo>
                  <a:pt x="411" y="261"/>
                </a:lnTo>
                <a:lnTo>
                  <a:pt x="430" y="274"/>
                </a:lnTo>
                <a:lnTo>
                  <a:pt x="449" y="289"/>
                </a:lnTo>
                <a:lnTo>
                  <a:pt x="470" y="305"/>
                </a:lnTo>
                <a:lnTo>
                  <a:pt x="491" y="320"/>
                </a:lnTo>
                <a:lnTo>
                  <a:pt x="532" y="351"/>
                </a:lnTo>
                <a:lnTo>
                  <a:pt x="570" y="380"/>
                </a:lnTo>
                <a:lnTo>
                  <a:pt x="610" y="408"/>
                </a:lnTo>
                <a:lnTo>
                  <a:pt x="651" y="435"/>
                </a:lnTo>
                <a:lnTo>
                  <a:pt x="689" y="462"/>
                </a:lnTo>
                <a:lnTo>
                  <a:pt x="728" y="485"/>
                </a:lnTo>
                <a:lnTo>
                  <a:pt x="766" y="508"/>
                </a:lnTo>
                <a:lnTo>
                  <a:pt x="804" y="531"/>
                </a:lnTo>
                <a:lnTo>
                  <a:pt x="841" y="552"/>
                </a:lnTo>
                <a:lnTo>
                  <a:pt x="879" y="572"/>
                </a:lnTo>
                <a:lnTo>
                  <a:pt x="914" y="591"/>
                </a:lnTo>
                <a:lnTo>
                  <a:pt x="950" y="608"/>
                </a:lnTo>
                <a:lnTo>
                  <a:pt x="985" y="623"/>
                </a:lnTo>
                <a:lnTo>
                  <a:pt x="1019" y="639"/>
                </a:lnTo>
                <a:lnTo>
                  <a:pt x="1052" y="652"/>
                </a:lnTo>
                <a:lnTo>
                  <a:pt x="1085" y="666"/>
                </a:lnTo>
                <a:lnTo>
                  <a:pt x="1100" y="671"/>
                </a:lnTo>
                <a:lnTo>
                  <a:pt x="1115" y="677"/>
                </a:lnTo>
                <a:lnTo>
                  <a:pt x="1131" y="683"/>
                </a:lnTo>
                <a:lnTo>
                  <a:pt x="1144" y="689"/>
                </a:lnTo>
                <a:lnTo>
                  <a:pt x="1158" y="692"/>
                </a:lnTo>
                <a:lnTo>
                  <a:pt x="1171" y="698"/>
                </a:lnTo>
                <a:lnTo>
                  <a:pt x="1184" y="704"/>
                </a:lnTo>
                <a:lnTo>
                  <a:pt x="1196" y="708"/>
                </a:lnTo>
                <a:lnTo>
                  <a:pt x="1207" y="714"/>
                </a:lnTo>
                <a:lnTo>
                  <a:pt x="1219" y="717"/>
                </a:lnTo>
                <a:lnTo>
                  <a:pt x="1229" y="723"/>
                </a:lnTo>
                <a:lnTo>
                  <a:pt x="1240" y="727"/>
                </a:lnTo>
                <a:lnTo>
                  <a:pt x="1248" y="731"/>
                </a:lnTo>
                <a:lnTo>
                  <a:pt x="1257" y="737"/>
                </a:lnTo>
                <a:lnTo>
                  <a:pt x="1267" y="740"/>
                </a:lnTo>
                <a:lnTo>
                  <a:pt x="1275" y="744"/>
                </a:lnTo>
                <a:lnTo>
                  <a:pt x="1282" y="748"/>
                </a:lnTo>
                <a:lnTo>
                  <a:pt x="1288" y="752"/>
                </a:lnTo>
                <a:lnTo>
                  <a:pt x="1296" y="754"/>
                </a:lnTo>
                <a:lnTo>
                  <a:pt x="1301" y="758"/>
                </a:lnTo>
                <a:lnTo>
                  <a:pt x="1307" y="762"/>
                </a:lnTo>
                <a:lnTo>
                  <a:pt x="1311" y="765"/>
                </a:lnTo>
                <a:lnTo>
                  <a:pt x="1317" y="767"/>
                </a:lnTo>
                <a:lnTo>
                  <a:pt x="1321" y="771"/>
                </a:lnTo>
                <a:lnTo>
                  <a:pt x="1325" y="775"/>
                </a:lnTo>
                <a:lnTo>
                  <a:pt x="1326" y="777"/>
                </a:lnTo>
                <a:lnTo>
                  <a:pt x="1330" y="781"/>
                </a:lnTo>
                <a:lnTo>
                  <a:pt x="1332" y="783"/>
                </a:lnTo>
                <a:lnTo>
                  <a:pt x="1334" y="788"/>
                </a:lnTo>
                <a:lnTo>
                  <a:pt x="1336" y="792"/>
                </a:lnTo>
                <a:lnTo>
                  <a:pt x="1334" y="796"/>
                </a:lnTo>
                <a:lnTo>
                  <a:pt x="1332" y="798"/>
                </a:lnTo>
                <a:lnTo>
                  <a:pt x="1328" y="802"/>
                </a:lnTo>
                <a:lnTo>
                  <a:pt x="1323" y="804"/>
                </a:lnTo>
                <a:lnTo>
                  <a:pt x="1315" y="808"/>
                </a:lnTo>
                <a:lnTo>
                  <a:pt x="1307" y="811"/>
                </a:lnTo>
                <a:lnTo>
                  <a:pt x="1296" y="815"/>
                </a:lnTo>
                <a:lnTo>
                  <a:pt x="1284" y="817"/>
                </a:lnTo>
                <a:lnTo>
                  <a:pt x="1271" y="821"/>
                </a:lnTo>
                <a:lnTo>
                  <a:pt x="1255" y="825"/>
                </a:lnTo>
                <a:lnTo>
                  <a:pt x="1238" y="829"/>
                </a:lnTo>
                <a:lnTo>
                  <a:pt x="1221" y="833"/>
                </a:lnTo>
                <a:lnTo>
                  <a:pt x="1200" y="834"/>
                </a:lnTo>
                <a:lnTo>
                  <a:pt x="1179" y="838"/>
                </a:lnTo>
                <a:lnTo>
                  <a:pt x="1156" y="840"/>
                </a:lnTo>
                <a:lnTo>
                  <a:pt x="1131" y="844"/>
                </a:lnTo>
                <a:lnTo>
                  <a:pt x="1106" y="846"/>
                </a:lnTo>
                <a:lnTo>
                  <a:pt x="1081" y="848"/>
                </a:lnTo>
                <a:lnTo>
                  <a:pt x="1058" y="850"/>
                </a:lnTo>
                <a:lnTo>
                  <a:pt x="1037" y="854"/>
                </a:lnTo>
                <a:lnTo>
                  <a:pt x="1015" y="856"/>
                </a:lnTo>
                <a:lnTo>
                  <a:pt x="996" y="858"/>
                </a:lnTo>
                <a:lnTo>
                  <a:pt x="977" y="858"/>
                </a:lnTo>
                <a:lnTo>
                  <a:pt x="960" y="859"/>
                </a:lnTo>
                <a:lnTo>
                  <a:pt x="943" y="861"/>
                </a:lnTo>
                <a:lnTo>
                  <a:pt x="927" y="861"/>
                </a:lnTo>
                <a:lnTo>
                  <a:pt x="912" y="861"/>
                </a:lnTo>
                <a:lnTo>
                  <a:pt x="898" y="861"/>
                </a:lnTo>
                <a:lnTo>
                  <a:pt x="887" y="861"/>
                </a:lnTo>
                <a:lnTo>
                  <a:pt x="875" y="859"/>
                </a:lnTo>
                <a:lnTo>
                  <a:pt x="866" y="859"/>
                </a:lnTo>
                <a:lnTo>
                  <a:pt x="856" y="858"/>
                </a:lnTo>
                <a:lnTo>
                  <a:pt x="852" y="856"/>
                </a:lnTo>
                <a:lnTo>
                  <a:pt x="847" y="854"/>
                </a:lnTo>
                <a:lnTo>
                  <a:pt x="843" y="850"/>
                </a:lnTo>
                <a:lnTo>
                  <a:pt x="837" y="848"/>
                </a:lnTo>
                <a:lnTo>
                  <a:pt x="831" y="844"/>
                </a:lnTo>
                <a:lnTo>
                  <a:pt x="824" y="840"/>
                </a:lnTo>
                <a:lnTo>
                  <a:pt x="818" y="836"/>
                </a:lnTo>
                <a:lnTo>
                  <a:pt x="810" y="831"/>
                </a:lnTo>
                <a:lnTo>
                  <a:pt x="804" y="825"/>
                </a:lnTo>
                <a:lnTo>
                  <a:pt x="797" y="819"/>
                </a:lnTo>
                <a:lnTo>
                  <a:pt x="789" y="813"/>
                </a:lnTo>
                <a:lnTo>
                  <a:pt x="779" y="806"/>
                </a:lnTo>
                <a:lnTo>
                  <a:pt x="772" y="798"/>
                </a:lnTo>
                <a:lnTo>
                  <a:pt x="762" y="790"/>
                </a:lnTo>
                <a:lnTo>
                  <a:pt x="754" y="781"/>
                </a:lnTo>
                <a:lnTo>
                  <a:pt x="745" y="773"/>
                </a:lnTo>
                <a:lnTo>
                  <a:pt x="735" y="763"/>
                </a:lnTo>
                <a:lnTo>
                  <a:pt x="724" y="754"/>
                </a:lnTo>
                <a:lnTo>
                  <a:pt x="714" y="742"/>
                </a:lnTo>
                <a:lnTo>
                  <a:pt x="703" y="731"/>
                </a:lnTo>
                <a:lnTo>
                  <a:pt x="691" y="719"/>
                </a:lnTo>
                <a:lnTo>
                  <a:pt x="680" y="708"/>
                </a:lnTo>
                <a:lnTo>
                  <a:pt x="668" y="696"/>
                </a:lnTo>
                <a:lnTo>
                  <a:pt x="657" y="683"/>
                </a:lnTo>
                <a:lnTo>
                  <a:pt x="643" y="669"/>
                </a:lnTo>
                <a:lnTo>
                  <a:pt x="632" y="656"/>
                </a:lnTo>
                <a:lnTo>
                  <a:pt x="605" y="627"/>
                </a:lnTo>
                <a:lnTo>
                  <a:pt x="576" y="595"/>
                </a:lnTo>
                <a:lnTo>
                  <a:pt x="547" y="562"/>
                </a:lnTo>
                <a:lnTo>
                  <a:pt x="518" y="531"/>
                </a:lnTo>
                <a:lnTo>
                  <a:pt x="490" y="502"/>
                </a:lnTo>
                <a:lnTo>
                  <a:pt x="461" y="472"/>
                </a:lnTo>
                <a:lnTo>
                  <a:pt x="434" y="445"/>
                </a:lnTo>
                <a:lnTo>
                  <a:pt x="405" y="418"/>
                </a:lnTo>
                <a:lnTo>
                  <a:pt x="378" y="391"/>
                </a:lnTo>
                <a:lnTo>
                  <a:pt x="353" y="366"/>
                </a:lnTo>
                <a:lnTo>
                  <a:pt x="326" y="341"/>
                </a:lnTo>
                <a:lnTo>
                  <a:pt x="301" y="318"/>
                </a:lnTo>
                <a:lnTo>
                  <a:pt x="278" y="295"/>
                </a:lnTo>
                <a:lnTo>
                  <a:pt x="253" y="274"/>
                </a:lnTo>
                <a:lnTo>
                  <a:pt x="232" y="253"/>
                </a:lnTo>
                <a:lnTo>
                  <a:pt x="209" y="234"/>
                </a:lnTo>
                <a:lnTo>
                  <a:pt x="188" y="215"/>
                </a:lnTo>
                <a:lnTo>
                  <a:pt x="167" y="197"/>
                </a:lnTo>
                <a:lnTo>
                  <a:pt x="148" y="18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25"/>
          <p:cNvSpPr/>
          <p:nvPr/>
        </p:nvSpPr>
        <p:spPr>
          <a:xfrm>
            <a:off x="6337440" y="4048200"/>
            <a:ext cx="869760" cy="823680"/>
          </a:xfrm>
          <a:custGeom>
            <a:avLst/>
            <a:gdLst/>
            <a:ahLst/>
            <a:rect l="l" t="t" r="r" b="b"/>
            <a:pathLst>
              <a:path w="1096" h="1039">
                <a:moveTo>
                  <a:pt x="251" y="881"/>
                </a:moveTo>
                <a:lnTo>
                  <a:pt x="282" y="866"/>
                </a:lnTo>
                <a:lnTo>
                  <a:pt x="313" y="851"/>
                </a:lnTo>
                <a:lnTo>
                  <a:pt x="342" y="837"/>
                </a:lnTo>
                <a:lnTo>
                  <a:pt x="370" y="820"/>
                </a:lnTo>
                <a:lnTo>
                  <a:pt x="397" y="805"/>
                </a:lnTo>
                <a:lnTo>
                  <a:pt x="424" y="789"/>
                </a:lnTo>
                <a:lnTo>
                  <a:pt x="449" y="772"/>
                </a:lnTo>
                <a:lnTo>
                  <a:pt x="474" y="755"/>
                </a:lnTo>
                <a:lnTo>
                  <a:pt x="499" y="737"/>
                </a:lnTo>
                <a:lnTo>
                  <a:pt x="522" y="720"/>
                </a:lnTo>
                <a:lnTo>
                  <a:pt x="543" y="701"/>
                </a:lnTo>
                <a:lnTo>
                  <a:pt x="564" y="682"/>
                </a:lnTo>
                <a:lnTo>
                  <a:pt x="583" y="663"/>
                </a:lnTo>
                <a:lnTo>
                  <a:pt x="603" y="641"/>
                </a:lnTo>
                <a:lnTo>
                  <a:pt x="622" y="622"/>
                </a:lnTo>
                <a:lnTo>
                  <a:pt x="639" y="601"/>
                </a:lnTo>
                <a:lnTo>
                  <a:pt x="652" y="578"/>
                </a:lnTo>
                <a:lnTo>
                  <a:pt x="668" y="559"/>
                </a:lnTo>
                <a:lnTo>
                  <a:pt x="681" y="538"/>
                </a:lnTo>
                <a:lnTo>
                  <a:pt x="695" y="519"/>
                </a:lnTo>
                <a:lnTo>
                  <a:pt x="706" y="499"/>
                </a:lnTo>
                <a:lnTo>
                  <a:pt x="718" y="480"/>
                </a:lnTo>
                <a:lnTo>
                  <a:pt x="729" y="463"/>
                </a:lnTo>
                <a:lnTo>
                  <a:pt x="741" y="446"/>
                </a:lnTo>
                <a:lnTo>
                  <a:pt x="752" y="430"/>
                </a:lnTo>
                <a:lnTo>
                  <a:pt x="762" y="415"/>
                </a:lnTo>
                <a:lnTo>
                  <a:pt x="771" y="400"/>
                </a:lnTo>
                <a:lnTo>
                  <a:pt x="779" y="384"/>
                </a:lnTo>
                <a:lnTo>
                  <a:pt x="789" y="371"/>
                </a:lnTo>
                <a:lnTo>
                  <a:pt x="796" y="357"/>
                </a:lnTo>
                <a:lnTo>
                  <a:pt x="804" y="344"/>
                </a:lnTo>
                <a:lnTo>
                  <a:pt x="810" y="332"/>
                </a:lnTo>
                <a:lnTo>
                  <a:pt x="816" y="319"/>
                </a:lnTo>
                <a:lnTo>
                  <a:pt x="821" y="307"/>
                </a:lnTo>
                <a:lnTo>
                  <a:pt x="831" y="286"/>
                </a:lnTo>
                <a:lnTo>
                  <a:pt x="839" y="265"/>
                </a:lnTo>
                <a:lnTo>
                  <a:pt x="844" y="246"/>
                </a:lnTo>
                <a:lnTo>
                  <a:pt x="848" y="238"/>
                </a:lnTo>
                <a:lnTo>
                  <a:pt x="850" y="231"/>
                </a:lnTo>
                <a:lnTo>
                  <a:pt x="852" y="221"/>
                </a:lnTo>
                <a:lnTo>
                  <a:pt x="854" y="215"/>
                </a:lnTo>
                <a:lnTo>
                  <a:pt x="854" y="208"/>
                </a:lnTo>
                <a:lnTo>
                  <a:pt x="854" y="202"/>
                </a:lnTo>
                <a:lnTo>
                  <a:pt x="856" y="196"/>
                </a:lnTo>
                <a:lnTo>
                  <a:pt x="856" y="190"/>
                </a:lnTo>
                <a:lnTo>
                  <a:pt x="852" y="187"/>
                </a:lnTo>
                <a:lnTo>
                  <a:pt x="846" y="181"/>
                </a:lnTo>
                <a:lnTo>
                  <a:pt x="842" y="177"/>
                </a:lnTo>
                <a:lnTo>
                  <a:pt x="835" y="173"/>
                </a:lnTo>
                <a:lnTo>
                  <a:pt x="829" y="169"/>
                </a:lnTo>
                <a:lnTo>
                  <a:pt x="819" y="167"/>
                </a:lnTo>
                <a:lnTo>
                  <a:pt x="810" y="165"/>
                </a:lnTo>
                <a:lnTo>
                  <a:pt x="804" y="165"/>
                </a:lnTo>
                <a:lnTo>
                  <a:pt x="798" y="165"/>
                </a:lnTo>
                <a:lnTo>
                  <a:pt x="785" y="165"/>
                </a:lnTo>
                <a:lnTo>
                  <a:pt x="770" y="167"/>
                </a:lnTo>
                <a:lnTo>
                  <a:pt x="754" y="171"/>
                </a:lnTo>
                <a:lnTo>
                  <a:pt x="737" y="175"/>
                </a:lnTo>
                <a:lnTo>
                  <a:pt x="718" y="181"/>
                </a:lnTo>
                <a:lnTo>
                  <a:pt x="697" y="187"/>
                </a:lnTo>
                <a:lnTo>
                  <a:pt x="687" y="190"/>
                </a:lnTo>
                <a:lnTo>
                  <a:pt x="675" y="194"/>
                </a:lnTo>
                <a:lnTo>
                  <a:pt x="662" y="200"/>
                </a:lnTo>
                <a:lnTo>
                  <a:pt x="651" y="204"/>
                </a:lnTo>
                <a:lnTo>
                  <a:pt x="637" y="208"/>
                </a:lnTo>
                <a:lnTo>
                  <a:pt x="626" y="213"/>
                </a:lnTo>
                <a:lnTo>
                  <a:pt x="614" y="217"/>
                </a:lnTo>
                <a:lnTo>
                  <a:pt x="603" y="221"/>
                </a:lnTo>
                <a:lnTo>
                  <a:pt x="581" y="227"/>
                </a:lnTo>
                <a:lnTo>
                  <a:pt x="562" y="233"/>
                </a:lnTo>
                <a:lnTo>
                  <a:pt x="545" y="236"/>
                </a:lnTo>
                <a:lnTo>
                  <a:pt x="530" y="240"/>
                </a:lnTo>
                <a:lnTo>
                  <a:pt x="514" y="242"/>
                </a:lnTo>
                <a:lnTo>
                  <a:pt x="501" y="242"/>
                </a:lnTo>
                <a:lnTo>
                  <a:pt x="495" y="242"/>
                </a:lnTo>
                <a:lnTo>
                  <a:pt x="487" y="240"/>
                </a:lnTo>
                <a:lnTo>
                  <a:pt x="482" y="238"/>
                </a:lnTo>
                <a:lnTo>
                  <a:pt x="474" y="235"/>
                </a:lnTo>
                <a:lnTo>
                  <a:pt x="466" y="231"/>
                </a:lnTo>
                <a:lnTo>
                  <a:pt x="459" y="227"/>
                </a:lnTo>
                <a:lnTo>
                  <a:pt x="449" y="221"/>
                </a:lnTo>
                <a:lnTo>
                  <a:pt x="441" y="215"/>
                </a:lnTo>
                <a:lnTo>
                  <a:pt x="432" y="208"/>
                </a:lnTo>
                <a:lnTo>
                  <a:pt x="424" y="200"/>
                </a:lnTo>
                <a:lnTo>
                  <a:pt x="414" y="192"/>
                </a:lnTo>
                <a:lnTo>
                  <a:pt x="405" y="183"/>
                </a:lnTo>
                <a:lnTo>
                  <a:pt x="395" y="173"/>
                </a:lnTo>
                <a:lnTo>
                  <a:pt x="386" y="164"/>
                </a:lnTo>
                <a:lnTo>
                  <a:pt x="374" y="152"/>
                </a:lnTo>
                <a:lnTo>
                  <a:pt x="365" y="140"/>
                </a:lnTo>
                <a:lnTo>
                  <a:pt x="407" y="135"/>
                </a:lnTo>
                <a:lnTo>
                  <a:pt x="447" y="131"/>
                </a:lnTo>
                <a:lnTo>
                  <a:pt x="487" y="125"/>
                </a:lnTo>
                <a:lnTo>
                  <a:pt x="526" y="119"/>
                </a:lnTo>
                <a:lnTo>
                  <a:pt x="562" y="114"/>
                </a:lnTo>
                <a:lnTo>
                  <a:pt x="597" y="106"/>
                </a:lnTo>
                <a:lnTo>
                  <a:pt x="614" y="102"/>
                </a:lnTo>
                <a:lnTo>
                  <a:pt x="629" y="98"/>
                </a:lnTo>
                <a:lnTo>
                  <a:pt x="647" y="92"/>
                </a:lnTo>
                <a:lnTo>
                  <a:pt x="662" y="89"/>
                </a:lnTo>
                <a:lnTo>
                  <a:pt x="675" y="87"/>
                </a:lnTo>
                <a:lnTo>
                  <a:pt x="689" y="83"/>
                </a:lnTo>
                <a:lnTo>
                  <a:pt x="702" y="81"/>
                </a:lnTo>
                <a:lnTo>
                  <a:pt x="714" y="77"/>
                </a:lnTo>
                <a:lnTo>
                  <a:pt x="725" y="73"/>
                </a:lnTo>
                <a:lnTo>
                  <a:pt x="737" y="69"/>
                </a:lnTo>
                <a:lnTo>
                  <a:pt x="747" y="66"/>
                </a:lnTo>
                <a:lnTo>
                  <a:pt x="756" y="62"/>
                </a:lnTo>
                <a:lnTo>
                  <a:pt x="764" y="58"/>
                </a:lnTo>
                <a:lnTo>
                  <a:pt x="771" y="52"/>
                </a:lnTo>
                <a:lnTo>
                  <a:pt x="777" y="48"/>
                </a:lnTo>
                <a:lnTo>
                  <a:pt x="783" y="45"/>
                </a:lnTo>
                <a:lnTo>
                  <a:pt x="789" y="39"/>
                </a:lnTo>
                <a:lnTo>
                  <a:pt x="793" y="35"/>
                </a:lnTo>
                <a:lnTo>
                  <a:pt x="796" y="29"/>
                </a:lnTo>
                <a:lnTo>
                  <a:pt x="798" y="25"/>
                </a:lnTo>
                <a:lnTo>
                  <a:pt x="804" y="20"/>
                </a:lnTo>
                <a:lnTo>
                  <a:pt x="810" y="16"/>
                </a:lnTo>
                <a:lnTo>
                  <a:pt x="816" y="12"/>
                </a:lnTo>
                <a:lnTo>
                  <a:pt x="823" y="8"/>
                </a:lnTo>
                <a:lnTo>
                  <a:pt x="833" y="4"/>
                </a:lnTo>
                <a:lnTo>
                  <a:pt x="842" y="2"/>
                </a:lnTo>
                <a:lnTo>
                  <a:pt x="854" y="0"/>
                </a:lnTo>
                <a:lnTo>
                  <a:pt x="867" y="0"/>
                </a:lnTo>
                <a:lnTo>
                  <a:pt x="881" y="0"/>
                </a:lnTo>
                <a:lnTo>
                  <a:pt x="894" y="2"/>
                </a:lnTo>
                <a:lnTo>
                  <a:pt x="910" y="6"/>
                </a:lnTo>
                <a:lnTo>
                  <a:pt x="927" y="10"/>
                </a:lnTo>
                <a:lnTo>
                  <a:pt x="937" y="14"/>
                </a:lnTo>
                <a:lnTo>
                  <a:pt x="944" y="18"/>
                </a:lnTo>
                <a:lnTo>
                  <a:pt x="954" y="21"/>
                </a:lnTo>
                <a:lnTo>
                  <a:pt x="963" y="25"/>
                </a:lnTo>
                <a:lnTo>
                  <a:pt x="973" y="31"/>
                </a:lnTo>
                <a:lnTo>
                  <a:pt x="983" y="37"/>
                </a:lnTo>
                <a:lnTo>
                  <a:pt x="994" y="43"/>
                </a:lnTo>
                <a:lnTo>
                  <a:pt x="1004" y="50"/>
                </a:lnTo>
                <a:lnTo>
                  <a:pt x="1013" y="58"/>
                </a:lnTo>
                <a:lnTo>
                  <a:pt x="1025" y="64"/>
                </a:lnTo>
                <a:lnTo>
                  <a:pt x="1033" y="71"/>
                </a:lnTo>
                <a:lnTo>
                  <a:pt x="1042" y="77"/>
                </a:lnTo>
                <a:lnTo>
                  <a:pt x="1050" y="83"/>
                </a:lnTo>
                <a:lnTo>
                  <a:pt x="1057" y="89"/>
                </a:lnTo>
                <a:lnTo>
                  <a:pt x="1065" y="94"/>
                </a:lnTo>
                <a:lnTo>
                  <a:pt x="1071" y="100"/>
                </a:lnTo>
                <a:lnTo>
                  <a:pt x="1077" y="106"/>
                </a:lnTo>
                <a:lnTo>
                  <a:pt x="1082" y="110"/>
                </a:lnTo>
                <a:lnTo>
                  <a:pt x="1086" y="116"/>
                </a:lnTo>
                <a:lnTo>
                  <a:pt x="1088" y="121"/>
                </a:lnTo>
                <a:lnTo>
                  <a:pt x="1092" y="125"/>
                </a:lnTo>
                <a:lnTo>
                  <a:pt x="1094" y="131"/>
                </a:lnTo>
                <a:lnTo>
                  <a:pt x="1096" y="135"/>
                </a:lnTo>
                <a:lnTo>
                  <a:pt x="1096" y="140"/>
                </a:lnTo>
                <a:lnTo>
                  <a:pt x="1096" y="148"/>
                </a:lnTo>
                <a:lnTo>
                  <a:pt x="1094" y="156"/>
                </a:lnTo>
                <a:lnTo>
                  <a:pt x="1092" y="164"/>
                </a:lnTo>
                <a:lnTo>
                  <a:pt x="1088" y="169"/>
                </a:lnTo>
                <a:lnTo>
                  <a:pt x="1084" y="173"/>
                </a:lnTo>
                <a:lnTo>
                  <a:pt x="1081" y="177"/>
                </a:lnTo>
                <a:lnTo>
                  <a:pt x="1077" y="177"/>
                </a:lnTo>
                <a:lnTo>
                  <a:pt x="1073" y="179"/>
                </a:lnTo>
                <a:lnTo>
                  <a:pt x="1067" y="181"/>
                </a:lnTo>
                <a:lnTo>
                  <a:pt x="1063" y="185"/>
                </a:lnTo>
                <a:lnTo>
                  <a:pt x="1057" y="190"/>
                </a:lnTo>
                <a:lnTo>
                  <a:pt x="1054" y="196"/>
                </a:lnTo>
                <a:lnTo>
                  <a:pt x="1048" y="202"/>
                </a:lnTo>
                <a:lnTo>
                  <a:pt x="1040" y="210"/>
                </a:lnTo>
                <a:lnTo>
                  <a:pt x="1034" y="219"/>
                </a:lnTo>
                <a:lnTo>
                  <a:pt x="1029" y="229"/>
                </a:lnTo>
                <a:lnTo>
                  <a:pt x="1021" y="240"/>
                </a:lnTo>
                <a:lnTo>
                  <a:pt x="1013" y="254"/>
                </a:lnTo>
                <a:lnTo>
                  <a:pt x="1006" y="267"/>
                </a:lnTo>
                <a:lnTo>
                  <a:pt x="996" y="283"/>
                </a:lnTo>
                <a:lnTo>
                  <a:pt x="988" y="300"/>
                </a:lnTo>
                <a:lnTo>
                  <a:pt x="979" y="317"/>
                </a:lnTo>
                <a:lnTo>
                  <a:pt x="969" y="336"/>
                </a:lnTo>
                <a:lnTo>
                  <a:pt x="958" y="357"/>
                </a:lnTo>
                <a:lnTo>
                  <a:pt x="948" y="378"/>
                </a:lnTo>
                <a:lnTo>
                  <a:pt x="938" y="400"/>
                </a:lnTo>
                <a:lnTo>
                  <a:pt x="927" y="419"/>
                </a:lnTo>
                <a:lnTo>
                  <a:pt x="917" y="438"/>
                </a:lnTo>
                <a:lnTo>
                  <a:pt x="908" y="457"/>
                </a:lnTo>
                <a:lnTo>
                  <a:pt x="898" y="476"/>
                </a:lnTo>
                <a:lnTo>
                  <a:pt x="889" y="494"/>
                </a:lnTo>
                <a:lnTo>
                  <a:pt x="879" y="511"/>
                </a:lnTo>
                <a:lnTo>
                  <a:pt x="871" y="526"/>
                </a:lnTo>
                <a:lnTo>
                  <a:pt x="862" y="544"/>
                </a:lnTo>
                <a:lnTo>
                  <a:pt x="852" y="559"/>
                </a:lnTo>
                <a:lnTo>
                  <a:pt x="844" y="572"/>
                </a:lnTo>
                <a:lnTo>
                  <a:pt x="835" y="588"/>
                </a:lnTo>
                <a:lnTo>
                  <a:pt x="827" y="601"/>
                </a:lnTo>
                <a:lnTo>
                  <a:pt x="818" y="613"/>
                </a:lnTo>
                <a:lnTo>
                  <a:pt x="810" y="626"/>
                </a:lnTo>
                <a:lnTo>
                  <a:pt x="789" y="651"/>
                </a:lnTo>
                <a:lnTo>
                  <a:pt x="764" y="676"/>
                </a:lnTo>
                <a:lnTo>
                  <a:pt x="739" y="701"/>
                </a:lnTo>
                <a:lnTo>
                  <a:pt x="727" y="714"/>
                </a:lnTo>
                <a:lnTo>
                  <a:pt x="712" y="728"/>
                </a:lnTo>
                <a:lnTo>
                  <a:pt x="699" y="741"/>
                </a:lnTo>
                <a:lnTo>
                  <a:pt x="683" y="755"/>
                </a:lnTo>
                <a:lnTo>
                  <a:pt x="668" y="766"/>
                </a:lnTo>
                <a:lnTo>
                  <a:pt x="652" y="780"/>
                </a:lnTo>
                <a:lnTo>
                  <a:pt x="635" y="793"/>
                </a:lnTo>
                <a:lnTo>
                  <a:pt x="618" y="805"/>
                </a:lnTo>
                <a:lnTo>
                  <a:pt x="601" y="818"/>
                </a:lnTo>
                <a:lnTo>
                  <a:pt x="581" y="830"/>
                </a:lnTo>
                <a:lnTo>
                  <a:pt x="562" y="843"/>
                </a:lnTo>
                <a:lnTo>
                  <a:pt x="541" y="855"/>
                </a:lnTo>
                <a:lnTo>
                  <a:pt x="522" y="866"/>
                </a:lnTo>
                <a:lnTo>
                  <a:pt x="501" y="878"/>
                </a:lnTo>
                <a:lnTo>
                  <a:pt x="480" y="889"/>
                </a:lnTo>
                <a:lnTo>
                  <a:pt x="457" y="901"/>
                </a:lnTo>
                <a:lnTo>
                  <a:pt x="413" y="924"/>
                </a:lnTo>
                <a:lnTo>
                  <a:pt x="365" y="943"/>
                </a:lnTo>
                <a:lnTo>
                  <a:pt x="317" y="964"/>
                </a:lnTo>
                <a:lnTo>
                  <a:pt x="267" y="981"/>
                </a:lnTo>
                <a:lnTo>
                  <a:pt x="242" y="989"/>
                </a:lnTo>
                <a:lnTo>
                  <a:pt x="217" y="997"/>
                </a:lnTo>
                <a:lnTo>
                  <a:pt x="190" y="1004"/>
                </a:lnTo>
                <a:lnTo>
                  <a:pt x="163" y="1010"/>
                </a:lnTo>
                <a:lnTo>
                  <a:pt x="140" y="1016"/>
                </a:lnTo>
                <a:lnTo>
                  <a:pt x="119" y="1021"/>
                </a:lnTo>
                <a:lnTo>
                  <a:pt x="100" y="1025"/>
                </a:lnTo>
                <a:lnTo>
                  <a:pt x="82" y="1029"/>
                </a:lnTo>
                <a:lnTo>
                  <a:pt x="65" y="1033"/>
                </a:lnTo>
                <a:lnTo>
                  <a:pt x="52" y="1035"/>
                </a:lnTo>
                <a:lnTo>
                  <a:pt x="40" y="1037"/>
                </a:lnTo>
                <a:lnTo>
                  <a:pt x="29" y="1039"/>
                </a:lnTo>
                <a:lnTo>
                  <a:pt x="19" y="1039"/>
                </a:lnTo>
                <a:lnTo>
                  <a:pt x="11" y="1039"/>
                </a:lnTo>
                <a:lnTo>
                  <a:pt x="6" y="1039"/>
                </a:lnTo>
                <a:lnTo>
                  <a:pt x="2" y="1039"/>
                </a:lnTo>
                <a:lnTo>
                  <a:pt x="0" y="1037"/>
                </a:lnTo>
                <a:lnTo>
                  <a:pt x="0" y="1035"/>
                </a:lnTo>
                <a:lnTo>
                  <a:pt x="0" y="1029"/>
                </a:lnTo>
                <a:lnTo>
                  <a:pt x="2" y="1023"/>
                </a:lnTo>
                <a:lnTo>
                  <a:pt x="6" y="1021"/>
                </a:lnTo>
                <a:lnTo>
                  <a:pt x="8" y="1018"/>
                </a:lnTo>
                <a:lnTo>
                  <a:pt x="11" y="1014"/>
                </a:lnTo>
                <a:lnTo>
                  <a:pt x="13" y="1012"/>
                </a:lnTo>
                <a:lnTo>
                  <a:pt x="19" y="1008"/>
                </a:lnTo>
                <a:lnTo>
                  <a:pt x="23" y="1004"/>
                </a:lnTo>
                <a:lnTo>
                  <a:pt x="29" y="1000"/>
                </a:lnTo>
                <a:lnTo>
                  <a:pt x="34" y="995"/>
                </a:lnTo>
                <a:lnTo>
                  <a:pt x="40" y="991"/>
                </a:lnTo>
                <a:lnTo>
                  <a:pt x="46" y="987"/>
                </a:lnTo>
                <a:lnTo>
                  <a:pt x="54" y="983"/>
                </a:lnTo>
                <a:lnTo>
                  <a:pt x="61" y="977"/>
                </a:lnTo>
                <a:lnTo>
                  <a:pt x="69" y="974"/>
                </a:lnTo>
                <a:lnTo>
                  <a:pt x="77" y="968"/>
                </a:lnTo>
                <a:lnTo>
                  <a:pt x="86" y="962"/>
                </a:lnTo>
                <a:lnTo>
                  <a:pt x="96" y="958"/>
                </a:lnTo>
                <a:lnTo>
                  <a:pt x="105" y="952"/>
                </a:lnTo>
                <a:lnTo>
                  <a:pt x="117" y="947"/>
                </a:lnTo>
                <a:lnTo>
                  <a:pt x="127" y="941"/>
                </a:lnTo>
                <a:lnTo>
                  <a:pt x="140" y="935"/>
                </a:lnTo>
                <a:lnTo>
                  <a:pt x="151" y="929"/>
                </a:lnTo>
                <a:lnTo>
                  <a:pt x="163" y="922"/>
                </a:lnTo>
                <a:lnTo>
                  <a:pt x="176" y="916"/>
                </a:lnTo>
                <a:lnTo>
                  <a:pt x="190" y="910"/>
                </a:lnTo>
                <a:lnTo>
                  <a:pt x="205" y="902"/>
                </a:lnTo>
                <a:lnTo>
                  <a:pt x="219" y="895"/>
                </a:lnTo>
                <a:lnTo>
                  <a:pt x="234" y="889"/>
                </a:lnTo>
                <a:lnTo>
                  <a:pt x="251" y="8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26"/>
          <p:cNvSpPr/>
          <p:nvPr/>
        </p:nvSpPr>
        <p:spPr>
          <a:xfrm>
            <a:off x="6172200" y="3541680"/>
            <a:ext cx="654120" cy="1127160"/>
          </a:xfrm>
          <a:custGeom>
            <a:avLst/>
            <a:gdLst/>
            <a:ahLst/>
            <a:rect l="l" t="t" r="r" b="b"/>
            <a:pathLst>
              <a:path w="823" h="1421">
                <a:moveTo>
                  <a:pt x="560" y="829"/>
                </a:moveTo>
                <a:lnTo>
                  <a:pt x="539" y="868"/>
                </a:lnTo>
                <a:lnTo>
                  <a:pt x="518" y="904"/>
                </a:lnTo>
                <a:lnTo>
                  <a:pt x="497" y="941"/>
                </a:lnTo>
                <a:lnTo>
                  <a:pt x="476" y="973"/>
                </a:lnTo>
                <a:lnTo>
                  <a:pt x="453" y="1008"/>
                </a:lnTo>
                <a:lnTo>
                  <a:pt x="431" y="1039"/>
                </a:lnTo>
                <a:lnTo>
                  <a:pt x="410" y="1069"/>
                </a:lnTo>
                <a:lnTo>
                  <a:pt x="387" y="1098"/>
                </a:lnTo>
                <a:lnTo>
                  <a:pt x="366" y="1127"/>
                </a:lnTo>
                <a:lnTo>
                  <a:pt x="343" y="1154"/>
                </a:lnTo>
                <a:lnTo>
                  <a:pt x="320" y="1179"/>
                </a:lnTo>
                <a:lnTo>
                  <a:pt x="299" y="1204"/>
                </a:lnTo>
                <a:lnTo>
                  <a:pt x="276" y="1227"/>
                </a:lnTo>
                <a:lnTo>
                  <a:pt x="253" y="1250"/>
                </a:lnTo>
                <a:lnTo>
                  <a:pt x="230" y="1271"/>
                </a:lnTo>
                <a:lnTo>
                  <a:pt x="207" y="1290"/>
                </a:lnTo>
                <a:lnTo>
                  <a:pt x="184" y="1309"/>
                </a:lnTo>
                <a:lnTo>
                  <a:pt x="163" y="1327"/>
                </a:lnTo>
                <a:lnTo>
                  <a:pt x="142" y="1342"/>
                </a:lnTo>
                <a:lnTo>
                  <a:pt x="122" y="1355"/>
                </a:lnTo>
                <a:lnTo>
                  <a:pt x="105" y="1369"/>
                </a:lnTo>
                <a:lnTo>
                  <a:pt x="90" y="1380"/>
                </a:lnTo>
                <a:lnTo>
                  <a:pt x="74" y="1390"/>
                </a:lnTo>
                <a:lnTo>
                  <a:pt x="61" y="1398"/>
                </a:lnTo>
                <a:lnTo>
                  <a:pt x="49" y="1405"/>
                </a:lnTo>
                <a:lnTo>
                  <a:pt x="38" y="1411"/>
                </a:lnTo>
                <a:lnTo>
                  <a:pt x="28" y="1415"/>
                </a:lnTo>
                <a:lnTo>
                  <a:pt x="21" y="1419"/>
                </a:lnTo>
                <a:lnTo>
                  <a:pt x="13" y="1421"/>
                </a:lnTo>
                <a:lnTo>
                  <a:pt x="7" y="1421"/>
                </a:lnTo>
                <a:lnTo>
                  <a:pt x="3" y="1421"/>
                </a:lnTo>
                <a:lnTo>
                  <a:pt x="1" y="1419"/>
                </a:lnTo>
                <a:lnTo>
                  <a:pt x="0" y="1415"/>
                </a:lnTo>
                <a:lnTo>
                  <a:pt x="0" y="1411"/>
                </a:lnTo>
                <a:lnTo>
                  <a:pt x="0" y="1405"/>
                </a:lnTo>
                <a:lnTo>
                  <a:pt x="3" y="1398"/>
                </a:lnTo>
                <a:lnTo>
                  <a:pt x="7" y="1388"/>
                </a:lnTo>
                <a:lnTo>
                  <a:pt x="13" y="1378"/>
                </a:lnTo>
                <a:lnTo>
                  <a:pt x="21" y="1367"/>
                </a:lnTo>
                <a:lnTo>
                  <a:pt x="30" y="1353"/>
                </a:lnTo>
                <a:lnTo>
                  <a:pt x="40" y="1338"/>
                </a:lnTo>
                <a:lnTo>
                  <a:pt x="51" y="1323"/>
                </a:lnTo>
                <a:lnTo>
                  <a:pt x="67" y="1305"/>
                </a:lnTo>
                <a:lnTo>
                  <a:pt x="82" y="1288"/>
                </a:lnTo>
                <a:lnTo>
                  <a:pt x="99" y="1267"/>
                </a:lnTo>
                <a:lnTo>
                  <a:pt x="117" y="1246"/>
                </a:lnTo>
                <a:lnTo>
                  <a:pt x="138" y="1225"/>
                </a:lnTo>
                <a:lnTo>
                  <a:pt x="161" y="1202"/>
                </a:lnTo>
                <a:lnTo>
                  <a:pt x="182" y="1177"/>
                </a:lnTo>
                <a:lnTo>
                  <a:pt x="203" y="1150"/>
                </a:lnTo>
                <a:lnTo>
                  <a:pt x="224" y="1121"/>
                </a:lnTo>
                <a:lnTo>
                  <a:pt x="245" y="1092"/>
                </a:lnTo>
                <a:lnTo>
                  <a:pt x="266" y="1062"/>
                </a:lnTo>
                <a:lnTo>
                  <a:pt x="289" y="1029"/>
                </a:lnTo>
                <a:lnTo>
                  <a:pt x="310" y="996"/>
                </a:lnTo>
                <a:lnTo>
                  <a:pt x="332" y="962"/>
                </a:lnTo>
                <a:lnTo>
                  <a:pt x="353" y="925"/>
                </a:lnTo>
                <a:lnTo>
                  <a:pt x="376" y="887"/>
                </a:lnTo>
                <a:lnTo>
                  <a:pt x="397" y="847"/>
                </a:lnTo>
                <a:lnTo>
                  <a:pt x="418" y="806"/>
                </a:lnTo>
                <a:lnTo>
                  <a:pt x="439" y="762"/>
                </a:lnTo>
                <a:lnTo>
                  <a:pt x="460" y="718"/>
                </a:lnTo>
                <a:lnTo>
                  <a:pt x="481" y="672"/>
                </a:lnTo>
                <a:lnTo>
                  <a:pt x="502" y="626"/>
                </a:lnTo>
                <a:lnTo>
                  <a:pt x="524" y="580"/>
                </a:lnTo>
                <a:lnTo>
                  <a:pt x="543" y="536"/>
                </a:lnTo>
                <a:lnTo>
                  <a:pt x="560" y="492"/>
                </a:lnTo>
                <a:lnTo>
                  <a:pt x="577" y="447"/>
                </a:lnTo>
                <a:lnTo>
                  <a:pt x="593" y="405"/>
                </a:lnTo>
                <a:lnTo>
                  <a:pt x="606" y="365"/>
                </a:lnTo>
                <a:lnTo>
                  <a:pt x="620" y="323"/>
                </a:lnTo>
                <a:lnTo>
                  <a:pt x="631" y="282"/>
                </a:lnTo>
                <a:lnTo>
                  <a:pt x="641" y="244"/>
                </a:lnTo>
                <a:lnTo>
                  <a:pt x="650" y="206"/>
                </a:lnTo>
                <a:lnTo>
                  <a:pt x="658" y="169"/>
                </a:lnTo>
                <a:lnTo>
                  <a:pt x="664" y="133"/>
                </a:lnTo>
                <a:lnTo>
                  <a:pt x="668" y="98"/>
                </a:lnTo>
                <a:lnTo>
                  <a:pt x="671" y="64"/>
                </a:lnTo>
                <a:lnTo>
                  <a:pt x="673" y="31"/>
                </a:lnTo>
                <a:lnTo>
                  <a:pt x="675" y="0"/>
                </a:lnTo>
                <a:lnTo>
                  <a:pt x="692" y="17"/>
                </a:lnTo>
                <a:lnTo>
                  <a:pt x="710" y="37"/>
                </a:lnTo>
                <a:lnTo>
                  <a:pt x="725" y="54"/>
                </a:lnTo>
                <a:lnTo>
                  <a:pt x="740" y="69"/>
                </a:lnTo>
                <a:lnTo>
                  <a:pt x="754" y="85"/>
                </a:lnTo>
                <a:lnTo>
                  <a:pt x="765" y="98"/>
                </a:lnTo>
                <a:lnTo>
                  <a:pt x="777" y="112"/>
                </a:lnTo>
                <a:lnTo>
                  <a:pt x="787" y="125"/>
                </a:lnTo>
                <a:lnTo>
                  <a:pt x="794" y="136"/>
                </a:lnTo>
                <a:lnTo>
                  <a:pt x="802" y="146"/>
                </a:lnTo>
                <a:lnTo>
                  <a:pt x="810" y="156"/>
                </a:lnTo>
                <a:lnTo>
                  <a:pt x="813" y="165"/>
                </a:lnTo>
                <a:lnTo>
                  <a:pt x="817" y="173"/>
                </a:lnTo>
                <a:lnTo>
                  <a:pt x="821" y="179"/>
                </a:lnTo>
                <a:lnTo>
                  <a:pt x="821" y="186"/>
                </a:lnTo>
                <a:lnTo>
                  <a:pt x="823" y="190"/>
                </a:lnTo>
                <a:lnTo>
                  <a:pt x="823" y="196"/>
                </a:lnTo>
                <a:lnTo>
                  <a:pt x="821" y="202"/>
                </a:lnTo>
                <a:lnTo>
                  <a:pt x="821" y="209"/>
                </a:lnTo>
                <a:lnTo>
                  <a:pt x="821" y="217"/>
                </a:lnTo>
                <a:lnTo>
                  <a:pt x="819" y="225"/>
                </a:lnTo>
                <a:lnTo>
                  <a:pt x="817" y="234"/>
                </a:lnTo>
                <a:lnTo>
                  <a:pt x="815" y="246"/>
                </a:lnTo>
                <a:lnTo>
                  <a:pt x="811" y="255"/>
                </a:lnTo>
                <a:lnTo>
                  <a:pt x="810" y="269"/>
                </a:lnTo>
                <a:lnTo>
                  <a:pt x="806" y="280"/>
                </a:lnTo>
                <a:lnTo>
                  <a:pt x="802" y="294"/>
                </a:lnTo>
                <a:lnTo>
                  <a:pt x="798" y="307"/>
                </a:lnTo>
                <a:lnTo>
                  <a:pt x="794" y="323"/>
                </a:lnTo>
                <a:lnTo>
                  <a:pt x="788" y="338"/>
                </a:lnTo>
                <a:lnTo>
                  <a:pt x="783" y="353"/>
                </a:lnTo>
                <a:lnTo>
                  <a:pt x="777" y="371"/>
                </a:lnTo>
                <a:lnTo>
                  <a:pt x="771" y="388"/>
                </a:lnTo>
                <a:lnTo>
                  <a:pt x="763" y="407"/>
                </a:lnTo>
                <a:lnTo>
                  <a:pt x="754" y="426"/>
                </a:lnTo>
                <a:lnTo>
                  <a:pt x="744" y="449"/>
                </a:lnTo>
                <a:lnTo>
                  <a:pt x="735" y="472"/>
                </a:lnTo>
                <a:lnTo>
                  <a:pt x="723" y="497"/>
                </a:lnTo>
                <a:lnTo>
                  <a:pt x="712" y="524"/>
                </a:lnTo>
                <a:lnTo>
                  <a:pt x="698" y="551"/>
                </a:lnTo>
                <a:lnTo>
                  <a:pt x="685" y="582"/>
                </a:lnTo>
                <a:lnTo>
                  <a:pt x="669" y="612"/>
                </a:lnTo>
                <a:lnTo>
                  <a:pt x="654" y="645"/>
                </a:lnTo>
                <a:lnTo>
                  <a:pt x="637" y="678"/>
                </a:lnTo>
                <a:lnTo>
                  <a:pt x="620" y="714"/>
                </a:lnTo>
                <a:lnTo>
                  <a:pt x="600" y="751"/>
                </a:lnTo>
                <a:lnTo>
                  <a:pt x="581" y="789"/>
                </a:lnTo>
                <a:lnTo>
                  <a:pt x="560" y="8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27"/>
          <p:cNvSpPr/>
          <p:nvPr/>
        </p:nvSpPr>
        <p:spPr>
          <a:xfrm>
            <a:off x="6245280" y="3699000"/>
            <a:ext cx="1195200" cy="328320"/>
          </a:xfrm>
          <a:custGeom>
            <a:avLst/>
            <a:gdLst/>
            <a:ahLst/>
            <a:rect l="l" t="t" r="r" b="b"/>
            <a:pathLst>
              <a:path w="1505" h="412">
                <a:moveTo>
                  <a:pt x="149" y="412"/>
                </a:moveTo>
                <a:lnTo>
                  <a:pt x="136" y="407"/>
                </a:lnTo>
                <a:lnTo>
                  <a:pt x="124" y="403"/>
                </a:lnTo>
                <a:lnTo>
                  <a:pt x="113" y="397"/>
                </a:lnTo>
                <a:lnTo>
                  <a:pt x="103" y="391"/>
                </a:lnTo>
                <a:lnTo>
                  <a:pt x="92" y="386"/>
                </a:lnTo>
                <a:lnTo>
                  <a:pt x="80" y="378"/>
                </a:lnTo>
                <a:lnTo>
                  <a:pt x="69" y="370"/>
                </a:lnTo>
                <a:lnTo>
                  <a:pt x="57" y="363"/>
                </a:lnTo>
                <a:lnTo>
                  <a:pt x="44" y="357"/>
                </a:lnTo>
                <a:lnTo>
                  <a:pt x="34" y="349"/>
                </a:lnTo>
                <a:lnTo>
                  <a:pt x="25" y="343"/>
                </a:lnTo>
                <a:lnTo>
                  <a:pt x="15" y="336"/>
                </a:lnTo>
                <a:lnTo>
                  <a:pt x="9" y="328"/>
                </a:lnTo>
                <a:lnTo>
                  <a:pt x="4" y="322"/>
                </a:lnTo>
                <a:lnTo>
                  <a:pt x="2" y="318"/>
                </a:lnTo>
                <a:lnTo>
                  <a:pt x="2" y="317"/>
                </a:lnTo>
                <a:lnTo>
                  <a:pt x="0" y="313"/>
                </a:lnTo>
                <a:lnTo>
                  <a:pt x="0" y="311"/>
                </a:lnTo>
                <a:lnTo>
                  <a:pt x="0" y="309"/>
                </a:lnTo>
                <a:lnTo>
                  <a:pt x="2" y="307"/>
                </a:lnTo>
                <a:lnTo>
                  <a:pt x="2" y="305"/>
                </a:lnTo>
                <a:lnTo>
                  <a:pt x="4" y="303"/>
                </a:lnTo>
                <a:lnTo>
                  <a:pt x="7" y="301"/>
                </a:lnTo>
                <a:lnTo>
                  <a:pt x="9" y="301"/>
                </a:lnTo>
                <a:lnTo>
                  <a:pt x="13" y="299"/>
                </a:lnTo>
                <a:lnTo>
                  <a:pt x="19" y="297"/>
                </a:lnTo>
                <a:lnTo>
                  <a:pt x="23" y="297"/>
                </a:lnTo>
                <a:lnTo>
                  <a:pt x="28" y="295"/>
                </a:lnTo>
                <a:lnTo>
                  <a:pt x="36" y="293"/>
                </a:lnTo>
                <a:lnTo>
                  <a:pt x="44" y="293"/>
                </a:lnTo>
                <a:lnTo>
                  <a:pt x="52" y="292"/>
                </a:lnTo>
                <a:lnTo>
                  <a:pt x="59" y="290"/>
                </a:lnTo>
                <a:lnTo>
                  <a:pt x="69" y="288"/>
                </a:lnTo>
                <a:lnTo>
                  <a:pt x="80" y="286"/>
                </a:lnTo>
                <a:lnTo>
                  <a:pt x="90" y="284"/>
                </a:lnTo>
                <a:lnTo>
                  <a:pt x="99" y="284"/>
                </a:lnTo>
                <a:lnTo>
                  <a:pt x="111" y="282"/>
                </a:lnTo>
                <a:lnTo>
                  <a:pt x="124" y="280"/>
                </a:lnTo>
                <a:lnTo>
                  <a:pt x="140" y="278"/>
                </a:lnTo>
                <a:lnTo>
                  <a:pt x="155" y="274"/>
                </a:lnTo>
                <a:lnTo>
                  <a:pt x="174" y="272"/>
                </a:lnTo>
                <a:lnTo>
                  <a:pt x="194" y="267"/>
                </a:lnTo>
                <a:lnTo>
                  <a:pt x="213" y="263"/>
                </a:lnTo>
                <a:lnTo>
                  <a:pt x="236" y="259"/>
                </a:lnTo>
                <a:lnTo>
                  <a:pt x="259" y="253"/>
                </a:lnTo>
                <a:lnTo>
                  <a:pt x="284" y="247"/>
                </a:lnTo>
                <a:lnTo>
                  <a:pt x="311" y="242"/>
                </a:lnTo>
                <a:lnTo>
                  <a:pt x="339" y="236"/>
                </a:lnTo>
                <a:lnTo>
                  <a:pt x="368" y="228"/>
                </a:lnTo>
                <a:lnTo>
                  <a:pt x="399" y="221"/>
                </a:lnTo>
                <a:lnTo>
                  <a:pt x="430" y="213"/>
                </a:lnTo>
                <a:lnTo>
                  <a:pt x="460" y="205"/>
                </a:lnTo>
                <a:lnTo>
                  <a:pt x="491" y="198"/>
                </a:lnTo>
                <a:lnTo>
                  <a:pt x="524" y="190"/>
                </a:lnTo>
                <a:lnTo>
                  <a:pt x="556" y="180"/>
                </a:lnTo>
                <a:lnTo>
                  <a:pt x="589" y="173"/>
                </a:lnTo>
                <a:lnTo>
                  <a:pt x="624" y="163"/>
                </a:lnTo>
                <a:lnTo>
                  <a:pt x="658" y="153"/>
                </a:lnTo>
                <a:lnTo>
                  <a:pt x="693" y="144"/>
                </a:lnTo>
                <a:lnTo>
                  <a:pt x="729" y="134"/>
                </a:lnTo>
                <a:lnTo>
                  <a:pt x="766" y="125"/>
                </a:lnTo>
                <a:lnTo>
                  <a:pt x="802" y="113"/>
                </a:lnTo>
                <a:lnTo>
                  <a:pt x="840" y="103"/>
                </a:lnTo>
                <a:lnTo>
                  <a:pt x="879" y="92"/>
                </a:lnTo>
                <a:lnTo>
                  <a:pt x="919" y="80"/>
                </a:lnTo>
                <a:lnTo>
                  <a:pt x="959" y="67"/>
                </a:lnTo>
                <a:lnTo>
                  <a:pt x="998" y="57"/>
                </a:lnTo>
                <a:lnTo>
                  <a:pt x="1036" y="50"/>
                </a:lnTo>
                <a:lnTo>
                  <a:pt x="1073" y="42"/>
                </a:lnTo>
                <a:lnTo>
                  <a:pt x="1107" y="34"/>
                </a:lnTo>
                <a:lnTo>
                  <a:pt x="1140" y="27"/>
                </a:lnTo>
                <a:lnTo>
                  <a:pt x="1169" y="21"/>
                </a:lnTo>
                <a:lnTo>
                  <a:pt x="1197" y="15"/>
                </a:lnTo>
                <a:lnTo>
                  <a:pt x="1224" y="11"/>
                </a:lnTo>
                <a:lnTo>
                  <a:pt x="1249" y="7"/>
                </a:lnTo>
                <a:lnTo>
                  <a:pt x="1272" y="4"/>
                </a:lnTo>
                <a:lnTo>
                  <a:pt x="1293" y="2"/>
                </a:lnTo>
                <a:lnTo>
                  <a:pt x="1313" y="2"/>
                </a:lnTo>
                <a:lnTo>
                  <a:pt x="1330" y="0"/>
                </a:lnTo>
                <a:lnTo>
                  <a:pt x="1345" y="0"/>
                </a:lnTo>
                <a:lnTo>
                  <a:pt x="1359" y="2"/>
                </a:lnTo>
                <a:lnTo>
                  <a:pt x="1370" y="4"/>
                </a:lnTo>
                <a:lnTo>
                  <a:pt x="1391" y="9"/>
                </a:lnTo>
                <a:lnTo>
                  <a:pt x="1410" y="15"/>
                </a:lnTo>
                <a:lnTo>
                  <a:pt x="1430" y="23"/>
                </a:lnTo>
                <a:lnTo>
                  <a:pt x="1445" y="29"/>
                </a:lnTo>
                <a:lnTo>
                  <a:pt x="1460" y="36"/>
                </a:lnTo>
                <a:lnTo>
                  <a:pt x="1474" y="42"/>
                </a:lnTo>
                <a:lnTo>
                  <a:pt x="1482" y="46"/>
                </a:lnTo>
                <a:lnTo>
                  <a:pt x="1485" y="50"/>
                </a:lnTo>
                <a:lnTo>
                  <a:pt x="1491" y="52"/>
                </a:lnTo>
                <a:lnTo>
                  <a:pt x="1497" y="55"/>
                </a:lnTo>
                <a:lnTo>
                  <a:pt x="1499" y="65"/>
                </a:lnTo>
                <a:lnTo>
                  <a:pt x="1503" y="75"/>
                </a:lnTo>
                <a:lnTo>
                  <a:pt x="1505" y="82"/>
                </a:lnTo>
                <a:lnTo>
                  <a:pt x="1505" y="92"/>
                </a:lnTo>
                <a:lnTo>
                  <a:pt x="1505" y="100"/>
                </a:lnTo>
                <a:lnTo>
                  <a:pt x="1503" y="107"/>
                </a:lnTo>
                <a:lnTo>
                  <a:pt x="1499" y="113"/>
                </a:lnTo>
                <a:lnTo>
                  <a:pt x="1497" y="119"/>
                </a:lnTo>
                <a:lnTo>
                  <a:pt x="1493" y="121"/>
                </a:lnTo>
                <a:lnTo>
                  <a:pt x="1491" y="125"/>
                </a:lnTo>
                <a:lnTo>
                  <a:pt x="1487" y="126"/>
                </a:lnTo>
                <a:lnTo>
                  <a:pt x="1483" y="128"/>
                </a:lnTo>
                <a:lnTo>
                  <a:pt x="1478" y="130"/>
                </a:lnTo>
                <a:lnTo>
                  <a:pt x="1472" y="132"/>
                </a:lnTo>
                <a:lnTo>
                  <a:pt x="1466" y="136"/>
                </a:lnTo>
                <a:lnTo>
                  <a:pt x="1460" y="138"/>
                </a:lnTo>
                <a:lnTo>
                  <a:pt x="1453" y="140"/>
                </a:lnTo>
                <a:lnTo>
                  <a:pt x="1445" y="142"/>
                </a:lnTo>
                <a:lnTo>
                  <a:pt x="1437" y="146"/>
                </a:lnTo>
                <a:lnTo>
                  <a:pt x="1428" y="148"/>
                </a:lnTo>
                <a:lnTo>
                  <a:pt x="1418" y="150"/>
                </a:lnTo>
                <a:lnTo>
                  <a:pt x="1409" y="151"/>
                </a:lnTo>
                <a:lnTo>
                  <a:pt x="1397" y="155"/>
                </a:lnTo>
                <a:lnTo>
                  <a:pt x="1386" y="157"/>
                </a:lnTo>
                <a:lnTo>
                  <a:pt x="1374" y="159"/>
                </a:lnTo>
                <a:lnTo>
                  <a:pt x="1363" y="161"/>
                </a:lnTo>
                <a:lnTo>
                  <a:pt x="1349" y="165"/>
                </a:lnTo>
                <a:lnTo>
                  <a:pt x="1336" y="167"/>
                </a:lnTo>
                <a:lnTo>
                  <a:pt x="1322" y="169"/>
                </a:lnTo>
                <a:lnTo>
                  <a:pt x="1307" y="171"/>
                </a:lnTo>
                <a:lnTo>
                  <a:pt x="1291" y="173"/>
                </a:lnTo>
                <a:lnTo>
                  <a:pt x="1276" y="176"/>
                </a:lnTo>
                <a:lnTo>
                  <a:pt x="1259" y="178"/>
                </a:lnTo>
                <a:lnTo>
                  <a:pt x="1243" y="180"/>
                </a:lnTo>
                <a:lnTo>
                  <a:pt x="1226" y="182"/>
                </a:lnTo>
                <a:lnTo>
                  <a:pt x="1207" y="186"/>
                </a:lnTo>
                <a:lnTo>
                  <a:pt x="1190" y="188"/>
                </a:lnTo>
                <a:lnTo>
                  <a:pt x="1171" y="190"/>
                </a:lnTo>
                <a:lnTo>
                  <a:pt x="1149" y="194"/>
                </a:lnTo>
                <a:lnTo>
                  <a:pt x="1130" y="196"/>
                </a:lnTo>
                <a:lnTo>
                  <a:pt x="1046" y="205"/>
                </a:lnTo>
                <a:lnTo>
                  <a:pt x="961" y="217"/>
                </a:lnTo>
                <a:lnTo>
                  <a:pt x="879" y="230"/>
                </a:lnTo>
                <a:lnTo>
                  <a:pt x="798" y="246"/>
                </a:lnTo>
                <a:lnTo>
                  <a:pt x="758" y="253"/>
                </a:lnTo>
                <a:lnTo>
                  <a:pt x="718" y="261"/>
                </a:lnTo>
                <a:lnTo>
                  <a:pt x="679" y="270"/>
                </a:lnTo>
                <a:lnTo>
                  <a:pt x="641" y="280"/>
                </a:lnTo>
                <a:lnTo>
                  <a:pt x="602" y="290"/>
                </a:lnTo>
                <a:lnTo>
                  <a:pt x="564" y="299"/>
                </a:lnTo>
                <a:lnTo>
                  <a:pt x="528" y="311"/>
                </a:lnTo>
                <a:lnTo>
                  <a:pt x="491" y="324"/>
                </a:lnTo>
                <a:lnTo>
                  <a:pt x="457" y="336"/>
                </a:lnTo>
                <a:lnTo>
                  <a:pt x="422" y="345"/>
                </a:lnTo>
                <a:lnTo>
                  <a:pt x="391" y="355"/>
                </a:lnTo>
                <a:lnTo>
                  <a:pt x="361" y="365"/>
                </a:lnTo>
                <a:lnTo>
                  <a:pt x="332" y="372"/>
                </a:lnTo>
                <a:lnTo>
                  <a:pt x="307" y="380"/>
                </a:lnTo>
                <a:lnTo>
                  <a:pt x="282" y="388"/>
                </a:lnTo>
                <a:lnTo>
                  <a:pt x="261" y="393"/>
                </a:lnTo>
                <a:lnTo>
                  <a:pt x="240" y="397"/>
                </a:lnTo>
                <a:lnTo>
                  <a:pt x="220" y="401"/>
                </a:lnTo>
                <a:lnTo>
                  <a:pt x="203" y="405"/>
                </a:lnTo>
                <a:lnTo>
                  <a:pt x="190" y="409"/>
                </a:lnTo>
                <a:lnTo>
                  <a:pt x="176" y="411"/>
                </a:lnTo>
                <a:lnTo>
                  <a:pt x="165" y="411"/>
                </a:lnTo>
                <a:lnTo>
                  <a:pt x="155" y="412"/>
                </a:lnTo>
                <a:lnTo>
                  <a:pt x="149" y="4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28"/>
          <p:cNvSpPr/>
          <p:nvPr/>
        </p:nvSpPr>
        <p:spPr>
          <a:xfrm>
            <a:off x="6443640" y="3429000"/>
            <a:ext cx="744480" cy="231840"/>
          </a:xfrm>
          <a:custGeom>
            <a:avLst/>
            <a:gdLst/>
            <a:ahLst/>
            <a:rect l="l" t="t" r="r" b="b"/>
            <a:pathLst>
              <a:path w="939" h="294">
                <a:moveTo>
                  <a:pt x="117" y="294"/>
                </a:moveTo>
                <a:lnTo>
                  <a:pt x="108" y="294"/>
                </a:lnTo>
                <a:lnTo>
                  <a:pt x="100" y="292"/>
                </a:lnTo>
                <a:lnTo>
                  <a:pt x="90" y="290"/>
                </a:lnTo>
                <a:lnTo>
                  <a:pt x="83" y="286"/>
                </a:lnTo>
                <a:lnTo>
                  <a:pt x="73" y="282"/>
                </a:lnTo>
                <a:lnTo>
                  <a:pt x="65" y="278"/>
                </a:lnTo>
                <a:lnTo>
                  <a:pt x="48" y="269"/>
                </a:lnTo>
                <a:lnTo>
                  <a:pt x="42" y="267"/>
                </a:lnTo>
                <a:lnTo>
                  <a:pt x="37" y="265"/>
                </a:lnTo>
                <a:lnTo>
                  <a:pt x="31" y="261"/>
                </a:lnTo>
                <a:lnTo>
                  <a:pt x="27" y="259"/>
                </a:lnTo>
                <a:lnTo>
                  <a:pt x="17" y="255"/>
                </a:lnTo>
                <a:lnTo>
                  <a:pt x="12" y="250"/>
                </a:lnTo>
                <a:lnTo>
                  <a:pt x="8" y="246"/>
                </a:lnTo>
                <a:lnTo>
                  <a:pt x="4" y="240"/>
                </a:lnTo>
                <a:lnTo>
                  <a:pt x="2" y="236"/>
                </a:lnTo>
                <a:lnTo>
                  <a:pt x="2" y="230"/>
                </a:lnTo>
                <a:lnTo>
                  <a:pt x="0" y="229"/>
                </a:lnTo>
                <a:lnTo>
                  <a:pt x="2" y="225"/>
                </a:lnTo>
                <a:lnTo>
                  <a:pt x="4" y="223"/>
                </a:lnTo>
                <a:lnTo>
                  <a:pt x="8" y="219"/>
                </a:lnTo>
                <a:lnTo>
                  <a:pt x="14" y="215"/>
                </a:lnTo>
                <a:lnTo>
                  <a:pt x="23" y="211"/>
                </a:lnTo>
                <a:lnTo>
                  <a:pt x="33" y="207"/>
                </a:lnTo>
                <a:lnTo>
                  <a:pt x="44" y="202"/>
                </a:lnTo>
                <a:lnTo>
                  <a:pt x="56" y="198"/>
                </a:lnTo>
                <a:lnTo>
                  <a:pt x="71" y="192"/>
                </a:lnTo>
                <a:lnTo>
                  <a:pt x="89" y="186"/>
                </a:lnTo>
                <a:lnTo>
                  <a:pt x="106" y="181"/>
                </a:lnTo>
                <a:lnTo>
                  <a:pt x="127" y="175"/>
                </a:lnTo>
                <a:lnTo>
                  <a:pt x="148" y="167"/>
                </a:lnTo>
                <a:lnTo>
                  <a:pt x="171" y="161"/>
                </a:lnTo>
                <a:lnTo>
                  <a:pt x="196" y="154"/>
                </a:lnTo>
                <a:lnTo>
                  <a:pt x="244" y="140"/>
                </a:lnTo>
                <a:lnTo>
                  <a:pt x="290" y="127"/>
                </a:lnTo>
                <a:lnTo>
                  <a:pt x="336" y="115"/>
                </a:lnTo>
                <a:lnTo>
                  <a:pt x="384" y="102"/>
                </a:lnTo>
                <a:lnTo>
                  <a:pt x="428" y="90"/>
                </a:lnTo>
                <a:lnTo>
                  <a:pt x="474" y="79"/>
                </a:lnTo>
                <a:lnTo>
                  <a:pt x="518" y="65"/>
                </a:lnTo>
                <a:lnTo>
                  <a:pt x="563" y="52"/>
                </a:lnTo>
                <a:lnTo>
                  <a:pt x="580" y="44"/>
                </a:lnTo>
                <a:lnTo>
                  <a:pt x="599" y="39"/>
                </a:lnTo>
                <a:lnTo>
                  <a:pt x="616" y="33"/>
                </a:lnTo>
                <a:lnTo>
                  <a:pt x="634" y="27"/>
                </a:lnTo>
                <a:lnTo>
                  <a:pt x="651" y="23"/>
                </a:lnTo>
                <a:lnTo>
                  <a:pt x="666" y="17"/>
                </a:lnTo>
                <a:lnTo>
                  <a:pt x="682" y="16"/>
                </a:lnTo>
                <a:lnTo>
                  <a:pt x="697" y="12"/>
                </a:lnTo>
                <a:lnTo>
                  <a:pt x="712" y="10"/>
                </a:lnTo>
                <a:lnTo>
                  <a:pt x="726" y="6"/>
                </a:lnTo>
                <a:lnTo>
                  <a:pt x="737" y="4"/>
                </a:lnTo>
                <a:lnTo>
                  <a:pt x="749" y="4"/>
                </a:lnTo>
                <a:lnTo>
                  <a:pt x="760" y="2"/>
                </a:lnTo>
                <a:lnTo>
                  <a:pt x="772" y="2"/>
                </a:lnTo>
                <a:lnTo>
                  <a:pt x="781" y="0"/>
                </a:lnTo>
                <a:lnTo>
                  <a:pt x="791" y="0"/>
                </a:lnTo>
                <a:lnTo>
                  <a:pt x="803" y="2"/>
                </a:lnTo>
                <a:lnTo>
                  <a:pt x="816" y="2"/>
                </a:lnTo>
                <a:lnTo>
                  <a:pt x="829" y="6"/>
                </a:lnTo>
                <a:lnTo>
                  <a:pt x="841" y="8"/>
                </a:lnTo>
                <a:lnTo>
                  <a:pt x="854" y="12"/>
                </a:lnTo>
                <a:lnTo>
                  <a:pt x="868" y="17"/>
                </a:lnTo>
                <a:lnTo>
                  <a:pt x="893" y="27"/>
                </a:lnTo>
                <a:lnTo>
                  <a:pt x="899" y="31"/>
                </a:lnTo>
                <a:lnTo>
                  <a:pt x="904" y="37"/>
                </a:lnTo>
                <a:lnTo>
                  <a:pt x="910" y="40"/>
                </a:lnTo>
                <a:lnTo>
                  <a:pt x="914" y="44"/>
                </a:lnTo>
                <a:lnTo>
                  <a:pt x="922" y="54"/>
                </a:lnTo>
                <a:lnTo>
                  <a:pt x="929" y="64"/>
                </a:lnTo>
                <a:lnTo>
                  <a:pt x="933" y="71"/>
                </a:lnTo>
                <a:lnTo>
                  <a:pt x="937" y="79"/>
                </a:lnTo>
                <a:lnTo>
                  <a:pt x="937" y="85"/>
                </a:lnTo>
                <a:lnTo>
                  <a:pt x="939" y="90"/>
                </a:lnTo>
                <a:lnTo>
                  <a:pt x="937" y="92"/>
                </a:lnTo>
                <a:lnTo>
                  <a:pt x="935" y="94"/>
                </a:lnTo>
                <a:lnTo>
                  <a:pt x="933" y="96"/>
                </a:lnTo>
                <a:lnTo>
                  <a:pt x="929" y="98"/>
                </a:lnTo>
                <a:lnTo>
                  <a:pt x="925" y="100"/>
                </a:lnTo>
                <a:lnTo>
                  <a:pt x="920" y="102"/>
                </a:lnTo>
                <a:lnTo>
                  <a:pt x="914" y="104"/>
                </a:lnTo>
                <a:lnTo>
                  <a:pt x="908" y="106"/>
                </a:lnTo>
                <a:lnTo>
                  <a:pt x="900" y="110"/>
                </a:lnTo>
                <a:lnTo>
                  <a:pt x="893" y="111"/>
                </a:lnTo>
                <a:lnTo>
                  <a:pt x="885" y="115"/>
                </a:lnTo>
                <a:lnTo>
                  <a:pt x="875" y="117"/>
                </a:lnTo>
                <a:lnTo>
                  <a:pt x="866" y="121"/>
                </a:lnTo>
                <a:lnTo>
                  <a:pt x="854" y="125"/>
                </a:lnTo>
                <a:lnTo>
                  <a:pt x="843" y="129"/>
                </a:lnTo>
                <a:lnTo>
                  <a:pt x="829" y="131"/>
                </a:lnTo>
                <a:lnTo>
                  <a:pt x="818" y="135"/>
                </a:lnTo>
                <a:lnTo>
                  <a:pt x="803" y="138"/>
                </a:lnTo>
                <a:lnTo>
                  <a:pt x="789" y="144"/>
                </a:lnTo>
                <a:lnTo>
                  <a:pt x="774" y="148"/>
                </a:lnTo>
                <a:lnTo>
                  <a:pt x="756" y="152"/>
                </a:lnTo>
                <a:lnTo>
                  <a:pt x="739" y="158"/>
                </a:lnTo>
                <a:lnTo>
                  <a:pt x="722" y="161"/>
                </a:lnTo>
                <a:lnTo>
                  <a:pt x="703" y="167"/>
                </a:lnTo>
                <a:lnTo>
                  <a:pt x="684" y="171"/>
                </a:lnTo>
                <a:lnTo>
                  <a:pt x="662" y="177"/>
                </a:lnTo>
                <a:lnTo>
                  <a:pt x="641" y="183"/>
                </a:lnTo>
                <a:lnTo>
                  <a:pt x="620" y="188"/>
                </a:lnTo>
                <a:lnTo>
                  <a:pt x="597" y="194"/>
                </a:lnTo>
                <a:lnTo>
                  <a:pt x="574" y="200"/>
                </a:lnTo>
                <a:lnTo>
                  <a:pt x="551" y="206"/>
                </a:lnTo>
                <a:lnTo>
                  <a:pt x="526" y="211"/>
                </a:lnTo>
                <a:lnTo>
                  <a:pt x="503" y="217"/>
                </a:lnTo>
                <a:lnTo>
                  <a:pt x="480" y="223"/>
                </a:lnTo>
                <a:lnTo>
                  <a:pt x="457" y="229"/>
                </a:lnTo>
                <a:lnTo>
                  <a:pt x="436" y="232"/>
                </a:lnTo>
                <a:lnTo>
                  <a:pt x="415" y="238"/>
                </a:lnTo>
                <a:lnTo>
                  <a:pt x="394" y="242"/>
                </a:lnTo>
                <a:lnTo>
                  <a:pt x="375" y="246"/>
                </a:lnTo>
                <a:lnTo>
                  <a:pt x="355" y="252"/>
                </a:lnTo>
                <a:lnTo>
                  <a:pt x="338" y="255"/>
                </a:lnTo>
                <a:lnTo>
                  <a:pt x="321" y="259"/>
                </a:lnTo>
                <a:lnTo>
                  <a:pt x="303" y="261"/>
                </a:lnTo>
                <a:lnTo>
                  <a:pt x="288" y="265"/>
                </a:lnTo>
                <a:lnTo>
                  <a:pt x="273" y="269"/>
                </a:lnTo>
                <a:lnTo>
                  <a:pt x="257" y="271"/>
                </a:lnTo>
                <a:lnTo>
                  <a:pt x="244" y="275"/>
                </a:lnTo>
                <a:lnTo>
                  <a:pt x="231" y="277"/>
                </a:lnTo>
                <a:lnTo>
                  <a:pt x="217" y="278"/>
                </a:lnTo>
                <a:lnTo>
                  <a:pt x="206" y="280"/>
                </a:lnTo>
                <a:lnTo>
                  <a:pt x="194" y="284"/>
                </a:lnTo>
                <a:lnTo>
                  <a:pt x="184" y="284"/>
                </a:lnTo>
                <a:lnTo>
                  <a:pt x="175" y="286"/>
                </a:lnTo>
                <a:lnTo>
                  <a:pt x="165" y="288"/>
                </a:lnTo>
                <a:lnTo>
                  <a:pt x="158" y="290"/>
                </a:lnTo>
                <a:lnTo>
                  <a:pt x="150" y="290"/>
                </a:lnTo>
                <a:lnTo>
                  <a:pt x="142" y="292"/>
                </a:lnTo>
                <a:lnTo>
                  <a:pt x="136" y="292"/>
                </a:lnTo>
                <a:lnTo>
                  <a:pt x="131" y="294"/>
                </a:lnTo>
                <a:lnTo>
                  <a:pt x="127" y="294"/>
                </a:lnTo>
                <a:lnTo>
                  <a:pt x="121" y="294"/>
                </a:lnTo>
                <a:lnTo>
                  <a:pt x="119" y="294"/>
                </a:lnTo>
                <a:lnTo>
                  <a:pt x="117" y="2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29"/>
          <p:cNvSpPr/>
          <p:nvPr/>
        </p:nvSpPr>
        <p:spPr>
          <a:xfrm>
            <a:off x="6969240" y="2998800"/>
            <a:ext cx="409320" cy="361800"/>
          </a:xfrm>
          <a:custGeom>
            <a:avLst/>
            <a:gdLst/>
            <a:ahLst/>
            <a:rect l="l" t="t" r="r" b="b"/>
            <a:pathLst>
              <a:path w="517" h="457">
                <a:moveTo>
                  <a:pt x="288" y="69"/>
                </a:moveTo>
                <a:lnTo>
                  <a:pt x="285" y="59"/>
                </a:lnTo>
                <a:lnTo>
                  <a:pt x="283" y="50"/>
                </a:lnTo>
                <a:lnTo>
                  <a:pt x="281" y="40"/>
                </a:lnTo>
                <a:lnTo>
                  <a:pt x="279" y="33"/>
                </a:lnTo>
                <a:lnTo>
                  <a:pt x="281" y="23"/>
                </a:lnTo>
                <a:lnTo>
                  <a:pt x="281" y="17"/>
                </a:lnTo>
                <a:lnTo>
                  <a:pt x="285" y="9"/>
                </a:lnTo>
                <a:lnTo>
                  <a:pt x="288" y="6"/>
                </a:lnTo>
                <a:lnTo>
                  <a:pt x="290" y="2"/>
                </a:lnTo>
                <a:lnTo>
                  <a:pt x="294" y="2"/>
                </a:lnTo>
                <a:lnTo>
                  <a:pt x="298" y="0"/>
                </a:lnTo>
                <a:lnTo>
                  <a:pt x="304" y="0"/>
                </a:lnTo>
                <a:lnTo>
                  <a:pt x="308" y="0"/>
                </a:lnTo>
                <a:lnTo>
                  <a:pt x="315" y="0"/>
                </a:lnTo>
                <a:lnTo>
                  <a:pt x="321" y="2"/>
                </a:lnTo>
                <a:lnTo>
                  <a:pt x="329" y="4"/>
                </a:lnTo>
                <a:lnTo>
                  <a:pt x="338" y="6"/>
                </a:lnTo>
                <a:lnTo>
                  <a:pt x="346" y="8"/>
                </a:lnTo>
                <a:lnTo>
                  <a:pt x="356" y="9"/>
                </a:lnTo>
                <a:lnTo>
                  <a:pt x="367" y="13"/>
                </a:lnTo>
                <a:lnTo>
                  <a:pt x="377" y="17"/>
                </a:lnTo>
                <a:lnTo>
                  <a:pt x="388" y="21"/>
                </a:lnTo>
                <a:lnTo>
                  <a:pt x="402" y="25"/>
                </a:lnTo>
                <a:lnTo>
                  <a:pt x="413" y="31"/>
                </a:lnTo>
                <a:lnTo>
                  <a:pt x="425" y="36"/>
                </a:lnTo>
                <a:lnTo>
                  <a:pt x="434" y="44"/>
                </a:lnTo>
                <a:lnTo>
                  <a:pt x="444" y="50"/>
                </a:lnTo>
                <a:lnTo>
                  <a:pt x="452" y="57"/>
                </a:lnTo>
                <a:lnTo>
                  <a:pt x="461" y="63"/>
                </a:lnTo>
                <a:lnTo>
                  <a:pt x="469" y="69"/>
                </a:lnTo>
                <a:lnTo>
                  <a:pt x="475" y="75"/>
                </a:lnTo>
                <a:lnTo>
                  <a:pt x="482" y="80"/>
                </a:lnTo>
                <a:lnTo>
                  <a:pt x="488" y="84"/>
                </a:lnTo>
                <a:lnTo>
                  <a:pt x="494" y="90"/>
                </a:lnTo>
                <a:lnTo>
                  <a:pt x="499" y="96"/>
                </a:lnTo>
                <a:lnTo>
                  <a:pt x="503" y="100"/>
                </a:lnTo>
                <a:lnTo>
                  <a:pt x="507" y="105"/>
                </a:lnTo>
                <a:lnTo>
                  <a:pt x="511" y="109"/>
                </a:lnTo>
                <a:lnTo>
                  <a:pt x="515" y="115"/>
                </a:lnTo>
                <a:lnTo>
                  <a:pt x="517" y="119"/>
                </a:lnTo>
                <a:lnTo>
                  <a:pt x="517" y="125"/>
                </a:lnTo>
                <a:lnTo>
                  <a:pt x="515" y="130"/>
                </a:lnTo>
                <a:lnTo>
                  <a:pt x="513" y="136"/>
                </a:lnTo>
                <a:lnTo>
                  <a:pt x="509" y="142"/>
                </a:lnTo>
                <a:lnTo>
                  <a:pt x="507" y="148"/>
                </a:lnTo>
                <a:lnTo>
                  <a:pt x="501" y="153"/>
                </a:lnTo>
                <a:lnTo>
                  <a:pt x="496" y="161"/>
                </a:lnTo>
                <a:lnTo>
                  <a:pt x="490" y="167"/>
                </a:lnTo>
                <a:lnTo>
                  <a:pt x="484" y="175"/>
                </a:lnTo>
                <a:lnTo>
                  <a:pt x="476" y="182"/>
                </a:lnTo>
                <a:lnTo>
                  <a:pt x="467" y="190"/>
                </a:lnTo>
                <a:lnTo>
                  <a:pt x="459" y="198"/>
                </a:lnTo>
                <a:lnTo>
                  <a:pt x="448" y="207"/>
                </a:lnTo>
                <a:lnTo>
                  <a:pt x="438" y="215"/>
                </a:lnTo>
                <a:lnTo>
                  <a:pt x="427" y="224"/>
                </a:lnTo>
                <a:lnTo>
                  <a:pt x="413" y="234"/>
                </a:lnTo>
                <a:lnTo>
                  <a:pt x="388" y="259"/>
                </a:lnTo>
                <a:lnTo>
                  <a:pt x="359" y="280"/>
                </a:lnTo>
                <a:lnTo>
                  <a:pt x="331" y="301"/>
                </a:lnTo>
                <a:lnTo>
                  <a:pt x="302" y="322"/>
                </a:lnTo>
                <a:lnTo>
                  <a:pt x="269" y="342"/>
                </a:lnTo>
                <a:lnTo>
                  <a:pt x="235" y="363"/>
                </a:lnTo>
                <a:lnTo>
                  <a:pt x="217" y="372"/>
                </a:lnTo>
                <a:lnTo>
                  <a:pt x="200" y="382"/>
                </a:lnTo>
                <a:lnTo>
                  <a:pt x="181" y="391"/>
                </a:lnTo>
                <a:lnTo>
                  <a:pt x="162" y="401"/>
                </a:lnTo>
                <a:lnTo>
                  <a:pt x="144" y="411"/>
                </a:lnTo>
                <a:lnTo>
                  <a:pt x="127" y="418"/>
                </a:lnTo>
                <a:lnTo>
                  <a:pt x="110" y="426"/>
                </a:lnTo>
                <a:lnTo>
                  <a:pt x="96" y="432"/>
                </a:lnTo>
                <a:lnTo>
                  <a:pt x="83" y="438"/>
                </a:lnTo>
                <a:lnTo>
                  <a:pt x="70" y="443"/>
                </a:lnTo>
                <a:lnTo>
                  <a:pt x="58" y="447"/>
                </a:lnTo>
                <a:lnTo>
                  <a:pt x="48" y="451"/>
                </a:lnTo>
                <a:lnTo>
                  <a:pt x="39" y="453"/>
                </a:lnTo>
                <a:lnTo>
                  <a:pt x="31" y="455"/>
                </a:lnTo>
                <a:lnTo>
                  <a:pt x="23" y="457"/>
                </a:lnTo>
                <a:lnTo>
                  <a:pt x="18" y="457"/>
                </a:lnTo>
                <a:lnTo>
                  <a:pt x="12" y="457"/>
                </a:lnTo>
                <a:lnTo>
                  <a:pt x="8" y="455"/>
                </a:lnTo>
                <a:lnTo>
                  <a:pt x="4" y="455"/>
                </a:lnTo>
                <a:lnTo>
                  <a:pt x="2" y="453"/>
                </a:lnTo>
                <a:lnTo>
                  <a:pt x="0" y="449"/>
                </a:lnTo>
                <a:lnTo>
                  <a:pt x="0" y="445"/>
                </a:lnTo>
                <a:lnTo>
                  <a:pt x="0" y="441"/>
                </a:lnTo>
                <a:lnTo>
                  <a:pt x="0" y="438"/>
                </a:lnTo>
                <a:lnTo>
                  <a:pt x="2" y="432"/>
                </a:lnTo>
                <a:lnTo>
                  <a:pt x="6" y="426"/>
                </a:lnTo>
                <a:lnTo>
                  <a:pt x="10" y="420"/>
                </a:lnTo>
                <a:lnTo>
                  <a:pt x="14" y="414"/>
                </a:lnTo>
                <a:lnTo>
                  <a:pt x="20" y="407"/>
                </a:lnTo>
                <a:lnTo>
                  <a:pt x="27" y="399"/>
                </a:lnTo>
                <a:lnTo>
                  <a:pt x="35" y="390"/>
                </a:lnTo>
                <a:lnTo>
                  <a:pt x="45" y="380"/>
                </a:lnTo>
                <a:lnTo>
                  <a:pt x="54" y="370"/>
                </a:lnTo>
                <a:lnTo>
                  <a:pt x="66" y="361"/>
                </a:lnTo>
                <a:lnTo>
                  <a:pt x="79" y="349"/>
                </a:lnTo>
                <a:lnTo>
                  <a:pt x="94" y="338"/>
                </a:lnTo>
                <a:lnTo>
                  <a:pt x="108" y="324"/>
                </a:lnTo>
                <a:lnTo>
                  <a:pt x="123" y="313"/>
                </a:lnTo>
                <a:lnTo>
                  <a:pt x="137" y="301"/>
                </a:lnTo>
                <a:lnTo>
                  <a:pt x="150" y="290"/>
                </a:lnTo>
                <a:lnTo>
                  <a:pt x="162" y="276"/>
                </a:lnTo>
                <a:lnTo>
                  <a:pt x="173" y="265"/>
                </a:lnTo>
                <a:lnTo>
                  <a:pt x="185" y="253"/>
                </a:lnTo>
                <a:lnTo>
                  <a:pt x="196" y="242"/>
                </a:lnTo>
                <a:lnTo>
                  <a:pt x="208" y="232"/>
                </a:lnTo>
                <a:lnTo>
                  <a:pt x="217" y="221"/>
                </a:lnTo>
                <a:lnTo>
                  <a:pt x="227" y="209"/>
                </a:lnTo>
                <a:lnTo>
                  <a:pt x="235" y="198"/>
                </a:lnTo>
                <a:lnTo>
                  <a:pt x="244" y="188"/>
                </a:lnTo>
                <a:lnTo>
                  <a:pt x="252" y="178"/>
                </a:lnTo>
                <a:lnTo>
                  <a:pt x="258" y="167"/>
                </a:lnTo>
                <a:lnTo>
                  <a:pt x="265" y="157"/>
                </a:lnTo>
                <a:lnTo>
                  <a:pt x="271" y="152"/>
                </a:lnTo>
                <a:lnTo>
                  <a:pt x="277" y="144"/>
                </a:lnTo>
                <a:lnTo>
                  <a:pt x="281" y="136"/>
                </a:lnTo>
                <a:lnTo>
                  <a:pt x="285" y="130"/>
                </a:lnTo>
                <a:lnTo>
                  <a:pt x="288" y="123"/>
                </a:lnTo>
                <a:lnTo>
                  <a:pt x="290" y="117"/>
                </a:lnTo>
                <a:lnTo>
                  <a:pt x="292" y="109"/>
                </a:lnTo>
                <a:lnTo>
                  <a:pt x="294" y="104"/>
                </a:lnTo>
                <a:lnTo>
                  <a:pt x="294" y="98"/>
                </a:lnTo>
                <a:lnTo>
                  <a:pt x="294" y="92"/>
                </a:lnTo>
                <a:lnTo>
                  <a:pt x="294" y="82"/>
                </a:lnTo>
                <a:lnTo>
                  <a:pt x="292" y="79"/>
                </a:lnTo>
                <a:lnTo>
                  <a:pt x="292" y="75"/>
                </a:lnTo>
                <a:lnTo>
                  <a:pt x="290" y="71"/>
                </a:lnTo>
                <a:lnTo>
                  <a:pt x="288" y="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30"/>
          <p:cNvSpPr/>
          <p:nvPr/>
        </p:nvSpPr>
        <p:spPr>
          <a:xfrm>
            <a:off x="6718320" y="3103560"/>
            <a:ext cx="192240" cy="244440"/>
          </a:xfrm>
          <a:custGeom>
            <a:avLst/>
            <a:gdLst/>
            <a:ahLst/>
            <a:rect l="l" t="t" r="r" b="b"/>
            <a:pathLst>
              <a:path w="242" h="307">
                <a:moveTo>
                  <a:pt x="55" y="0"/>
                </a:moveTo>
                <a:lnTo>
                  <a:pt x="65" y="0"/>
                </a:lnTo>
                <a:lnTo>
                  <a:pt x="73" y="2"/>
                </a:lnTo>
                <a:lnTo>
                  <a:pt x="82" y="2"/>
                </a:lnTo>
                <a:lnTo>
                  <a:pt x="90" y="4"/>
                </a:lnTo>
                <a:lnTo>
                  <a:pt x="100" y="8"/>
                </a:lnTo>
                <a:lnTo>
                  <a:pt x="107" y="10"/>
                </a:lnTo>
                <a:lnTo>
                  <a:pt x="117" y="14"/>
                </a:lnTo>
                <a:lnTo>
                  <a:pt x="124" y="18"/>
                </a:lnTo>
                <a:lnTo>
                  <a:pt x="142" y="27"/>
                </a:lnTo>
                <a:lnTo>
                  <a:pt x="159" y="39"/>
                </a:lnTo>
                <a:lnTo>
                  <a:pt x="176" y="50"/>
                </a:lnTo>
                <a:lnTo>
                  <a:pt x="194" y="64"/>
                </a:lnTo>
                <a:lnTo>
                  <a:pt x="201" y="73"/>
                </a:lnTo>
                <a:lnTo>
                  <a:pt x="209" y="83"/>
                </a:lnTo>
                <a:lnTo>
                  <a:pt x="215" y="92"/>
                </a:lnTo>
                <a:lnTo>
                  <a:pt x="220" y="102"/>
                </a:lnTo>
                <a:lnTo>
                  <a:pt x="226" y="112"/>
                </a:lnTo>
                <a:lnTo>
                  <a:pt x="230" y="121"/>
                </a:lnTo>
                <a:lnTo>
                  <a:pt x="234" y="131"/>
                </a:lnTo>
                <a:lnTo>
                  <a:pt x="236" y="140"/>
                </a:lnTo>
                <a:lnTo>
                  <a:pt x="240" y="150"/>
                </a:lnTo>
                <a:lnTo>
                  <a:pt x="242" y="160"/>
                </a:lnTo>
                <a:lnTo>
                  <a:pt x="242" y="169"/>
                </a:lnTo>
                <a:lnTo>
                  <a:pt x="242" y="179"/>
                </a:lnTo>
                <a:lnTo>
                  <a:pt x="242" y="188"/>
                </a:lnTo>
                <a:lnTo>
                  <a:pt x="242" y="198"/>
                </a:lnTo>
                <a:lnTo>
                  <a:pt x="240" y="208"/>
                </a:lnTo>
                <a:lnTo>
                  <a:pt x="238" y="217"/>
                </a:lnTo>
                <a:lnTo>
                  <a:pt x="234" y="229"/>
                </a:lnTo>
                <a:lnTo>
                  <a:pt x="230" y="240"/>
                </a:lnTo>
                <a:lnTo>
                  <a:pt x="226" y="250"/>
                </a:lnTo>
                <a:lnTo>
                  <a:pt x="222" y="259"/>
                </a:lnTo>
                <a:lnTo>
                  <a:pt x="217" y="267"/>
                </a:lnTo>
                <a:lnTo>
                  <a:pt x="213" y="275"/>
                </a:lnTo>
                <a:lnTo>
                  <a:pt x="209" y="281"/>
                </a:lnTo>
                <a:lnTo>
                  <a:pt x="205" y="286"/>
                </a:lnTo>
                <a:lnTo>
                  <a:pt x="199" y="292"/>
                </a:lnTo>
                <a:lnTo>
                  <a:pt x="195" y="296"/>
                </a:lnTo>
                <a:lnTo>
                  <a:pt x="192" y="300"/>
                </a:lnTo>
                <a:lnTo>
                  <a:pt x="188" y="302"/>
                </a:lnTo>
                <a:lnTo>
                  <a:pt x="182" y="304"/>
                </a:lnTo>
                <a:lnTo>
                  <a:pt x="178" y="306"/>
                </a:lnTo>
                <a:lnTo>
                  <a:pt x="174" y="307"/>
                </a:lnTo>
                <a:lnTo>
                  <a:pt x="171" y="307"/>
                </a:lnTo>
                <a:lnTo>
                  <a:pt x="165" y="307"/>
                </a:lnTo>
                <a:lnTo>
                  <a:pt x="161" y="306"/>
                </a:lnTo>
                <a:lnTo>
                  <a:pt x="155" y="304"/>
                </a:lnTo>
                <a:lnTo>
                  <a:pt x="151" y="300"/>
                </a:lnTo>
                <a:lnTo>
                  <a:pt x="146" y="296"/>
                </a:lnTo>
                <a:lnTo>
                  <a:pt x="140" y="290"/>
                </a:lnTo>
                <a:lnTo>
                  <a:pt x="134" y="284"/>
                </a:lnTo>
                <a:lnTo>
                  <a:pt x="126" y="277"/>
                </a:lnTo>
                <a:lnTo>
                  <a:pt x="121" y="269"/>
                </a:lnTo>
                <a:lnTo>
                  <a:pt x="113" y="259"/>
                </a:lnTo>
                <a:lnTo>
                  <a:pt x="107" y="248"/>
                </a:lnTo>
                <a:lnTo>
                  <a:pt x="100" y="236"/>
                </a:lnTo>
                <a:lnTo>
                  <a:pt x="92" y="225"/>
                </a:lnTo>
                <a:lnTo>
                  <a:pt x="84" y="211"/>
                </a:lnTo>
                <a:lnTo>
                  <a:pt x="76" y="196"/>
                </a:lnTo>
                <a:lnTo>
                  <a:pt x="67" y="179"/>
                </a:lnTo>
                <a:lnTo>
                  <a:pt x="59" y="163"/>
                </a:lnTo>
                <a:lnTo>
                  <a:pt x="52" y="148"/>
                </a:lnTo>
                <a:lnTo>
                  <a:pt x="44" y="133"/>
                </a:lnTo>
                <a:lnTo>
                  <a:pt x="38" y="119"/>
                </a:lnTo>
                <a:lnTo>
                  <a:pt x="32" y="106"/>
                </a:lnTo>
                <a:lnTo>
                  <a:pt x="27" y="94"/>
                </a:lnTo>
                <a:lnTo>
                  <a:pt x="21" y="83"/>
                </a:lnTo>
                <a:lnTo>
                  <a:pt x="17" y="73"/>
                </a:lnTo>
                <a:lnTo>
                  <a:pt x="11" y="66"/>
                </a:lnTo>
                <a:lnTo>
                  <a:pt x="9" y="56"/>
                </a:lnTo>
                <a:lnTo>
                  <a:pt x="5" y="48"/>
                </a:lnTo>
                <a:lnTo>
                  <a:pt x="4" y="43"/>
                </a:lnTo>
                <a:lnTo>
                  <a:pt x="2" y="37"/>
                </a:lnTo>
                <a:lnTo>
                  <a:pt x="0" y="33"/>
                </a:lnTo>
                <a:lnTo>
                  <a:pt x="0" y="29"/>
                </a:lnTo>
                <a:lnTo>
                  <a:pt x="0" y="25"/>
                </a:lnTo>
                <a:lnTo>
                  <a:pt x="0" y="23"/>
                </a:lnTo>
                <a:lnTo>
                  <a:pt x="0" y="21"/>
                </a:lnTo>
                <a:lnTo>
                  <a:pt x="2" y="20"/>
                </a:lnTo>
                <a:lnTo>
                  <a:pt x="4" y="16"/>
                </a:lnTo>
                <a:lnTo>
                  <a:pt x="7" y="12"/>
                </a:lnTo>
                <a:lnTo>
                  <a:pt x="15" y="8"/>
                </a:lnTo>
                <a:lnTo>
                  <a:pt x="23" y="4"/>
                </a:lnTo>
                <a:lnTo>
                  <a:pt x="32" y="2"/>
                </a:lnTo>
                <a:lnTo>
                  <a:pt x="44" y="0"/>
                </a:lnTo>
                <a:lnTo>
                  <a:pt x="55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31"/>
          <p:cNvSpPr/>
          <p:nvPr/>
        </p:nvSpPr>
        <p:spPr>
          <a:xfrm>
            <a:off x="6391440" y="3205080"/>
            <a:ext cx="191880" cy="244440"/>
          </a:xfrm>
          <a:custGeom>
            <a:avLst/>
            <a:gdLst/>
            <a:ahLst/>
            <a:rect l="l" t="t" r="r" b="b"/>
            <a:pathLst>
              <a:path w="244" h="307">
                <a:moveTo>
                  <a:pt x="184" y="307"/>
                </a:moveTo>
                <a:lnTo>
                  <a:pt x="180" y="305"/>
                </a:lnTo>
                <a:lnTo>
                  <a:pt x="179" y="305"/>
                </a:lnTo>
                <a:lnTo>
                  <a:pt x="175" y="301"/>
                </a:lnTo>
                <a:lnTo>
                  <a:pt x="171" y="299"/>
                </a:lnTo>
                <a:lnTo>
                  <a:pt x="165" y="296"/>
                </a:lnTo>
                <a:lnTo>
                  <a:pt x="161" y="290"/>
                </a:lnTo>
                <a:lnTo>
                  <a:pt x="156" y="284"/>
                </a:lnTo>
                <a:lnTo>
                  <a:pt x="148" y="276"/>
                </a:lnTo>
                <a:lnTo>
                  <a:pt x="142" y="267"/>
                </a:lnTo>
                <a:lnTo>
                  <a:pt x="134" y="259"/>
                </a:lnTo>
                <a:lnTo>
                  <a:pt x="127" y="248"/>
                </a:lnTo>
                <a:lnTo>
                  <a:pt x="119" y="236"/>
                </a:lnTo>
                <a:lnTo>
                  <a:pt x="109" y="223"/>
                </a:lnTo>
                <a:lnTo>
                  <a:pt x="100" y="209"/>
                </a:lnTo>
                <a:lnTo>
                  <a:pt x="90" y="194"/>
                </a:lnTo>
                <a:lnTo>
                  <a:pt x="81" y="178"/>
                </a:lnTo>
                <a:lnTo>
                  <a:pt x="71" y="161"/>
                </a:lnTo>
                <a:lnTo>
                  <a:pt x="61" y="146"/>
                </a:lnTo>
                <a:lnTo>
                  <a:pt x="52" y="132"/>
                </a:lnTo>
                <a:lnTo>
                  <a:pt x="44" y="119"/>
                </a:lnTo>
                <a:lnTo>
                  <a:pt x="36" y="105"/>
                </a:lnTo>
                <a:lnTo>
                  <a:pt x="31" y="94"/>
                </a:lnTo>
                <a:lnTo>
                  <a:pt x="25" y="82"/>
                </a:lnTo>
                <a:lnTo>
                  <a:pt x="19" y="73"/>
                </a:lnTo>
                <a:lnTo>
                  <a:pt x="15" y="63"/>
                </a:lnTo>
                <a:lnTo>
                  <a:pt x="12" y="56"/>
                </a:lnTo>
                <a:lnTo>
                  <a:pt x="8" y="48"/>
                </a:lnTo>
                <a:lnTo>
                  <a:pt x="6" y="42"/>
                </a:lnTo>
                <a:lnTo>
                  <a:pt x="4" y="36"/>
                </a:lnTo>
                <a:lnTo>
                  <a:pt x="2" y="31"/>
                </a:lnTo>
                <a:lnTo>
                  <a:pt x="0" y="27"/>
                </a:lnTo>
                <a:lnTo>
                  <a:pt x="0" y="25"/>
                </a:lnTo>
                <a:lnTo>
                  <a:pt x="0" y="23"/>
                </a:lnTo>
                <a:lnTo>
                  <a:pt x="2" y="21"/>
                </a:lnTo>
                <a:lnTo>
                  <a:pt x="4" y="17"/>
                </a:lnTo>
                <a:lnTo>
                  <a:pt x="6" y="15"/>
                </a:lnTo>
                <a:lnTo>
                  <a:pt x="8" y="13"/>
                </a:lnTo>
                <a:lnTo>
                  <a:pt x="12" y="11"/>
                </a:lnTo>
                <a:lnTo>
                  <a:pt x="15" y="10"/>
                </a:lnTo>
                <a:lnTo>
                  <a:pt x="19" y="8"/>
                </a:lnTo>
                <a:lnTo>
                  <a:pt x="25" y="6"/>
                </a:lnTo>
                <a:lnTo>
                  <a:pt x="31" y="4"/>
                </a:lnTo>
                <a:lnTo>
                  <a:pt x="36" y="2"/>
                </a:lnTo>
                <a:lnTo>
                  <a:pt x="44" y="2"/>
                </a:lnTo>
                <a:lnTo>
                  <a:pt x="52" y="0"/>
                </a:lnTo>
                <a:lnTo>
                  <a:pt x="61" y="0"/>
                </a:lnTo>
                <a:lnTo>
                  <a:pt x="71" y="0"/>
                </a:lnTo>
                <a:lnTo>
                  <a:pt x="81" y="0"/>
                </a:lnTo>
                <a:lnTo>
                  <a:pt x="88" y="0"/>
                </a:lnTo>
                <a:lnTo>
                  <a:pt x="98" y="0"/>
                </a:lnTo>
                <a:lnTo>
                  <a:pt x="106" y="2"/>
                </a:lnTo>
                <a:lnTo>
                  <a:pt x="115" y="4"/>
                </a:lnTo>
                <a:lnTo>
                  <a:pt x="123" y="6"/>
                </a:lnTo>
                <a:lnTo>
                  <a:pt x="131" y="10"/>
                </a:lnTo>
                <a:lnTo>
                  <a:pt x="140" y="13"/>
                </a:lnTo>
                <a:lnTo>
                  <a:pt x="148" y="17"/>
                </a:lnTo>
                <a:lnTo>
                  <a:pt x="163" y="27"/>
                </a:lnTo>
                <a:lnTo>
                  <a:pt x="179" y="36"/>
                </a:lnTo>
                <a:lnTo>
                  <a:pt x="192" y="50"/>
                </a:lnTo>
                <a:lnTo>
                  <a:pt x="205" y="63"/>
                </a:lnTo>
                <a:lnTo>
                  <a:pt x="211" y="73"/>
                </a:lnTo>
                <a:lnTo>
                  <a:pt x="217" y="82"/>
                </a:lnTo>
                <a:lnTo>
                  <a:pt x="223" y="92"/>
                </a:lnTo>
                <a:lnTo>
                  <a:pt x="227" y="102"/>
                </a:lnTo>
                <a:lnTo>
                  <a:pt x="230" y="111"/>
                </a:lnTo>
                <a:lnTo>
                  <a:pt x="234" y="121"/>
                </a:lnTo>
                <a:lnTo>
                  <a:pt x="238" y="130"/>
                </a:lnTo>
                <a:lnTo>
                  <a:pt x="240" y="140"/>
                </a:lnTo>
                <a:lnTo>
                  <a:pt x="242" y="150"/>
                </a:lnTo>
                <a:lnTo>
                  <a:pt x="244" y="159"/>
                </a:lnTo>
                <a:lnTo>
                  <a:pt x="244" y="169"/>
                </a:lnTo>
                <a:lnTo>
                  <a:pt x="244" y="178"/>
                </a:lnTo>
                <a:lnTo>
                  <a:pt x="244" y="188"/>
                </a:lnTo>
                <a:lnTo>
                  <a:pt x="244" y="198"/>
                </a:lnTo>
                <a:lnTo>
                  <a:pt x="242" y="207"/>
                </a:lnTo>
                <a:lnTo>
                  <a:pt x="240" y="217"/>
                </a:lnTo>
                <a:lnTo>
                  <a:pt x="238" y="228"/>
                </a:lnTo>
                <a:lnTo>
                  <a:pt x="236" y="238"/>
                </a:lnTo>
                <a:lnTo>
                  <a:pt x="232" y="249"/>
                </a:lnTo>
                <a:lnTo>
                  <a:pt x="230" y="257"/>
                </a:lnTo>
                <a:lnTo>
                  <a:pt x="227" y="265"/>
                </a:lnTo>
                <a:lnTo>
                  <a:pt x="223" y="272"/>
                </a:lnTo>
                <a:lnTo>
                  <a:pt x="219" y="280"/>
                </a:lnTo>
                <a:lnTo>
                  <a:pt x="217" y="286"/>
                </a:lnTo>
                <a:lnTo>
                  <a:pt x="213" y="290"/>
                </a:lnTo>
                <a:lnTo>
                  <a:pt x="209" y="296"/>
                </a:lnTo>
                <a:lnTo>
                  <a:pt x="203" y="297"/>
                </a:lnTo>
                <a:lnTo>
                  <a:pt x="200" y="301"/>
                </a:lnTo>
                <a:lnTo>
                  <a:pt x="196" y="303"/>
                </a:lnTo>
                <a:lnTo>
                  <a:pt x="192" y="305"/>
                </a:lnTo>
                <a:lnTo>
                  <a:pt x="188" y="305"/>
                </a:lnTo>
                <a:lnTo>
                  <a:pt x="184" y="30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32"/>
          <p:cNvSpPr/>
          <p:nvPr/>
        </p:nvSpPr>
        <p:spPr>
          <a:xfrm>
            <a:off x="6543720" y="2698920"/>
            <a:ext cx="600120" cy="428400"/>
          </a:xfrm>
          <a:custGeom>
            <a:avLst/>
            <a:gdLst/>
            <a:ahLst/>
            <a:rect l="l" t="t" r="r" b="b"/>
            <a:pathLst>
              <a:path w="754" h="539">
                <a:moveTo>
                  <a:pt x="2" y="535"/>
                </a:moveTo>
                <a:lnTo>
                  <a:pt x="0" y="533"/>
                </a:lnTo>
                <a:lnTo>
                  <a:pt x="0" y="530"/>
                </a:lnTo>
                <a:lnTo>
                  <a:pt x="2" y="524"/>
                </a:lnTo>
                <a:lnTo>
                  <a:pt x="8" y="520"/>
                </a:lnTo>
                <a:lnTo>
                  <a:pt x="13" y="512"/>
                </a:lnTo>
                <a:lnTo>
                  <a:pt x="21" y="506"/>
                </a:lnTo>
                <a:lnTo>
                  <a:pt x="31" y="499"/>
                </a:lnTo>
                <a:lnTo>
                  <a:pt x="40" y="489"/>
                </a:lnTo>
                <a:lnTo>
                  <a:pt x="54" y="480"/>
                </a:lnTo>
                <a:lnTo>
                  <a:pt x="67" y="470"/>
                </a:lnTo>
                <a:lnTo>
                  <a:pt x="82" y="460"/>
                </a:lnTo>
                <a:lnTo>
                  <a:pt x="100" y="449"/>
                </a:lnTo>
                <a:lnTo>
                  <a:pt x="119" y="435"/>
                </a:lnTo>
                <a:lnTo>
                  <a:pt x="140" y="424"/>
                </a:lnTo>
                <a:lnTo>
                  <a:pt x="161" y="409"/>
                </a:lnTo>
                <a:lnTo>
                  <a:pt x="184" y="395"/>
                </a:lnTo>
                <a:lnTo>
                  <a:pt x="207" y="382"/>
                </a:lnTo>
                <a:lnTo>
                  <a:pt x="228" y="366"/>
                </a:lnTo>
                <a:lnTo>
                  <a:pt x="249" y="353"/>
                </a:lnTo>
                <a:lnTo>
                  <a:pt x="271" y="339"/>
                </a:lnTo>
                <a:lnTo>
                  <a:pt x="292" y="326"/>
                </a:lnTo>
                <a:lnTo>
                  <a:pt x="311" y="313"/>
                </a:lnTo>
                <a:lnTo>
                  <a:pt x="330" y="301"/>
                </a:lnTo>
                <a:lnTo>
                  <a:pt x="347" y="288"/>
                </a:lnTo>
                <a:lnTo>
                  <a:pt x="365" y="276"/>
                </a:lnTo>
                <a:lnTo>
                  <a:pt x="382" y="263"/>
                </a:lnTo>
                <a:lnTo>
                  <a:pt x="397" y="251"/>
                </a:lnTo>
                <a:lnTo>
                  <a:pt x="413" y="240"/>
                </a:lnTo>
                <a:lnTo>
                  <a:pt x="428" y="226"/>
                </a:lnTo>
                <a:lnTo>
                  <a:pt x="441" y="215"/>
                </a:lnTo>
                <a:lnTo>
                  <a:pt x="457" y="203"/>
                </a:lnTo>
                <a:lnTo>
                  <a:pt x="468" y="192"/>
                </a:lnTo>
                <a:lnTo>
                  <a:pt x="482" y="178"/>
                </a:lnTo>
                <a:lnTo>
                  <a:pt x="491" y="169"/>
                </a:lnTo>
                <a:lnTo>
                  <a:pt x="503" y="157"/>
                </a:lnTo>
                <a:lnTo>
                  <a:pt x="512" y="148"/>
                </a:lnTo>
                <a:lnTo>
                  <a:pt x="520" y="138"/>
                </a:lnTo>
                <a:lnTo>
                  <a:pt x="528" y="128"/>
                </a:lnTo>
                <a:lnTo>
                  <a:pt x="534" y="119"/>
                </a:lnTo>
                <a:lnTo>
                  <a:pt x="539" y="111"/>
                </a:lnTo>
                <a:lnTo>
                  <a:pt x="543" y="101"/>
                </a:lnTo>
                <a:lnTo>
                  <a:pt x="547" y="94"/>
                </a:lnTo>
                <a:lnTo>
                  <a:pt x="549" y="86"/>
                </a:lnTo>
                <a:lnTo>
                  <a:pt x="551" y="78"/>
                </a:lnTo>
                <a:lnTo>
                  <a:pt x="551" y="73"/>
                </a:lnTo>
                <a:lnTo>
                  <a:pt x="551" y="65"/>
                </a:lnTo>
                <a:lnTo>
                  <a:pt x="551" y="57"/>
                </a:lnTo>
                <a:lnTo>
                  <a:pt x="549" y="50"/>
                </a:lnTo>
                <a:lnTo>
                  <a:pt x="545" y="46"/>
                </a:lnTo>
                <a:lnTo>
                  <a:pt x="541" y="42"/>
                </a:lnTo>
                <a:lnTo>
                  <a:pt x="539" y="36"/>
                </a:lnTo>
                <a:lnTo>
                  <a:pt x="535" y="32"/>
                </a:lnTo>
                <a:lnTo>
                  <a:pt x="534" y="29"/>
                </a:lnTo>
                <a:lnTo>
                  <a:pt x="534" y="27"/>
                </a:lnTo>
                <a:lnTo>
                  <a:pt x="532" y="23"/>
                </a:lnTo>
                <a:lnTo>
                  <a:pt x="532" y="19"/>
                </a:lnTo>
                <a:lnTo>
                  <a:pt x="532" y="17"/>
                </a:lnTo>
                <a:lnTo>
                  <a:pt x="534" y="13"/>
                </a:lnTo>
                <a:lnTo>
                  <a:pt x="534" y="11"/>
                </a:lnTo>
                <a:lnTo>
                  <a:pt x="535" y="9"/>
                </a:lnTo>
                <a:lnTo>
                  <a:pt x="539" y="6"/>
                </a:lnTo>
                <a:lnTo>
                  <a:pt x="541" y="4"/>
                </a:lnTo>
                <a:lnTo>
                  <a:pt x="545" y="2"/>
                </a:lnTo>
                <a:lnTo>
                  <a:pt x="549" y="0"/>
                </a:lnTo>
                <a:lnTo>
                  <a:pt x="553" y="0"/>
                </a:lnTo>
                <a:lnTo>
                  <a:pt x="558" y="0"/>
                </a:lnTo>
                <a:lnTo>
                  <a:pt x="564" y="0"/>
                </a:lnTo>
                <a:lnTo>
                  <a:pt x="570" y="2"/>
                </a:lnTo>
                <a:lnTo>
                  <a:pt x="583" y="6"/>
                </a:lnTo>
                <a:lnTo>
                  <a:pt x="599" y="9"/>
                </a:lnTo>
                <a:lnTo>
                  <a:pt x="606" y="13"/>
                </a:lnTo>
                <a:lnTo>
                  <a:pt x="616" y="17"/>
                </a:lnTo>
                <a:lnTo>
                  <a:pt x="626" y="21"/>
                </a:lnTo>
                <a:lnTo>
                  <a:pt x="633" y="27"/>
                </a:lnTo>
                <a:lnTo>
                  <a:pt x="643" y="30"/>
                </a:lnTo>
                <a:lnTo>
                  <a:pt x="654" y="36"/>
                </a:lnTo>
                <a:lnTo>
                  <a:pt x="664" y="44"/>
                </a:lnTo>
                <a:lnTo>
                  <a:pt x="676" y="50"/>
                </a:lnTo>
                <a:lnTo>
                  <a:pt x="685" y="57"/>
                </a:lnTo>
                <a:lnTo>
                  <a:pt x="695" y="65"/>
                </a:lnTo>
                <a:lnTo>
                  <a:pt x="702" y="71"/>
                </a:lnTo>
                <a:lnTo>
                  <a:pt x="710" y="77"/>
                </a:lnTo>
                <a:lnTo>
                  <a:pt x="718" y="84"/>
                </a:lnTo>
                <a:lnTo>
                  <a:pt x="725" y="90"/>
                </a:lnTo>
                <a:lnTo>
                  <a:pt x="731" y="96"/>
                </a:lnTo>
                <a:lnTo>
                  <a:pt x="735" y="101"/>
                </a:lnTo>
                <a:lnTo>
                  <a:pt x="741" y="107"/>
                </a:lnTo>
                <a:lnTo>
                  <a:pt x="745" y="113"/>
                </a:lnTo>
                <a:lnTo>
                  <a:pt x="747" y="119"/>
                </a:lnTo>
                <a:lnTo>
                  <a:pt x="750" y="126"/>
                </a:lnTo>
                <a:lnTo>
                  <a:pt x="752" y="132"/>
                </a:lnTo>
                <a:lnTo>
                  <a:pt x="752" y="138"/>
                </a:lnTo>
                <a:lnTo>
                  <a:pt x="754" y="146"/>
                </a:lnTo>
                <a:lnTo>
                  <a:pt x="754" y="153"/>
                </a:lnTo>
                <a:lnTo>
                  <a:pt x="754" y="159"/>
                </a:lnTo>
                <a:lnTo>
                  <a:pt x="752" y="167"/>
                </a:lnTo>
                <a:lnTo>
                  <a:pt x="748" y="174"/>
                </a:lnTo>
                <a:lnTo>
                  <a:pt x="743" y="184"/>
                </a:lnTo>
                <a:lnTo>
                  <a:pt x="737" y="192"/>
                </a:lnTo>
                <a:lnTo>
                  <a:pt x="729" y="201"/>
                </a:lnTo>
                <a:lnTo>
                  <a:pt x="720" y="209"/>
                </a:lnTo>
                <a:lnTo>
                  <a:pt x="710" y="219"/>
                </a:lnTo>
                <a:lnTo>
                  <a:pt x="699" y="228"/>
                </a:lnTo>
                <a:lnTo>
                  <a:pt x="685" y="240"/>
                </a:lnTo>
                <a:lnTo>
                  <a:pt x="670" y="249"/>
                </a:lnTo>
                <a:lnTo>
                  <a:pt x="653" y="259"/>
                </a:lnTo>
                <a:lnTo>
                  <a:pt x="635" y="270"/>
                </a:lnTo>
                <a:lnTo>
                  <a:pt x="616" y="282"/>
                </a:lnTo>
                <a:lnTo>
                  <a:pt x="595" y="293"/>
                </a:lnTo>
                <a:lnTo>
                  <a:pt x="572" y="307"/>
                </a:lnTo>
                <a:lnTo>
                  <a:pt x="526" y="334"/>
                </a:lnTo>
                <a:lnTo>
                  <a:pt x="480" y="361"/>
                </a:lnTo>
                <a:lnTo>
                  <a:pt x="434" y="386"/>
                </a:lnTo>
                <a:lnTo>
                  <a:pt x="390" y="411"/>
                </a:lnTo>
                <a:lnTo>
                  <a:pt x="343" y="432"/>
                </a:lnTo>
                <a:lnTo>
                  <a:pt x="320" y="441"/>
                </a:lnTo>
                <a:lnTo>
                  <a:pt x="299" y="451"/>
                </a:lnTo>
                <a:lnTo>
                  <a:pt x="276" y="460"/>
                </a:lnTo>
                <a:lnTo>
                  <a:pt x="253" y="470"/>
                </a:lnTo>
                <a:lnTo>
                  <a:pt x="230" y="478"/>
                </a:lnTo>
                <a:lnTo>
                  <a:pt x="207" y="485"/>
                </a:lnTo>
                <a:lnTo>
                  <a:pt x="184" y="491"/>
                </a:lnTo>
                <a:lnTo>
                  <a:pt x="161" y="499"/>
                </a:lnTo>
                <a:lnTo>
                  <a:pt x="142" y="505"/>
                </a:lnTo>
                <a:lnTo>
                  <a:pt x="123" y="510"/>
                </a:lnTo>
                <a:lnTo>
                  <a:pt x="105" y="516"/>
                </a:lnTo>
                <a:lnTo>
                  <a:pt x="90" y="522"/>
                </a:lnTo>
                <a:lnTo>
                  <a:pt x="75" y="526"/>
                </a:lnTo>
                <a:lnTo>
                  <a:pt x="61" y="530"/>
                </a:lnTo>
                <a:lnTo>
                  <a:pt x="48" y="533"/>
                </a:lnTo>
                <a:lnTo>
                  <a:pt x="38" y="535"/>
                </a:lnTo>
                <a:lnTo>
                  <a:pt x="29" y="537"/>
                </a:lnTo>
                <a:lnTo>
                  <a:pt x="19" y="539"/>
                </a:lnTo>
                <a:lnTo>
                  <a:pt x="13" y="539"/>
                </a:lnTo>
                <a:lnTo>
                  <a:pt x="8" y="539"/>
                </a:lnTo>
                <a:lnTo>
                  <a:pt x="4" y="537"/>
                </a:lnTo>
                <a:lnTo>
                  <a:pt x="2" y="5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33"/>
          <p:cNvSpPr/>
          <p:nvPr/>
        </p:nvSpPr>
        <p:spPr>
          <a:xfrm>
            <a:off x="5437080" y="3753000"/>
            <a:ext cx="863640" cy="642960"/>
          </a:xfrm>
          <a:custGeom>
            <a:avLst/>
            <a:gdLst/>
            <a:ahLst/>
            <a:rect l="l" t="t" r="r" b="b"/>
            <a:pathLst>
              <a:path w="1089" h="810">
                <a:moveTo>
                  <a:pt x="883" y="244"/>
                </a:moveTo>
                <a:lnTo>
                  <a:pt x="828" y="296"/>
                </a:lnTo>
                <a:lnTo>
                  <a:pt x="774" y="347"/>
                </a:lnTo>
                <a:lnTo>
                  <a:pt x="720" y="397"/>
                </a:lnTo>
                <a:lnTo>
                  <a:pt x="666" y="445"/>
                </a:lnTo>
                <a:lnTo>
                  <a:pt x="613" y="491"/>
                </a:lnTo>
                <a:lnTo>
                  <a:pt x="557" y="537"/>
                </a:lnTo>
                <a:lnTo>
                  <a:pt x="503" y="583"/>
                </a:lnTo>
                <a:lnTo>
                  <a:pt x="450" y="628"/>
                </a:lnTo>
                <a:lnTo>
                  <a:pt x="421" y="649"/>
                </a:lnTo>
                <a:lnTo>
                  <a:pt x="396" y="668"/>
                </a:lnTo>
                <a:lnTo>
                  <a:pt x="371" y="687"/>
                </a:lnTo>
                <a:lnTo>
                  <a:pt x="348" y="704"/>
                </a:lnTo>
                <a:lnTo>
                  <a:pt x="327" y="720"/>
                </a:lnTo>
                <a:lnTo>
                  <a:pt x="306" y="735"/>
                </a:lnTo>
                <a:lnTo>
                  <a:pt x="286" y="749"/>
                </a:lnTo>
                <a:lnTo>
                  <a:pt x="269" y="760"/>
                </a:lnTo>
                <a:lnTo>
                  <a:pt x="254" y="770"/>
                </a:lnTo>
                <a:lnTo>
                  <a:pt x="238" y="779"/>
                </a:lnTo>
                <a:lnTo>
                  <a:pt x="223" y="787"/>
                </a:lnTo>
                <a:lnTo>
                  <a:pt x="212" y="795"/>
                </a:lnTo>
                <a:lnTo>
                  <a:pt x="200" y="798"/>
                </a:lnTo>
                <a:lnTo>
                  <a:pt x="190" y="802"/>
                </a:lnTo>
                <a:lnTo>
                  <a:pt x="181" y="804"/>
                </a:lnTo>
                <a:lnTo>
                  <a:pt x="175" y="806"/>
                </a:lnTo>
                <a:lnTo>
                  <a:pt x="167" y="808"/>
                </a:lnTo>
                <a:lnTo>
                  <a:pt x="162" y="808"/>
                </a:lnTo>
                <a:lnTo>
                  <a:pt x="156" y="810"/>
                </a:lnTo>
                <a:lnTo>
                  <a:pt x="148" y="808"/>
                </a:lnTo>
                <a:lnTo>
                  <a:pt x="142" y="806"/>
                </a:lnTo>
                <a:lnTo>
                  <a:pt x="135" y="804"/>
                </a:lnTo>
                <a:lnTo>
                  <a:pt x="129" y="800"/>
                </a:lnTo>
                <a:lnTo>
                  <a:pt x="121" y="797"/>
                </a:lnTo>
                <a:lnTo>
                  <a:pt x="114" y="791"/>
                </a:lnTo>
                <a:lnTo>
                  <a:pt x="108" y="785"/>
                </a:lnTo>
                <a:lnTo>
                  <a:pt x="100" y="777"/>
                </a:lnTo>
                <a:lnTo>
                  <a:pt x="93" y="770"/>
                </a:lnTo>
                <a:lnTo>
                  <a:pt x="85" y="762"/>
                </a:lnTo>
                <a:lnTo>
                  <a:pt x="77" y="752"/>
                </a:lnTo>
                <a:lnTo>
                  <a:pt x="70" y="741"/>
                </a:lnTo>
                <a:lnTo>
                  <a:pt x="60" y="729"/>
                </a:lnTo>
                <a:lnTo>
                  <a:pt x="50" y="720"/>
                </a:lnTo>
                <a:lnTo>
                  <a:pt x="41" y="710"/>
                </a:lnTo>
                <a:lnTo>
                  <a:pt x="33" y="703"/>
                </a:lnTo>
                <a:lnTo>
                  <a:pt x="25" y="693"/>
                </a:lnTo>
                <a:lnTo>
                  <a:pt x="20" y="685"/>
                </a:lnTo>
                <a:lnTo>
                  <a:pt x="14" y="678"/>
                </a:lnTo>
                <a:lnTo>
                  <a:pt x="10" y="670"/>
                </a:lnTo>
                <a:lnTo>
                  <a:pt x="6" y="662"/>
                </a:lnTo>
                <a:lnTo>
                  <a:pt x="4" y="655"/>
                </a:lnTo>
                <a:lnTo>
                  <a:pt x="2" y="649"/>
                </a:lnTo>
                <a:lnTo>
                  <a:pt x="0" y="641"/>
                </a:lnTo>
                <a:lnTo>
                  <a:pt x="0" y="635"/>
                </a:lnTo>
                <a:lnTo>
                  <a:pt x="0" y="630"/>
                </a:lnTo>
                <a:lnTo>
                  <a:pt x="0" y="624"/>
                </a:lnTo>
                <a:lnTo>
                  <a:pt x="2" y="620"/>
                </a:lnTo>
                <a:lnTo>
                  <a:pt x="4" y="614"/>
                </a:lnTo>
                <a:lnTo>
                  <a:pt x="8" y="610"/>
                </a:lnTo>
                <a:lnTo>
                  <a:pt x="14" y="605"/>
                </a:lnTo>
                <a:lnTo>
                  <a:pt x="22" y="601"/>
                </a:lnTo>
                <a:lnTo>
                  <a:pt x="29" y="599"/>
                </a:lnTo>
                <a:lnTo>
                  <a:pt x="39" y="597"/>
                </a:lnTo>
                <a:lnTo>
                  <a:pt x="48" y="597"/>
                </a:lnTo>
                <a:lnTo>
                  <a:pt x="54" y="597"/>
                </a:lnTo>
                <a:lnTo>
                  <a:pt x="60" y="597"/>
                </a:lnTo>
                <a:lnTo>
                  <a:pt x="66" y="599"/>
                </a:lnTo>
                <a:lnTo>
                  <a:pt x="71" y="601"/>
                </a:lnTo>
                <a:lnTo>
                  <a:pt x="81" y="605"/>
                </a:lnTo>
                <a:lnTo>
                  <a:pt x="89" y="608"/>
                </a:lnTo>
                <a:lnTo>
                  <a:pt x="96" y="610"/>
                </a:lnTo>
                <a:lnTo>
                  <a:pt x="104" y="610"/>
                </a:lnTo>
                <a:lnTo>
                  <a:pt x="112" y="610"/>
                </a:lnTo>
                <a:lnTo>
                  <a:pt x="118" y="608"/>
                </a:lnTo>
                <a:lnTo>
                  <a:pt x="125" y="605"/>
                </a:lnTo>
                <a:lnTo>
                  <a:pt x="129" y="601"/>
                </a:lnTo>
                <a:lnTo>
                  <a:pt x="131" y="601"/>
                </a:lnTo>
                <a:lnTo>
                  <a:pt x="133" y="601"/>
                </a:lnTo>
                <a:lnTo>
                  <a:pt x="137" y="599"/>
                </a:lnTo>
                <a:lnTo>
                  <a:pt x="141" y="597"/>
                </a:lnTo>
                <a:lnTo>
                  <a:pt x="146" y="593"/>
                </a:lnTo>
                <a:lnTo>
                  <a:pt x="152" y="591"/>
                </a:lnTo>
                <a:lnTo>
                  <a:pt x="158" y="587"/>
                </a:lnTo>
                <a:lnTo>
                  <a:pt x="166" y="582"/>
                </a:lnTo>
                <a:lnTo>
                  <a:pt x="175" y="578"/>
                </a:lnTo>
                <a:lnTo>
                  <a:pt x="183" y="572"/>
                </a:lnTo>
                <a:lnTo>
                  <a:pt x="194" y="564"/>
                </a:lnTo>
                <a:lnTo>
                  <a:pt x="206" y="559"/>
                </a:lnTo>
                <a:lnTo>
                  <a:pt x="217" y="551"/>
                </a:lnTo>
                <a:lnTo>
                  <a:pt x="231" y="543"/>
                </a:lnTo>
                <a:lnTo>
                  <a:pt x="244" y="534"/>
                </a:lnTo>
                <a:lnTo>
                  <a:pt x="258" y="524"/>
                </a:lnTo>
                <a:lnTo>
                  <a:pt x="273" y="514"/>
                </a:lnTo>
                <a:lnTo>
                  <a:pt x="290" y="503"/>
                </a:lnTo>
                <a:lnTo>
                  <a:pt x="308" y="491"/>
                </a:lnTo>
                <a:lnTo>
                  <a:pt x="325" y="480"/>
                </a:lnTo>
                <a:lnTo>
                  <a:pt x="344" y="466"/>
                </a:lnTo>
                <a:lnTo>
                  <a:pt x="363" y="453"/>
                </a:lnTo>
                <a:lnTo>
                  <a:pt x="384" y="440"/>
                </a:lnTo>
                <a:lnTo>
                  <a:pt x="405" y="424"/>
                </a:lnTo>
                <a:lnTo>
                  <a:pt x="428" y="409"/>
                </a:lnTo>
                <a:lnTo>
                  <a:pt x="452" y="393"/>
                </a:lnTo>
                <a:lnTo>
                  <a:pt x="476" y="376"/>
                </a:lnTo>
                <a:lnTo>
                  <a:pt x="499" y="359"/>
                </a:lnTo>
                <a:lnTo>
                  <a:pt x="526" y="340"/>
                </a:lnTo>
                <a:lnTo>
                  <a:pt x="553" y="322"/>
                </a:lnTo>
                <a:lnTo>
                  <a:pt x="580" y="301"/>
                </a:lnTo>
                <a:lnTo>
                  <a:pt x="609" y="282"/>
                </a:lnTo>
                <a:lnTo>
                  <a:pt x="638" y="263"/>
                </a:lnTo>
                <a:lnTo>
                  <a:pt x="665" y="244"/>
                </a:lnTo>
                <a:lnTo>
                  <a:pt x="691" y="226"/>
                </a:lnTo>
                <a:lnTo>
                  <a:pt x="716" y="209"/>
                </a:lnTo>
                <a:lnTo>
                  <a:pt x="741" y="194"/>
                </a:lnTo>
                <a:lnTo>
                  <a:pt x="766" y="179"/>
                </a:lnTo>
                <a:lnTo>
                  <a:pt x="789" y="163"/>
                </a:lnTo>
                <a:lnTo>
                  <a:pt x="810" y="148"/>
                </a:lnTo>
                <a:lnTo>
                  <a:pt x="833" y="134"/>
                </a:lnTo>
                <a:lnTo>
                  <a:pt x="853" y="123"/>
                </a:lnTo>
                <a:lnTo>
                  <a:pt x="874" y="109"/>
                </a:lnTo>
                <a:lnTo>
                  <a:pt x="891" y="98"/>
                </a:lnTo>
                <a:lnTo>
                  <a:pt x="910" y="86"/>
                </a:lnTo>
                <a:lnTo>
                  <a:pt x="928" y="77"/>
                </a:lnTo>
                <a:lnTo>
                  <a:pt x="943" y="67"/>
                </a:lnTo>
                <a:lnTo>
                  <a:pt x="958" y="58"/>
                </a:lnTo>
                <a:lnTo>
                  <a:pt x="974" y="50"/>
                </a:lnTo>
                <a:lnTo>
                  <a:pt x="987" y="42"/>
                </a:lnTo>
                <a:lnTo>
                  <a:pt x="1000" y="36"/>
                </a:lnTo>
                <a:lnTo>
                  <a:pt x="1012" y="29"/>
                </a:lnTo>
                <a:lnTo>
                  <a:pt x="1024" y="23"/>
                </a:lnTo>
                <a:lnTo>
                  <a:pt x="1033" y="19"/>
                </a:lnTo>
                <a:lnTo>
                  <a:pt x="1043" y="13"/>
                </a:lnTo>
                <a:lnTo>
                  <a:pt x="1052" y="10"/>
                </a:lnTo>
                <a:lnTo>
                  <a:pt x="1060" y="6"/>
                </a:lnTo>
                <a:lnTo>
                  <a:pt x="1066" y="4"/>
                </a:lnTo>
                <a:lnTo>
                  <a:pt x="1072" y="2"/>
                </a:lnTo>
                <a:lnTo>
                  <a:pt x="1077" y="0"/>
                </a:lnTo>
                <a:lnTo>
                  <a:pt x="1081" y="0"/>
                </a:lnTo>
                <a:lnTo>
                  <a:pt x="1085" y="0"/>
                </a:lnTo>
                <a:lnTo>
                  <a:pt x="1087" y="0"/>
                </a:lnTo>
                <a:lnTo>
                  <a:pt x="1089" y="0"/>
                </a:lnTo>
                <a:lnTo>
                  <a:pt x="1089" y="6"/>
                </a:lnTo>
                <a:lnTo>
                  <a:pt x="1089" y="13"/>
                </a:lnTo>
                <a:lnTo>
                  <a:pt x="1087" y="21"/>
                </a:lnTo>
                <a:lnTo>
                  <a:pt x="1081" y="29"/>
                </a:lnTo>
                <a:lnTo>
                  <a:pt x="1075" y="40"/>
                </a:lnTo>
                <a:lnTo>
                  <a:pt x="1068" y="52"/>
                </a:lnTo>
                <a:lnTo>
                  <a:pt x="1056" y="63"/>
                </a:lnTo>
                <a:lnTo>
                  <a:pt x="1045" y="79"/>
                </a:lnTo>
                <a:lnTo>
                  <a:pt x="1031" y="94"/>
                </a:lnTo>
                <a:lnTo>
                  <a:pt x="1016" y="111"/>
                </a:lnTo>
                <a:lnTo>
                  <a:pt x="999" y="129"/>
                </a:lnTo>
                <a:lnTo>
                  <a:pt x="979" y="150"/>
                </a:lnTo>
                <a:lnTo>
                  <a:pt x="958" y="171"/>
                </a:lnTo>
                <a:lnTo>
                  <a:pt x="935" y="194"/>
                </a:lnTo>
                <a:lnTo>
                  <a:pt x="910" y="217"/>
                </a:lnTo>
                <a:lnTo>
                  <a:pt x="883" y="2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34"/>
          <p:cNvSpPr/>
          <p:nvPr/>
        </p:nvSpPr>
        <p:spPr>
          <a:xfrm>
            <a:off x="5762520" y="2771640"/>
            <a:ext cx="387360" cy="2200320"/>
          </a:xfrm>
          <a:custGeom>
            <a:avLst/>
            <a:gdLst/>
            <a:ahLst/>
            <a:rect l="l" t="t" r="r" b="b"/>
            <a:pathLst>
              <a:path w="488" h="2772">
                <a:moveTo>
                  <a:pt x="449" y="1313"/>
                </a:moveTo>
                <a:lnTo>
                  <a:pt x="447" y="1378"/>
                </a:lnTo>
                <a:lnTo>
                  <a:pt x="447" y="1439"/>
                </a:lnTo>
                <a:lnTo>
                  <a:pt x="446" y="1499"/>
                </a:lnTo>
                <a:lnTo>
                  <a:pt x="446" y="1558"/>
                </a:lnTo>
                <a:lnTo>
                  <a:pt x="444" y="1616"/>
                </a:lnTo>
                <a:lnTo>
                  <a:pt x="442" y="1670"/>
                </a:lnTo>
                <a:lnTo>
                  <a:pt x="442" y="1724"/>
                </a:lnTo>
                <a:lnTo>
                  <a:pt x="440" y="1775"/>
                </a:lnTo>
                <a:lnTo>
                  <a:pt x="440" y="1825"/>
                </a:lnTo>
                <a:lnTo>
                  <a:pt x="438" y="1875"/>
                </a:lnTo>
                <a:lnTo>
                  <a:pt x="438" y="1921"/>
                </a:lnTo>
                <a:lnTo>
                  <a:pt x="436" y="1965"/>
                </a:lnTo>
                <a:lnTo>
                  <a:pt x="436" y="2010"/>
                </a:lnTo>
                <a:lnTo>
                  <a:pt x="434" y="2050"/>
                </a:lnTo>
                <a:lnTo>
                  <a:pt x="432" y="2090"/>
                </a:lnTo>
                <a:lnTo>
                  <a:pt x="432" y="2129"/>
                </a:lnTo>
                <a:lnTo>
                  <a:pt x="430" y="2165"/>
                </a:lnTo>
                <a:lnTo>
                  <a:pt x="430" y="2200"/>
                </a:lnTo>
                <a:lnTo>
                  <a:pt x="428" y="2232"/>
                </a:lnTo>
                <a:lnTo>
                  <a:pt x="428" y="2263"/>
                </a:lnTo>
                <a:lnTo>
                  <a:pt x="426" y="2292"/>
                </a:lnTo>
                <a:lnTo>
                  <a:pt x="426" y="2320"/>
                </a:lnTo>
                <a:lnTo>
                  <a:pt x="424" y="2345"/>
                </a:lnTo>
                <a:lnTo>
                  <a:pt x="422" y="2370"/>
                </a:lnTo>
                <a:lnTo>
                  <a:pt x="422" y="2393"/>
                </a:lnTo>
                <a:lnTo>
                  <a:pt x="421" y="2415"/>
                </a:lnTo>
                <a:lnTo>
                  <a:pt x="421" y="2434"/>
                </a:lnTo>
                <a:lnTo>
                  <a:pt x="419" y="2451"/>
                </a:lnTo>
                <a:lnTo>
                  <a:pt x="419" y="2466"/>
                </a:lnTo>
                <a:lnTo>
                  <a:pt x="417" y="2480"/>
                </a:lnTo>
                <a:lnTo>
                  <a:pt x="417" y="2491"/>
                </a:lnTo>
                <a:lnTo>
                  <a:pt x="415" y="2503"/>
                </a:lnTo>
                <a:lnTo>
                  <a:pt x="413" y="2522"/>
                </a:lnTo>
                <a:lnTo>
                  <a:pt x="409" y="2539"/>
                </a:lnTo>
                <a:lnTo>
                  <a:pt x="405" y="2557"/>
                </a:lnTo>
                <a:lnTo>
                  <a:pt x="401" y="2574"/>
                </a:lnTo>
                <a:lnTo>
                  <a:pt x="398" y="2591"/>
                </a:lnTo>
                <a:lnTo>
                  <a:pt x="394" y="2606"/>
                </a:lnTo>
                <a:lnTo>
                  <a:pt x="388" y="2620"/>
                </a:lnTo>
                <a:lnTo>
                  <a:pt x="384" y="2635"/>
                </a:lnTo>
                <a:lnTo>
                  <a:pt x="378" y="2649"/>
                </a:lnTo>
                <a:lnTo>
                  <a:pt x="373" y="2660"/>
                </a:lnTo>
                <a:lnTo>
                  <a:pt x="367" y="2672"/>
                </a:lnTo>
                <a:lnTo>
                  <a:pt x="359" y="2683"/>
                </a:lnTo>
                <a:lnTo>
                  <a:pt x="353" y="2693"/>
                </a:lnTo>
                <a:lnTo>
                  <a:pt x="348" y="2702"/>
                </a:lnTo>
                <a:lnTo>
                  <a:pt x="342" y="2712"/>
                </a:lnTo>
                <a:lnTo>
                  <a:pt x="334" y="2720"/>
                </a:lnTo>
                <a:lnTo>
                  <a:pt x="328" y="2725"/>
                </a:lnTo>
                <a:lnTo>
                  <a:pt x="323" y="2733"/>
                </a:lnTo>
                <a:lnTo>
                  <a:pt x="315" y="2739"/>
                </a:lnTo>
                <a:lnTo>
                  <a:pt x="309" y="2743"/>
                </a:lnTo>
                <a:lnTo>
                  <a:pt x="303" y="2748"/>
                </a:lnTo>
                <a:lnTo>
                  <a:pt x="298" y="2752"/>
                </a:lnTo>
                <a:lnTo>
                  <a:pt x="292" y="2756"/>
                </a:lnTo>
                <a:lnTo>
                  <a:pt x="286" y="2760"/>
                </a:lnTo>
                <a:lnTo>
                  <a:pt x="277" y="2764"/>
                </a:lnTo>
                <a:lnTo>
                  <a:pt x="267" y="2768"/>
                </a:lnTo>
                <a:lnTo>
                  <a:pt x="263" y="2770"/>
                </a:lnTo>
                <a:lnTo>
                  <a:pt x="259" y="2770"/>
                </a:lnTo>
                <a:lnTo>
                  <a:pt x="257" y="2770"/>
                </a:lnTo>
                <a:lnTo>
                  <a:pt x="255" y="2772"/>
                </a:lnTo>
                <a:lnTo>
                  <a:pt x="248" y="2766"/>
                </a:lnTo>
                <a:lnTo>
                  <a:pt x="240" y="2758"/>
                </a:lnTo>
                <a:lnTo>
                  <a:pt x="236" y="2754"/>
                </a:lnTo>
                <a:lnTo>
                  <a:pt x="232" y="2748"/>
                </a:lnTo>
                <a:lnTo>
                  <a:pt x="231" y="2745"/>
                </a:lnTo>
                <a:lnTo>
                  <a:pt x="229" y="2739"/>
                </a:lnTo>
                <a:lnTo>
                  <a:pt x="225" y="2733"/>
                </a:lnTo>
                <a:lnTo>
                  <a:pt x="223" y="2725"/>
                </a:lnTo>
                <a:lnTo>
                  <a:pt x="221" y="2718"/>
                </a:lnTo>
                <a:lnTo>
                  <a:pt x="217" y="2710"/>
                </a:lnTo>
                <a:lnTo>
                  <a:pt x="215" y="2701"/>
                </a:lnTo>
                <a:lnTo>
                  <a:pt x="213" y="2691"/>
                </a:lnTo>
                <a:lnTo>
                  <a:pt x="211" y="2679"/>
                </a:lnTo>
                <a:lnTo>
                  <a:pt x="209" y="2668"/>
                </a:lnTo>
                <a:lnTo>
                  <a:pt x="206" y="2656"/>
                </a:lnTo>
                <a:lnTo>
                  <a:pt x="204" y="2645"/>
                </a:lnTo>
                <a:lnTo>
                  <a:pt x="200" y="2631"/>
                </a:lnTo>
                <a:lnTo>
                  <a:pt x="194" y="2618"/>
                </a:lnTo>
                <a:lnTo>
                  <a:pt x="188" y="2605"/>
                </a:lnTo>
                <a:lnTo>
                  <a:pt x="183" y="2591"/>
                </a:lnTo>
                <a:lnTo>
                  <a:pt x="175" y="2578"/>
                </a:lnTo>
                <a:lnTo>
                  <a:pt x="167" y="2564"/>
                </a:lnTo>
                <a:lnTo>
                  <a:pt x="160" y="2551"/>
                </a:lnTo>
                <a:lnTo>
                  <a:pt x="150" y="2537"/>
                </a:lnTo>
                <a:lnTo>
                  <a:pt x="140" y="2522"/>
                </a:lnTo>
                <a:lnTo>
                  <a:pt x="131" y="2509"/>
                </a:lnTo>
                <a:lnTo>
                  <a:pt x="119" y="2495"/>
                </a:lnTo>
                <a:lnTo>
                  <a:pt x="108" y="2480"/>
                </a:lnTo>
                <a:lnTo>
                  <a:pt x="96" y="2466"/>
                </a:lnTo>
                <a:lnTo>
                  <a:pt x="85" y="2451"/>
                </a:lnTo>
                <a:lnTo>
                  <a:pt x="71" y="2438"/>
                </a:lnTo>
                <a:lnTo>
                  <a:pt x="60" y="2424"/>
                </a:lnTo>
                <a:lnTo>
                  <a:pt x="50" y="2411"/>
                </a:lnTo>
                <a:lnTo>
                  <a:pt x="41" y="2399"/>
                </a:lnTo>
                <a:lnTo>
                  <a:pt x="33" y="2388"/>
                </a:lnTo>
                <a:lnTo>
                  <a:pt x="25" y="2376"/>
                </a:lnTo>
                <a:lnTo>
                  <a:pt x="19" y="2367"/>
                </a:lnTo>
                <a:lnTo>
                  <a:pt x="14" y="2357"/>
                </a:lnTo>
                <a:lnTo>
                  <a:pt x="10" y="2347"/>
                </a:lnTo>
                <a:lnTo>
                  <a:pt x="6" y="2340"/>
                </a:lnTo>
                <a:lnTo>
                  <a:pt x="4" y="2334"/>
                </a:lnTo>
                <a:lnTo>
                  <a:pt x="2" y="2326"/>
                </a:lnTo>
                <a:lnTo>
                  <a:pt x="0" y="2322"/>
                </a:lnTo>
                <a:lnTo>
                  <a:pt x="0" y="2317"/>
                </a:lnTo>
                <a:lnTo>
                  <a:pt x="2" y="2313"/>
                </a:lnTo>
                <a:lnTo>
                  <a:pt x="4" y="2311"/>
                </a:lnTo>
                <a:lnTo>
                  <a:pt x="6" y="2309"/>
                </a:lnTo>
                <a:lnTo>
                  <a:pt x="10" y="2307"/>
                </a:lnTo>
                <a:lnTo>
                  <a:pt x="12" y="2305"/>
                </a:lnTo>
                <a:lnTo>
                  <a:pt x="17" y="2305"/>
                </a:lnTo>
                <a:lnTo>
                  <a:pt x="21" y="2305"/>
                </a:lnTo>
                <a:lnTo>
                  <a:pt x="27" y="2307"/>
                </a:lnTo>
                <a:lnTo>
                  <a:pt x="33" y="2309"/>
                </a:lnTo>
                <a:lnTo>
                  <a:pt x="41" y="2311"/>
                </a:lnTo>
                <a:lnTo>
                  <a:pt x="48" y="2313"/>
                </a:lnTo>
                <a:lnTo>
                  <a:pt x="58" y="2317"/>
                </a:lnTo>
                <a:lnTo>
                  <a:pt x="67" y="2320"/>
                </a:lnTo>
                <a:lnTo>
                  <a:pt x="77" y="2324"/>
                </a:lnTo>
                <a:lnTo>
                  <a:pt x="88" y="2330"/>
                </a:lnTo>
                <a:lnTo>
                  <a:pt x="102" y="2336"/>
                </a:lnTo>
                <a:lnTo>
                  <a:pt x="115" y="2342"/>
                </a:lnTo>
                <a:lnTo>
                  <a:pt x="129" y="2349"/>
                </a:lnTo>
                <a:lnTo>
                  <a:pt x="142" y="2355"/>
                </a:lnTo>
                <a:lnTo>
                  <a:pt x="154" y="2361"/>
                </a:lnTo>
                <a:lnTo>
                  <a:pt x="165" y="2367"/>
                </a:lnTo>
                <a:lnTo>
                  <a:pt x="177" y="2370"/>
                </a:lnTo>
                <a:lnTo>
                  <a:pt x="186" y="2374"/>
                </a:lnTo>
                <a:lnTo>
                  <a:pt x="196" y="2376"/>
                </a:lnTo>
                <a:lnTo>
                  <a:pt x="206" y="2378"/>
                </a:lnTo>
                <a:lnTo>
                  <a:pt x="215" y="2378"/>
                </a:lnTo>
                <a:lnTo>
                  <a:pt x="223" y="2378"/>
                </a:lnTo>
                <a:lnTo>
                  <a:pt x="231" y="2376"/>
                </a:lnTo>
                <a:lnTo>
                  <a:pt x="238" y="2374"/>
                </a:lnTo>
                <a:lnTo>
                  <a:pt x="244" y="2370"/>
                </a:lnTo>
                <a:lnTo>
                  <a:pt x="252" y="2367"/>
                </a:lnTo>
                <a:lnTo>
                  <a:pt x="257" y="2361"/>
                </a:lnTo>
                <a:lnTo>
                  <a:pt x="261" y="2355"/>
                </a:lnTo>
                <a:lnTo>
                  <a:pt x="267" y="2349"/>
                </a:lnTo>
                <a:lnTo>
                  <a:pt x="269" y="2345"/>
                </a:lnTo>
                <a:lnTo>
                  <a:pt x="271" y="2340"/>
                </a:lnTo>
                <a:lnTo>
                  <a:pt x="273" y="2334"/>
                </a:lnTo>
                <a:lnTo>
                  <a:pt x="275" y="2328"/>
                </a:lnTo>
                <a:lnTo>
                  <a:pt x="277" y="2320"/>
                </a:lnTo>
                <a:lnTo>
                  <a:pt x="279" y="2313"/>
                </a:lnTo>
                <a:lnTo>
                  <a:pt x="279" y="2303"/>
                </a:lnTo>
                <a:lnTo>
                  <a:pt x="280" y="2294"/>
                </a:lnTo>
                <a:lnTo>
                  <a:pt x="282" y="2284"/>
                </a:lnTo>
                <a:lnTo>
                  <a:pt x="284" y="2272"/>
                </a:lnTo>
                <a:lnTo>
                  <a:pt x="286" y="2259"/>
                </a:lnTo>
                <a:lnTo>
                  <a:pt x="288" y="2246"/>
                </a:lnTo>
                <a:lnTo>
                  <a:pt x="288" y="2232"/>
                </a:lnTo>
                <a:lnTo>
                  <a:pt x="290" y="2217"/>
                </a:lnTo>
                <a:lnTo>
                  <a:pt x="292" y="2201"/>
                </a:lnTo>
                <a:lnTo>
                  <a:pt x="294" y="2186"/>
                </a:lnTo>
                <a:lnTo>
                  <a:pt x="294" y="2169"/>
                </a:lnTo>
                <a:lnTo>
                  <a:pt x="296" y="2150"/>
                </a:lnTo>
                <a:lnTo>
                  <a:pt x="298" y="2132"/>
                </a:lnTo>
                <a:lnTo>
                  <a:pt x="298" y="2111"/>
                </a:lnTo>
                <a:lnTo>
                  <a:pt x="300" y="2092"/>
                </a:lnTo>
                <a:lnTo>
                  <a:pt x="302" y="2071"/>
                </a:lnTo>
                <a:lnTo>
                  <a:pt x="302" y="2048"/>
                </a:lnTo>
                <a:lnTo>
                  <a:pt x="303" y="2025"/>
                </a:lnTo>
                <a:lnTo>
                  <a:pt x="303" y="2002"/>
                </a:lnTo>
                <a:lnTo>
                  <a:pt x="305" y="1977"/>
                </a:lnTo>
                <a:lnTo>
                  <a:pt x="307" y="1952"/>
                </a:lnTo>
                <a:lnTo>
                  <a:pt x="307" y="1925"/>
                </a:lnTo>
                <a:lnTo>
                  <a:pt x="309" y="1898"/>
                </a:lnTo>
                <a:lnTo>
                  <a:pt x="309" y="1869"/>
                </a:lnTo>
                <a:lnTo>
                  <a:pt x="311" y="1841"/>
                </a:lnTo>
                <a:lnTo>
                  <a:pt x="313" y="1812"/>
                </a:lnTo>
                <a:lnTo>
                  <a:pt x="315" y="1693"/>
                </a:lnTo>
                <a:lnTo>
                  <a:pt x="319" y="1572"/>
                </a:lnTo>
                <a:lnTo>
                  <a:pt x="321" y="1451"/>
                </a:lnTo>
                <a:lnTo>
                  <a:pt x="323" y="1330"/>
                </a:lnTo>
                <a:lnTo>
                  <a:pt x="323" y="1209"/>
                </a:lnTo>
                <a:lnTo>
                  <a:pt x="323" y="1088"/>
                </a:lnTo>
                <a:lnTo>
                  <a:pt x="323" y="963"/>
                </a:lnTo>
                <a:lnTo>
                  <a:pt x="323" y="841"/>
                </a:lnTo>
                <a:lnTo>
                  <a:pt x="323" y="810"/>
                </a:lnTo>
                <a:lnTo>
                  <a:pt x="323" y="781"/>
                </a:lnTo>
                <a:lnTo>
                  <a:pt x="323" y="754"/>
                </a:lnTo>
                <a:lnTo>
                  <a:pt x="323" y="725"/>
                </a:lnTo>
                <a:lnTo>
                  <a:pt x="323" y="699"/>
                </a:lnTo>
                <a:lnTo>
                  <a:pt x="323" y="672"/>
                </a:lnTo>
                <a:lnTo>
                  <a:pt x="323" y="647"/>
                </a:lnTo>
                <a:lnTo>
                  <a:pt x="323" y="622"/>
                </a:lnTo>
                <a:lnTo>
                  <a:pt x="323" y="599"/>
                </a:lnTo>
                <a:lnTo>
                  <a:pt x="323" y="574"/>
                </a:lnTo>
                <a:lnTo>
                  <a:pt x="323" y="551"/>
                </a:lnTo>
                <a:lnTo>
                  <a:pt x="323" y="530"/>
                </a:lnTo>
                <a:lnTo>
                  <a:pt x="323" y="509"/>
                </a:lnTo>
                <a:lnTo>
                  <a:pt x="323" y="487"/>
                </a:lnTo>
                <a:lnTo>
                  <a:pt x="323" y="466"/>
                </a:lnTo>
                <a:lnTo>
                  <a:pt x="323" y="447"/>
                </a:lnTo>
                <a:lnTo>
                  <a:pt x="321" y="428"/>
                </a:lnTo>
                <a:lnTo>
                  <a:pt x="321" y="411"/>
                </a:lnTo>
                <a:lnTo>
                  <a:pt x="321" y="393"/>
                </a:lnTo>
                <a:lnTo>
                  <a:pt x="321" y="376"/>
                </a:lnTo>
                <a:lnTo>
                  <a:pt x="321" y="359"/>
                </a:lnTo>
                <a:lnTo>
                  <a:pt x="319" y="343"/>
                </a:lnTo>
                <a:lnTo>
                  <a:pt x="319" y="330"/>
                </a:lnTo>
                <a:lnTo>
                  <a:pt x="319" y="315"/>
                </a:lnTo>
                <a:lnTo>
                  <a:pt x="319" y="301"/>
                </a:lnTo>
                <a:lnTo>
                  <a:pt x="317" y="290"/>
                </a:lnTo>
                <a:lnTo>
                  <a:pt x="317" y="276"/>
                </a:lnTo>
                <a:lnTo>
                  <a:pt x="315" y="265"/>
                </a:lnTo>
                <a:lnTo>
                  <a:pt x="315" y="255"/>
                </a:lnTo>
                <a:lnTo>
                  <a:pt x="315" y="244"/>
                </a:lnTo>
                <a:lnTo>
                  <a:pt x="313" y="236"/>
                </a:lnTo>
                <a:lnTo>
                  <a:pt x="313" y="226"/>
                </a:lnTo>
                <a:lnTo>
                  <a:pt x="309" y="213"/>
                </a:lnTo>
                <a:lnTo>
                  <a:pt x="307" y="200"/>
                </a:lnTo>
                <a:lnTo>
                  <a:pt x="305" y="186"/>
                </a:lnTo>
                <a:lnTo>
                  <a:pt x="302" y="175"/>
                </a:lnTo>
                <a:lnTo>
                  <a:pt x="298" y="161"/>
                </a:lnTo>
                <a:lnTo>
                  <a:pt x="296" y="152"/>
                </a:lnTo>
                <a:lnTo>
                  <a:pt x="292" y="140"/>
                </a:lnTo>
                <a:lnTo>
                  <a:pt x="288" y="130"/>
                </a:lnTo>
                <a:lnTo>
                  <a:pt x="284" y="121"/>
                </a:lnTo>
                <a:lnTo>
                  <a:pt x="280" y="113"/>
                </a:lnTo>
                <a:lnTo>
                  <a:pt x="277" y="105"/>
                </a:lnTo>
                <a:lnTo>
                  <a:pt x="273" y="98"/>
                </a:lnTo>
                <a:lnTo>
                  <a:pt x="267" y="90"/>
                </a:lnTo>
                <a:lnTo>
                  <a:pt x="263" y="84"/>
                </a:lnTo>
                <a:lnTo>
                  <a:pt x="259" y="79"/>
                </a:lnTo>
                <a:lnTo>
                  <a:pt x="255" y="73"/>
                </a:lnTo>
                <a:lnTo>
                  <a:pt x="252" y="69"/>
                </a:lnTo>
                <a:lnTo>
                  <a:pt x="248" y="63"/>
                </a:lnTo>
                <a:lnTo>
                  <a:pt x="244" y="59"/>
                </a:lnTo>
                <a:lnTo>
                  <a:pt x="242" y="54"/>
                </a:lnTo>
                <a:lnTo>
                  <a:pt x="238" y="46"/>
                </a:lnTo>
                <a:lnTo>
                  <a:pt x="236" y="36"/>
                </a:lnTo>
                <a:lnTo>
                  <a:pt x="236" y="29"/>
                </a:lnTo>
                <a:lnTo>
                  <a:pt x="236" y="21"/>
                </a:lnTo>
                <a:lnTo>
                  <a:pt x="240" y="15"/>
                </a:lnTo>
                <a:lnTo>
                  <a:pt x="244" y="9"/>
                </a:lnTo>
                <a:lnTo>
                  <a:pt x="246" y="8"/>
                </a:lnTo>
                <a:lnTo>
                  <a:pt x="250" y="6"/>
                </a:lnTo>
                <a:lnTo>
                  <a:pt x="252" y="4"/>
                </a:lnTo>
                <a:lnTo>
                  <a:pt x="255" y="2"/>
                </a:lnTo>
                <a:lnTo>
                  <a:pt x="261" y="2"/>
                </a:lnTo>
                <a:lnTo>
                  <a:pt x="267" y="0"/>
                </a:lnTo>
                <a:lnTo>
                  <a:pt x="273" y="0"/>
                </a:lnTo>
                <a:lnTo>
                  <a:pt x="279" y="0"/>
                </a:lnTo>
                <a:lnTo>
                  <a:pt x="286" y="0"/>
                </a:lnTo>
                <a:lnTo>
                  <a:pt x="294" y="0"/>
                </a:lnTo>
                <a:lnTo>
                  <a:pt x="303" y="2"/>
                </a:lnTo>
                <a:lnTo>
                  <a:pt x="313" y="2"/>
                </a:lnTo>
                <a:lnTo>
                  <a:pt x="323" y="4"/>
                </a:lnTo>
                <a:lnTo>
                  <a:pt x="334" y="6"/>
                </a:lnTo>
                <a:lnTo>
                  <a:pt x="346" y="8"/>
                </a:lnTo>
                <a:lnTo>
                  <a:pt x="357" y="9"/>
                </a:lnTo>
                <a:lnTo>
                  <a:pt x="378" y="19"/>
                </a:lnTo>
                <a:lnTo>
                  <a:pt x="398" y="29"/>
                </a:lnTo>
                <a:lnTo>
                  <a:pt x="415" y="38"/>
                </a:lnTo>
                <a:lnTo>
                  <a:pt x="424" y="42"/>
                </a:lnTo>
                <a:lnTo>
                  <a:pt x="432" y="46"/>
                </a:lnTo>
                <a:lnTo>
                  <a:pt x="440" y="50"/>
                </a:lnTo>
                <a:lnTo>
                  <a:pt x="446" y="54"/>
                </a:lnTo>
                <a:lnTo>
                  <a:pt x="451" y="57"/>
                </a:lnTo>
                <a:lnTo>
                  <a:pt x="457" y="61"/>
                </a:lnTo>
                <a:lnTo>
                  <a:pt x="463" y="65"/>
                </a:lnTo>
                <a:lnTo>
                  <a:pt x="467" y="67"/>
                </a:lnTo>
                <a:lnTo>
                  <a:pt x="469" y="71"/>
                </a:lnTo>
                <a:lnTo>
                  <a:pt x="472" y="73"/>
                </a:lnTo>
                <a:lnTo>
                  <a:pt x="476" y="84"/>
                </a:lnTo>
                <a:lnTo>
                  <a:pt x="480" y="94"/>
                </a:lnTo>
                <a:lnTo>
                  <a:pt x="484" y="107"/>
                </a:lnTo>
                <a:lnTo>
                  <a:pt x="486" y="121"/>
                </a:lnTo>
                <a:lnTo>
                  <a:pt x="488" y="136"/>
                </a:lnTo>
                <a:lnTo>
                  <a:pt x="488" y="152"/>
                </a:lnTo>
                <a:lnTo>
                  <a:pt x="486" y="171"/>
                </a:lnTo>
                <a:lnTo>
                  <a:pt x="486" y="178"/>
                </a:lnTo>
                <a:lnTo>
                  <a:pt x="484" y="188"/>
                </a:lnTo>
                <a:lnTo>
                  <a:pt x="482" y="196"/>
                </a:lnTo>
                <a:lnTo>
                  <a:pt x="480" y="203"/>
                </a:lnTo>
                <a:lnTo>
                  <a:pt x="480" y="215"/>
                </a:lnTo>
                <a:lnTo>
                  <a:pt x="478" y="226"/>
                </a:lnTo>
                <a:lnTo>
                  <a:pt x="478" y="242"/>
                </a:lnTo>
                <a:lnTo>
                  <a:pt x="476" y="257"/>
                </a:lnTo>
                <a:lnTo>
                  <a:pt x="476" y="274"/>
                </a:lnTo>
                <a:lnTo>
                  <a:pt x="474" y="294"/>
                </a:lnTo>
                <a:lnTo>
                  <a:pt x="474" y="315"/>
                </a:lnTo>
                <a:lnTo>
                  <a:pt x="472" y="338"/>
                </a:lnTo>
                <a:lnTo>
                  <a:pt x="470" y="363"/>
                </a:lnTo>
                <a:lnTo>
                  <a:pt x="470" y="390"/>
                </a:lnTo>
                <a:lnTo>
                  <a:pt x="469" y="418"/>
                </a:lnTo>
                <a:lnTo>
                  <a:pt x="469" y="449"/>
                </a:lnTo>
                <a:lnTo>
                  <a:pt x="467" y="482"/>
                </a:lnTo>
                <a:lnTo>
                  <a:pt x="467" y="516"/>
                </a:lnTo>
                <a:lnTo>
                  <a:pt x="465" y="553"/>
                </a:lnTo>
                <a:lnTo>
                  <a:pt x="465" y="589"/>
                </a:lnTo>
                <a:lnTo>
                  <a:pt x="463" y="629"/>
                </a:lnTo>
                <a:lnTo>
                  <a:pt x="461" y="672"/>
                </a:lnTo>
                <a:lnTo>
                  <a:pt x="461" y="714"/>
                </a:lnTo>
                <a:lnTo>
                  <a:pt x="459" y="760"/>
                </a:lnTo>
                <a:lnTo>
                  <a:pt x="459" y="806"/>
                </a:lnTo>
                <a:lnTo>
                  <a:pt x="457" y="856"/>
                </a:lnTo>
                <a:lnTo>
                  <a:pt x="457" y="906"/>
                </a:lnTo>
                <a:lnTo>
                  <a:pt x="455" y="958"/>
                </a:lnTo>
                <a:lnTo>
                  <a:pt x="453" y="1013"/>
                </a:lnTo>
                <a:lnTo>
                  <a:pt x="453" y="1069"/>
                </a:lnTo>
                <a:lnTo>
                  <a:pt x="451" y="1127"/>
                </a:lnTo>
                <a:lnTo>
                  <a:pt x="451" y="1188"/>
                </a:lnTo>
                <a:lnTo>
                  <a:pt x="449" y="1249"/>
                </a:lnTo>
                <a:lnTo>
                  <a:pt x="449" y="13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35"/>
          <p:cNvSpPr/>
          <p:nvPr/>
        </p:nvSpPr>
        <p:spPr>
          <a:xfrm>
            <a:off x="5594400" y="3367080"/>
            <a:ext cx="752400" cy="254160"/>
          </a:xfrm>
          <a:custGeom>
            <a:avLst/>
            <a:gdLst/>
            <a:ahLst/>
            <a:rect l="l" t="t" r="r" b="b"/>
            <a:pathLst>
              <a:path w="948" h="321">
                <a:moveTo>
                  <a:pt x="0" y="231"/>
                </a:moveTo>
                <a:lnTo>
                  <a:pt x="0" y="229"/>
                </a:lnTo>
                <a:lnTo>
                  <a:pt x="0" y="227"/>
                </a:lnTo>
                <a:lnTo>
                  <a:pt x="2" y="223"/>
                </a:lnTo>
                <a:lnTo>
                  <a:pt x="4" y="221"/>
                </a:lnTo>
                <a:lnTo>
                  <a:pt x="6" y="219"/>
                </a:lnTo>
                <a:lnTo>
                  <a:pt x="10" y="217"/>
                </a:lnTo>
                <a:lnTo>
                  <a:pt x="14" y="213"/>
                </a:lnTo>
                <a:lnTo>
                  <a:pt x="17" y="212"/>
                </a:lnTo>
                <a:lnTo>
                  <a:pt x="21" y="210"/>
                </a:lnTo>
                <a:lnTo>
                  <a:pt x="27" y="208"/>
                </a:lnTo>
                <a:lnTo>
                  <a:pt x="33" y="204"/>
                </a:lnTo>
                <a:lnTo>
                  <a:pt x="39" y="202"/>
                </a:lnTo>
                <a:lnTo>
                  <a:pt x="44" y="200"/>
                </a:lnTo>
                <a:lnTo>
                  <a:pt x="52" y="198"/>
                </a:lnTo>
                <a:lnTo>
                  <a:pt x="60" y="194"/>
                </a:lnTo>
                <a:lnTo>
                  <a:pt x="69" y="192"/>
                </a:lnTo>
                <a:lnTo>
                  <a:pt x="77" y="192"/>
                </a:lnTo>
                <a:lnTo>
                  <a:pt x="88" y="190"/>
                </a:lnTo>
                <a:lnTo>
                  <a:pt x="96" y="190"/>
                </a:lnTo>
                <a:lnTo>
                  <a:pt x="102" y="188"/>
                </a:lnTo>
                <a:lnTo>
                  <a:pt x="110" y="187"/>
                </a:lnTo>
                <a:lnTo>
                  <a:pt x="117" y="185"/>
                </a:lnTo>
                <a:lnTo>
                  <a:pt x="127" y="185"/>
                </a:lnTo>
                <a:lnTo>
                  <a:pt x="135" y="183"/>
                </a:lnTo>
                <a:lnTo>
                  <a:pt x="144" y="179"/>
                </a:lnTo>
                <a:lnTo>
                  <a:pt x="154" y="177"/>
                </a:lnTo>
                <a:lnTo>
                  <a:pt x="165" y="175"/>
                </a:lnTo>
                <a:lnTo>
                  <a:pt x="175" y="171"/>
                </a:lnTo>
                <a:lnTo>
                  <a:pt x="186" y="169"/>
                </a:lnTo>
                <a:lnTo>
                  <a:pt x="198" y="165"/>
                </a:lnTo>
                <a:lnTo>
                  <a:pt x="211" y="162"/>
                </a:lnTo>
                <a:lnTo>
                  <a:pt x="223" y="160"/>
                </a:lnTo>
                <a:lnTo>
                  <a:pt x="236" y="156"/>
                </a:lnTo>
                <a:lnTo>
                  <a:pt x="250" y="152"/>
                </a:lnTo>
                <a:lnTo>
                  <a:pt x="265" y="146"/>
                </a:lnTo>
                <a:lnTo>
                  <a:pt x="280" y="142"/>
                </a:lnTo>
                <a:lnTo>
                  <a:pt x="296" y="139"/>
                </a:lnTo>
                <a:lnTo>
                  <a:pt x="311" y="133"/>
                </a:lnTo>
                <a:lnTo>
                  <a:pt x="326" y="129"/>
                </a:lnTo>
                <a:lnTo>
                  <a:pt x="344" y="123"/>
                </a:lnTo>
                <a:lnTo>
                  <a:pt x="361" y="119"/>
                </a:lnTo>
                <a:lnTo>
                  <a:pt x="380" y="114"/>
                </a:lnTo>
                <a:lnTo>
                  <a:pt x="397" y="108"/>
                </a:lnTo>
                <a:lnTo>
                  <a:pt x="417" y="102"/>
                </a:lnTo>
                <a:lnTo>
                  <a:pt x="436" y="96"/>
                </a:lnTo>
                <a:lnTo>
                  <a:pt x="457" y="91"/>
                </a:lnTo>
                <a:lnTo>
                  <a:pt x="476" y="85"/>
                </a:lnTo>
                <a:lnTo>
                  <a:pt x="493" y="79"/>
                </a:lnTo>
                <a:lnTo>
                  <a:pt x="513" y="73"/>
                </a:lnTo>
                <a:lnTo>
                  <a:pt x="530" y="68"/>
                </a:lnTo>
                <a:lnTo>
                  <a:pt x="545" y="62"/>
                </a:lnTo>
                <a:lnTo>
                  <a:pt x="563" y="58"/>
                </a:lnTo>
                <a:lnTo>
                  <a:pt x="578" y="52"/>
                </a:lnTo>
                <a:lnTo>
                  <a:pt x="593" y="48"/>
                </a:lnTo>
                <a:lnTo>
                  <a:pt x="609" y="45"/>
                </a:lnTo>
                <a:lnTo>
                  <a:pt x="622" y="41"/>
                </a:lnTo>
                <a:lnTo>
                  <a:pt x="635" y="37"/>
                </a:lnTo>
                <a:lnTo>
                  <a:pt x="649" y="33"/>
                </a:lnTo>
                <a:lnTo>
                  <a:pt x="662" y="29"/>
                </a:lnTo>
                <a:lnTo>
                  <a:pt x="674" y="27"/>
                </a:lnTo>
                <a:lnTo>
                  <a:pt x="685" y="23"/>
                </a:lnTo>
                <a:lnTo>
                  <a:pt x="697" y="21"/>
                </a:lnTo>
                <a:lnTo>
                  <a:pt x="708" y="18"/>
                </a:lnTo>
                <a:lnTo>
                  <a:pt x="718" y="16"/>
                </a:lnTo>
                <a:lnTo>
                  <a:pt x="728" y="14"/>
                </a:lnTo>
                <a:lnTo>
                  <a:pt x="737" y="12"/>
                </a:lnTo>
                <a:lnTo>
                  <a:pt x="747" y="10"/>
                </a:lnTo>
                <a:lnTo>
                  <a:pt x="754" y="8"/>
                </a:lnTo>
                <a:lnTo>
                  <a:pt x="762" y="6"/>
                </a:lnTo>
                <a:lnTo>
                  <a:pt x="770" y="6"/>
                </a:lnTo>
                <a:lnTo>
                  <a:pt x="776" y="4"/>
                </a:lnTo>
                <a:lnTo>
                  <a:pt x="783" y="4"/>
                </a:lnTo>
                <a:lnTo>
                  <a:pt x="789" y="2"/>
                </a:lnTo>
                <a:lnTo>
                  <a:pt x="793" y="2"/>
                </a:lnTo>
                <a:lnTo>
                  <a:pt x="802" y="0"/>
                </a:lnTo>
                <a:lnTo>
                  <a:pt x="810" y="0"/>
                </a:lnTo>
                <a:lnTo>
                  <a:pt x="824" y="0"/>
                </a:lnTo>
                <a:lnTo>
                  <a:pt x="835" y="0"/>
                </a:lnTo>
                <a:lnTo>
                  <a:pt x="845" y="2"/>
                </a:lnTo>
                <a:lnTo>
                  <a:pt x="856" y="2"/>
                </a:lnTo>
                <a:lnTo>
                  <a:pt x="868" y="4"/>
                </a:lnTo>
                <a:lnTo>
                  <a:pt x="877" y="6"/>
                </a:lnTo>
                <a:lnTo>
                  <a:pt x="889" y="10"/>
                </a:lnTo>
                <a:lnTo>
                  <a:pt x="902" y="14"/>
                </a:lnTo>
                <a:lnTo>
                  <a:pt x="908" y="16"/>
                </a:lnTo>
                <a:lnTo>
                  <a:pt x="914" y="18"/>
                </a:lnTo>
                <a:lnTo>
                  <a:pt x="920" y="21"/>
                </a:lnTo>
                <a:lnTo>
                  <a:pt x="923" y="23"/>
                </a:lnTo>
                <a:lnTo>
                  <a:pt x="931" y="27"/>
                </a:lnTo>
                <a:lnTo>
                  <a:pt x="937" y="33"/>
                </a:lnTo>
                <a:lnTo>
                  <a:pt x="943" y="37"/>
                </a:lnTo>
                <a:lnTo>
                  <a:pt x="945" y="43"/>
                </a:lnTo>
                <a:lnTo>
                  <a:pt x="946" y="46"/>
                </a:lnTo>
                <a:lnTo>
                  <a:pt x="948" y="52"/>
                </a:lnTo>
                <a:lnTo>
                  <a:pt x="946" y="58"/>
                </a:lnTo>
                <a:lnTo>
                  <a:pt x="945" y="64"/>
                </a:lnTo>
                <a:lnTo>
                  <a:pt x="943" y="71"/>
                </a:lnTo>
                <a:lnTo>
                  <a:pt x="937" y="79"/>
                </a:lnTo>
                <a:lnTo>
                  <a:pt x="931" y="87"/>
                </a:lnTo>
                <a:lnTo>
                  <a:pt x="923" y="96"/>
                </a:lnTo>
                <a:lnTo>
                  <a:pt x="920" y="102"/>
                </a:lnTo>
                <a:lnTo>
                  <a:pt x="914" y="106"/>
                </a:lnTo>
                <a:lnTo>
                  <a:pt x="908" y="112"/>
                </a:lnTo>
                <a:lnTo>
                  <a:pt x="902" y="116"/>
                </a:lnTo>
                <a:lnTo>
                  <a:pt x="895" y="121"/>
                </a:lnTo>
                <a:lnTo>
                  <a:pt x="885" y="125"/>
                </a:lnTo>
                <a:lnTo>
                  <a:pt x="874" y="131"/>
                </a:lnTo>
                <a:lnTo>
                  <a:pt x="862" y="137"/>
                </a:lnTo>
                <a:lnTo>
                  <a:pt x="847" y="142"/>
                </a:lnTo>
                <a:lnTo>
                  <a:pt x="829" y="150"/>
                </a:lnTo>
                <a:lnTo>
                  <a:pt x="810" y="156"/>
                </a:lnTo>
                <a:lnTo>
                  <a:pt x="791" y="164"/>
                </a:lnTo>
                <a:lnTo>
                  <a:pt x="768" y="171"/>
                </a:lnTo>
                <a:lnTo>
                  <a:pt x="743" y="179"/>
                </a:lnTo>
                <a:lnTo>
                  <a:pt x="718" y="187"/>
                </a:lnTo>
                <a:lnTo>
                  <a:pt x="689" y="194"/>
                </a:lnTo>
                <a:lnTo>
                  <a:pt x="660" y="204"/>
                </a:lnTo>
                <a:lnTo>
                  <a:pt x="628" y="212"/>
                </a:lnTo>
                <a:lnTo>
                  <a:pt x="595" y="221"/>
                </a:lnTo>
                <a:lnTo>
                  <a:pt x="559" y="231"/>
                </a:lnTo>
                <a:lnTo>
                  <a:pt x="524" y="242"/>
                </a:lnTo>
                <a:lnTo>
                  <a:pt x="490" y="254"/>
                </a:lnTo>
                <a:lnTo>
                  <a:pt x="457" y="263"/>
                </a:lnTo>
                <a:lnTo>
                  <a:pt x="426" y="273"/>
                </a:lnTo>
                <a:lnTo>
                  <a:pt x="397" y="281"/>
                </a:lnTo>
                <a:lnTo>
                  <a:pt x="371" y="288"/>
                </a:lnTo>
                <a:lnTo>
                  <a:pt x="346" y="294"/>
                </a:lnTo>
                <a:lnTo>
                  <a:pt x="321" y="300"/>
                </a:lnTo>
                <a:lnTo>
                  <a:pt x="300" y="306"/>
                </a:lnTo>
                <a:lnTo>
                  <a:pt x="278" y="309"/>
                </a:lnTo>
                <a:lnTo>
                  <a:pt x="259" y="313"/>
                </a:lnTo>
                <a:lnTo>
                  <a:pt x="242" y="315"/>
                </a:lnTo>
                <a:lnTo>
                  <a:pt x="229" y="317"/>
                </a:lnTo>
                <a:lnTo>
                  <a:pt x="215" y="319"/>
                </a:lnTo>
                <a:lnTo>
                  <a:pt x="204" y="321"/>
                </a:lnTo>
                <a:lnTo>
                  <a:pt x="194" y="321"/>
                </a:lnTo>
                <a:lnTo>
                  <a:pt x="177" y="319"/>
                </a:lnTo>
                <a:lnTo>
                  <a:pt x="159" y="319"/>
                </a:lnTo>
                <a:lnTo>
                  <a:pt x="142" y="315"/>
                </a:lnTo>
                <a:lnTo>
                  <a:pt x="127" y="311"/>
                </a:lnTo>
                <a:lnTo>
                  <a:pt x="111" y="306"/>
                </a:lnTo>
                <a:lnTo>
                  <a:pt x="96" y="300"/>
                </a:lnTo>
                <a:lnTo>
                  <a:pt x="81" y="292"/>
                </a:lnTo>
                <a:lnTo>
                  <a:pt x="69" y="283"/>
                </a:lnTo>
                <a:lnTo>
                  <a:pt x="56" y="277"/>
                </a:lnTo>
                <a:lnTo>
                  <a:pt x="44" y="271"/>
                </a:lnTo>
                <a:lnTo>
                  <a:pt x="35" y="263"/>
                </a:lnTo>
                <a:lnTo>
                  <a:pt x="25" y="256"/>
                </a:lnTo>
                <a:lnTo>
                  <a:pt x="17" y="250"/>
                </a:lnTo>
                <a:lnTo>
                  <a:pt x="10" y="242"/>
                </a:lnTo>
                <a:lnTo>
                  <a:pt x="4" y="236"/>
                </a:lnTo>
                <a:lnTo>
                  <a:pt x="0" y="2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0T15:49:56Z</dcterms:modified>
  <cp:revision>4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